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E2301E26-7C97-4B4F-91A5-1FFECC40460E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8200" y="533520"/>
            <a:ext cx="5652000" cy="2629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Wrap-Up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re Realistic Fetch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90160" y="3809520"/>
            <a:ext cx="8294760" cy="26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tch Box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rated into instruction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es entire cache block (16 or 32 byt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s current instruction from current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s ahead to fetch next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 reaches end of current bloc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branch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65172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itions under which pipeline cannot continue normal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u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lt instru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(Curre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d address for instruction or dat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(Previou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alid instru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(Previou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e control err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(Previou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red 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lete some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ither current or previous (depends on exception typ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card oth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exception hand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an unexpected procedure ca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0120" y="3962520"/>
            <a:ext cx="152280" cy="106668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0" y="672"/>
                </a:moveTo>
                <a:lnTo>
                  <a:pt x="192" y="672"/>
                </a:lnTo>
                <a:lnTo>
                  <a:pt x="192" y="0"/>
                </a:lnTo>
              </a:path>
            </a:pathLst>
          </a:custGeom>
          <a:noFill/>
          <a:ln w="19080">
            <a:solidFill>
              <a:srgbClr val="00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29476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tect in Fetch St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46483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mmovl %eax,0x10000(%eax) # invalid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20574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$-1                   # Invalid jump targ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7432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yte 0xFF                # Invalid instruction code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3429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alt                      # Halt instru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962520"/>
            <a:ext cx="82947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tect in Memory Stag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s in Pipeline Processor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90160" y="5181480"/>
            <a:ext cx="8294760" cy="117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red Behavi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m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uld cause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066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emo-exc1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mmovl %eax,0x10000(%eax) # Invalid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yte 0xFF                # Invalid instruction code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33526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0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36576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6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mmovl %eax,0x1000(%eax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39625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c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o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42670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d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yte 0xF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3962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10080" y="3962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267080"/>
            <a:ext cx="457200" cy="3049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867280" y="2971800"/>
            <a:ext cx="457200" cy="1600200"/>
            <a:chOff x="5867280" y="2971800"/>
            <a:chExt cx="457200" cy="1600200"/>
          </a:xfrm>
        </p:grpSpPr>
        <p:sp>
          <p:nvSpPr>
            <p:cNvPr id="219" name=""/>
            <p:cNvSpPr/>
            <p:nvPr/>
          </p:nvSpPr>
          <p:spPr>
            <a:xfrm>
              <a:off x="5867280" y="33526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672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7280" y="3657600"/>
              <a:ext cx="457200" cy="304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67280" y="3962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67280" y="42670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248160" y="3241800"/>
            <a:ext cx="2873880" cy="492120"/>
            <a:chOff x="6248160" y="3241800"/>
            <a:chExt cx="2873880" cy="492120"/>
          </a:xfrm>
        </p:grpSpPr>
        <p:sp>
          <p:nvSpPr>
            <p:cNvPr id="225" name=""/>
            <p:cNvSpPr/>
            <p:nvPr/>
          </p:nvSpPr>
          <p:spPr>
            <a:xfrm flipH="1">
              <a:off x="6248160" y="3429000"/>
              <a:ext cx="685800" cy="3049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34320" y="3241800"/>
              <a:ext cx="2187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ception detect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895480" y="4495320"/>
            <a:ext cx="2590920" cy="417240"/>
            <a:chOff x="2895480" y="4495320"/>
            <a:chExt cx="2590920" cy="417240"/>
          </a:xfrm>
        </p:grpSpPr>
        <p:sp>
          <p:nvSpPr>
            <p:cNvPr id="228" name=""/>
            <p:cNvSpPr/>
            <p:nvPr/>
          </p:nvSpPr>
          <p:spPr>
            <a:xfrm flipV="1">
              <a:off x="5105520" y="4495320"/>
              <a:ext cx="38088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95480" y="4572000"/>
              <a:ext cx="2187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ception detect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s in Pipeline Processor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90160" y="5181480"/>
            <a:ext cx="8294760" cy="117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red Behavi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exception should occu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99072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emo-exc2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xorl %eax,%eax   # Set condition cod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2:    jne t            # No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7:    irmovl $1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d:    irmovl $2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3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4: t: .byte 0xFF       # Targ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33526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000:    xorl %eax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36576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002:    jne 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39625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014: t: .byte 0xF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2670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???: (I’m lost!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52880" y="3962520"/>
            <a:ext cx="457200" cy="304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733920" y="4191120"/>
            <a:ext cx="2187720" cy="1102320"/>
            <a:chOff x="3733920" y="4191120"/>
            <a:chExt cx="2187720" cy="1102320"/>
          </a:xfrm>
        </p:grpSpPr>
        <p:sp>
          <p:nvSpPr>
            <p:cNvPr id="247" name=""/>
            <p:cNvSpPr/>
            <p:nvPr/>
          </p:nvSpPr>
          <p:spPr>
            <a:xfrm flipV="1">
              <a:off x="5105520" y="4191120"/>
              <a:ext cx="75960" cy="7617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33920" y="4952880"/>
              <a:ext cx="2187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ception detect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533520" y="45720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007:    irmovl $1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410080" y="2971800"/>
            <a:ext cx="457200" cy="1600200"/>
            <a:chOff x="5410080" y="2971800"/>
            <a:chExt cx="457200" cy="1600200"/>
          </a:xfrm>
        </p:grpSpPr>
        <p:sp>
          <p:nvSpPr>
            <p:cNvPr id="251" name=""/>
            <p:cNvSpPr/>
            <p:nvPr/>
          </p:nvSpPr>
          <p:spPr>
            <a:xfrm>
              <a:off x="54100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10080" y="33526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10080" y="3657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10080" y="4267080"/>
              <a:ext cx="457200" cy="304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0080" y="3962520"/>
              <a:ext cx="457200" cy="3045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867280" y="2971800"/>
            <a:ext cx="457200" cy="1905120"/>
            <a:chOff x="5867280" y="2971800"/>
            <a:chExt cx="457200" cy="1905120"/>
          </a:xfrm>
        </p:grpSpPr>
        <p:sp>
          <p:nvSpPr>
            <p:cNvPr id="257" name=""/>
            <p:cNvSpPr/>
            <p:nvPr/>
          </p:nvSpPr>
          <p:spPr>
            <a:xfrm>
              <a:off x="5867280" y="33526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672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67280" y="3657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67280" y="4267080"/>
              <a:ext cx="4572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672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67280" y="3962520"/>
              <a:ext cx="45720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324480" y="2971800"/>
            <a:ext cx="457200" cy="1905120"/>
            <a:chOff x="6324480" y="2971800"/>
            <a:chExt cx="457200" cy="1905120"/>
          </a:xfrm>
        </p:grpSpPr>
        <p:sp>
          <p:nvSpPr>
            <p:cNvPr id="264" name=""/>
            <p:cNvSpPr/>
            <p:nvPr/>
          </p:nvSpPr>
          <p:spPr>
            <a:xfrm>
              <a:off x="6324480" y="4267080"/>
              <a:ext cx="4572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244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24480" y="3962520"/>
              <a:ext cx="45720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244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781680" y="2971800"/>
            <a:ext cx="457200" cy="1905120"/>
            <a:chOff x="6781680" y="2971800"/>
            <a:chExt cx="457200" cy="1905120"/>
          </a:xfrm>
        </p:grpSpPr>
        <p:sp>
          <p:nvSpPr>
            <p:cNvPr id="269" name=""/>
            <p:cNvSpPr/>
            <p:nvPr/>
          </p:nvSpPr>
          <p:spPr>
            <a:xfrm>
              <a:off x="6781680" y="4267080"/>
              <a:ext cx="4572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816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81680" y="3962520"/>
              <a:ext cx="45720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816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238880" y="2971800"/>
            <a:ext cx="457200" cy="1905120"/>
            <a:chOff x="7238880" y="2971800"/>
            <a:chExt cx="457200" cy="1905120"/>
          </a:xfrm>
        </p:grpSpPr>
        <p:sp>
          <p:nvSpPr>
            <p:cNvPr id="274" name=""/>
            <p:cNvSpPr/>
            <p:nvPr/>
          </p:nvSpPr>
          <p:spPr>
            <a:xfrm>
              <a:off x="7238880" y="4267080"/>
              <a:ext cx="4572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388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388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696080" y="2971800"/>
            <a:ext cx="457200" cy="1905120"/>
            <a:chOff x="7696080" y="2971800"/>
            <a:chExt cx="457200" cy="1905120"/>
          </a:xfrm>
        </p:grpSpPr>
        <p:sp>
          <p:nvSpPr>
            <p:cNvPr id="278" name=""/>
            <p:cNvSpPr/>
            <p:nvPr/>
          </p:nvSpPr>
          <p:spPr>
            <a:xfrm>
              <a:off x="76960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960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intaining Exception Order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90160" y="4038480"/>
            <a:ext cx="8294760" cy="20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exception status field to pipeline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stage sets to either “AOK,” “ADR” (when bad fetch address), or “INS” (illegal instruct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ode &amp; execute pass values throug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either passes through or sets to “ADR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 triggered only when instruction hits write b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066680" y="3352680"/>
            <a:ext cx="7086600" cy="381240"/>
            <a:chOff x="1066680" y="3352680"/>
            <a:chExt cx="7086600" cy="381240"/>
          </a:xfrm>
        </p:grpSpPr>
        <p:sp>
          <p:nvSpPr>
            <p:cNvPr id="283" name=""/>
            <p:cNvSpPr/>
            <p:nvPr/>
          </p:nvSpPr>
          <p:spPr>
            <a:xfrm>
              <a:off x="1066680" y="3352680"/>
              <a:ext cx="7086600" cy="38124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52680" y="3352680"/>
              <a:ext cx="9144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predP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066680" y="1219320"/>
            <a:ext cx="7086600" cy="380880"/>
            <a:chOff x="1066680" y="1219320"/>
            <a:chExt cx="7086600" cy="380880"/>
          </a:xfrm>
        </p:grpSpPr>
        <p:sp>
          <p:nvSpPr>
            <p:cNvPr id="286" name=""/>
            <p:cNvSpPr/>
            <p:nvPr/>
          </p:nvSpPr>
          <p:spPr>
            <a:xfrm>
              <a:off x="1066680" y="1219320"/>
              <a:ext cx="7086600" cy="38088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9680" y="12193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38480" y="12193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2880" y="12193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M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24480" y="12193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81680" y="12193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M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47920" y="12193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x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066680" y="1752480"/>
            <a:ext cx="7086600" cy="381240"/>
            <a:chOff x="1066680" y="1752480"/>
            <a:chExt cx="7086600" cy="381240"/>
          </a:xfrm>
        </p:grpSpPr>
        <p:sp>
          <p:nvSpPr>
            <p:cNvPr id="294" name=""/>
            <p:cNvSpPr/>
            <p:nvPr/>
          </p:nvSpPr>
          <p:spPr>
            <a:xfrm>
              <a:off x="1066680" y="1752480"/>
              <a:ext cx="7086600" cy="38124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2408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Bch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0968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38480" y="1752480"/>
              <a:ext cx="9144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1752480"/>
              <a:ext cx="9144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2448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168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M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4792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x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066680" y="2286000"/>
            <a:ext cx="7086600" cy="380880"/>
            <a:chOff x="1066680" y="2286000"/>
            <a:chExt cx="7086600" cy="380880"/>
          </a:xfrm>
        </p:grpSpPr>
        <p:sp>
          <p:nvSpPr>
            <p:cNvPr id="303" name=""/>
            <p:cNvSpPr/>
            <p:nvPr/>
          </p:nvSpPr>
          <p:spPr>
            <a:xfrm>
              <a:off x="1066680" y="2286000"/>
              <a:ext cx="7086600" cy="38088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096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668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fun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81280" y="228600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95680" y="228600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28600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B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44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816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M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src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960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srcB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4792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x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066680" y="2819520"/>
            <a:ext cx="7086600" cy="380880"/>
            <a:chOff x="1066680" y="2819520"/>
            <a:chExt cx="7086600" cy="380880"/>
          </a:xfrm>
        </p:grpSpPr>
        <p:sp>
          <p:nvSpPr>
            <p:cNvPr id="315" name=""/>
            <p:cNvSpPr/>
            <p:nvPr/>
          </p:nvSpPr>
          <p:spPr>
            <a:xfrm>
              <a:off x="1066680" y="2819520"/>
              <a:ext cx="7086600" cy="38088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3848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95680" y="2819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10080" y="2819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P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6688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fun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8128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792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x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de Effects in Pipeline Process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90160" y="5181480"/>
            <a:ext cx="8294760" cy="117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red Behavi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m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uld cause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following instruction should have any effe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12477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emo-exc3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mmovl %eax,0x10000(%eax) # invalid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# Sets condition cod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33526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0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384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956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528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100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56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00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956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528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36576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6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mmovl %eax,0x1000(%eax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9625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c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%eax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3962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10080" y="3962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867280" y="2971800"/>
            <a:ext cx="457200" cy="1295280"/>
            <a:chOff x="5867280" y="2971800"/>
            <a:chExt cx="457200" cy="1295280"/>
          </a:xfrm>
        </p:grpSpPr>
        <p:sp>
          <p:nvSpPr>
            <p:cNvPr id="343" name=""/>
            <p:cNvSpPr/>
            <p:nvPr/>
          </p:nvSpPr>
          <p:spPr>
            <a:xfrm>
              <a:off x="5867280" y="33526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72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67280" y="3657600"/>
              <a:ext cx="457200" cy="304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67280" y="3962520"/>
              <a:ext cx="457200" cy="3045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248160" y="3241800"/>
            <a:ext cx="2873880" cy="492120"/>
            <a:chOff x="6248160" y="3241800"/>
            <a:chExt cx="2873880" cy="492120"/>
          </a:xfrm>
        </p:grpSpPr>
        <p:sp>
          <p:nvSpPr>
            <p:cNvPr id="348" name=""/>
            <p:cNvSpPr/>
            <p:nvPr/>
          </p:nvSpPr>
          <p:spPr>
            <a:xfrm flipH="1">
              <a:off x="6248160" y="3429000"/>
              <a:ext cx="685800" cy="3049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34320" y="3241800"/>
              <a:ext cx="2187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ception detect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104080" y="4190760"/>
            <a:ext cx="2152440" cy="950400"/>
            <a:chOff x="5104080" y="4190760"/>
            <a:chExt cx="2152440" cy="950400"/>
          </a:xfrm>
        </p:grpSpPr>
        <p:sp>
          <p:nvSpPr>
            <p:cNvPr id="351" name=""/>
            <p:cNvSpPr/>
            <p:nvPr/>
          </p:nvSpPr>
          <p:spPr>
            <a:xfrm flipV="1">
              <a:off x="6172200" y="4190760"/>
              <a:ext cx="0" cy="6858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04080" y="4800600"/>
              <a:ext cx="2152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ndition code 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Side Effec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esence of Exception Should Disable State Upd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detect exception in memory stag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able condition code setting in execu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happen in same clock cyc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xception passes to write-back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able memory write in memory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able condition code setting in execute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ired into the design of the PIPE simula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ou have no control over th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st of Exception Hand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ing Exception Hand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sh PC onto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ither PC of faulting instruction or of next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ually pass through pipeline along with exception statu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o handler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ually fixed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fined as part of IS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ven’t tried it yet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7543800" cy="571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dern CPU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589720" cy="51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ap-Up of PIPE Desig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ance analy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stage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al cond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dern High-Performance Process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-of-order execu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289920" cy="571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Contro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0160" y="3029040"/>
            <a:ext cx="8294760" cy="340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rabs Instruction Bytes From 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sed on Current PC + Predicted Targets for Predicted Branch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 dynamically guesses whether branches taken/not taken and (possibly) branch targe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ranslates Instruction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mitive steps required to perform instru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 instruction requires 1–3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verts Register Reference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Tag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bstract identifier linking destination of one operation with sources of later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0101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on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0160" y="3809520"/>
            <a:ext cx="8294760" cy="26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functional un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can operate in independen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ons performed as soon as operands avail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necessarily in program ord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in limits of functional un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sures behavior equivalent to sequential program execu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045960" y="304920"/>
            <a:ext cx="5655240" cy="3396600"/>
            <a:chOff x="3045960" y="304920"/>
            <a:chExt cx="5655240" cy="3396600"/>
          </a:xfrm>
        </p:grpSpPr>
        <p:sp>
          <p:nvSpPr>
            <p:cNvPr id="365" name=""/>
            <p:cNvSpPr/>
            <p:nvPr/>
          </p:nvSpPr>
          <p:spPr>
            <a:xfrm>
              <a:off x="5726880" y="3379680"/>
              <a:ext cx="10018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19191"/>
                  </a:solidFill>
                  <a:latin typeface="Arial"/>
                </a:rPr>
                <a:t>Execu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52920" y="787320"/>
              <a:ext cx="5048280" cy="2914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37080" y="771480"/>
              <a:ext cx="5030640" cy="2896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85600" y="3352680"/>
              <a:ext cx="10018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94280" y="1152360"/>
              <a:ext cx="4497120" cy="839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23520" y="1401480"/>
              <a:ext cx="7063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unctional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79560" y="1584360"/>
              <a:ext cx="348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its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7024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50160" y="1390680"/>
              <a:ext cx="4291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ger/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63480" y="1542960"/>
              <a:ext cx="401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anch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8956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02320" y="1390680"/>
              <a:ext cx="1623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70280" y="1542960"/>
              <a:ext cx="2246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9904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11800" y="1390680"/>
              <a:ext cx="1623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64920" y="1542960"/>
              <a:ext cx="2383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lt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5760" y="1542960"/>
              <a:ext cx="2185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Div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0888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61880" y="1466640"/>
              <a:ext cx="2811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1836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0920" y="1466640"/>
              <a:ext cx="302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08880" y="2828880"/>
              <a:ext cx="1144440" cy="61092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051680" y="2963880"/>
              <a:ext cx="323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92280" y="3146400"/>
              <a:ext cx="4428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6688080" y="1761840"/>
              <a:ext cx="147600" cy="1066320"/>
              <a:chOff x="6688080" y="1761840"/>
              <a:chExt cx="147600" cy="1066320"/>
            </a:xfrm>
          </p:grpSpPr>
          <p:sp>
            <p:nvSpPr>
              <p:cNvPr id="390" name=""/>
              <p:cNvSpPr/>
              <p:nvPr/>
            </p:nvSpPr>
            <p:spPr>
              <a:xfrm>
                <a:off x="6746760" y="1761840"/>
                <a:ext cx="28800" cy="9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688080" y="2682360"/>
                <a:ext cx="147600" cy="1458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0"/>
                    </a:moveTo>
                    <a:lnTo>
                      <a:pt x="46" y="92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6905520" y="1761840"/>
              <a:ext cx="169920" cy="1066320"/>
              <a:chOff x="6905520" y="1761840"/>
              <a:chExt cx="169920" cy="1066320"/>
            </a:xfrm>
          </p:grpSpPr>
          <p:sp>
            <p:nvSpPr>
              <p:cNvPr id="393" name=""/>
              <p:cNvSpPr/>
              <p:nvPr/>
            </p:nvSpPr>
            <p:spPr>
              <a:xfrm>
                <a:off x="6970680" y="1928160"/>
                <a:ext cx="38160" cy="900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05520" y="1761840"/>
                <a:ext cx="169920" cy="171360"/>
              </a:xfrm>
              <a:custGeom>
                <a:avLst/>
                <a:gdLst/>
                <a:ahLst/>
                <a:rect l="l" t="t" r="r" b="b"/>
                <a:pathLst>
                  <a:path w="107" h="108">
                    <a:moveTo>
                      <a:pt x="107" y="108"/>
                    </a:moveTo>
                    <a:lnTo>
                      <a:pt x="53" y="0"/>
                    </a:lnTo>
                    <a:lnTo>
                      <a:pt x="0" y="108"/>
                    </a:lnTo>
                    <a:lnTo>
                      <a:pt x="107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297560" y="1761840"/>
              <a:ext cx="147960" cy="1066320"/>
              <a:chOff x="7297560" y="1761840"/>
              <a:chExt cx="147960" cy="106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7356600" y="1761840"/>
                <a:ext cx="28440" cy="9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297560" y="2682360"/>
                <a:ext cx="147960" cy="1458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0"/>
                    </a:moveTo>
                    <a:lnTo>
                      <a:pt x="46" y="92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515360" y="1761840"/>
              <a:ext cx="169560" cy="1066320"/>
              <a:chOff x="7515360" y="1761840"/>
              <a:chExt cx="169560" cy="1066320"/>
            </a:xfrm>
          </p:grpSpPr>
          <p:sp>
            <p:nvSpPr>
              <p:cNvPr id="399" name=""/>
              <p:cNvSpPr/>
              <p:nvPr/>
            </p:nvSpPr>
            <p:spPr>
              <a:xfrm>
                <a:off x="7580160" y="1761840"/>
                <a:ext cx="38160" cy="900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515360" y="2658600"/>
                <a:ext cx="169560" cy="16956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0"/>
                    </a:moveTo>
                    <a:lnTo>
                      <a:pt x="53" y="107"/>
                    </a:lnTo>
                    <a:lnTo>
                      <a:pt x="10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4246560" y="342720"/>
              <a:ext cx="10526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07400" y="304920"/>
              <a:ext cx="872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dic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1200" y="533160"/>
              <a:ext cx="375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K?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23280" y="2431800"/>
              <a:ext cx="4521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41720" y="2487600"/>
              <a:ext cx="2674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19920" y="2423880"/>
              <a:ext cx="452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38720" y="2479680"/>
              <a:ext cx="2674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51480" y="2219040"/>
              <a:ext cx="4874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70280" y="2274840"/>
              <a:ext cx="2674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37040" y="2274840"/>
              <a:ext cx="356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89760" y="2203200"/>
              <a:ext cx="4874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08560" y="2259000"/>
              <a:ext cx="2674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75320" y="2259000"/>
              <a:ext cx="356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4414680" y="1076040"/>
              <a:ext cx="122400" cy="227880"/>
              <a:chOff x="4414680" y="1076040"/>
              <a:chExt cx="122400" cy="227880"/>
            </a:xfrm>
          </p:grpSpPr>
          <p:sp>
            <p:nvSpPr>
              <p:cNvPr id="415" name=""/>
              <p:cNvSpPr/>
              <p:nvPr/>
            </p:nvSpPr>
            <p:spPr>
              <a:xfrm>
                <a:off x="4465800" y="1076040"/>
                <a:ext cx="1872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414680" y="1182240"/>
                <a:ext cx="12240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634000" y="1076040"/>
              <a:ext cx="122400" cy="227880"/>
              <a:chOff x="5634000" y="1076040"/>
              <a:chExt cx="122400" cy="227880"/>
            </a:xfrm>
          </p:grpSpPr>
          <p:sp>
            <p:nvSpPr>
              <p:cNvPr id="418" name=""/>
              <p:cNvSpPr/>
              <p:nvPr/>
            </p:nvSpPr>
            <p:spPr>
              <a:xfrm>
                <a:off x="5684760" y="1076040"/>
                <a:ext cx="1908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34000" y="1182240"/>
                <a:ext cx="12240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243480" y="1076040"/>
              <a:ext cx="122400" cy="227880"/>
              <a:chOff x="6243480" y="1076040"/>
              <a:chExt cx="122400" cy="227880"/>
            </a:xfrm>
          </p:grpSpPr>
          <p:sp>
            <p:nvSpPr>
              <p:cNvPr id="421" name=""/>
              <p:cNvSpPr/>
              <p:nvPr/>
            </p:nvSpPr>
            <p:spPr>
              <a:xfrm>
                <a:off x="6294600" y="1076040"/>
                <a:ext cx="1872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43480" y="1182240"/>
                <a:ext cx="12240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853320" y="1076040"/>
              <a:ext cx="122040" cy="227880"/>
              <a:chOff x="6853320" y="1076040"/>
              <a:chExt cx="122040" cy="227880"/>
            </a:xfrm>
          </p:grpSpPr>
          <p:sp>
            <p:nvSpPr>
              <p:cNvPr id="424" name=""/>
              <p:cNvSpPr/>
              <p:nvPr/>
            </p:nvSpPr>
            <p:spPr>
              <a:xfrm>
                <a:off x="6904080" y="1076040"/>
                <a:ext cx="1908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853320" y="1182240"/>
                <a:ext cx="12204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7462800" y="1076040"/>
              <a:ext cx="122400" cy="227880"/>
              <a:chOff x="7462800" y="1076040"/>
              <a:chExt cx="122400" cy="227880"/>
            </a:xfrm>
          </p:grpSpPr>
          <p:sp>
            <p:nvSpPr>
              <p:cNvPr id="427" name=""/>
              <p:cNvSpPr/>
              <p:nvPr/>
            </p:nvSpPr>
            <p:spPr>
              <a:xfrm>
                <a:off x="7513560" y="1076040"/>
                <a:ext cx="1908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62800" y="1182240"/>
                <a:ext cx="12240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4475160" y="1062000"/>
              <a:ext cx="304812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8008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49560" y="1390680"/>
              <a:ext cx="4503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77640" y="1542960"/>
              <a:ext cx="3938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024520" y="1076040"/>
              <a:ext cx="122040" cy="227880"/>
              <a:chOff x="5024520" y="1076040"/>
              <a:chExt cx="122040" cy="227880"/>
            </a:xfrm>
          </p:grpSpPr>
          <p:sp>
            <p:nvSpPr>
              <p:cNvPr id="434" name=""/>
              <p:cNvSpPr/>
              <p:nvPr/>
            </p:nvSpPr>
            <p:spPr>
              <a:xfrm>
                <a:off x="5075280" y="1076040"/>
                <a:ext cx="1908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024520" y="1182240"/>
                <a:ext cx="12204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3789360" y="2133360"/>
              <a:ext cx="39625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4346640" y="1761840"/>
              <a:ext cx="106200" cy="380520"/>
              <a:chOff x="4346640" y="1761840"/>
              <a:chExt cx="106200" cy="380520"/>
            </a:xfrm>
          </p:grpSpPr>
          <p:sp>
            <p:nvSpPr>
              <p:cNvPr id="438" name=""/>
              <p:cNvSpPr/>
              <p:nvPr/>
            </p:nvSpPr>
            <p:spPr>
              <a:xfrm>
                <a:off x="4398840" y="1864800"/>
                <a:ext cx="180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346640" y="1761840"/>
                <a:ext cx="10620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46640" y="20361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565600" y="1761840"/>
              <a:ext cx="106560" cy="380520"/>
              <a:chOff x="5565600" y="1761840"/>
              <a:chExt cx="106560" cy="380520"/>
            </a:xfrm>
          </p:grpSpPr>
          <p:sp>
            <p:nvSpPr>
              <p:cNvPr id="442" name=""/>
              <p:cNvSpPr/>
              <p:nvPr/>
            </p:nvSpPr>
            <p:spPr>
              <a:xfrm>
                <a:off x="561816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56560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56560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6175440" y="1761840"/>
              <a:ext cx="106200" cy="380520"/>
              <a:chOff x="6175440" y="1761840"/>
              <a:chExt cx="106200" cy="380520"/>
            </a:xfrm>
          </p:grpSpPr>
          <p:sp>
            <p:nvSpPr>
              <p:cNvPr id="446" name=""/>
              <p:cNvSpPr/>
              <p:nvPr/>
            </p:nvSpPr>
            <p:spPr>
              <a:xfrm>
                <a:off x="6227640" y="1864800"/>
                <a:ext cx="180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75440" y="1761840"/>
                <a:ext cx="10620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75440" y="20361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784920" y="1761840"/>
              <a:ext cx="106560" cy="380520"/>
              <a:chOff x="6784920" y="1761840"/>
              <a:chExt cx="106560" cy="380520"/>
            </a:xfrm>
          </p:grpSpPr>
          <p:sp>
            <p:nvSpPr>
              <p:cNvPr id="450" name=""/>
              <p:cNvSpPr/>
              <p:nvPr/>
            </p:nvSpPr>
            <p:spPr>
              <a:xfrm>
                <a:off x="683748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8492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78492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7394400" y="1761840"/>
              <a:ext cx="106560" cy="380520"/>
              <a:chOff x="7394400" y="1761840"/>
              <a:chExt cx="106560" cy="380520"/>
            </a:xfrm>
          </p:grpSpPr>
          <p:sp>
            <p:nvSpPr>
              <p:cNvPr id="454" name=""/>
              <p:cNvSpPr/>
              <p:nvPr/>
            </p:nvSpPr>
            <p:spPr>
              <a:xfrm>
                <a:off x="744696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39440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9440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4956120" y="1761840"/>
              <a:ext cx="106560" cy="380520"/>
              <a:chOff x="4956120" y="1761840"/>
              <a:chExt cx="106560" cy="380520"/>
            </a:xfrm>
          </p:grpSpPr>
          <p:sp>
            <p:nvSpPr>
              <p:cNvPr id="458" name=""/>
              <p:cNvSpPr/>
              <p:nvPr/>
            </p:nvSpPr>
            <p:spPr>
              <a:xfrm>
                <a:off x="500868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5612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5612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346640" y="1761840"/>
              <a:ext cx="106200" cy="380520"/>
              <a:chOff x="4346640" y="1761840"/>
              <a:chExt cx="106200" cy="380520"/>
            </a:xfrm>
          </p:grpSpPr>
          <p:sp>
            <p:nvSpPr>
              <p:cNvPr id="462" name=""/>
              <p:cNvSpPr/>
              <p:nvPr/>
            </p:nvSpPr>
            <p:spPr>
              <a:xfrm>
                <a:off x="4398840" y="1864800"/>
                <a:ext cx="180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346640" y="1761840"/>
                <a:ext cx="10620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46640" y="20361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5565600" y="1761840"/>
              <a:ext cx="106560" cy="380520"/>
              <a:chOff x="5565600" y="1761840"/>
              <a:chExt cx="106560" cy="380520"/>
            </a:xfrm>
          </p:grpSpPr>
          <p:sp>
            <p:nvSpPr>
              <p:cNvPr id="466" name=""/>
              <p:cNvSpPr/>
              <p:nvPr/>
            </p:nvSpPr>
            <p:spPr>
              <a:xfrm>
                <a:off x="561816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56560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56560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6175440" y="1761840"/>
              <a:ext cx="106200" cy="380520"/>
              <a:chOff x="6175440" y="1761840"/>
              <a:chExt cx="106200" cy="380520"/>
            </a:xfrm>
          </p:grpSpPr>
          <p:sp>
            <p:nvSpPr>
              <p:cNvPr id="470" name=""/>
              <p:cNvSpPr/>
              <p:nvPr/>
            </p:nvSpPr>
            <p:spPr>
              <a:xfrm>
                <a:off x="6227640" y="1864800"/>
                <a:ext cx="180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175440" y="1761840"/>
                <a:ext cx="10620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175440" y="20361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784920" y="1761840"/>
              <a:ext cx="106560" cy="380520"/>
              <a:chOff x="6784920" y="1761840"/>
              <a:chExt cx="106560" cy="380520"/>
            </a:xfrm>
          </p:grpSpPr>
          <p:sp>
            <p:nvSpPr>
              <p:cNvPr id="474" name=""/>
              <p:cNvSpPr/>
              <p:nvPr/>
            </p:nvSpPr>
            <p:spPr>
              <a:xfrm>
                <a:off x="683748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8492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78492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7394400" y="1761840"/>
              <a:ext cx="106560" cy="380520"/>
              <a:chOff x="7394400" y="1761840"/>
              <a:chExt cx="106560" cy="380520"/>
            </a:xfrm>
          </p:grpSpPr>
          <p:sp>
            <p:nvSpPr>
              <p:cNvPr id="478" name=""/>
              <p:cNvSpPr/>
              <p:nvPr/>
            </p:nvSpPr>
            <p:spPr>
              <a:xfrm>
                <a:off x="744696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39440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9440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4956120" y="1761840"/>
              <a:ext cx="106560" cy="380520"/>
              <a:chOff x="4956120" y="1761840"/>
              <a:chExt cx="106560" cy="380520"/>
            </a:xfrm>
          </p:grpSpPr>
          <p:sp>
            <p:nvSpPr>
              <p:cNvPr id="482" name=""/>
              <p:cNvSpPr/>
              <p:nvPr/>
            </p:nvSpPr>
            <p:spPr>
              <a:xfrm>
                <a:off x="500868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5612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95612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4627440" y="2143080"/>
              <a:ext cx="119700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45880" y="2198520"/>
              <a:ext cx="10126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ion Results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326880"/>
              <a:ext cx="895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3045960" y="304920"/>
              <a:ext cx="713880" cy="404280"/>
              <a:chOff x="3045960" y="304920"/>
              <a:chExt cx="713880" cy="404280"/>
            </a:xfrm>
          </p:grpSpPr>
          <p:sp>
            <p:nvSpPr>
              <p:cNvPr id="489" name=""/>
              <p:cNvSpPr/>
              <p:nvPr/>
            </p:nvSpPr>
            <p:spPr>
              <a:xfrm>
                <a:off x="3045960" y="304920"/>
                <a:ext cx="7138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giste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057840" y="517320"/>
                <a:ext cx="7016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Updates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 flipV="1">
              <a:off x="3886200" y="533160"/>
              <a:ext cx="0" cy="15998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4267080" y="533160"/>
              <a:ext cx="0" cy="761760"/>
            </a:xfrm>
            <a:prstGeom prst="line">
              <a:avLst/>
            </a:prstGeom>
            <a:ln w="19080">
              <a:solidFill>
                <a:srgbClr val="0033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43600" y="304920"/>
              <a:ext cx="0" cy="76176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83560" y="380880"/>
              <a:ext cx="9410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7439040" cy="571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PU Capabilities of Pentium III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294400" cy="521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ultiple Instructions Can Execute in Parallel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loa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stor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 integer (one may be branch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FP Addi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FP Multiplication or Divis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me Instructions Take &gt; 1 Cycle, but Can be Pipelined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tenc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ycles/Issu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 / Stor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ger Multipl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ger Divid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6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uble/Single FP Multipl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uble/Single FP Ad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uble/Single FP Divid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8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8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Block Dia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90520" y="1218960"/>
            <a:ext cx="35956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6 Microarchite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Pr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22680" y="5791320"/>
            <a:ext cx="2141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icroprocessor Repor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/16/9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083120" cy="53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es instructions dynamically into “Uop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8 bits w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s operation, two sources, and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ecutes Uops with “Out of Order” eng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op executed wh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nds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unctional unit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ion controlled by “Reservation Station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s track of data dependencies between u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s resourc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Branch 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itical to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–15 cycle penalty for mispredi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anch Target Buff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12 ent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 bits of hist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aptive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recognize repeated patterns, e.g., alternating taken–not tak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ndling BTB mi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ct in cycle 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taken for negative offset, not taken for posi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ops vs. condition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Branch 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anch History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e information about prior history of branch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whether or not branch will be tak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te Mach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ime branch taken, transition to righ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not taken, transition to le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branch taken when in state Yes! or Y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821520" y="3048120"/>
            <a:ext cx="7259040" cy="1427400"/>
            <a:chOff x="821520" y="3048120"/>
            <a:chExt cx="7259040" cy="1427400"/>
          </a:xfrm>
        </p:grpSpPr>
        <p:sp>
          <p:nvSpPr>
            <p:cNvPr id="508" name=""/>
            <p:cNvSpPr/>
            <p:nvPr/>
          </p:nvSpPr>
          <p:spPr>
            <a:xfrm>
              <a:off x="2723760" y="411228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69880" y="411228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91600" y="411228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784920" y="3462840"/>
              <a:ext cx="659160" cy="582840"/>
            </a:xfrm>
            <a:prstGeom prst="ellipse">
              <a:avLst/>
            </a:prstGeom>
            <a:noFill/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229400" y="3462840"/>
              <a:ext cx="659160" cy="582840"/>
            </a:xfrm>
            <a:prstGeom prst="ellipse">
              <a:avLst/>
            </a:prstGeom>
            <a:noFill/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9400" y="3380400"/>
              <a:ext cx="748440" cy="74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Yes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01840" y="3380400"/>
              <a:ext cx="748080" cy="74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Yes?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23920" y="3380400"/>
              <a:ext cx="748080" cy="74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?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45640" y="3380400"/>
              <a:ext cx="748440" cy="74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58360" y="352620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58360" y="398268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0440" y="352620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0440" y="398268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02160" y="352620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02160" y="398268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71480" y="3048120"/>
              <a:ext cx="486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21520" y="350424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17600" y="3048120"/>
              <a:ext cx="486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39680" y="3048120"/>
              <a:ext cx="486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94200" y="3580200"/>
              <a:ext cx="486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4 Block Dia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90160" y="5333760"/>
            <a:ext cx="8294760" cy="10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xt generation micro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30" name="art_2_fig4%5B1%5D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5635440" cy="3726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6551640" y="2133720"/>
            <a:ext cx="2114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l Tech. Journ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Q1, 20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4 Fea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ce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laces traditional instruction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s instructions in decoded for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s required rate for instruction deco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uble-Pumped AL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 instructions (add) run at 2X clock r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ery Deep Pipe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+ cycle branch penal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ables very high clock ra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lower than Pentium III for a given clock r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0920" y="1143000"/>
            <a:ext cx="5297040" cy="1447920"/>
            <a:chOff x="2590920" y="1143000"/>
            <a:chExt cx="5297040" cy="1447920"/>
          </a:xfrm>
        </p:grpSpPr>
        <p:sp>
          <p:nvSpPr>
            <p:cNvPr id="535" name=""/>
            <p:cNvSpPr/>
            <p:nvPr/>
          </p:nvSpPr>
          <p:spPr>
            <a:xfrm>
              <a:off x="2590920" y="1143000"/>
              <a:ext cx="1135080" cy="105552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2 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19720" y="1143000"/>
              <a:ext cx="1135080" cy="105552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struct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cod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48520" y="1143000"/>
              <a:ext cx="1135080" cy="105552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rac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33920" y="1676520"/>
              <a:ext cx="68580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31760" y="1143000"/>
              <a:ext cx="62856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IA3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Instrs.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62000" y="1219320"/>
              <a:ext cx="5158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uop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62720" y="1676520"/>
              <a:ext cx="68580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81680" y="2209680"/>
              <a:ext cx="0" cy="3812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55480" y="2209680"/>
              <a:ext cx="10324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peration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or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gn Techniq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uniform framework for all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nt to share hardware among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nect standard logic blocks with bits of 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held in memories and clocked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ation done by combinationa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cking of registers/memories sufficient to control overall behavi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hancing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ing increases throughput and improves resource util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make sure maintains ISA behavi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rformance Metric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ck r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in Megahertz or Gigahertz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unction of stage partitioning and circuit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 amount of work per stage sma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te at which instructions execut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I: cycles per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 average, how many clock cycles does each instruction require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unction of pipeline design and benchmark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how frequently are branches mispredicted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PI for PIP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PI </a:t>
            </a:r>
            <a:r>
              <a:rPr b="1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1.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instruction each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ively process new instruction almost every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though each individual instruction has latency of 5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PI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1.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times must stall or cancel bran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ing CPI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 instructions executed to comple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 bubbles injected (C = I + B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I   =   C/I   =   (I+B)/I   =  1.0 + B/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ctor B/I represents average penalty due to bub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PI for PIP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94400" cy="521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lvl="1" marL="782640" indent="0" algn="ctr">
              <a:spcBef>
                <a:spcPts val="6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/I = LP + MP + R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82640" indent="-33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P: Penalty due to load/use hazard stall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instructions that are load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25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load instructions requiring stal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2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ber of bubbles injected each tim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P = 0.25 * 0.20 * 1 = 0.05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82640" indent="-33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P: Penalty due to mispredicted bran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instructions that are cond. jump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2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cond. jumps mispredict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4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ber of bubbles injected each tim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P = 0.20 * 0.40 * 2 = 0.16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82640" indent="-33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P: Penalty due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instructions that are return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0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ber of bubbles injected each tim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P = 0.02 * 3 = 0.06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82640" indent="-33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t effect of penalties 0.05 + 0.16 + 0.06 = 0.2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PI = 1.27    (Not bad!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7640" y="1143000"/>
            <a:ext cx="1680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Typical Valu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tch Logic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3670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uring Fetch Cyc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Helvetic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Helvetic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bytes from instructio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Helvetic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e icode to determine instruction leng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Helvetic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im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eps 2 &amp; 4 require significant amount of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52680" y="914400"/>
            <a:ext cx="5886720" cy="48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Fetch Tim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0160" y="3962160"/>
            <a:ext cx="8294760" cy="24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Perform Everything in Sequ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’t compute incremented PC until know how much to increment it b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286000"/>
            <a:ext cx="0" cy="7621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4382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3440" y="1546200"/>
            <a:ext cx="1027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22860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24382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22860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1828800"/>
            <a:ext cx="76320" cy="53352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2520" y="2133720"/>
            <a:ext cx="1162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.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9600" y="2133720"/>
            <a:ext cx="1059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cre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0080" y="1447920"/>
            <a:ext cx="2411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ed_regids, need_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752480"/>
            <a:ext cx="76320" cy="60984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2286000"/>
            <a:ext cx="0" cy="7621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4000320" y="418680"/>
            <a:ext cx="381240" cy="5791320"/>
          </a:xfrm>
          <a:custGeom>
            <a:avLst/>
            <a:gdLst>
              <a:gd name="textAreaLeft" fmla="*/ 243720 w 381240"/>
              <a:gd name="textAreaRight" fmla="*/ 381600 w 38124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51680" y="3546360"/>
            <a:ext cx="1500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 clock cyc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22860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438280"/>
            <a:ext cx="2438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438280"/>
            <a:ext cx="243828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Fast PC Increment Circuit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2971800"/>
            <a:ext cx="1676520" cy="865080"/>
          </a:xfrm>
          <a:prstGeom prst="rect">
            <a:avLst/>
          </a:prstGeom>
          <a:solidFill>
            <a:srgbClr val="99ffcc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-bit ad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19720" y="380952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876920" y="380952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334120" y="3809880"/>
            <a:ext cx="0" cy="9144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562720" y="3809520"/>
            <a:ext cx="0" cy="6858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791320" y="3809520"/>
            <a:ext cx="0" cy="38124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724280"/>
            <a:ext cx="1128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ed_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9760" y="4183200"/>
            <a:ext cx="128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ed_regid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53280" y="4460760"/>
            <a:ext cx="218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2971800"/>
            <a:ext cx="1066680" cy="865080"/>
          </a:xfrm>
          <a:prstGeom prst="rect">
            <a:avLst/>
          </a:prstGeom>
          <a:solidFill>
            <a:srgbClr val="99ffcc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9-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-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124080" y="3809520"/>
            <a:ext cx="0" cy="114300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209680"/>
            <a:ext cx="1371600" cy="45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666880"/>
            <a:ext cx="914400" cy="1524240"/>
          </a:xfrm>
          <a:custGeom>
            <a:avLst/>
            <a:gdLst/>
            <a:ahLst/>
            <a:rect l="l" t="t" r="r" b="b"/>
            <a:pathLst>
              <a:path w="576" h="1008">
                <a:moveTo>
                  <a:pt x="576" y="1008"/>
                </a:moveTo>
                <a:lnTo>
                  <a:pt x="0" y="100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2666520"/>
            <a:ext cx="0" cy="30492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4952880"/>
            <a:ext cx="236232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962520" y="4952880"/>
            <a:ext cx="0" cy="457200"/>
          </a:xfrm>
          <a:prstGeom prst="line">
            <a:avLst/>
          </a:prstGeom>
          <a:ln w="572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800600" y="182844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029200" y="182844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182844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1828800"/>
            <a:ext cx="289548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038480" y="1371600"/>
            <a:ext cx="0" cy="457200"/>
          </a:xfrm>
          <a:prstGeom prst="line">
            <a:avLst/>
          </a:prstGeom>
          <a:ln w="572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1828800"/>
            <a:ext cx="0" cy="38088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3240" y="4648320"/>
            <a:ext cx="1617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High-order 29 bi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38280" y="4952880"/>
            <a:ext cx="1478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ow-order 3 bi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2438280"/>
            <a:ext cx="914400" cy="99072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576" y="672"/>
                </a:moveTo>
                <a:lnTo>
                  <a:pt x="384" y="672"/>
                </a:lnTo>
                <a:lnTo>
                  <a:pt x="38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86040" y="1905120"/>
            <a:ext cx="1617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High-order 29 bi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1960" y="1905120"/>
            <a:ext cx="1478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ow-order 3 bi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360" y="2438280"/>
            <a:ext cx="191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09600" y="2438280"/>
            <a:ext cx="191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5410080"/>
            <a:ext cx="1219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1066680"/>
            <a:ext cx="1219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cr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30240" y="2819520"/>
            <a:ext cx="6232680" cy="1143000"/>
            <a:chOff x="930240" y="2819520"/>
            <a:chExt cx="6232680" cy="1143000"/>
          </a:xfrm>
        </p:grpSpPr>
        <p:grpSp>
          <p:nvGrpSpPr>
            <p:cNvPr id="148" name=""/>
            <p:cNvGrpSpPr/>
            <p:nvPr/>
          </p:nvGrpSpPr>
          <p:grpSpPr>
            <a:xfrm>
              <a:off x="930240" y="2819520"/>
              <a:ext cx="974880" cy="1143000"/>
              <a:chOff x="930240" y="2819520"/>
              <a:chExt cx="974880" cy="1143000"/>
            </a:xfrm>
          </p:grpSpPr>
          <p:sp>
            <p:nvSpPr>
              <p:cNvPr id="149" name=""/>
              <p:cNvSpPr/>
              <p:nvPr/>
            </p:nvSpPr>
            <p:spPr>
              <a:xfrm>
                <a:off x="1752480" y="2819520"/>
                <a:ext cx="152640" cy="1143000"/>
              </a:xfrm>
              <a:custGeom>
                <a:avLst/>
                <a:gdLst>
                  <a:gd name="textAreaLeft" fmla="*/ 97560 w 152640"/>
                  <a:gd name="textAreaRight" fmla="*/ 153000 w 15264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30240" y="3276720"/>
                <a:ext cx="74628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Arial"/>
                  </a:rPr>
                  <a:t>Slow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248520" y="2819520"/>
              <a:ext cx="914400" cy="1143000"/>
              <a:chOff x="6248520" y="2819520"/>
              <a:chExt cx="914400" cy="114300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6248520" y="2819520"/>
                <a:ext cx="152640" cy="1143000"/>
              </a:xfrm>
              <a:custGeom>
                <a:avLst/>
                <a:gdLst>
                  <a:gd name="textAreaLeft" fmla="*/ 97560 w 152640"/>
                  <a:gd name="textAreaRight" fmla="*/ 153000 w 15264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17000" y="3276720"/>
                <a:ext cx="7459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Arial"/>
                  </a:rPr>
                  <a:t>Fast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3663720" y="2133720"/>
            <a:ext cx="529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car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6600" y="22824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dified Fetch Tim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0160" y="3962160"/>
            <a:ext cx="8294760" cy="24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9-Bit Increment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s as soon as PC selec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 not needed until final MU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s in parallel with memory re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286000"/>
            <a:ext cx="0" cy="7621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4382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3440" y="1546200"/>
            <a:ext cx="1027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752480" y="2133360"/>
            <a:ext cx="0" cy="60948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209680"/>
            <a:ext cx="2438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590920"/>
            <a:ext cx="2438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20574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22096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20574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22096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2057400"/>
            <a:ext cx="0" cy="68580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241632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1828800"/>
            <a:ext cx="76320" cy="53352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49440" y="1927080"/>
            <a:ext cx="1162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.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03720" y="2595600"/>
            <a:ext cx="1252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creme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50080" y="1219320"/>
            <a:ext cx="2411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ed_regids, need_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1523880"/>
            <a:ext cx="76320" cy="60984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50680" y="1447920"/>
            <a:ext cx="934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-bit ad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1676520"/>
            <a:ext cx="76320" cy="53316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95800" y="1981080"/>
            <a:ext cx="543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U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2263680"/>
            <a:ext cx="0" cy="152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2286000"/>
            <a:ext cx="0" cy="7621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3276360" y="1142280"/>
            <a:ext cx="304920" cy="4267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1240 h 4267440"/>
              <a:gd name="textAreaBottom" fmla="*/ 4156200 h 426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7600" y="3505320"/>
            <a:ext cx="1500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 clock cyc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2590920"/>
            <a:ext cx="914400" cy="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2286000"/>
            <a:ext cx="0" cy="7621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16840" y="3048120"/>
            <a:ext cx="1716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tandard cyc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6-06T15:58:23Z</dcterms:modified>
  <cp:revision>95</cp:revision>
  <dc:subject>SRC Review Slides</dc:subject>
  <dc:title>Formal Processor Verification</dc:title>
</cp:coreProperties>
</file>