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7CFB346A-0CBE-48D2-8056-13EB834CE6CF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ime Measurement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24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920"/>
            <a:ext cx="6175080" cy="22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sca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val count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ycle coun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-best measurement sche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8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993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uracy of Interval Count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3120" y="3352680"/>
            <a:ext cx="8282160" cy="285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st Case Analysi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r Interval =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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gle process segment measurement can be off by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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bound on error for multiple seg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uld consistently underestimate, or consistently overestim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89840" y="2631960"/>
            <a:ext cx="1072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172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7928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4444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2380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8896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6832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3348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11284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1780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5592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2108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0044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656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4460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801720" y="1057320"/>
            <a:ext cx="2754360" cy="1376280"/>
            <a:chOff x="801720" y="1057320"/>
            <a:chExt cx="2754360" cy="1376280"/>
          </a:xfrm>
        </p:grpSpPr>
        <p:sp>
          <p:nvSpPr>
            <p:cNvPr id="328" name=""/>
            <p:cNvSpPr/>
            <p:nvPr/>
          </p:nvSpPr>
          <p:spPr>
            <a:xfrm>
              <a:off x="801720" y="1057320"/>
              <a:ext cx="144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4444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48896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3348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7800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21080" y="1057320"/>
              <a:ext cx="144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65600" y="1057320"/>
              <a:ext cx="144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20976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5428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320976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8768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32640" y="1184400"/>
            <a:ext cx="2034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132640" y="1757520"/>
            <a:ext cx="2034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68760" y="990720"/>
            <a:ext cx="137808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61360" y="1241280"/>
            <a:ext cx="9259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60640" y="1722600"/>
            <a:ext cx="9896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9840" y="2631960"/>
            <a:ext cx="1072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0172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7928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444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2380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8896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6832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3348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1284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780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5592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2108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0044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656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4460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0172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4444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8896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83348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7800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2108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6560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0976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5428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0172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14444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8896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3348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17800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2108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6560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0976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5428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0976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8696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95480" y="1171440"/>
            <a:ext cx="2144520" cy="347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31920" y="1184400"/>
            <a:ext cx="2034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38080" y="1746360"/>
            <a:ext cx="2667240" cy="345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31920" y="1757520"/>
            <a:ext cx="2034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68760" y="990720"/>
            <a:ext cx="137808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61360" y="1241280"/>
            <a:ext cx="9259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59560" y="1722600"/>
            <a:ext cx="9896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029200" y="1143000"/>
            <a:ext cx="3581280" cy="120276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uted time = 70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n Actual = 60 +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x Actual = 80 –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993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uracy of Int. Cntg.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3120" y="3429000"/>
            <a:ext cx="8282160" cy="278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verage Case Analysi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/underestimates tend to balance ou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long as total run time is sufficiently lar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in run time ~1 secon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0 timer interva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istently miss 4% overhead due to timer interrup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89840" y="2631960"/>
            <a:ext cx="1072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0172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7928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4444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2380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48896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76832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3348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1284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780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45592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2108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0044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656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14460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801720" y="1057320"/>
            <a:ext cx="2754360" cy="1376280"/>
            <a:chOff x="801720" y="1057320"/>
            <a:chExt cx="2754360" cy="1376280"/>
          </a:xfrm>
        </p:grpSpPr>
        <p:sp>
          <p:nvSpPr>
            <p:cNvPr id="407" name=""/>
            <p:cNvSpPr/>
            <p:nvPr/>
          </p:nvSpPr>
          <p:spPr>
            <a:xfrm>
              <a:off x="801720" y="1057320"/>
              <a:ext cx="144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4444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48896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348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7800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21080" y="1057320"/>
              <a:ext cx="144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65600" y="1057320"/>
              <a:ext cx="144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0976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5428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320976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48768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32640" y="1184400"/>
            <a:ext cx="2034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132640" y="1757520"/>
            <a:ext cx="2034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68760" y="990720"/>
            <a:ext cx="137808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61360" y="1241280"/>
            <a:ext cx="9259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60640" y="1722600"/>
            <a:ext cx="9896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89840" y="2631960"/>
            <a:ext cx="1072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0172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07928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4444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2380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8896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76832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3348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11284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780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45592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2108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0044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656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4460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172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4444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48896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3348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7800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2108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6560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20976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55428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0172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4444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48896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83348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17800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2108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86560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0976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55428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0976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48696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095480" y="1171440"/>
            <a:ext cx="2144520" cy="347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31920" y="1184400"/>
            <a:ext cx="2034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38080" y="1746360"/>
            <a:ext cx="2667240" cy="345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131920" y="1757520"/>
            <a:ext cx="2034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68760" y="990720"/>
            <a:ext cx="137808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861360" y="1241280"/>
            <a:ext cx="9259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59560" y="1722600"/>
            <a:ext cx="9896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029200" y="1143000"/>
            <a:ext cx="3581280" cy="120276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uted time = 70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n Actual = 60 +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x Actual = 80 –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334800"/>
            <a:ext cx="5341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ycle Coun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3120" y="1371240"/>
            <a:ext cx="8282160" cy="11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lvl="1" marL="290160" indent="-95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modern systems have built in registers that are incremented every clock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46760" indent="-928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ery fine grain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446760" indent="-928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intained as part of process st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623880" indent="-8892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 Linux, counts elapsed global tim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90160" indent="-95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ecial assembly code instruction to ac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90160" indent="-95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 (recent model) Intel machine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46760" indent="-928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64 bit counter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446760" indent="-928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DTSC instruction set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high order 32-bits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low order 32-b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334800"/>
            <a:ext cx="5341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ycle Counter Perio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3120" y="1371240"/>
            <a:ext cx="8282160" cy="11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8000"/>
          </a:bodyPr>
          <a:p>
            <a:pPr marL="14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rap Around Times for 550 MHz mach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82600" indent="-93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w order 32 bits wrap around every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3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/ (550 * 10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= 7.8 seco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2600" indent="-93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 order 64 bits wrap around every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6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/ (550 * 10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= 33539534679 seco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35240" indent="-903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65 yea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4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 2 GHz mach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82600" indent="-93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w order 32-bits every 2.1 seco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2600" indent="-93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 order 64 bits every 293 yea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246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asuring with Cycle Count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3120" y="1142640"/>
            <a:ext cx="8282160" cy="14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marL="235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53960" indent="-149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 current value of cycle cou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699120" indent="-145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ore as pair of unsigned’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yc_h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yc_l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3960" indent="-149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someth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3960" indent="-149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 new value of cycle cou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3960" indent="-149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 double precision subtraction to get elapsed cyc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39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35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35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62120" y="3657600"/>
            <a:ext cx="7162560" cy="22842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Keep track of most recent reading of cycle count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ic unsigned cyc_hi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ic unsigned cyc_lo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start_counter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Get current value of cycle count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ccess_counter(&amp;cyc_hi, &amp;cyc_lo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4440" y="334800"/>
            <a:ext cx="7975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the Cycle Cntr.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3120" y="1066320"/>
            <a:ext cx="8282160" cy="151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2000"/>
          </a:bodyPr>
          <a:p>
            <a:pPr lvl="1" marL="312480" indent="-102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CC allows inline assembly code with mechanism for matching registers with program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2480" indent="-102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only works on x86 machine compiling with GC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2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2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2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2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2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2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2480" indent="-102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mit assembly with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dts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tw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990720" y="2286000"/>
            <a:ext cx="7162560" cy="20408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access_counter(unsigned *hi, unsigned *l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Get cycle count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sm("rdtsc; movl %%edx,%0; movl %%eax,%1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"=r" (*hi), "=r" (*l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/* No inpu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"%edx", "%eax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4440" y="334800"/>
            <a:ext cx="7975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oser Look at Extended AS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2280" y="327636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8000"/>
          </a:bodyPr>
          <a:p>
            <a:pPr marL="14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truction Str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82600" indent="-93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ies of assembly comma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35240" indent="-903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parated by “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;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” or “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\n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435240" indent="-903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“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%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” where normally would use “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6320" y="1143000"/>
            <a:ext cx="3352680" cy="131076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sm(“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Instruction String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Output Li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Input Li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Clobbers List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05320" y="990720"/>
            <a:ext cx="5562360" cy="22842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access_cou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unsigned *hi, unsigned *l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Get cycle count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sm(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"rdtsc; movl %%edx,%0; movl %%eax,%1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"=r" (*hi), "=r" (*l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/* No inpu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"%edx", "%eax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4440" y="334800"/>
            <a:ext cx="7975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oser Look at Extended AS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52280" y="320004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8000"/>
          </a:bodyPr>
          <a:p>
            <a:pPr marL="10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tput Li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08440" indent="-68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ressions indicating destinations for value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…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j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20760" indent="-66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closed in parenthe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320760" indent="-66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st be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lval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447840" indent="-6372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ue that can appear on LHS of assignmen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08440" indent="-68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"=r"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that symbolic value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etc.), should be replaced by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6320" y="1143000"/>
            <a:ext cx="3352680" cy="131076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sm(“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Instruction String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Output Li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Input Li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Clobbers List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505320" y="990720"/>
            <a:ext cx="5562360" cy="22842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access_cou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unsigned *hi, unsigned *l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Get cycle count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sm("rdtsc; movl %%edx,%0; movl %%eax,%1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"=r" (*hi), "=r" (*l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/* No inpu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"%edx", "%eax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4440" y="334800"/>
            <a:ext cx="7975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oser Look at Extended AS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2280" y="327636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9000"/>
          </a:bodyPr>
          <a:p>
            <a:pPr marL="111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put Li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15640" indent="-71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ies of expressions indicating sources for value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+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+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…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32280" indent="-687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closed in parenthe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332280" indent="-687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y expression returning val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215640" indent="-71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"r"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that symbolic value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etc.) will come from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1143000"/>
            <a:ext cx="3352680" cy="131076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sm(“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Instruction String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Output Li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Input Li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Clobbers List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505320" y="990720"/>
            <a:ext cx="5562360" cy="22842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access_cou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unsigned *hi, unsigned *l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Get cycle count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sm("rdtsc; movl %%edx,%0; movl %%eax,%1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"=r" (*hi), "=r" (*l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/* No inpu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"%edx", "%eax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4440" y="334800"/>
            <a:ext cx="7975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oser Look at Extended AS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52280" y="327636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6000"/>
          </a:bodyPr>
          <a:p>
            <a:pPr marL="138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obbers Li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67840" indent="-882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st of register names that get altered by assembly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67840" indent="-882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will make sure doesn’t store something in one of these registers that must be preserved acro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s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12560" indent="-856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lue set before &amp; used af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38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320" y="1143000"/>
            <a:ext cx="3352680" cy="131076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sm(“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Instruction String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Output Li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Input Li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Clobbers List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05320" y="990720"/>
            <a:ext cx="5562360" cy="22842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access_cou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unsigned *hi, unsigned *l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Get cycle count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sm("rdtsc; movl %%edx,%0; movl %%eax,%1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"=r" (*hi), "=r" (*l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/* No inpu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"%edx", "%eax"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34800"/>
            <a:ext cx="6053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uter Time Sca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4190760"/>
            <a:ext cx="4051440" cy="206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24051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wo Fundamental Time Scal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09760" indent="-202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51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or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~10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–9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sec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09760" indent="-202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51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ternal events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~10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–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sec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764280" indent="-1501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4051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Keyboard inpu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764280" indent="-1501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4051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isk seek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764280" indent="-1501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4051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creen refres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44920" y="4190760"/>
            <a:ext cx="4076640" cy="225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mplica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n execute many instructions while waiting for external event to occu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n alternate among processes without anyone notic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838080" y="1219320"/>
            <a:ext cx="7696440" cy="2571480"/>
            <a:chOff x="838080" y="1219320"/>
            <a:chExt cx="7696440" cy="2571480"/>
          </a:xfrm>
        </p:grpSpPr>
        <p:sp>
          <p:nvSpPr>
            <p:cNvPr id="85" name=""/>
            <p:cNvSpPr/>
            <p:nvPr/>
          </p:nvSpPr>
          <p:spPr>
            <a:xfrm>
              <a:off x="838080" y="1219320"/>
              <a:ext cx="7696440" cy="2571480"/>
            </a:xfrm>
            <a:prstGeom prst="rect">
              <a:avLst/>
            </a:prstGeom>
            <a:solidFill>
              <a:srgbClr val="fff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8080" y="1219320"/>
              <a:ext cx="7696440" cy="2571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84400" y="1692360"/>
              <a:ext cx="6845040" cy="14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46160" y="2930400"/>
              <a:ext cx="7635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22480" y="2751120"/>
              <a:ext cx="101520" cy="936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50960" y="2751120"/>
              <a:ext cx="101520" cy="936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22360" y="2751120"/>
              <a:ext cx="101880" cy="936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27680" y="2751120"/>
              <a:ext cx="101520" cy="936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504120" y="2751120"/>
              <a:ext cx="101520" cy="936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40360" y="2751120"/>
              <a:ext cx="101880" cy="936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981840" y="2751120"/>
              <a:ext cx="101520" cy="936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76840" y="1355760"/>
              <a:ext cx="266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ime Scale (1 Ghz Machine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13680" y="3281400"/>
              <a:ext cx="52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E-09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91760" y="3281400"/>
              <a:ext cx="52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E-06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1000" y="3281400"/>
              <a:ext cx="52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E-0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34240" y="3281400"/>
              <a:ext cx="57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E+0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12760" y="3352680"/>
              <a:ext cx="148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(seconds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73000" y="2933640"/>
              <a:ext cx="596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01160" y="299232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n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59000" y="2933640"/>
              <a:ext cx="596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00840" y="299412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37640" y="297648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18640" y="2994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45000" y="2933640"/>
              <a:ext cx="596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48320" y="2992320"/>
              <a:ext cx="38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m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31000" y="2933640"/>
              <a:ext cx="596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908840" y="2992320"/>
              <a:ext cx="24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8800" y="1943280"/>
              <a:ext cx="9716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47000" y="2001960"/>
              <a:ext cx="92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ger Ad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63720" y="2171880"/>
              <a:ext cx="9381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53360" y="2230560"/>
              <a:ext cx="88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P Multipl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49520" y="2400480"/>
              <a:ext cx="8445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39880" y="2459160"/>
              <a:ext cx="77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P Divid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77920" y="209556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432"/>
                  </a:moveTo>
                  <a:lnTo>
                    <a:pt x="96" y="0"/>
                  </a:lnTo>
                  <a:lnTo>
                    <a:pt x="2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97240" y="255276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0" y="144"/>
                  </a:moveTo>
                  <a:lnTo>
                    <a:pt x="48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11440" y="2324160"/>
              <a:ext cx="228600" cy="457200"/>
            </a:xfrm>
            <a:custGeom>
              <a:avLst/>
              <a:gdLst/>
              <a:ahLst/>
              <a:rect l="l" t="t" r="r" b="b"/>
              <a:pathLst>
                <a:path w="144" h="288">
                  <a:moveTo>
                    <a:pt x="0" y="288"/>
                  </a:moveTo>
                  <a:lnTo>
                    <a:pt x="96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16400" y="2247840"/>
              <a:ext cx="862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04960" y="2306520"/>
              <a:ext cx="79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strok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04600" y="2489040"/>
              <a:ext cx="66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rup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07120" y="2671920"/>
              <a:ext cx="62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ler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87800" y="255276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0" y="144"/>
                  </a:moveTo>
                  <a:lnTo>
                    <a:pt x="48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69240" y="1943280"/>
              <a:ext cx="10141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57440" y="2001960"/>
              <a:ext cx="975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sk Acces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01000" y="2171880"/>
              <a:ext cx="12412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88120" y="2230560"/>
              <a:ext cx="1241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reen Refresh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97840" y="2400480"/>
              <a:ext cx="8618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86040" y="2459160"/>
              <a:ext cx="79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strok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88000" y="209556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432"/>
                  </a:moveTo>
                  <a:lnTo>
                    <a:pt x="96" y="0"/>
                  </a:lnTo>
                  <a:lnTo>
                    <a:pt x="2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45200" y="255276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0" y="144"/>
                  </a:moveTo>
                  <a:lnTo>
                    <a:pt x="48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92920" y="2324160"/>
              <a:ext cx="228600" cy="457200"/>
            </a:xfrm>
            <a:custGeom>
              <a:avLst/>
              <a:gdLst/>
              <a:ahLst/>
              <a:rect l="l" t="t" r="r" b="b"/>
              <a:pathLst>
                <a:path w="144" h="288">
                  <a:moveTo>
                    <a:pt x="0" y="288"/>
                  </a:moveTo>
                  <a:lnTo>
                    <a:pt x="96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77920" y="1714680"/>
              <a:ext cx="1676520" cy="228600"/>
            </a:xfrm>
            <a:custGeom>
              <a:avLst/>
              <a:gdLst/>
              <a:ahLst/>
              <a:rect l="l" t="t" r="r" b="b"/>
              <a:pathLst>
                <a:path w="1056" h="144">
                  <a:moveTo>
                    <a:pt x="1056" y="144"/>
                  </a:moveTo>
                  <a:lnTo>
                    <a:pt x="1054" y="129"/>
                  </a:lnTo>
                  <a:lnTo>
                    <a:pt x="1049" y="116"/>
                  </a:lnTo>
                  <a:lnTo>
                    <a:pt x="1041" y="104"/>
                  </a:lnTo>
                  <a:lnTo>
                    <a:pt x="1030" y="93"/>
                  </a:lnTo>
                  <a:lnTo>
                    <a:pt x="1017" y="84"/>
                  </a:lnTo>
                  <a:lnTo>
                    <a:pt x="1002" y="78"/>
                  </a:lnTo>
                  <a:lnTo>
                    <a:pt x="986" y="73"/>
                  </a:lnTo>
                  <a:lnTo>
                    <a:pt x="968" y="72"/>
                  </a:lnTo>
                  <a:lnTo>
                    <a:pt x="616" y="72"/>
                  </a:lnTo>
                  <a:lnTo>
                    <a:pt x="598" y="71"/>
                  </a:lnTo>
                  <a:lnTo>
                    <a:pt x="582" y="66"/>
                  </a:lnTo>
                  <a:lnTo>
                    <a:pt x="567" y="60"/>
                  </a:lnTo>
                  <a:lnTo>
                    <a:pt x="554" y="51"/>
                  </a:lnTo>
                  <a:lnTo>
                    <a:pt x="543" y="40"/>
                  </a:lnTo>
                  <a:lnTo>
                    <a:pt x="535" y="28"/>
                  </a:lnTo>
                  <a:lnTo>
                    <a:pt x="530" y="15"/>
                  </a:lnTo>
                  <a:lnTo>
                    <a:pt x="528" y="0"/>
                  </a:lnTo>
                  <a:lnTo>
                    <a:pt x="526" y="15"/>
                  </a:lnTo>
                  <a:lnTo>
                    <a:pt x="521" y="28"/>
                  </a:lnTo>
                  <a:lnTo>
                    <a:pt x="513" y="40"/>
                  </a:lnTo>
                  <a:lnTo>
                    <a:pt x="502" y="51"/>
                  </a:lnTo>
                  <a:lnTo>
                    <a:pt x="489" y="60"/>
                  </a:lnTo>
                  <a:lnTo>
                    <a:pt x="474" y="66"/>
                  </a:lnTo>
                  <a:lnTo>
                    <a:pt x="458" y="71"/>
                  </a:lnTo>
                  <a:lnTo>
                    <a:pt x="440" y="72"/>
                  </a:lnTo>
                  <a:lnTo>
                    <a:pt x="88" y="72"/>
                  </a:lnTo>
                  <a:lnTo>
                    <a:pt x="70" y="73"/>
                  </a:lnTo>
                  <a:lnTo>
                    <a:pt x="54" y="78"/>
                  </a:lnTo>
                  <a:lnTo>
                    <a:pt x="39" y="84"/>
                  </a:lnTo>
                  <a:lnTo>
                    <a:pt x="26" y="93"/>
                  </a:lnTo>
                  <a:lnTo>
                    <a:pt x="15" y="104"/>
                  </a:lnTo>
                  <a:lnTo>
                    <a:pt x="7" y="116"/>
                  </a:lnTo>
                  <a:lnTo>
                    <a:pt x="2" y="129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35720" y="1714680"/>
              <a:ext cx="1676520" cy="228600"/>
            </a:xfrm>
            <a:custGeom>
              <a:avLst/>
              <a:gdLst/>
              <a:ahLst/>
              <a:rect l="l" t="t" r="r" b="b"/>
              <a:pathLst>
                <a:path w="1056" h="144">
                  <a:moveTo>
                    <a:pt x="1056" y="144"/>
                  </a:moveTo>
                  <a:lnTo>
                    <a:pt x="1054" y="129"/>
                  </a:lnTo>
                  <a:lnTo>
                    <a:pt x="1049" y="116"/>
                  </a:lnTo>
                  <a:lnTo>
                    <a:pt x="1041" y="104"/>
                  </a:lnTo>
                  <a:lnTo>
                    <a:pt x="1030" y="93"/>
                  </a:lnTo>
                  <a:lnTo>
                    <a:pt x="1017" y="84"/>
                  </a:lnTo>
                  <a:lnTo>
                    <a:pt x="1002" y="78"/>
                  </a:lnTo>
                  <a:lnTo>
                    <a:pt x="986" y="73"/>
                  </a:lnTo>
                  <a:lnTo>
                    <a:pt x="968" y="72"/>
                  </a:lnTo>
                  <a:lnTo>
                    <a:pt x="616" y="72"/>
                  </a:lnTo>
                  <a:lnTo>
                    <a:pt x="598" y="71"/>
                  </a:lnTo>
                  <a:lnTo>
                    <a:pt x="582" y="66"/>
                  </a:lnTo>
                  <a:lnTo>
                    <a:pt x="567" y="60"/>
                  </a:lnTo>
                  <a:lnTo>
                    <a:pt x="554" y="51"/>
                  </a:lnTo>
                  <a:lnTo>
                    <a:pt x="543" y="40"/>
                  </a:lnTo>
                  <a:lnTo>
                    <a:pt x="535" y="28"/>
                  </a:lnTo>
                  <a:lnTo>
                    <a:pt x="530" y="15"/>
                  </a:lnTo>
                  <a:lnTo>
                    <a:pt x="528" y="0"/>
                  </a:lnTo>
                  <a:lnTo>
                    <a:pt x="526" y="15"/>
                  </a:lnTo>
                  <a:lnTo>
                    <a:pt x="521" y="28"/>
                  </a:lnTo>
                  <a:lnTo>
                    <a:pt x="513" y="40"/>
                  </a:lnTo>
                  <a:lnTo>
                    <a:pt x="502" y="51"/>
                  </a:lnTo>
                  <a:lnTo>
                    <a:pt x="489" y="60"/>
                  </a:lnTo>
                  <a:lnTo>
                    <a:pt x="474" y="66"/>
                  </a:lnTo>
                  <a:lnTo>
                    <a:pt x="458" y="71"/>
                  </a:lnTo>
                  <a:lnTo>
                    <a:pt x="440" y="72"/>
                  </a:lnTo>
                  <a:lnTo>
                    <a:pt x="88" y="72"/>
                  </a:lnTo>
                  <a:lnTo>
                    <a:pt x="70" y="73"/>
                  </a:lnTo>
                  <a:lnTo>
                    <a:pt x="54" y="78"/>
                  </a:lnTo>
                  <a:lnTo>
                    <a:pt x="39" y="84"/>
                  </a:lnTo>
                  <a:lnTo>
                    <a:pt x="26" y="93"/>
                  </a:lnTo>
                  <a:lnTo>
                    <a:pt x="15" y="104"/>
                  </a:lnTo>
                  <a:lnTo>
                    <a:pt x="7" y="116"/>
                  </a:lnTo>
                  <a:lnTo>
                    <a:pt x="2" y="129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92200" y="1387440"/>
              <a:ext cx="11224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80760" y="1446120"/>
              <a:ext cx="94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Microscopic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57840" y="1409760"/>
              <a:ext cx="11811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46040" y="1468440"/>
              <a:ext cx="100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Macroscopic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84400" y="2930400"/>
              <a:ext cx="761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09720" y="2930400"/>
              <a:ext cx="752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62480" y="2930400"/>
              <a:ext cx="7635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26040" y="2930400"/>
              <a:ext cx="761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87800" y="2930400"/>
              <a:ext cx="7635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51360" y="2930400"/>
              <a:ext cx="752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04120" y="2930400"/>
              <a:ext cx="7635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67680" y="2930400"/>
              <a:ext cx="761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52360" y="2901960"/>
              <a:ext cx="61920" cy="5724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20" y="0"/>
                  </a:moveTo>
                  <a:lnTo>
                    <a:pt x="39" y="36"/>
                  </a:lnTo>
                  <a:lnTo>
                    <a:pt x="0" y="3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16280" y="2901960"/>
              <a:ext cx="6012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79840" y="2901960"/>
              <a:ext cx="6012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32240" y="2901960"/>
              <a:ext cx="6012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94000" y="2901960"/>
              <a:ext cx="61920" cy="5724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20" y="0"/>
                  </a:moveTo>
                  <a:lnTo>
                    <a:pt x="39" y="36"/>
                  </a:lnTo>
                  <a:lnTo>
                    <a:pt x="0" y="3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57920" y="2901960"/>
              <a:ext cx="61920" cy="5724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9" y="0"/>
                  </a:moveTo>
                  <a:lnTo>
                    <a:pt x="39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21480" y="2901960"/>
              <a:ext cx="6012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73880" y="2901960"/>
              <a:ext cx="6012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37440" y="2901960"/>
              <a:ext cx="6012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99560" y="2901960"/>
              <a:ext cx="61920" cy="5724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9" y="0"/>
                  </a:moveTo>
                  <a:lnTo>
                    <a:pt x="39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4440" y="334800"/>
            <a:ext cx="7975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the Cycle Cntr.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3120" y="1371600"/>
            <a:ext cx="8282160" cy="120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6000"/>
          </a:bodyPr>
          <a:p>
            <a:pPr marL="100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mitted Assembly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00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00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00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00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00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193320" indent="-6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c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h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replac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93320" indent="-6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b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l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replac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93320" indent="-6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es not us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value that must be carried across inserted assembly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62120" y="2057400"/>
            <a:ext cx="7467480" cy="201420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si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h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i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AP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dtsc; movl %edx,%ecx; movl %eax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NO_AP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cx,(%esi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tore high bits at *h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di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tore low bits at *l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62120" y="334800"/>
            <a:ext cx="7238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leting Measure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3120" y="1371600"/>
            <a:ext cx="8282160" cy="120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 new value of cycle cou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 double precision subtraction to get elapsed cyc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ress a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avoid overflow proble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14400" y="3048120"/>
            <a:ext cx="7162920" cy="30142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get_counter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ncyc_hi, ncyc_l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hi, lo, borrow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Get cycle count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ccess_counter(&amp;ncyc_hi, &amp;ncyc_lo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Do double precision subtraction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o = ncyc_lo - cyc_lo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rrow = lo &gt; ncyc_lo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i = ncyc_hi - cyc_hi - borrow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(double) hi * (1 &lt;&lt; 30) * 4 + lo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334800"/>
            <a:ext cx="6662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iming With Cycle Count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termine Clock Rate of Process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unt number of cycles required for some fixed number of seco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ime Function 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rst attempt: Simply count cycles for one execution of 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90720" y="5029200"/>
            <a:ext cx="6553080" cy="10674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tsecs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rt_counter(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secs = get_counter() / (MHZ * 1e6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4400" y="2514600"/>
            <a:ext cx="6553080" cy="13107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MHZ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sleep_time = 1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rt_counter(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leep(sleep_time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HZ = get_counter()/(sleep_time * 1e6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6256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asurement Pitfal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verhea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_counter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curs small amount of overhea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ant to measure long enough code sequence to compensa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expected Cache Effec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tificial hits or mi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these measurements were taken with the Alpha cycle counter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o1(array1, array2, array3)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/*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68,829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 cycles */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o2(array1, array2, array3)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/*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23,337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 cycles */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v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o2(array1, array2, array3)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/*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70,513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 cycles */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o1(array1, array2, array3)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/*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23,203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 cycles */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62080" y="334800"/>
            <a:ext cx="8881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aling with Overhead &amp; Cache Effec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13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ways execute function once to “warm up” cach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ep doubling number of times execute P() until reach some threshol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74160" indent="-202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d CMIN = 5000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914400" y="2666880"/>
            <a:ext cx="7010280" cy="35010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nt = 1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cmeas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cycles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 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 = cn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);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Warm up cach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et_counter(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c-- &gt; 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eas = get_counter(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ycles = cmeas / cn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 += cn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while (cmeas &lt; CMIN);  /* Make sure have enough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cycles / (1e6 * MHZ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6434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ultitasking Effec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7012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ycle Counter Measures Elapsed Tim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eps accumulating during periods of inactiv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ystem activ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unning other proc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ycle counter never underestimates program run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ssibly overestimates by large amou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-Best Measurement Schem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 up to N (e.g., 20) measurements of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e if fastest K (e.g., 3) within some relative factor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e.g., 0.001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990720" y="5729400"/>
            <a:ext cx="64008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81080" y="5653080"/>
            <a:ext cx="152640" cy="1522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0" y="5653080"/>
            <a:ext cx="152280" cy="1522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971800" y="5653080"/>
            <a:ext cx="152280" cy="1522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191120" y="5653080"/>
            <a:ext cx="152280" cy="1522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19720" y="5653080"/>
            <a:ext cx="152280" cy="1522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181480" y="5653080"/>
            <a:ext cx="152640" cy="1522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rot="16200000">
            <a:off x="2095560" y="5766840"/>
            <a:ext cx="152280" cy="38124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990720" y="5652720"/>
            <a:ext cx="0" cy="1522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059200" y="6033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3720" y="5653080"/>
            <a:ext cx="152280" cy="1522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2311560" cy="109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K-Best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alid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90520" y="4800240"/>
            <a:ext cx="4076640" cy="144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Very good accuracy for &lt; 8m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ithin one timer interval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ven when heavily load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21240" y="4800240"/>
            <a:ext cx="4076640" cy="144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Less accurate of &gt; 10m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77160" indent="-22356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ght load: ~4% erro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terval clock interrupt handling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77160" indent="-22356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avy load: Very high erro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2438280" y="152280"/>
          <a:ext cx="6553440" cy="455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52280"/>
                    <a:ext cx="6553440" cy="45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-36360" y="2666880"/>
            <a:ext cx="2592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indent="-3427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 = 3,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= 0.0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560" y="304560"/>
            <a:ext cx="3022560" cy="1617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ensate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 Timer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hea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90520" y="4500360"/>
            <a:ext cx="4433760" cy="167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ubtract Timer Overhead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47640" indent="-2138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stimate overhead of single interrupt by measuring periods of inactivit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47640" indent="-2138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ll interval timer to determine number of interrupts that have occurr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38760" y="4500360"/>
            <a:ext cx="4076640" cy="167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Better Accuracy for &gt; 10m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ght load: 0.2% erro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avy load: Still very high erro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-36360" y="2666880"/>
            <a:ext cx="2592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indent="-3427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 = 3,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= 0.0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2971800" y="31680"/>
          <a:ext cx="6172200" cy="428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1680"/>
                    <a:ext cx="617220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1600200" cy="109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K-Best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n 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90520" y="5000760"/>
            <a:ext cx="4076640" cy="144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cceptable accuracy for &lt; 50m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cheduler allows process to run multiple interval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21240" y="5000760"/>
            <a:ext cx="4076640" cy="144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Less accurate of &gt; 10m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ght load: 2% erro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avy load: Generally very high erro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-36360" y="2666880"/>
            <a:ext cx="2592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indent="-3427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 = 3,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= 0.0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2209680" y="0"/>
          <a:ext cx="6934320" cy="481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0"/>
                    <a:ext cx="69343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040" y="334800"/>
            <a:ext cx="5722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ime of Day Clo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3120" y="1066320"/>
            <a:ext cx="8282160" cy="151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lvl="1" marL="446400" indent="-147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x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timeofday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46400" indent="-147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 elapsed time since reference time (Jan 1, 1970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46400" indent="-147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687600" indent="-142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s interval counting on some machin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960120" indent="-1371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arse grain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687600" indent="-142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s cycle counter on oth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960120" indent="-1371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e grained, but significant overhead and only 1 microsecond resolu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31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066680" y="3809880"/>
            <a:ext cx="6553440" cy="2527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ys/time.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unistd.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timeval tstart, tfinish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tsecs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ettimeofday(&amp;tstart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ettimeofday(&amp;tfinish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secs = (tfinish.tv_sec - tstart.tv_sec) +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e6 * (tfinish.tv_usec - tstart.tv_usec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asurement Challen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Much Time Does Program X Require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U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w many total seconds are used when executing X?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asure used for most applic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mall dependence on other system activit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tual (“Wall”)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w many seconds elapse between the start and the completion of X?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pends on system load, I/O times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founding Fac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does time get measured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processes share computing resour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ient effects when switching from one process to anoth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uddenly, the effects of alternating among processes become notice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269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K-Best Us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gettimeofda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90160" y="5257800"/>
            <a:ext cx="43578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Linux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 good as using cycle cou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 times &gt; 10 microsecond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21240" y="5257800"/>
            <a:ext cx="407664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indow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54840" indent="-21636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mplemented by interval count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54840" indent="-21636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o coarse-grain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219320" y="685800"/>
          <a:ext cx="6553080" cy="455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85800"/>
                    <a:ext cx="655308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6624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asurement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iming is highly case and system depend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is overall duration being measured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&gt; 1 second: interval counting is O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&lt;&lt; 1 second: must use cycle coun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 what hardware / OS / OS version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ccessing coun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ow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timeofda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implement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imer interrupt overhea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cheduling poli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vising a Measurement Metho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ng durations: use Unix timing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rt du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possible, us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gettimeofda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wise must work with cycle coun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-best scheme most successfu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ime” on a Computer Syste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1143000"/>
            <a:ext cx="888840" cy="35568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1143000"/>
            <a:ext cx="888840" cy="35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76920" y="1143000"/>
            <a:ext cx="888840" cy="35568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143000"/>
            <a:ext cx="888840" cy="35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1143000"/>
            <a:ext cx="888840" cy="35568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1143000"/>
            <a:ext cx="888840" cy="35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2680" y="1682640"/>
            <a:ext cx="556272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95200" y="1776240"/>
            <a:ext cx="2417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l (wall clock) 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2357280"/>
            <a:ext cx="888840" cy="35568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70080" y="2233440"/>
            <a:ext cx="6669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user time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(time executing instructions in the user proces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46320" y="4626000"/>
            <a:ext cx="888840" cy="35568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72680" y="4654440"/>
            <a:ext cx="31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93880" y="4626000"/>
            <a:ext cx="889200" cy="355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44120" y="4654440"/>
            <a:ext cx="2679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 real (wall clock) 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03840" y="5111640"/>
            <a:ext cx="5469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We will use the word “time” to refer to user tim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1143000"/>
            <a:ext cx="279360" cy="355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1143000"/>
            <a:ext cx="279360" cy="355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1143000"/>
            <a:ext cx="279360" cy="355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3119400"/>
            <a:ext cx="888840" cy="3556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70080" y="2995560"/>
            <a:ext cx="6669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system time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(time executing instructions in kernel on behalf of user proces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20600" y="4654440"/>
            <a:ext cx="31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41800" y="4626000"/>
            <a:ext cx="888840" cy="35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06360" y="3835440"/>
            <a:ext cx="889200" cy="3556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57480" y="3711600"/>
            <a:ext cx="6681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some other user’s time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(time executing instructions in different user’s proces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5791320"/>
            <a:ext cx="888840" cy="35532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5791320"/>
            <a:ext cx="888840" cy="35532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33720" y="5791320"/>
            <a:ext cx="888840" cy="35532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13640" y="579132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umulative user 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88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tivity Periods: Light Loa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90520" y="4190760"/>
            <a:ext cx="4076640" cy="20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lvl="1" marL="707040" indent="-2332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ost of the time spent executing one proces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riodic interrupts every 10m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terval timer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Keep system from executing one process to exclusion of oth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21240" y="4190760"/>
            <a:ext cx="4076640" cy="20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ther interrupt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ue to I/O activity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activity period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ystem time spent processing interrupt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~250,000 clock cycles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71440" y="2173320"/>
            <a:ext cx="552600" cy="77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24040" y="2173320"/>
            <a:ext cx="38160" cy="771480"/>
          </a:xfrm>
          <a:prstGeom prst="rect">
            <a:avLst/>
          </a:prstGeom>
          <a:solidFill>
            <a:srgbClr val="3333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62200" y="2173320"/>
            <a:ext cx="761760" cy="77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23960" y="2173320"/>
            <a:ext cx="38160" cy="771480"/>
          </a:xfrm>
          <a:prstGeom prst="rect">
            <a:avLst/>
          </a:prstGeom>
          <a:solidFill>
            <a:srgbClr val="3333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62120" y="2173320"/>
            <a:ext cx="333360" cy="77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2173320"/>
            <a:ext cx="428760" cy="77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24240" y="2173320"/>
            <a:ext cx="38160" cy="771480"/>
          </a:xfrm>
          <a:prstGeom prst="rect">
            <a:avLst/>
          </a:prstGeom>
          <a:solidFill>
            <a:srgbClr val="3333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62400" y="2173320"/>
            <a:ext cx="771480" cy="77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33880" y="2173320"/>
            <a:ext cx="38160" cy="771480"/>
          </a:xfrm>
          <a:prstGeom prst="rect">
            <a:avLst/>
          </a:prstGeom>
          <a:solidFill>
            <a:srgbClr val="3333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72040" y="2173320"/>
            <a:ext cx="761760" cy="77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33800" y="2173320"/>
            <a:ext cx="38160" cy="771480"/>
          </a:xfrm>
          <a:prstGeom prst="rect">
            <a:avLst/>
          </a:prstGeom>
          <a:solidFill>
            <a:srgbClr val="3333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71960" y="2173320"/>
            <a:ext cx="542880" cy="77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14840" y="2173320"/>
            <a:ext cx="228600" cy="77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43440" y="2173320"/>
            <a:ext cx="38160" cy="771480"/>
          </a:xfrm>
          <a:prstGeom prst="rect">
            <a:avLst/>
          </a:prstGeom>
          <a:solidFill>
            <a:srgbClr val="3333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81600" y="2173320"/>
            <a:ext cx="762120" cy="77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543720" y="2173320"/>
            <a:ext cx="38160" cy="771480"/>
          </a:xfrm>
          <a:prstGeom prst="rect">
            <a:avLst/>
          </a:prstGeom>
          <a:solidFill>
            <a:srgbClr val="3333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71440" y="3525840"/>
            <a:ext cx="6467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171440" y="3525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981080" y="3525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790720" y="3525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600360" y="3525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410000" y="3525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210280" y="3525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019920" y="3525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829560" y="3525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639200" y="3525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71440" y="1592280"/>
            <a:ext cx="1800" cy="1933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35258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15922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69040" y="1697040"/>
            <a:ext cx="2176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y Periods, Load =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59920" y="365904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15200" y="365904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24840" y="365904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34480" y="365904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4120" y="365904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44400" y="365904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54040" y="365904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63680" y="365904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73320" y="365904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248760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16880" y="3916440"/>
            <a:ext cx="843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(m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57440" y="2973240"/>
            <a:ext cx="114120" cy="228600"/>
          </a:xfrm>
          <a:custGeom>
            <a:avLst/>
            <a:gdLst/>
            <a:ahLst/>
            <a:rect l="l" t="t" r="r" b="b"/>
            <a:pathLst>
              <a:path w="72" h="144">
                <a:moveTo>
                  <a:pt x="36" y="0"/>
                </a:moveTo>
                <a:lnTo>
                  <a:pt x="0" y="144"/>
                </a:lnTo>
                <a:lnTo>
                  <a:pt x="72" y="144"/>
                </a:lnTo>
                <a:lnTo>
                  <a:pt x="36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57360" y="2973240"/>
            <a:ext cx="114480" cy="228600"/>
          </a:xfrm>
          <a:custGeom>
            <a:avLst/>
            <a:gdLst/>
            <a:ahLst/>
            <a:rect l="l" t="t" r="r" b="b"/>
            <a:pathLst>
              <a:path w="72" h="144">
                <a:moveTo>
                  <a:pt x="36" y="0"/>
                </a:moveTo>
                <a:lnTo>
                  <a:pt x="0" y="144"/>
                </a:lnTo>
                <a:lnTo>
                  <a:pt x="72" y="144"/>
                </a:lnTo>
                <a:lnTo>
                  <a:pt x="36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67000" y="2973240"/>
            <a:ext cx="114480" cy="228600"/>
          </a:xfrm>
          <a:custGeom>
            <a:avLst/>
            <a:gdLst/>
            <a:ahLst/>
            <a:rect l="l" t="t" r="r" b="b"/>
            <a:pathLst>
              <a:path w="72" h="144">
                <a:moveTo>
                  <a:pt x="36" y="0"/>
                </a:moveTo>
                <a:lnTo>
                  <a:pt x="0" y="144"/>
                </a:lnTo>
                <a:lnTo>
                  <a:pt x="72" y="144"/>
                </a:lnTo>
                <a:lnTo>
                  <a:pt x="36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67280" y="2973240"/>
            <a:ext cx="114120" cy="228600"/>
          </a:xfrm>
          <a:custGeom>
            <a:avLst/>
            <a:gdLst/>
            <a:ahLst/>
            <a:rect l="l" t="t" r="r" b="b"/>
            <a:pathLst>
              <a:path w="72" h="144">
                <a:moveTo>
                  <a:pt x="36" y="0"/>
                </a:moveTo>
                <a:lnTo>
                  <a:pt x="0" y="144"/>
                </a:lnTo>
                <a:lnTo>
                  <a:pt x="72" y="144"/>
                </a:lnTo>
                <a:lnTo>
                  <a:pt x="36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67200" y="2973240"/>
            <a:ext cx="114480" cy="228600"/>
          </a:xfrm>
          <a:custGeom>
            <a:avLst/>
            <a:gdLst/>
            <a:ahLst/>
            <a:rect l="l" t="t" r="r" b="b"/>
            <a:pathLst>
              <a:path w="72" h="144">
                <a:moveTo>
                  <a:pt x="36" y="0"/>
                </a:moveTo>
                <a:lnTo>
                  <a:pt x="0" y="144"/>
                </a:lnTo>
                <a:lnTo>
                  <a:pt x="72" y="144"/>
                </a:lnTo>
                <a:lnTo>
                  <a:pt x="36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76840" y="2973240"/>
            <a:ext cx="114480" cy="228600"/>
          </a:xfrm>
          <a:custGeom>
            <a:avLst/>
            <a:gdLst/>
            <a:ahLst/>
            <a:rect l="l" t="t" r="r" b="b"/>
            <a:pathLst>
              <a:path w="72" h="144">
                <a:moveTo>
                  <a:pt x="36" y="0"/>
                </a:moveTo>
                <a:lnTo>
                  <a:pt x="0" y="144"/>
                </a:lnTo>
                <a:lnTo>
                  <a:pt x="72" y="144"/>
                </a:lnTo>
                <a:lnTo>
                  <a:pt x="36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77120" y="2973240"/>
            <a:ext cx="114120" cy="228600"/>
          </a:xfrm>
          <a:custGeom>
            <a:avLst/>
            <a:gdLst/>
            <a:ahLst/>
            <a:rect l="l" t="t" r="r" b="b"/>
            <a:pathLst>
              <a:path w="72" h="144">
                <a:moveTo>
                  <a:pt x="36" y="0"/>
                </a:moveTo>
                <a:lnTo>
                  <a:pt x="0" y="144"/>
                </a:lnTo>
                <a:lnTo>
                  <a:pt x="72" y="144"/>
                </a:lnTo>
                <a:lnTo>
                  <a:pt x="36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62600" y="2239920"/>
            <a:ext cx="238320" cy="238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62600" y="2544840"/>
            <a:ext cx="238320" cy="237960"/>
          </a:xfrm>
          <a:prstGeom prst="rect">
            <a:avLst/>
          </a:prstGeom>
          <a:solidFill>
            <a:srgbClr val="3333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67520" y="2239920"/>
            <a:ext cx="6955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213680" y="2297160"/>
            <a:ext cx="488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67520" y="2544840"/>
            <a:ext cx="8193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215840" y="2602080"/>
            <a:ext cx="618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activ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tivity Periods: Heavy Loa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90520" y="4343400"/>
            <a:ext cx="8307360" cy="210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aring processor with one other active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om perspective of this process, system appears to be “inactive” for ~50% of the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 process is execut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809640" y="1266840"/>
            <a:ext cx="7886520" cy="2516040"/>
            <a:chOff x="809640" y="1266840"/>
            <a:chExt cx="7886520" cy="2516040"/>
          </a:xfrm>
        </p:grpSpPr>
        <p:sp>
          <p:nvSpPr>
            <p:cNvPr id="250" name=""/>
            <p:cNvSpPr/>
            <p:nvPr/>
          </p:nvSpPr>
          <p:spPr>
            <a:xfrm>
              <a:off x="914400" y="1847880"/>
              <a:ext cx="771480" cy="771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85880" y="1847880"/>
              <a:ext cx="38160" cy="771480"/>
            </a:xfrm>
            <a:prstGeom prst="rect">
              <a:avLst/>
            </a:prstGeom>
            <a:solidFill>
              <a:srgbClr val="3333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24040" y="1847880"/>
              <a:ext cx="123840" cy="771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47880" y="1847880"/>
              <a:ext cx="647640" cy="771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95520" y="1847880"/>
              <a:ext cx="838080" cy="771480"/>
            </a:xfrm>
            <a:prstGeom prst="rect">
              <a:avLst/>
            </a:prstGeom>
            <a:solidFill>
              <a:srgbClr val="3333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33600" y="1847880"/>
              <a:ext cx="304920" cy="771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38520" y="1847880"/>
              <a:ext cx="466920" cy="771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05440" y="1847880"/>
              <a:ext cx="847440" cy="771480"/>
            </a:xfrm>
            <a:prstGeom prst="rect">
              <a:avLst/>
            </a:prstGeom>
            <a:solidFill>
              <a:srgbClr val="3333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52880" y="1847880"/>
              <a:ext cx="771480" cy="771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4360" y="1847880"/>
              <a:ext cx="838440" cy="771480"/>
            </a:xfrm>
            <a:prstGeom prst="rect">
              <a:avLst/>
            </a:prstGeom>
            <a:solidFill>
              <a:srgbClr val="3333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62800" y="1847880"/>
              <a:ext cx="352440" cy="771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15240" y="1847880"/>
              <a:ext cx="419040" cy="771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34280" y="1847880"/>
              <a:ext cx="47520" cy="771480"/>
            </a:xfrm>
            <a:prstGeom prst="rect">
              <a:avLst/>
            </a:prstGeom>
            <a:solidFill>
              <a:srgbClr val="3333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14400" y="3200400"/>
              <a:ext cx="6467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914400" y="3200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1724040" y="3200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2533680" y="3200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343320" y="3200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152960" y="3200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952880" y="320040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762520" y="320040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572160" y="320040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7381800" y="320040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14400" y="1266840"/>
              <a:ext cx="1440" cy="19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85960" y="320040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85960" y="126684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12000" y="1371600"/>
              <a:ext cx="2176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vity Periods, Load = 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02880" y="333360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58160" y="333360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67800" y="333360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77440" y="333360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87080" y="333360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87000" y="333360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96640" y="333360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06280" y="333360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15920" y="333360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9640" y="2162160"/>
              <a:ext cx="572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759840" y="3591000"/>
              <a:ext cx="843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(ms)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38360" y="264780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36" y="0"/>
                  </a:moveTo>
                  <a:lnTo>
                    <a:pt x="0" y="144"/>
                  </a:lnTo>
                  <a:lnTo>
                    <a:pt x="72" y="14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38280" y="2647800"/>
              <a:ext cx="11448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36" y="0"/>
                  </a:moveTo>
                  <a:lnTo>
                    <a:pt x="0" y="144"/>
                  </a:lnTo>
                  <a:lnTo>
                    <a:pt x="72" y="14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47920" y="2647800"/>
              <a:ext cx="11448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36" y="0"/>
                  </a:moveTo>
                  <a:lnTo>
                    <a:pt x="0" y="144"/>
                  </a:lnTo>
                  <a:lnTo>
                    <a:pt x="72" y="14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48200" y="264780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36" y="0"/>
                  </a:moveTo>
                  <a:lnTo>
                    <a:pt x="0" y="144"/>
                  </a:lnTo>
                  <a:lnTo>
                    <a:pt x="72" y="14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48120" y="2647800"/>
              <a:ext cx="11448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36" y="0"/>
                  </a:moveTo>
                  <a:lnTo>
                    <a:pt x="0" y="144"/>
                  </a:lnTo>
                  <a:lnTo>
                    <a:pt x="72" y="14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57760" y="2647800"/>
              <a:ext cx="11448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36" y="0"/>
                  </a:moveTo>
                  <a:lnTo>
                    <a:pt x="0" y="144"/>
                  </a:lnTo>
                  <a:lnTo>
                    <a:pt x="72" y="14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58040" y="264780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36" y="0"/>
                  </a:moveTo>
                  <a:lnTo>
                    <a:pt x="0" y="144"/>
                  </a:lnTo>
                  <a:lnTo>
                    <a:pt x="72" y="14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7960" y="2647800"/>
              <a:ext cx="11448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36" y="0"/>
                  </a:moveTo>
                  <a:lnTo>
                    <a:pt x="0" y="144"/>
                  </a:lnTo>
                  <a:lnTo>
                    <a:pt x="72" y="14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72240" y="1914480"/>
              <a:ext cx="238320" cy="2383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72240" y="2219400"/>
              <a:ext cx="238320" cy="237960"/>
            </a:xfrm>
            <a:prstGeom prst="rect">
              <a:avLst/>
            </a:prstGeom>
            <a:solidFill>
              <a:srgbClr val="4d4d4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877160" y="1914480"/>
              <a:ext cx="69552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23320" y="1971720"/>
              <a:ext cx="488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77160" y="2219400"/>
              <a:ext cx="81900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25120" y="2276640"/>
              <a:ext cx="6181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activ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6078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val Count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1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S Measures Runtimes Using Interval Tim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intain 2 counts per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r tim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ystem tim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ime get timer interrupt, increment counter for executing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r time if running in user m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ystem time if running in kernel m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val Count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004320" cy="31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5878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time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Comman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90520" y="3200040"/>
            <a:ext cx="8307360" cy="324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82 seconds user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2 timer interva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30 seconds system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0 timer interva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32 seconds wall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4.8% of total was used running these processe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.82+0.3)/1.32 = .848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01160" y="1219320"/>
            <a:ext cx="7008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ime make osev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cc -O2 -Wall -g  -march=i486 -c clock.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cc -O2 -Wall -g  -march=i486 -c options.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cc -O2 -Wall -g  -march=i486 -c load.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cc -O2 -Wall -g  -march=i486 -o osevent osevent.c . . 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.820u 0.300s 0:01.32 84.8%     0+0k 0+0io 4049pf+0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35:44Z</dcterms:modified>
  <cp:revision>124</cp:revision>
  <dc:subject/>
  <dc:title>Time Measurement</dc:title>
</cp:coreProperties>
</file>