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200" y="640188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E2097C2C-D22D-49BA-8ED4-A5BD923941F1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59280" y="6391800"/>
            <a:ext cx="10933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15-213, F’0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836720"/>
            <a:ext cx="9144000" cy="1565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ache Memories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ct. 10, 200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76160" y="3504960"/>
            <a:ext cx="6175080" cy="246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eneric cache memory organiz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irect mapped cach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t associative cach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mpact of caches on performan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5920" y="650088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lass14.pp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60120" y="762120"/>
            <a:ext cx="5644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Arial"/>
              </a:rPr>
              <a:t>15-213</a:t>
            </a:r>
            <a:br>
              <a:rPr sz="3800"/>
            </a:br>
            <a:r>
              <a:rPr b="1" i="1" lang="en-US" sz="2500" spc="-1" strike="noStrike">
                <a:solidFill>
                  <a:srgbClr val="000066"/>
                </a:solidFill>
                <a:latin typeface="Arial"/>
              </a:rPr>
              <a:t>“The course that gives CMU its Zip!”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Why Use Middle Bits as Index?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56960" y="3156120"/>
            <a:ext cx="4383000" cy="298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7800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High-Order Bit Indexing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29360" indent="-24084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djacent memory lines would map to same cache entry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29360" indent="-24084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oor use of spatial locality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7800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Middle-Order Bit Indexing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29360" indent="-24084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nsecutive memory lines map to different cache line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29360" indent="-24084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an hold C-byte region of address space in cache at one tim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23200" indent="0">
              <a:lnSpc>
                <a:spcPct val="97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752480" y="1523880"/>
            <a:ext cx="1219320" cy="30492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752480" y="1828800"/>
            <a:ext cx="1219320" cy="3049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752480" y="2133720"/>
            <a:ext cx="1219320" cy="30456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752480" y="2438280"/>
            <a:ext cx="1219320" cy="304920"/>
          </a:xfrm>
          <a:prstGeom prst="rect">
            <a:avLst/>
          </a:prstGeom>
          <a:solidFill>
            <a:srgbClr val="cc99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551240" y="1066680"/>
            <a:ext cx="152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4-line Cach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410080" y="1600200"/>
            <a:ext cx="1219320" cy="30492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410080" y="1905120"/>
            <a:ext cx="1219320" cy="30456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410080" y="2209680"/>
            <a:ext cx="1219320" cy="30492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410080" y="2514600"/>
            <a:ext cx="1219320" cy="30492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410080" y="2819520"/>
            <a:ext cx="1219320" cy="3045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410080" y="3124080"/>
            <a:ext cx="1219320" cy="3049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410080" y="3429000"/>
            <a:ext cx="1219320" cy="3049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410080" y="3733920"/>
            <a:ext cx="1219320" cy="3045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410080" y="4038480"/>
            <a:ext cx="1219320" cy="30492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410080" y="4343400"/>
            <a:ext cx="1219320" cy="30492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410080" y="4648320"/>
            <a:ext cx="1219320" cy="30456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410080" y="4952880"/>
            <a:ext cx="1219320" cy="30492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410080" y="5257800"/>
            <a:ext cx="1219320" cy="304920"/>
          </a:xfrm>
          <a:prstGeom prst="rect">
            <a:avLst/>
          </a:prstGeom>
          <a:solidFill>
            <a:srgbClr val="cc99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410080" y="5562720"/>
            <a:ext cx="1219320" cy="304560"/>
          </a:xfrm>
          <a:prstGeom prst="rect">
            <a:avLst/>
          </a:prstGeom>
          <a:solidFill>
            <a:srgbClr val="cc99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410080" y="5867280"/>
            <a:ext cx="1219320" cy="304920"/>
          </a:xfrm>
          <a:prstGeom prst="rect">
            <a:avLst/>
          </a:prstGeom>
          <a:solidFill>
            <a:srgbClr val="cc99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410080" y="6172200"/>
            <a:ext cx="1219320" cy="304920"/>
          </a:xfrm>
          <a:prstGeom prst="rect">
            <a:avLst/>
          </a:prstGeom>
          <a:solidFill>
            <a:srgbClr val="cc99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258160" y="990720"/>
            <a:ext cx="149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igh-Ord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it Indexing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670880" y="1600200"/>
            <a:ext cx="1218960" cy="30492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670880" y="1905120"/>
            <a:ext cx="1218960" cy="3045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7670880" y="2209680"/>
            <a:ext cx="1218960" cy="30492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7670880" y="2514600"/>
            <a:ext cx="1218960" cy="304920"/>
          </a:xfrm>
          <a:prstGeom prst="rect">
            <a:avLst/>
          </a:prstGeom>
          <a:solidFill>
            <a:srgbClr val="cc99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7670880" y="2819520"/>
            <a:ext cx="1218960" cy="30456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7670880" y="3124080"/>
            <a:ext cx="1218960" cy="3049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670880" y="3429000"/>
            <a:ext cx="1218960" cy="30492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7670880" y="3733920"/>
            <a:ext cx="1218960" cy="304560"/>
          </a:xfrm>
          <a:prstGeom prst="rect">
            <a:avLst/>
          </a:prstGeom>
          <a:solidFill>
            <a:srgbClr val="cc99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7670880" y="4038480"/>
            <a:ext cx="1218960" cy="30492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670880" y="4343400"/>
            <a:ext cx="1218960" cy="3049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7670880" y="4648320"/>
            <a:ext cx="1218960" cy="30456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670880" y="4952880"/>
            <a:ext cx="1218960" cy="304920"/>
          </a:xfrm>
          <a:prstGeom prst="rect">
            <a:avLst/>
          </a:prstGeom>
          <a:solidFill>
            <a:srgbClr val="cc99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670880" y="5257800"/>
            <a:ext cx="1218960" cy="30492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670880" y="5562720"/>
            <a:ext cx="1218960" cy="3045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670880" y="5867280"/>
            <a:ext cx="1218960" cy="30492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70880" y="6172200"/>
            <a:ext cx="1218960" cy="304920"/>
          </a:xfrm>
          <a:prstGeom prst="rect">
            <a:avLst/>
          </a:prstGeom>
          <a:solidFill>
            <a:srgbClr val="cc99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462440" y="990720"/>
            <a:ext cx="160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iddle-Ord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it Indexing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219320" y="15238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219320" y="18288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219320" y="21337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219320" y="24382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876920" y="16002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0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876920" y="19051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0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876920" y="22096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0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876920" y="25146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0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876920" y="28195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0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876920" y="31240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0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876920" y="34290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0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876920" y="37339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0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876920" y="40384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1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876920" y="43434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1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876920" y="46483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1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876920" y="49528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1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876920" y="52578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1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876920" y="55627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1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876920" y="58672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1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876920" y="61722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1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156440" y="16002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0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156440" y="19051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0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0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156440" y="22096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0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1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56440" y="25146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0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1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156440" y="28195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1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156440" y="31240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1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0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156440" y="34290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1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1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7156440" y="37339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1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1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7156440" y="40384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0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7156440" y="43434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0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0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7156440" y="46483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0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1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156440" y="49528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0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1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7156440" y="52578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1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156440" y="55627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1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0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156440" y="58672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1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1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156440" y="61722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1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1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t Associative Cach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haracterized by more than one line per se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2378160" y="2209680"/>
            <a:ext cx="4267080" cy="9288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606760" y="23144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292560" y="231444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682640" y="24523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t 0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721560" y="2209680"/>
            <a:ext cx="144360" cy="92880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28800"/>
              <a:gd name="textAreaBottom" fmla="*/ 90468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824520" y="2496600"/>
            <a:ext cx="18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E=2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lines per se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374920" y="3276720"/>
            <a:ext cx="4267080" cy="92844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679400" y="35190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t 1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374920" y="4510080"/>
            <a:ext cx="4267080" cy="9288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451160" y="47527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t S-1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206960" y="420516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• • •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435560" y="2314440"/>
            <a:ext cx="2057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606760" y="2695680"/>
            <a:ext cx="4572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292560" y="2695680"/>
            <a:ext cx="914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435560" y="2695680"/>
            <a:ext cx="2057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606760" y="3381480"/>
            <a:ext cx="4572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292560" y="3381480"/>
            <a:ext cx="914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435560" y="3381480"/>
            <a:ext cx="2057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6760" y="376236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292560" y="376236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435560" y="3762360"/>
            <a:ext cx="2057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606760" y="46004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292560" y="460044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435560" y="4600440"/>
            <a:ext cx="2057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606760" y="4981680"/>
            <a:ext cx="4572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292560" y="4981680"/>
            <a:ext cx="914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435560" y="4981680"/>
            <a:ext cx="2057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ccessing Set Associative Cach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t selec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dentical to direct-mapped cach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500720" y="2111400"/>
            <a:ext cx="4267080" cy="9288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729320" y="2187720"/>
            <a:ext cx="4572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729320" y="2583000"/>
            <a:ext cx="4572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415120" y="2187720"/>
            <a:ext cx="914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415120" y="2583000"/>
            <a:ext cx="914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805200" y="235404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t 0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497480" y="3178080"/>
            <a:ext cx="4267080" cy="928800"/>
          </a:xfrm>
          <a:prstGeom prst="rect">
            <a:avLst/>
          </a:prstGeom>
          <a:solidFill>
            <a:srgbClr val="00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726080" y="325440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726080" y="36496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411880" y="325440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11880" y="364968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801960" y="34207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t 1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497480" y="4411800"/>
            <a:ext cx="4267080" cy="92844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726080" y="448776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726080" y="48830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411880" y="448776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411880" y="488304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573720" y="47019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t S-1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329520" y="41068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• • •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36680" y="4757760"/>
            <a:ext cx="664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 bi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534680" y="4757760"/>
            <a:ext cx="71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 bi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417760" y="5060880"/>
            <a:ext cx="1143000" cy="2318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274760" y="5060880"/>
            <a:ext cx="1143000" cy="2318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 0  0 0 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31760" y="5060880"/>
            <a:ext cx="1143000" cy="2318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460680" y="5288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-1800" y="5288760"/>
            <a:ext cx="40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m-1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647800" y="4772160"/>
            <a:ext cx="721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 bi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06880" y="5305320"/>
            <a:ext cx="484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352520" y="5305320"/>
            <a:ext cx="1059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t inde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344320" y="5305320"/>
            <a:ext cx="13168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lock offse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rot="16200000">
            <a:off x="1693800" y="4241520"/>
            <a:ext cx="304920" cy="1143000"/>
          </a:xfrm>
          <a:custGeom>
            <a:avLst/>
            <a:gdLst>
              <a:gd name="textAreaLeft" fmla="*/ 0 w 304920"/>
              <a:gd name="textAreaRight" fmla="*/ 110160 w 3049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H="1" flipV="1">
            <a:off x="1842840" y="3634920"/>
            <a:ext cx="3240" cy="10638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846440" y="3635280"/>
            <a:ext cx="179064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032200" y="3330360"/>
            <a:ext cx="136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lected se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507000" y="2187720"/>
            <a:ext cx="2057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507000" y="2568600"/>
            <a:ext cx="2057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507000" y="3254400"/>
            <a:ext cx="2057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507000" y="3635280"/>
            <a:ext cx="2057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507000" y="4473720"/>
            <a:ext cx="2057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507000" y="4854600"/>
            <a:ext cx="2057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ccessing Set Associative Cach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ine matching and word selec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st compare the tag in each valid line in the selected set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2114640" y="3040200"/>
            <a:ext cx="5816520" cy="9252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416560" y="35416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095720" y="35416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343240" y="3541680"/>
            <a:ext cx="457200" cy="30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029040" y="3541680"/>
            <a:ext cx="914400" cy="30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11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552920" y="35416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959360" y="35416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7169040" y="35416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w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5848200" y="35416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w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305400" y="35416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w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711840" y="35416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w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826240" y="3540240"/>
            <a:ext cx="1828800" cy="30456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442120" y="31478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121280" y="31478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368440" y="31478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054240" y="314784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00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578480" y="31478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984920" y="31478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7194600" y="31478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873760" y="31478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330960" y="31478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6737400" y="31478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225960" y="5129280"/>
            <a:ext cx="664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 bi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323960" y="5129280"/>
            <a:ext cx="71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 bi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207040" y="5432400"/>
            <a:ext cx="1143000" cy="2318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064040" y="5432400"/>
            <a:ext cx="1143000" cy="2318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921040" y="5432400"/>
            <a:ext cx="1143000" cy="2318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11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6249960" y="5660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825640" y="5660280"/>
            <a:ext cx="40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m-1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437080" y="5143680"/>
            <a:ext cx="721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 bi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296160" y="5676840"/>
            <a:ext cx="484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141800" y="5676840"/>
            <a:ext cx="1059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t inde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133600" y="5676840"/>
            <a:ext cx="13168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lock offse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95080" y="3369960"/>
            <a:ext cx="165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lected set (i)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2322720" y="2311200"/>
            <a:ext cx="3421800" cy="1229040"/>
            <a:chOff x="2322720" y="2311200"/>
            <a:chExt cx="3421800" cy="1229040"/>
          </a:xfrm>
        </p:grpSpPr>
        <p:sp>
          <p:nvSpPr>
            <p:cNvPr id="720" name=""/>
            <p:cNvSpPr/>
            <p:nvPr/>
          </p:nvSpPr>
          <p:spPr>
            <a:xfrm>
              <a:off x="2322720" y="2325600"/>
              <a:ext cx="535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=1?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V="1">
              <a:off x="2460600" y="2684880"/>
              <a:ext cx="0" cy="4572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flipV="1">
              <a:off x="2651040" y="2684880"/>
              <a:ext cx="0" cy="8553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841840" y="2311200"/>
              <a:ext cx="290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(1) The valid bit must be set.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24" name=""/>
          <p:cNvGrpSpPr/>
          <p:nvPr/>
        </p:nvGrpSpPr>
        <p:grpSpPr>
          <a:xfrm>
            <a:off x="0" y="3449520"/>
            <a:ext cx="4032360" cy="1812960"/>
            <a:chOff x="0" y="3449520"/>
            <a:chExt cx="4032360" cy="1812960"/>
          </a:xfrm>
        </p:grpSpPr>
        <p:sp>
          <p:nvSpPr>
            <p:cNvPr id="725" name=""/>
            <p:cNvSpPr/>
            <p:nvPr/>
          </p:nvSpPr>
          <p:spPr>
            <a:xfrm rot="16200000">
              <a:off x="3400560" y="4561920"/>
              <a:ext cx="152280" cy="11113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8800 h 1111320"/>
                <a:gd name="textAreaBottom" fmla="*/ 1082520 h 1111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251880" y="4349160"/>
              <a:ext cx="47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= ?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479760" y="4670280"/>
              <a:ext cx="0" cy="3700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0" y="4195080"/>
              <a:ext cx="32958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(2) The tag bits in one 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of the cache lines must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match the tag bits in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the addres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822840" y="3830400"/>
              <a:ext cx="0" cy="5954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211560" y="3449520"/>
              <a:ext cx="0" cy="9763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31" name=""/>
          <p:cNvGrpSpPr/>
          <p:nvPr/>
        </p:nvGrpSpPr>
        <p:grpSpPr>
          <a:xfrm>
            <a:off x="5238720" y="3858840"/>
            <a:ext cx="3828960" cy="1334880"/>
            <a:chOff x="5238720" y="3858840"/>
            <a:chExt cx="3828960" cy="1334880"/>
          </a:xfrm>
        </p:grpSpPr>
        <p:sp>
          <p:nvSpPr>
            <p:cNvPr id="732" name=""/>
            <p:cNvSpPr/>
            <p:nvPr/>
          </p:nvSpPr>
          <p:spPr>
            <a:xfrm>
              <a:off x="5791320" y="4705200"/>
              <a:ext cx="0" cy="3700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733" name=""/>
            <p:cNvGrpSpPr/>
            <p:nvPr/>
          </p:nvGrpSpPr>
          <p:grpSpPr>
            <a:xfrm>
              <a:off x="5238720" y="3858840"/>
              <a:ext cx="3828960" cy="1334880"/>
              <a:chOff x="5238720" y="3858840"/>
              <a:chExt cx="3828960" cy="1334880"/>
            </a:xfrm>
          </p:grpSpPr>
          <p:sp>
            <p:nvSpPr>
              <p:cNvPr id="734" name=""/>
              <p:cNvSpPr/>
              <p:nvPr/>
            </p:nvSpPr>
            <p:spPr>
              <a:xfrm rot="16200000">
                <a:off x="5718240" y="4561920"/>
                <a:ext cx="152280" cy="1111320"/>
              </a:xfrm>
              <a:custGeom>
                <a:avLst/>
                <a:gdLst>
                  <a:gd name="textAreaLeft" fmla="*/ 0 w 152280"/>
                  <a:gd name="textAreaRight" fmla="*/ 55080 w 152280"/>
                  <a:gd name="textAreaTop" fmla="*/ 28800 h 1111320"/>
                  <a:gd name="textAreaBottom" fmla="*/ 1082520 h 1111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784840" y="4699080"/>
                <a:ext cx="31752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6165720" y="4093560"/>
                <a:ext cx="290196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(3) If (1) and (2), then 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cache hit, and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block  offset selects 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starting byte.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flipV="1">
                <a:off x="6102360" y="3858840"/>
                <a:ext cx="0" cy="83988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38" name=""/>
          <p:cNvSpPr/>
          <p:nvPr/>
        </p:nvSpPr>
        <p:spPr>
          <a:xfrm>
            <a:off x="5445000" y="281304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4124160" y="281304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4581360" y="281304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987800" y="281304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7197840" y="281304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877000" y="281304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334200" y="281304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740640" y="281304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ulti-Level Cach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ptions: separat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ata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struction caches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, or 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nified cach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40480" y="4191120"/>
            <a:ext cx="10684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ize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peed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$/Mbyte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ine size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1600560" y="4191120"/>
            <a:ext cx="7772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200 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3 n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8 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895840" y="4191120"/>
            <a:ext cx="10058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8-64 K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3  n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32 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5639040" y="4191120"/>
            <a:ext cx="17038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128 MB DRA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60 n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$1.50/M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8  K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7467480" y="4191120"/>
            <a:ext cx="1158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30 G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8 m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$0.05/M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828800" y="5791320"/>
            <a:ext cx="6410160" cy="0"/>
          </a:xfrm>
          <a:prstGeom prst="line">
            <a:avLst/>
          </a:prstGeom>
          <a:ln w="507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1715040" y="5311800"/>
            <a:ext cx="2500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arger, slower, cheap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544760" y="2243160"/>
            <a:ext cx="2197080" cy="172548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741760" y="3670200"/>
            <a:ext cx="9349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745240" y="2305080"/>
            <a:ext cx="963360" cy="157176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827440" y="2419200"/>
            <a:ext cx="801720" cy="66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1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-cach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733400" y="2471760"/>
            <a:ext cx="650880" cy="43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g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4287960" y="2281320"/>
            <a:ext cx="801720" cy="163332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nifie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2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ach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629160" y="2550960"/>
            <a:ext cx="6588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652920" y="3683160"/>
            <a:ext cx="62208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105520" y="3095640"/>
            <a:ext cx="62208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789600" y="3086280"/>
            <a:ext cx="75888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90880" y="2550960"/>
            <a:ext cx="1208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rocesso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4114800" y="4191120"/>
            <a:ext cx="15775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1-4MB SRA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6 n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$100/M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32 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2384280" y="2703600"/>
            <a:ext cx="443160" cy="0"/>
          </a:xfrm>
          <a:prstGeom prst="line">
            <a:avLst/>
          </a:prstGeom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836800" y="3209760"/>
            <a:ext cx="801720" cy="66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1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-cach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7467480" y="2792520"/>
            <a:ext cx="1328760" cy="59688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is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/>
          <p:nvPr/>
        </p:nvSpPr>
        <p:spPr>
          <a:xfrm>
            <a:off x="1612800" y="1447920"/>
            <a:ext cx="3187800" cy="309852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  <a:effectLst>
            <a:outerShdw dist="107932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rocessor Chip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ntel Pentium Cache Hierarch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2908440" y="1752480"/>
            <a:ext cx="1498320" cy="1270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L1 Dat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1 cycle latency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16 KB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4-way assoc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Write-through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32B line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679840" y="3352680"/>
            <a:ext cx="1498320" cy="812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L1 Instructio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16 KB, 4-way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32B line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765440" y="1981080"/>
            <a:ext cx="583920" cy="1270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Regs.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2374920" y="2197080"/>
            <a:ext cx="507960" cy="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374920" y="2654280"/>
            <a:ext cx="507960" cy="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029200" y="1905120"/>
            <a:ext cx="1270080" cy="233676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  <a:effectLst>
            <a:outerShdw dist="107932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L2 Unified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128KB--2 MB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4-way assoc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Write-back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Write allocat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32B line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934320" y="1905120"/>
            <a:ext cx="1269720" cy="233676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  <a:effectLst>
            <a:outerShdw dist="107932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Mai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Memory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Up to 4GB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432320" y="2502000"/>
            <a:ext cx="584280" cy="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4203720" y="3797280"/>
            <a:ext cx="812880" cy="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324480" y="3035160"/>
            <a:ext cx="584280" cy="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ache Performance Metric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iss Rat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raction of memory references not found in cache (misses/references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ypical numbers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3-10% for L1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n be quite small (e.g., &lt; 1%) for L2, depending on size, etc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it Tim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ime to deliver a line in the cache to the processor (includes time to determine whether the line is in the cache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ypical numbers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 clock cycle for L1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3-8 clock cycles for L2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iss Penalt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itional time required because of a mi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ypically 25-100 cycles for main memor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Writing Cache Friendly Cod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peated references to variables are good (temporal locality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ride-1 reference patterns are good (spatial locality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ld cache, 4-byte words, 4-word cache block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24360" y="3575160"/>
            <a:ext cx="3960000" cy="2284200"/>
          </a:xfrm>
          <a:prstGeom prst="rect">
            <a:avLst/>
          </a:pr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sumarrayrows(int a[M][N]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i, j, sum = 0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i = 0; i &lt; M; i++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j = 0; j &lt; N; j++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um += a[i][j]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sum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4783680" y="3597120"/>
            <a:ext cx="3960000" cy="2284200"/>
          </a:xfrm>
          <a:prstGeom prst="rect">
            <a:avLst/>
          </a:pr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sumarraycols(int a[M][N]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i, j, sum = 0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j = 0; j &lt; N; j++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i = 0; i &lt; M; i++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um += a[i][j]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sum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769680" y="595800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iss rate =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5411520" y="595800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iss rate =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2171880" y="5985000"/>
            <a:ext cx="15364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/4 = 25%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6751080" y="5985000"/>
            <a:ext cx="6742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00%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he Memory Mountai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ad throughput (read bandwidth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umber of bytes read from memory per second (MB/s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ory mountai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easured read throughput as a function of spatial and temporal locality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act way to characterize memory system performance.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emory Mountain Test Func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319320" y="1434960"/>
            <a:ext cx="8638920" cy="4887000"/>
          </a:xfrm>
          <a:prstGeom prst="rect">
            <a:avLst/>
          </a:pr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/* The test function */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void test(int elems, int stride) {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int i, result = 0;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volatile int sink;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for (i = 0; i &lt; elems; i += stride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result += data[i];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sink = result; /* So compiler doesn't optimize away the loop */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/* Run test(elems, stride) and return read throughput (MB/s) */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double run(int size, int stride, double Mhz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double cycles;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int elems = size / sizeof(int);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test(elems, stride);                     /* warm up the cache */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cycles = fcyc2(test, elems, stride, 0);  /* call test(elems,stride) */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return (size / stride) / (cycles / Mhz); /* convert cycles to MB/s */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433872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ache Memori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36680" y="102708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ache memories are small, fast SRAM-based memories managed automatically in hardware.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old frequently accessed blocks of main 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PU looks first for data in L1, then in L2, then in main memory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ypical bus structure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889760" y="5500800"/>
            <a:ext cx="819360" cy="8236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ai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516720" y="5637240"/>
            <a:ext cx="1344600" cy="480960"/>
          </a:xfrm>
          <a:prstGeom prst="leftRightArrow">
            <a:avLst>
              <a:gd name="adj1" fmla="val 50000"/>
              <a:gd name="adj2" fmla="val 55654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692680" y="5665680"/>
            <a:ext cx="819360" cy="52092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/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ridg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379760" y="5637240"/>
            <a:ext cx="1309680" cy="480960"/>
          </a:xfrm>
          <a:prstGeom prst="leftRightArrow">
            <a:avLst>
              <a:gd name="adj1" fmla="val 50000"/>
              <a:gd name="adj2" fmla="val 54209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68680" y="5665680"/>
            <a:ext cx="1687320" cy="52092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us interfac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494160" y="4470480"/>
            <a:ext cx="615960" cy="1378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494160" y="4608360"/>
            <a:ext cx="615960" cy="1368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4745160"/>
            <a:ext cx="615960" cy="1378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494160" y="4883040"/>
            <a:ext cx="615960" cy="1368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94160" y="5019840"/>
            <a:ext cx="615960" cy="1378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91120" y="4470480"/>
            <a:ext cx="399960" cy="342720"/>
          </a:xfrm>
          <a:prstGeom prst="rightArrow">
            <a:avLst>
              <a:gd name="adj1" fmla="val 50000"/>
              <a:gd name="adj2" fmla="val 29175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109400" y="4813200"/>
            <a:ext cx="399960" cy="344520"/>
          </a:xfrm>
          <a:prstGeom prst="rightArrow">
            <a:avLst>
              <a:gd name="adj1" fmla="val 50000"/>
              <a:gd name="adj2" fmla="val 29023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01920" y="5637240"/>
            <a:ext cx="1166760" cy="480960"/>
          </a:xfrm>
          <a:prstGeom prst="leftRightArrow">
            <a:avLst>
              <a:gd name="adj1" fmla="val 50000"/>
              <a:gd name="adj2" fmla="val 48293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5665680"/>
            <a:ext cx="887400" cy="52092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2 cach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91080" y="4334040"/>
            <a:ext cx="479520" cy="96012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LU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81320" y="416520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gister fi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560760" y="5226120"/>
            <a:ext cx="549360" cy="411120"/>
          </a:xfrm>
          <a:prstGeom prst="upDownArrow">
            <a:avLst>
              <a:gd name="adj1" fmla="val 50000"/>
              <a:gd name="adj2" fmla="val 19907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32240" y="4127400"/>
            <a:ext cx="2676240" cy="2197080"/>
          </a:xfrm>
          <a:prstGeom prst="rect">
            <a:avLst/>
          </a:prstGeom>
          <a:noFill/>
          <a:ln cap="rnd" w="12600">
            <a:solidFill>
              <a:srgbClr val="0000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91480" y="383652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PU chi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73880" y="500328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ache bu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69960" y="5294160"/>
            <a:ext cx="412920" cy="41292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200560" y="5003280"/>
            <a:ext cx="129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ystem bu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070240" y="5294160"/>
            <a:ext cx="618840" cy="41292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479280" y="500328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emory bu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130880" y="5294160"/>
            <a:ext cx="0" cy="41292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68680" y="4567320"/>
            <a:ext cx="657000" cy="52056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1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ach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36720" y="5087880"/>
            <a:ext cx="549360" cy="549360"/>
          </a:xfrm>
          <a:prstGeom prst="upDownArrow">
            <a:avLst>
              <a:gd name="adj1" fmla="val 50000"/>
              <a:gd name="adj2" fmla="val 19907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emory Mountain Main Routin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318960" y="1025640"/>
            <a:ext cx="8524800" cy="5343480"/>
          </a:xfrm>
          <a:prstGeom prst="rect">
            <a:avLst/>
          </a:pr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/* mountain.c - Generate the memory mountain. */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#define MINBYTES (1 &lt;&lt; 10)  /* Working set size ranges from 1 KB */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#define MAXBYTES (1 &lt;&lt; 23)  /* ... up to 8 MB */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#define MAXSTRIDE 16        /* Strides range from 1 to 16 */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#define MAXELEMS MAXBYTES/sizeof(int)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int data[MAXELEMS];         /* The array we'll be traversing */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int main(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int size;        /* Working set size (in bytes) */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int stride;      /* Stride (in array elements) */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double Mhz;      /* Clock frequency */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init_data(data, MAXELEMS); /* Initialize each element in data to 1 */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Mhz = mhz(0);              /* Estimate the clock frequency */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for (size = MAXBYTES; size &gt;= MINBYTES; size &gt;&gt;= 1) {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for (stride = 1; stride &lt;= MAXSTRIDE; stride++)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printf("%.1f\t", run(size, stride, Mhz));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printf("\n");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exit(0);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he Memory Mountai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graphicFrame>
        <p:nvGraphicFramePr>
          <p:cNvPr id="799" name=""/>
          <p:cNvGraphicFramePr/>
          <p:nvPr/>
        </p:nvGraphicFramePr>
        <p:xfrm>
          <a:off x="222120" y="1087560"/>
          <a:ext cx="8680680" cy="593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2120" y="1087560"/>
                    <a:ext cx="8680680" cy="593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idges of Temporal Localit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lice through the memory mountain with stride=1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lluminates read throughputs of different caches and 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803" name=""/>
          <p:cNvGraphicFramePr/>
          <p:nvPr/>
        </p:nvGraphicFramePr>
        <p:xfrm>
          <a:off x="1219320" y="2371680"/>
          <a:ext cx="6518160" cy="4456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371680"/>
                    <a:ext cx="6518160" cy="44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 Slope of Spatial Localit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lice through memory mountain with size=256KB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hows cache block siz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807" name=""/>
          <p:cNvGraphicFramePr/>
          <p:nvPr/>
        </p:nvGraphicFramePr>
        <p:xfrm>
          <a:off x="644400" y="2057400"/>
          <a:ext cx="6518520" cy="4456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4400" y="2057400"/>
                    <a:ext cx="6518520" cy="44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trix Multiplication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Major Cache Effects to Consider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otal cache siz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Exploit temporal locality and keep the working set small (e.g., by using blocking)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lock siz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Exploit spatial locality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Description: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ultiply N x N matrice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(N3) total operation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ccesse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N reads per source element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N values summed per destination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ut may be able to hold in register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4270320" y="2751120"/>
            <a:ext cx="4492800" cy="2527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ijk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i=0; i&lt;n; i++) 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j=0; j&lt;n; j++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um = 0.0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k=0; k&lt;n; k++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um += a[i][k] * b[k][j]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[i][j] = sum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7088040" y="2714760"/>
            <a:ext cx="16765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Variable </a:t>
            </a:r>
            <a:r>
              <a:rPr b="1" i="1" lang="en-US" sz="1800" spc="-1" strike="noStrike">
                <a:solidFill>
                  <a:srgbClr val="ff0000"/>
                </a:solidFill>
                <a:latin typeface="Courier New"/>
              </a:rPr>
              <a:t>su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held in regist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flipH="1">
            <a:off x="6248160" y="3733920"/>
            <a:ext cx="144756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7695720" y="3276720"/>
            <a:ext cx="228600" cy="44424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iss Rate Analysis for Matrix Multipl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ssume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ine size = 32B (big enough for 4 64-bit words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trix dimension (N) is very lar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pproximate 1/N as 0.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che is not even big enough to hold multiple row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nalysis Method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ok at access pattern of inner loo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5867280" y="525780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18" name=""/>
          <p:cNvGrpSpPr/>
          <p:nvPr/>
        </p:nvGrpSpPr>
        <p:grpSpPr>
          <a:xfrm>
            <a:off x="1814400" y="4367160"/>
            <a:ext cx="1068480" cy="1307880"/>
            <a:chOff x="1814400" y="4367160"/>
            <a:chExt cx="1068480" cy="1307880"/>
          </a:xfrm>
        </p:grpSpPr>
        <p:sp>
          <p:nvSpPr>
            <p:cNvPr id="819" name=""/>
            <p:cNvSpPr/>
            <p:nvPr/>
          </p:nvSpPr>
          <p:spPr>
            <a:xfrm>
              <a:off x="2139840" y="4730760"/>
              <a:ext cx="596880" cy="520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271600" y="5311800"/>
              <a:ext cx="333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821" name=""/>
            <p:cNvGrpSpPr/>
            <p:nvPr/>
          </p:nvGrpSpPr>
          <p:grpSpPr>
            <a:xfrm>
              <a:off x="2146320" y="4367160"/>
              <a:ext cx="736560" cy="302040"/>
              <a:chOff x="2146320" y="4367160"/>
              <a:chExt cx="736560" cy="302040"/>
            </a:xfrm>
          </p:grpSpPr>
          <p:sp>
            <p:nvSpPr>
              <p:cNvPr id="822" name=""/>
              <p:cNvSpPr/>
              <p:nvPr/>
            </p:nvSpPr>
            <p:spPr>
              <a:xfrm>
                <a:off x="2146320" y="4495680"/>
                <a:ext cx="73656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2271240" y="4367160"/>
                <a:ext cx="280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k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824" name=""/>
            <p:cNvGrpSpPr/>
            <p:nvPr/>
          </p:nvGrpSpPr>
          <p:grpSpPr>
            <a:xfrm>
              <a:off x="1814400" y="4737240"/>
              <a:ext cx="221040" cy="736560"/>
              <a:chOff x="1814400" y="4737240"/>
              <a:chExt cx="221040" cy="736560"/>
            </a:xfrm>
          </p:grpSpPr>
          <p:sp>
            <p:nvSpPr>
              <p:cNvPr id="825" name=""/>
              <p:cNvSpPr/>
              <p:nvPr/>
            </p:nvSpPr>
            <p:spPr>
              <a:xfrm>
                <a:off x="1924200" y="4737240"/>
                <a:ext cx="0" cy="73656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1814400" y="4824360"/>
                <a:ext cx="2210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27" name=""/>
          <p:cNvGrpSpPr/>
          <p:nvPr/>
        </p:nvGrpSpPr>
        <p:grpSpPr>
          <a:xfrm>
            <a:off x="3566520" y="4367160"/>
            <a:ext cx="992880" cy="1307880"/>
            <a:chOff x="3566520" y="4367160"/>
            <a:chExt cx="992880" cy="1307880"/>
          </a:xfrm>
        </p:grpSpPr>
        <p:sp>
          <p:nvSpPr>
            <p:cNvPr id="828" name=""/>
            <p:cNvSpPr/>
            <p:nvPr/>
          </p:nvSpPr>
          <p:spPr>
            <a:xfrm>
              <a:off x="3892680" y="4730760"/>
              <a:ext cx="596880" cy="520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4024440" y="5311800"/>
              <a:ext cx="333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830" name=""/>
            <p:cNvGrpSpPr/>
            <p:nvPr/>
          </p:nvGrpSpPr>
          <p:grpSpPr>
            <a:xfrm>
              <a:off x="3566520" y="4737240"/>
              <a:ext cx="271440" cy="736560"/>
              <a:chOff x="3566520" y="4737240"/>
              <a:chExt cx="271440" cy="736560"/>
            </a:xfrm>
          </p:grpSpPr>
          <p:sp>
            <p:nvSpPr>
              <p:cNvPr id="831" name=""/>
              <p:cNvSpPr/>
              <p:nvPr/>
            </p:nvSpPr>
            <p:spPr>
              <a:xfrm>
                <a:off x="3676680" y="4737240"/>
                <a:ext cx="0" cy="73656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3566520" y="4824360"/>
                <a:ext cx="271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k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833" name=""/>
            <p:cNvGrpSpPr/>
            <p:nvPr/>
          </p:nvGrpSpPr>
          <p:grpSpPr>
            <a:xfrm>
              <a:off x="3822840" y="4367160"/>
              <a:ext cx="736560" cy="302040"/>
              <a:chOff x="3822840" y="4367160"/>
              <a:chExt cx="736560" cy="302040"/>
            </a:xfrm>
          </p:grpSpPr>
          <p:sp>
            <p:nvSpPr>
              <p:cNvPr id="834" name=""/>
              <p:cNvSpPr/>
              <p:nvPr/>
            </p:nvSpPr>
            <p:spPr>
              <a:xfrm>
                <a:off x="3822840" y="4495680"/>
                <a:ext cx="73656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3947400" y="4367160"/>
                <a:ext cx="2318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j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6" name=""/>
          <p:cNvGrpSpPr/>
          <p:nvPr/>
        </p:nvGrpSpPr>
        <p:grpSpPr>
          <a:xfrm>
            <a:off x="5396040" y="4367160"/>
            <a:ext cx="1068120" cy="1106640"/>
            <a:chOff x="5396040" y="4367160"/>
            <a:chExt cx="1068120" cy="1106640"/>
          </a:xfrm>
        </p:grpSpPr>
        <p:sp>
          <p:nvSpPr>
            <p:cNvPr id="837" name=""/>
            <p:cNvSpPr/>
            <p:nvPr/>
          </p:nvSpPr>
          <p:spPr>
            <a:xfrm>
              <a:off x="5721480" y="4730760"/>
              <a:ext cx="596880" cy="520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838" name=""/>
            <p:cNvGrpSpPr/>
            <p:nvPr/>
          </p:nvGrpSpPr>
          <p:grpSpPr>
            <a:xfrm>
              <a:off x="5396040" y="4737240"/>
              <a:ext cx="221040" cy="736560"/>
              <a:chOff x="5396040" y="4737240"/>
              <a:chExt cx="221040" cy="736560"/>
            </a:xfrm>
          </p:grpSpPr>
          <p:sp>
            <p:nvSpPr>
              <p:cNvPr id="839" name=""/>
              <p:cNvSpPr/>
              <p:nvPr/>
            </p:nvSpPr>
            <p:spPr>
              <a:xfrm>
                <a:off x="5505480" y="4737240"/>
                <a:ext cx="0" cy="73656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5396040" y="4824360"/>
                <a:ext cx="2210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841" name=""/>
            <p:cNvGrpSpPr/>
            <p:nvPr/>
          </p:nvGrpSpPr>
          <p:grpSpPr>
            <a:xfrm>
              <a:off x="5727600" y="4367160"/>
              <a:ext cx="736560" cy="302040"/>
              <a:chOff x="5727600" y="4367160"/>
              <a:chExt cx="736560" cy="302040"/>
            </a:xfrm>
          </p:grpSpPr>
          <p:sp>
            <p:nvSpPr>
              <p:cNvPr id="842" name=""/>
              <p:cNvSpPr/>
              <p:nvPr/>
            </p:nvSpPr>
            <p:spPr>
              <a:xfrm>
                <a:off x="5727600" y="4495680"/>
                <a:ext cx="73656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5853240" y="4367160"/>
                <a:ext cx="2210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j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ayout of C Arrays in Memory (review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 arrays allocated in row-major orde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row in contiguous memory loca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epping through columns in one row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or (i = 0; i &lt; N; i++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0">
              <a:lnSpc>
                <a:spcPct val="9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sum += a[0][i];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ccesses successive elemen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f block size (B) &gt; 4 bytes, exploit spatial localit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mpulsory miss rate = 4 bytes / B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epping through rows in one column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or (i = 0; i &lt; n; i++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0">
              <a:lnSpc>
                <a:spcPct val="9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sum += a[i][0];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ccesses distant elemen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 spatial locality!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mpulsory miss rate = 1 (i.e. 100%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trix Multiplication (ijk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527040" y="1765440"/>
            <a:ext cx="4492800" cy="2836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ijk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=0; i&lt;n; i++) 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j=0; j&lt;n; j++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um = 0.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k=0; k&lt;n; k++)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um += a[i][k] * b[k][j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[i][j] = sum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5492880" y="258768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6711840" y="258768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7854840" y="258768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5624640" y="316872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6843600" y="316872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7986600" y="316872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6934320" y="2593800"/>
            <a:ext cx="0" cy="5083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5499000" y="2962440"/>
            <a:ext cx="584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081840" y="2787480"/>
            <a:ext cx="536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i,*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6691320" y="2254320"/>
            <a:ext cx="536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*,j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8013600" y="2898720"/>
            <a:ext cx="50760" cy="50760"/>
          </a:xfrm>
          <a:prstGeom prst="rect">
            <a:avLst/>
          </a:prstGeom>
          <a:solidFill>
            <a:srgbClr val="ff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834320" y="2558880"/>
            <a:ext cx="498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i,j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5396760" y="1797120"/>
            <a:ext cx="1258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nner loop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61" name=""/>
          <p:cNvGrpSpPr/>
          <p:nvPr/>
        </p:nvGrpSpPr>
        <p:grpSpPr>
          <a:xfrm>
            <a:off x="6435000" y="3592440"/>
            <a:ext cx="1042560" cy="1301040"/>
            <a:chOff x="6435000" y="3592440"/>
            <a:chExt cx="1042560" cy="1301040"/>
          </a:xfrm>
        </p:grpSpPr>
        <p:sp>
          <p:nvSpPr>
            <p:cNvPr id="862" name=""/>
            <p:cNvSpPr/>
            <p:nvPr/>
          </p:nvSpPr>
          <p:spPr>
            <a:xfrm>
              <a:off x="6435000" y="4255920"/>
              <a:ext cx="10425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Column-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wis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V="1">
              <a:off x="6991200" y="3592440"/>
              <a:ext cx="0" cy="6271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64" name=""/>
          <p:cNvSpPr/>
          <p:nvPr/>
        </p:nvSpPr>
        <p:spPr>
          <a:xfrm>
            <a:off x="5214600" y="4255920"/>
            <a:ext cx="1168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Row-wis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V="1">
            <a:off x="5772240" y="3592440"/>
            <a:ext cx="0" cy="6271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66" name=""/>
          <p:cNvGrpSpPr/>
          <p:nvPr/>
        </p:nvGrpSpPr>
        <p:grpSpPr>
          <a:xfrm>
            <a:off x="7590240" y="3592440"/>
            <a:ext cx="739080" cy="1026720"/>
            <a:chOff x="7590240" y="3592440"/>
            <a:chExt cx="739080" cy="1026720"/>
          </a:xfrm>
        </p:grpSpPr>
        <p:sp>
          <p:nvSpPr>
            <p:cNvPr id="867" name=""/>
            <p:cNvSpPr/>
            <p:nvPr/>
          </p:nvSpPr>
          <p:spPr>
            <a:xfrm>
              <a:off x="7590240" y="4255920"/>
              <a:ext cx="739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Fixed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V="1">
              <a:off x="8147160" y="3592440"/>
              <a:ext cx="0" cy="6271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69" name=""/>
          <p:cNvSpPr/>
          <p:nvPr/>
        </p:nvSpPr>
        <p:spPr>
          <a:xfrm>
            <a:off x="290520" y="4964040"/>
            <a:ext cx="507348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3920" indent="-223920">
              <a:lnSpc>
                <a:spcPct val="95000"/>
              </a:lnSpc>
              <a:spcBef>
                <a:spcPts val="1500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 u="sng">
                <a:solidFill>
                  <a:srgbClr val="003300"/>
                </a:solidFill>
                <a:uFillTx/>
                <a:latin typeface="Arial"/>
              </a:rPr>
              <a:t>Misses per Inner Loop Iteration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B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C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.25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.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.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trix Multiplication (jik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299880" y="1779480"/>
            <a:ext cx="4721400" cy="2836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jik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j=0; j&lt;n; j++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=0; i&lt;n; i++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um = 0.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k=0; k&lt;n; k++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um += a[i][k] * b[k][j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[i][j] = su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568840" y="265428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6788160" y="265428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7931160" y="265428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5700600" y="323532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6919920" y="323532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8139240" y="323532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7010280" y="2660760"/>
            <a:ext cx="0" cy="5079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5575320" y="3029040"/>
            <a:ext cx="584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157800" y="2854440"/>
            <a:ext cx="536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i,*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767640" y="2320920"/>
            <a:ext cx="536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*,j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8089920" y="2965320"/>
            <a:ext cx="50760" cy="50760"/>
          </a:xfrm>
          <a:prstGeom prst="rect">
            <a:avLst/>
          </a:prstGeom>
          <a:solidFill>
            <a:srgbClr val="ff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7910640" y="2625840"/>
            <a:ext cx="498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i,j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5549040" y="1787400"/>
            <a:ext cx="1258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nner loop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85" name=""/>
          <p:cNvGrpSpPr/>
          <p:nvPr/>
        </p:nvGrpSpPr>
        <p:grpSpPr>
          <a:xfrm>
            <a:off x="5333760" y="3803760"/>
            <a:ext cx="1168920" cy="1027080"/>
            <a:chOff x="5333760" y="3803760"/>
            <a:chExt cx="1168920" cy="1027080"/>
          </a:xfrm>
        </p:grpSpPr>
        <p:sp>
          <p:nvSpPr>
            <p:cNvPr id="886" name=""/>
            <p:cNvSpPr/>
            <p:nvPr/>
          </p:nvSpPr>
          <p:spPr>
            <a:xfrm>
              <a:off x="5333760" y="4467600"/>
              <a:ext cx="1168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Row-wis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V="1">
              <a:off x="5891040" y="3803760"/>
              <a:ext cx="0" cy="6271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88" name=""/>
          <p:cNvGrpSpPr/>
          <p:nvPr/>
        </p:nvGrpSpPr>
        <p:grpSpPr>
          <a:xfrm>
            <a:off x="6536520" y="3803760"/>
            <a:ext cx="1042560" cy="1301400"/>
            <a:chOff x="6536520" y="3803760"/>
            <a:chExt cx="1042560" cy="1301400"/>
          </a:xfrm>
        </p:grpSpPr>
        <p:sp>
          <p:nvSpPr>
            <p:cNvPr id="889" name=""/>
            <p:cNvSpPr/>
            <p:nvPr/>
          </p:nvSpPr>
          <p:spPr>
            <a:xfrm>
              <a:off x="6536520" y="4467600"/>
              <a:ext cx="10425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Column-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wis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V="1">
              <a:off x="7093080" y="3803760"/>
              <a:ext cx="0" cy="6271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91" name=""/>
          <p:cNvGrpSpPr/>
          <p:nvPr/>
        </p:nvGrpSpPr>
        <p:grpSpPr>
          <a:xfrm>
            <a:off x="7666200" y="3811680"/>
            <a:ext cx="739080" cy="1027080"/>
            <a:chOff x="7666200" y="3811680"/>
            <a:chExt cx="739080" cy="1027080"/>
          </a:xfrm>
        </p:grpSpPr>
        <p:sp>
          <p:nvSpPr>
            <p:cNvPr id="892" name=""/>
            <p:cNvSpPr/>
            <p:nvPr/>
          </p:nvSpPr>
          <p:spPr>
            <a:xfrm>
              <a:off x="7666200" y="4475520"/>
              <a:ext cx="739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Fixed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 flipV="1">
              <a:off x="8223120" y="3811680"/>
              <a:ext cx="0" cy="6271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44600" y="4869000"/>
            <a:ext cx="4813200" cy="12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3920" indent="-223920">
              <a:lnSpc>
                <a:spcPct val="95000"/>
              </a:lnSpc>
              <a:spcBef>
                <a:spcPts val="1500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 u="sng">
                <a:solidFill>
                  <a:srgbClr val="003300"/>
                </a:solidFill>
                <a:uFillTx/>
                <a:latin typeface="Arial"/>
              </a:rPr>
              <a:t>Misses per Inner Loop Iteration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B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C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.25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.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.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trix Multiplication (kij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452520" y="1770120"/>
            <a:ext cx="4263840" cy="3014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kij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k=0; k&lt;n; k++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=0; i&lt;n; i++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 = a[i][k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j=0; j&lt;n; j++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c[i][j] += r * b[k][j];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5340240" y="237816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559560" y="237816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7728120" y="237816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5472000" y="295920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6691320" y="295920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7935840" y="295920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8317080" y="2577960"/>
            <a:ext cx="536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i,*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7734240" y="2752560"/>
            <a:ext cx="584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5423040" y="2765520"/>
            <a:ext cx="50760" cy="50760"/>
          </a:xfrm>
          <a:prstGeom prst="rect">
            <a:avLst/>
          </a:prstGeom>
          <a:solidFill>
            <a:srgbClr val="ff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5243400" y="2349360"/>
            <a:ext cx="562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i,k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7148520" y="2349360"/>
            <a:ext cx="600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k,*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6566040" y="2523960"/>
            <a:ext cx="5839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5383800" y="1816200"/>
            <a:ext cx="1258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nner loop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10" name=""/>
          <p:cNvGrpSpPr/>
          <p:nvPr/>
        </p:nvGrpSpPr>
        <p:grpSpPr>
          <a:xfrm>
            <a:off x="6324480" y="3450960"/>
            <a:ext cx="1168920" cy="1027080"/>
            <a:chOff x="6324480" y="3450960"/>
            <a:chExt cx="1168920" cy="1027080"/>
          </a:xfrm>
        </p:grpSpPr>
        <p:sp>
          <p:nvSpPr>
            <p:cNvPr id="911" name=""/>
            <p:cNvSpPr/>
            <p:nvPr/>
          </p:nvSpPr>
          <p:spPr>
            <a:xfrm>
              <a:off x="6324480" y="4114800"/>
              <a:ext cx="1168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Row-wis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flipV="1">
              <a:off x="6881760" y="3450960"/>
              <a:ext cx="0" cy="6267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13" name=""/>
          <p:cNvGrpSpPr/>
          <p:nvPr/>
        </p:nvGrpSpPr>
        <p:grpSpPr>
          <a:xfrm>
            <a:off x="7467480" y="3450960"/>
            <a:ext cx="1168920" cy="1027080"/>
            <a:chOff x="7467480" y="3450960"/>
            <a:chExt cx="1168920" cy="1027080"/>
          </a:xfrm>
        </p:grpSpPr>
        <p:sp>
          <p:nvSpPr>
            <p:cNvPr id="914" name=""/>
            <p:cNvSpPr/>
            <p:nvPr/>
          </p:nvSpPr>
          <p:spPr>
            <a:xfrm>
              <a:off x="7467480" y="4114800"/>
              <a:ext cx="1168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Row-wis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flipV="1">
              <a:off x="8024760" y="3450960"/>
              <a:ext cx="0" cy="6267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16" name=""/>
          <p:cNvGrpSpPr/>
          <p:nvPr/>
        </p:nvGrpSpPr>
        <p:grpSpPr>
          <a:xfrm>
            <a:off x="5075640" y="3459240"/>
            <a:ext cx="739080" cy="1026720"/>
            <a:chOff x="5075640" y="3459240"/>
            <a:chExt cx="739080" cy="1026720"/>
          </a:xfrm>
        </p:grpSpPr>
        <p:sp>
          <p:nvSpPr>
            <p:cNvPr id="917" name=""/>
            <p:cNvSpPr/>
            <p:nvPr/>
          </p:nvSpPr>
          <p:spPr>
            <a:xfrm>
              <a:off x="5075640" y="4122720"/>
              <a:ext cx="739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Fixed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flipV="1">
              <a:off x="5632560" y="3459240"/>
              <a:ext cx="0" cy="6271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19" name=""/>
          <p:cNvSpPr/>
          <p:nvPr/>
        </p:nvSpPr>
        <p:spPr>
          <a:xfrm>
            <a:off x="444600" y="4869000"/>
            <a:ext cx="4965480" cy="12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3920" indent="-223920">
              <a:lnSpc>
                <a:spcPct val="95000"/>
              </a:lnSpc>
              <a:spcBef>
                <a:spcPts val="1500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 u="sng">
                <a:solidFill>
                  <a:srgbClr val="003300"/>
                </a:solidFill>
                <a:uFillTx/>
                <a:latin typeface="Arial"/>
              </a:rPr>
              <a:t>Misses per Inner Loop Iteration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B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C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.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.25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.25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nserting an L1 Cache  Between 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he CPU and Main Memor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10080" y="2590920"/>
            <a:ext cx="1066680" cy="83808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10080" y="4038480"/>
            <a:ext cx="1066680" cy="243864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56040" y="1371600"/>
            <a:ext cx="380880" cy="1522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956040" y="1523880"/>
            <a:ext cx="380880" cy="1526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56040" y="1676520"/>
            <a:ext cx="380880" cy="1522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56040" y="1828800"/>
            <a:ext cx="380880" cy="1522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86040" y="4191120"/>
            <a:ext cx="914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 b c 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667600" y="4190760"/>
            <a:ext cx="9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block 1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686040" y="495288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p q r 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655000" y="4952520"/>
            <a:ext cx="9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block 2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14640" y="525672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14640" y="449460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686040" y="571500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w x y z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667600" y="5714640"/>
            <a:ext cx="9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block 3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935520" y="601884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36640" y="4755960"/>
            <a:ext cx="300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big slow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ain memo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has room for many 4-wor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lock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57160" y="2664720"/>
            <a:ext cx="365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small fast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1 cache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has roo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or two  4-word block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28280" y="1371240"/>
            <a:ext cx="382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tiny, very fast CPU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gister fi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has room for four 4-byte word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686040" y="266688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686040" y="3048120"/>
            <a:ext cx="914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43240" y="1981080"/>
            <a:ext cx="0" cy="60984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143240" y="3429000"/>
            <a:ext cx="0" cy="60948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76920" y="1371600"/>
            <a:ext cx="304560" cy="609480"/>
          </a:xfrm>
          <a:custGeom>
            <a:avLst/>
            <a:gdLst>
              <a:gd name="textAreaLeft" fmla="*/ 0 w 304560"/>
              <a:gd name="textAreaRight" fmla="*/ 109800 w 30456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76920" y="2590920"/>
            <a:ext cx="304560" cy="838080"/>
          </a:xfrm>
          <a:custGeom>
            <a:avLst/>
            <a:gdLst>
              <a:gd name="textAreaLeft" fmla="*/ 0 w 304560"/>
              <a:gd name="textAreaRight" fmla="*/ 109800 w 30456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038480"/>
            <a:ext cx="304560" cy="2438640"/>
          </a:xfrm>
          <a:custGeom>
            <a:avLst/>
            <a:gdLst>
              <a:gd name="textAreaLeft" fmla="*/ 0 w 304560"/>
              <a:gd name="textAreaRight" fmla="*/ 109800 w 304560"/>
              <a:gd name="textAreaTop" fmla="*/ 63360 h 2438640"/>
              <a:gd name="textAreaBottom" fmla="*/ 2375280 h 243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765840" y="1660680"/>
            <a:ext cx="18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5280" y="3254040"/>
            <a:ext cx="278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transfer unit betwee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cache and main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emory is a 4-word bloc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16 bytes)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66760" y="1740960"/>
            <a:ext cx="3087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transfer unit betwee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CPU register file and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cache is a 4-byte block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048120" y="1981080"/>
            <a:ext cx="304560" cy="533520"/>
          </a:xfrm>
          <a:custGeom>
            <a:avLst/>
            <a:gdLst>
              <a:gd name="textAreaLeft" fmla="*/ 360 w 304560"/>
              <a:gd name="textAreaRight" fmla="*/ 110160 w 30456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3048120" y="3429000"/>
            <a:ext cx="304560" cy="609480"/>
          </a:xfrm>
          <a:custGeom>
            <a:avLst/>
            <a:gdLst>
              <a:gd name="textAreaLeft" fmla="*/ 360 w 304560"/>
              <a:gd name="textAreaRight" fmla="*/ 110160 w 30456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913840" y="2634840"/>
            <a:ext cx="66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line 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913840" y="3015720"/>
            <a:ext cx="66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line 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trix Multiplication (ikj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490680" y="1757520"/>
            <a:ext cx="4314600" cy="2514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ikj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=0; i&lt;n; i++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k=0; k&lt;n; k++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 = a[i][k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j=0; j&lt;n; j++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c[i][j] += r * b[k][j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5340240" y="237816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6559560" y="237816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7728120" y="237816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5472000" y="295920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691320" y="295920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7935840" y="295920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8317080" y="2577960"/>
            <a:ext cx="536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i,*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7734240" y="2752560"/>
            <a:ext cx="584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5423040" y="2765520"/>
            <a:ext cx="50760" cy="50760"/>
          </a:xfrm>
          <a:prstGeom prst="rect">
            <a:avLst/>
          </a:prstGeom>
          <a:solidFill>
            <a:srgbClr val="000066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5272200" y="2349360"/>
            <a:ext cx="562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i,k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7148520" y="2349360"/>
            <a:ext cx="600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k,*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566040" y="2523960"/>
            <a:ext cx="5839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383800" y="1816200"/>
            <a:ext cx="1258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nner loop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35" name=""/>
          <p:cNvGrpSpPr/>
          <p:nvPr/>
        </p:nvGrpSpPr>
        <p:grpSpPr>
          <a:xfrm>
            <a:off x="6324480" y="3450960"/>
            <a:ext cx="1168920" cy="1027080"/>
            <a:chOff x="6324480" y="3450960"/>
            <a:chExt cx="1168920" cy="1027080"/>
          </a:xfrm>
        </p:grpSpPr>
        <p:sp>
          <p:nvSpPr>
            <p:cNvPr id="936" name=""/>
            <p:cNvSpPr/>
            <p:nvPr/>
          </p:nvSpPr>
          <p:spPr>
            <a:xfrm>
              <a:off x="6324480" y="4114800"/>
              <a:ext cx="1168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Row-wis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 flipV="1">
              <a:off x="6881760" y="3450960"/>
              <a:ext cx="0" cy="6267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38" name=""/>
          <p:cNvGrpSpPr/>
          <p:nvPr/>
        </p:nvGrpSpPr>
        <p:grpSpPr>
          <a:xfrm>
            <a:off x="7467480" y="3450960"/>
            <a:ext cx="1168920" cy="1027080"/>
            <a:chOff x="7467480" y="3450960"/>
            <a:chExt cx="1168920" cy="1027080"/>
          </a:xfrm>
        </p:grpSpPr>
        <p:sp>
          <p:nvSpPr>
            <p:cNvPr id="939" name=""/>
            <p:cNvSpPr/>
            <p:nvPr/>
          </p:nvSpPr>
          <p:spPr>
            <a:xfrm>
              <a:off x="7467480" y="4114800"/>
              <a:ext cx="1168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Row-wis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 flipV="1">
              <a:off x="8024760" y="3450960"/>
              <a:ext cx="0" cy="6267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41" name=""/>
          <p:cNvSpPr/>
          <p:nvPr/>
        </p:nvSpPr>
        <p:spPr>
          <a:xfrm>
            <a:off x="5227920" y="4122720"/>
            <a:ext cx="739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ixe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flipV="1">
            <a:off x="5632560" y="3459240"/>
            <a:ext cx="0" cy="6271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444600" y="4869000"/>
            <a:ext cx="5194080" cy="12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3920" indent="-223920">
              <a:lnSpc>
                <a:spcPct val="95000"/>
              </a:lnSpc>
              <a:spcBef>
                <a:spcPts val="1500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 u="sng">
                <a:solidFill>
                  <a:srgbClr val="003300"/>
                </a:solidFill>
                <a:uFillTx/>
                <a:latin typeface="Arial"/>
              </a:rPr>
              <a:t>Misses per Inner Loop Iteration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B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C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.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.25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.25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trix Multiplication (jki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566640" y="1766880"/>
            <a:ext cx="4353120" cy="2514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jki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j=0; j&lt;n; j++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k=0; k&lt;n; k++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 = b[k][j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=0; i&lt;n; i++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c[i][j] += a[i][k] * r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5340240" y="260676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6559560" y="260676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7728120" y="260676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472000" y="318780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691320" y="318780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7935840" y="318780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7656480" y="2273400"/>
            <a:ext cx="536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*,j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6692760" y="3006720"/>
            <a:ext cx="51120" cy="50760"/>
          </a:xfrm>
          <a:prstGeom prst="rect">
            <a:avLst/>
          </a:prstGeom>
          <a:solidFill>
            <a:srgbClr val="ff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6475320" y="2590920"/>
            <a:ext cx="562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k,j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269680" y="1828800"/>
            <a:ext cx="1258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nner loop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 flipV="1">
            <a:off x="5803920" y="2600280"/>
            <a:ext cx="0" cy="5335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 flipV="1">
            <a:off x="7886880" y="2612880"/>
            <a:ext cx="0" cy="5335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5522760" y="2273400"/>
            <a:ext cx="600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*,k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59" name=""/>
          <p:cNvGrpSpPr/>
          <p:nvPr/>
        </p:nvGrpSpPr>
        <p:grpSpPr>
          <a:xfrm>
            <a:off x="5106240" y="3679560"/>
            <a:ext cx="1106640" cy="1301400"/>
            <a:chOff x="5106240" y="3679560"/>
            <a:chExt cx="1106640" cy="1301400"/>
          </a:xfrm>
        </p:grpSpPr>
        <p:sp>
          <p:nvSpPr>
            <p:cNvPr id="960" name=""/>
            <p:cNvSpPr/>
            <p:nvPr/>
          </p:nvSpPr>
          <p:spPr>
            <a:xfrm>
              <a:off x="5106240" y="4343400"/>
              <a:ext cx="11066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Column -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wis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 flipV="1">
              <a:off x="5662440" y="3679560"/>
              <a:ext cx="0" cy="6267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62" name=""/>
          <p:cNvGrpSpPr/>
          <p:nvPr/>
        </p:nvGrpSpPr>
        <p:grpSpPr>
          <a:xfrm>
            <a:off x="7468560" y="3679560"/>
            <a:ext cx="1042560" cy="1301400"/>
            <a:chOff x="7468560" y="3679560"/>
            <a:chExt cx="1042560" cy="1301400"/>
          </a:xfrm>
        </p:grpSpPr>
        <p:sp>
          <p:nvSpPr>
            <p:cNvPr id="963" name=""/>
            <p:cNvSpPr/>
            <p:nvPr/>
          </p:nvSpPr>
          <p:spPr>
            <a:xfrm>
              <a:off x="7468560" y="4343400"/>
              <a:ext cx="10425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Column-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wis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 flipV="1">
              <a:off x="8024760" y="3679560"/>
              <a:ext cx="0" cy="6267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65" name=""/>
          <p:cNvGrpSpPr/>
          <p:nvPr/>
        </p:nvGrpSpPr>
        <p:grpSpPr>
          <a:xfrm>
            <a:off x="6370920" y="3687840"/>
            <a:ext cx="739080" cy="1026720"/>
            <a:chOff x="6370920" y="3687840"/>
            <a:chExt cx="739080" cy="1026720"/>
          </a:xfrm>
        </p:grpSpPr>
        <p:sp>
          <p:nvSpPr>
            <p:cNvPr id="966" name=""/>
            <p:cNvSpPr/>
            <p:nvPr/>
          </p:nvSpPr>
          <p:spPr>
            <a:xfrm>
              <a:off x="6370920" y="4351320"/>
              <a:ext cx="739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Fixed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 flipV="1">
              <a:off x="6927840" y="3687840"/>
              <a:ext cx="0" cy="6271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68" name=""/>
          <p:cNvSpPr/>
          <p:nvPr/>
        </p:nvSpPr>
        <p:spPr>
          <a:xfrm>
            <a:off x="444600" y="4869000"/>
            <a:ext cx="4813200" cy="12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3920" indent="-223920">
              <a:lnSpc>
                <a:spcPct val="95000"/>
              </a:lnSpc>
              <a:spcBef>
                <a:spcPts val="1500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 u="sng">
                <a:solidFill>
                  <a:srgbClr val="003300"/>
                </a:solidFill>
                <a:uFillTx/>
                <a:latin typeface="Arial"/>
              </a:rPr>
              <a:t>Misses per Inner Loop Iteration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B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C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.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.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.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trix Multiplication (kji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617400" y="1782720"/>
            <a:ext cx="4518000" cy="2514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kji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k=0; k&lt;n; k++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j=0; j&lt;n; j++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 = b[k][j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=0; i&lt;n; i++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c[i][j] += a[i][k] * r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5657760" y="260676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6877080" y="260676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8045280" y="2606760"/>
            <a:ext cx="59724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5789520" y="318780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7008840" y="318780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8253360" y="318780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7974000" y="2273400"/>
            <a:ext cx="536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*,j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7010280" y="3006720"/>
            <a:ext cx="50760" cy="50760"/>
          </a:xfrm>
          <a:prstGeom prst="rect">
            <a:avLst/>
          </a:prstGeom>
          <a:solidFill>
            <a:srgbClr val="000066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6792840" y="2590920"/>
            <a:ext cx="562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k,j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5587200" y="1828800"/>
            <a:ext cx="1258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nner loop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flipV="1">
            <a:off x="6121440" y="2600280"/>
            <a:ext cx="0" cy="5335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 flipV="1">
            <a:off x="8204040" y="2612880"/>
            <a:ext cx="0" cy="5335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5840280" y="2273400"/>
            <a:ext cx="600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*,k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84" name=""/>
          <p:cNvGrpSpPr/>
          <p:nvPr/>
        </p:nvGrpSpPr>
        <p:grpSpPr>
          <a:xfrm>
            <a:off x="6599520" y="3573360"/>
            <a:ext cx="739080" cy="1026720"/>
            <a:chOff x="6599520" y="3573360"/>
            <a:chExt cx="739080" cy="1026720"/>
          </a:xfrm>
        </p:grpSpPr>
        <p:sp>
          <p:nvSpPr>
            <p:cNvPr id="985" name=""/>
            <p:cNvSpPr/>
            <p:nvPr/>
          </p:nvSpPr>
          <p:spPr>
            <a:xfrm>
              <a:off x="6599520" y="4236840"/>
              <a:ext cx="739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Fixed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 flipV="1">
              <a:off x="7156440" y="3573360"/>
              <a:ext cx="0" cy="6271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87" name=""/>
          <p:cNvGrpSpPr/>
          <p:nvPr/>
        </p:nvGrpSpPr>
        <p:grpSpPr>
          <a:xfrm>
            <a:off x="5411160" y="3565440"/>
            <a:ext cx="1042560" cy="1301040"/>
            <a:chOff x="5411160" y="3565440"/>
            <a:chExt cx="1042560" cy="1301040"/>
          </a:xfrm>
        </p:grpSpPr>
        <p:sp>
          <p:nvSpPr>
            <p:cNvPr id="988" name=""/>
            <p:cNvSpPr/>
            <p:nvPr/>
          </p:nvSpPr>
          <p:spPr>
            <a:xfrm>
              <a:off x="5411160" y="4228920"/>
              <a:ext cx="10425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Column-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wis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 flipV="1">
              <a:off x="5967360" y="3565440"/>
              <a:ext cx="0" cy="6271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90" name=""/>
          <p:cNvGrpSpPr/>
          <p:nvPr/>
        </p:nvGrpSpPr>
        <p:grpSpPr>
          <a:xfrm>
            <a:off x="7697160" y="3565440"/>
            <a:ext cx="1042560" cy="1301040"/>
            <a:chOff x="7697160" y="3565440"/>
            <a:chExt cx="1042560" cy="1301040"/>
          </a:xfrm>
        </p:grpSpPr>
        <p:sp>
          <p:nvSpPr>
            <p:cNvPr id="991" name=""/>
            <p:cNvSpPr/>
            <p:nvPr/>
          </p:nvSpPr>
          <p:spPr>
            <a:xfrm>
              <a:off x="7697160" y="4228920"/>
              <a:ext cx="10425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Column-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wis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 flipV="1">
              <a:off x="8253360" y="3565440"/>
              <a:ext cx="0" cy="6271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93" name=""/>
          <p:cNvSpPr/>
          <p:nvPr/>
        </p:nvSpPr>
        <p:spPr>
          <a:xfrm>
            <a:off x="444600" y="4869000"/>
            <a:ext cx="4965480" cy="12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3920" indent="-223920">
              <a:lnSpc>
                <a:spcPct val="95000"/>
              </a:lnSpc>
              <a:spcBef>
                <a:spcPts val="1500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 u="sng">
                <a:solidFill>
                  <a:srgbClr val="003300"/>
                </a:solidFill>
                <a:uFillTx/>
                <a:latin typeface="Arial"/>
              </a:rPr>
              <a:t>Misses per Inner Loop Iteration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B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C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.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.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.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ummary of Matrix Multiplic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380880" y="2666880"/>
            <a:ext cx="2667240" cy="27856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or (i=0; i&lt;n; i++)  {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or (j=0; j&lt;n; j++) {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sum = 0.0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or (k=0; k&lt;n; k++)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          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sum += a[i][k] * b[k][j]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c[i][j] = sum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}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376560" y="1371600"/>
            <a:ext cx="245700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jk (&amp; jik):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66"/>
              </a:buClr>
              <a:buFont typeface="Helvetic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2 loads, 0 store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66"/>
              </a:buClr>
              <a:buFont typeface="Helvetic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isses/iter =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.25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3200400" y="2666880"/>
            <a:ext cx="2362320" cy="27856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or (k=0; k&lt;n; k++) {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or (i=0; i&lt;n; i++) {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r = a[i][k]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or (j=0; j&lt;n; j++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          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c[i][j] += r * b[k][j];  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5638680" y="2666880"/>
            <a:ext cx="2438640" cy="257256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or (j=0; j&lt;n; j++) {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or (k=0; k&lt;n; k++) {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r = b[k][j]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or (i=0; i&lt;n; i++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          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c[i][j] += a[i][k] * r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}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2967480" y="1371600"/>
            <a:ext cx="231516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kij (&amp; ikj):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66"/>
              </a:buClr>
              <a:buFont typeface="Helvetic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2 loads, 1 stor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66"/>
              </a:buClr>
              <a:buFont typeface="Helvetic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isses/iter =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.5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5482080" y="1371600"/>
            <a:ext cx="231516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jki (&amp; kji):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66"/>
              </a:buClr>
              <a:buFont typeface="Helvetic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2 loads, 1 stor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66"/>
              </a:buClr>
              <a:buFont typeface="Helvetic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isses/iter =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.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entium Matrix Multiply Performanc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-360" y="1220760"/>
            <a:ext cx="893124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iss rates are helpful but not perfect predictor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de scheduling matters, too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003" name=""/>
          <p:cNvGraphicFramePr/>
          <p:nvPr/>
        </p:nvGraphicFramePr>
        <p:xfrm>
          <a:off x="835200" y="2158920"/>
          <a:ext cx="8308800" cy="5784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5200" y="2158920"/>
                    <a:ext cx="8308800" cy="578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mproving Temporal Locality by Block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mple: Blocked matrix multiplic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lock” (in this context) does not mean “cache block”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stead, it mean a sub-block within the matrix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ample: N = 8; sub-block size = 4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1031760" y="5072040"/>
            <a:ext cx="48974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11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 =  A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11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11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+ A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21          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 =  A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11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+ A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21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 =  A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21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11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+ A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22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21          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22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 =  A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21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+ A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22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1000080" y="3084480"/>
            <a:ext cx="801720" cy="7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0" lang="en-US" sz="1400" spc="-1" strike="noStrike" baseline="-25000">
                <a:solidFill>
                  <a:srgbClr val="000066"/>
                </a:solidFill>
                <a:latin typeface="Arial"/>
              </a:rPr>
              <a:t>11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  A</a:t>
            </a:r>
            <a:r>
              <a:rPr b="0" lang="en-US" sz="1400" spc="-1" strike="noStrike" baseline="-25000">
                <a:solidFill>
                  <a:srgbClr val="000066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0" lang="en-US" sz="1400" spc="-1" strike="noStrike" baseline="-25000">
                <a:solidFill>
                  <a:srgbClr val="000066"/>
                </a:solidFill>
                <a:latin typeface="Arial"/>
              </a:rPr>
              <a:t>21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  A</a:t>
            </a:r>
            <a:r>
              <a:rPr b="0" lang="en-US" sz="1400" spc="-1" strike="noStrike" baseline="-25000">
                <a:solidFill>
                  <a:srgbClr val="000066"/>
                </a:solidFill>
                <a:latin typeface="Arial"/>
              </a:rPr>
              <a:t>2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09" name=""/>
          <p:cNvGrpSpPr/>
          <p:nvPr/>
        </p:nvGrpSpPr>
        <p:grpSpPr>
          <a:xfrm>
            <a:off x="928800" y="3060720"/>
            <a:ext cx="215280" cy="838080"/>
            <a:chOff x="928800" y="3060720"/>
            <a:chExt cx="215280" cy="838080"/>
          </a:xfrm>
        </p:grpSpPr>
        <p:sp>
          <p:nvSpPr>
            <p:cNvPr id="1010" name=""/>
            <p:cNvSpPr/>
            <p:nvPr/>
          </p:nvSpPr>
          <p:spPr>
            <a:xfrm>
              <a:off x="928800" y="3073320"/>
              <a:ext cx="0" cy="8121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941040" y="3060720"/>
              <a:ext cx="20304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941040" y="3898800"/>
              <a:ext cx="20304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013" name=""/>
          <p:cNvGrpSpPr/>
          <p:nvPr/>
        </p:nvGrpSpPr>
        <p:grpSpPr>
          <a:xfrm>
            <a:off x="1842840" y="3060720"/>
            <a:ext cx="228960" cy="838080"/>
            <a:chOff x="1842840" y="3060720"/>
            <a:chExt cx="228960" cy="838080"/>
          </a:xfrm>
        </p:grpSpPr>
        <p:sp>
          <p:nvSpPr>
            <p:cNvPr id="1014" name=""/>
            <p:cNvSpPr/>
            <p:nvPr/>
          </p:nvSpPr>
          <p:spPr>
            <a:xfrm flipV="1">
              <a:off x="2071800" y="3060720"/>
              <a:ext cx="0" cy="8380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 flipH="1">
              <a:off x="1842840" y="3898800"/>
              <a:ext cx="2286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 flipH="1">
              <a:off x="1842840" y="3060720"/>
              <a:ext cx="2286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017" name=""/>
          <p:cNvSpPr/>
          <p:nvPr/>
        </p:nvSpPr>
        <p:spPr>
          <a:xfrm>
            <a:off x="2676240" y="3084480"/>
            <a:ext cx="801720" cy="7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0" lang="en-US" sz="1400" spc="-1" strike="noStrike" baseline="-25000">
                <a:solidFill>
                  <a:srgbClr val="000066"/>
                </a:solidFill>
                <a:latin typeface="Arial"/>
              </a:rPr>
              <a:t>11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  B</a:t>
            </a:r>
            <a:r>
              <a:rPr b="0" lang="en-US" sz="1400" spc="-1" strike="noStrike" baseline="-25000">
                <a:solidFill>
                  <a:srgbClr val="000066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0" lang="en-US" sz="1400" spc="-1" strike="noStrike" baseline="-25000">
                <a:solidFill>
                  <a:srgbClr val="000066"/>
                </a:solidFill>
                <a:latin typeface="Arial"/>
              </a:rPr>
              <a:t>21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  B</a:t>
            </a:r>
            <a:r>
              <a:rPr b="0" lang="en-US" sz="1400" spc="-1" strike="noStrike" baseline="-25000">
                <a:solidFill>
                  <a:srgbClr val="000066"/>
                </a:solidFill>
                <a:latin typeface="Arial"/>
              </a:rPr>
              <a:t>2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18" name=""/>
          <p:cNvGrpSpPr/>
          <p:nvPr/>
        </p:nvGrpSpPr>
        <p:grpSpPr>
          <a:xfrm>
            <a:off x="2604960" y="3060720"/>
            <a:ext cx="215640" cy="838080"/>
            <a:chOff x="2604960" y="3060720"/>
            <a:chExt cx="215640" cy="838080"/>
          </a:xfrm>
        </p:grpSpPr>
        <p:sp>
          <p:nvSpPr>
            <p:cNvPr id="1019" name=""/>
            <p:cNvSpPr/>
            <p:nvPr/>
          </p:nvSpPr>
          <p:spPr>
            <a:xfrm>
              <a:off x="2604960" y="3073320"/>
              <a:ext cx="0" cy="8121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617560" y="3060720"/>
              <a:ext cx="20304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617560" y="3898800"/>
              <a:ext cx="20304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022" name=""/>
          <p:cNvGrpSpPr/>
          <p:nvPr/>
        </p:nvGrpSpPr>
        <p:grpSpPr>
          <a:xfrm>
            <a:off x="3443040" y="3060720"/>
            <a:ext cx="228960" cy="838080"/>
            <a:chOff x="3443040" y="3060720"/>
            <a:chExt cx="228960" cy="838080"/>
          </a:xfrm>
        </p:grpSpPr>
        <p:sp>
          <p:nvSpPr>
            <p:cNvPr id="1023" name=""/>
            <p:cNvSpPr/>
            <p:nvPr/>
          </p:nvSpPr>
          <p:spPr>
            <a:xfrm flipV="1">
              <a:off x="3672000" y="3060720"/>
              <a:ext cx="0" cy="8380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 flipH="1">
              <a:off x="3443040" y="3898800"/>
              <a:ext cx="2286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 flipH="1">
              <a:off x="3443040" y="3060720"/>
              <a:ext cx="2286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026" name=""/>
          <p:cNvSpPr/>
          <p:nvPr/>
        </p:nvSpPr>
        <p:spPr>
          <a:xfrm>
            <a:off x="2209680" y="3389400"/>
            <a:ext cx="300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3808800" y="3313080"/>
            <a:ext cx="335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=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4276800" y="3084480"/>
            <a:ext cx="820440" cy="7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0" lang="en-US" sz="1400" spc="-1" strike="noStrike" baseline="-25000">
                <a:solidFill>
                  <a:srgbClr val="000066"/>
                </a:solidFill>
                <a:latin typeface="Arial"/>
              </a:rPr>
              <a:t>11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  C</a:t>
            </a:r>
            <a:r>
              <a:rPr b="0" lang="en-US" sz="1400" spc="-1" strike="noStrike" baseline="-25000">
                <a:solidFill>
                  <a:srgbClr val="000066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0" lang="en-US" sz="1400" spc="-1" strike="noStrike" baseline="-25000">
                <a:solidFill>
                  <a:srgbClr val="000066"/>
                </a:solidFill>
                <a:latin typeface="Arial"/>
              </a:rPr>
              <a:t>21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  C</a:t>
            </a:r>
            <a:r>
              <a:rPr b="0" lang="en-US" sz="1400" spc="-1" strike="noStrike" baseline="-25000">
                <a:solidFill>
                  <a:srgbClr val="000066"/>
                </a:solidFill>
                <a:latin typeface="Arial"/>
              </a:rPr>
              <a:t>2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29" name=""/>
          <p:cNvGrpSpPr/>
          <p:nvPr/>
        </p:nvGrpSpPr>
        <p:grpSpPr>
          <a:xfrm>
            <a:off x="4205160" y="3060720"/>
            <a:ext cx="215640" cy="838080"/>
            <a:chOff x="4205160" y="3060720"/>
            <a:chExt cx="215640" cy="838080"/>
          </a:xfrm>
        </p:grpSpPr>
        <p:sp>
          <p:nvSpPr>
            <p:cNvPr id="1030" name=""/>
            <p:cNvSpPr/>
            <p:nvPr/>
          </p:nvSpPr>
          <p:spPr>
            <a:xfrm>
              <a:off x="4205160" y="3073320"/>
              <a:ext cx="0" cy="8121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217760" y="3060720"/>
              <a:ext cx="20304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4217760" y="3898800"/>
              <a:ext cx="20304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033" name=""/>
          <p:cNvGrpSpPr/>
          <p:nvPr/>
        </p:nvGrpSpPr>
        <p:grpSpPr>
          <a:xfrm>
            <a:off x="5043240" y="3060720"/>
            <a:ext cx="228960" cy="838080"/>
            <a:chOff x="5043240" y="3060720"/>
            <a:chExt cx="228960" cy="838080"/>
          </a:xfrm>
        </p:grpSpPr>
        <p:sp>
          <p:nvSpPr>
            <p:cNvPr id="1034" name=""/>
            <p:cNvSpPr/>
            <p:nvPr/>
          </p:nvSpPr>
          <p:spPr>
            <a:xfrm flipV="1">
              <a:off x="5272200" y="3060720"/>
              <a:ext cx="0" cy="8380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 flipH="1">
              <a:off x="5043240" y="3898800"/>
              <a:ext cx="2286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 flipH="1">
              <a:off x="5043240" y="3060720"/>
              <a:ext cx="2286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037" name=""/>
          <p:cNvSpPr/>
          <p:nvPr/>
        </p:nvSpPr>
        <p:spPr>
          <a:xfrm>
            <a:off x="838080" y="4257720"/>
            <a:ext cx="65088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Key idea: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Sub-blocks (i.e.,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xy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) can be treated just like scalar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locked Matrix Multiply (bijk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920880" y="1336680"/>
            <a:ext cx="6900840" cy="44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jj=0; jj&lt;n; jj+=bsize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=0; i&lt;n; i++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j=jj; j &lt; min(jj+bsize,n); j++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[i][j] = 0.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kk=0; kk&lt;n; kk+=bsize) {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=0; i&lt;n; i++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for (j=jj; j &lt; min(jj+bsize,n); j++) {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um = 0.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for (k=kk; k &lt; min(kk+bsize,n); k++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um += a[i][k] * b[k][j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c[i][j] += sum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1523880" y="3124080"/>
            <a:ext cx="230400" cy="1677960"/>
          </a:xfrm>
          <a:custGeom>
            <a:avLst/>
            <a:gdLst/>
            <a:ahLst/>
            <a:rect l="l" t="t" r="r" b="b"/>
            <a:pathLst>
              <a:path w="145" h="1057">
                <a:moveTo>
                  <a:pt x="96" y="0"/>
                </a:moveTo>
                <a:lnTo>
                  <a:pt x="0" y="0"/>
                </a:lnTo>
                <a:lnTo>
                  <a:pt x="0" y="1056"/>
                </a:lnTo>
                <a:lnTo>
                  <a:pt x="144" y="1056"/>
                </a:lnTo>
              </a:path>
            </a:pathLst>
          </a:custGeom>
          <a:noFill/>
          <a:ln cap="rnd" w="255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"/>
          <p:cNvSpPr/>
          <p:nvPr/>
        </p:nvSpPr>
        <p:spPr>
          <a:xfrm>
            <a:off x="4146480" y="461016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locked Matrix Multiply Analysi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5485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nermost loop pair multiplies a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1 X bsiz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sliver of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y a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bsize X bsiz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lock of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nd accumulates into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1 X bsiz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sliver of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op over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steps through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row slivers of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&amp;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using same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B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5340240" y="461016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6508800" y="461016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4253040" y="519120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472000" y="519120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6716880" y="519120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4749840" y="6029280"/>
            <a:ext cx="22604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lock reused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times in success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 flipV="1">
            <a:off x="3465360" y="4705200"/>
            <a:ext cx="636840" cy="9828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5346720" y="4616280"/>
            <a:ext cx="203040" cy="203400"/>
          </a:xfrm>
          <a:prstGeom prst="rect">
            <a:avLst/>
          </a:prstGeom>
          <a:solidFill>
            <a:srgbClr val="00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2706480" y="5749920"/>
            <a:ext cx="21718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row sliver accesse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bsize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tim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 flipV="1">
            <a:off x="5460840" y="4895640"/>
            <a:ext cx="0" cy="11430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6872040" y="5648400"/>
            <a:ext cx="20955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pdate successiv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lements of sliv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 flipH="1" flipV="1">
            <a:off x="6807240" y="4768560"/>
            <a:ext cx="558720" cy="7873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4267080" y="4794120"/>
            <a:ext cx="0" cy="3556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4329000" y="4805280"/>
            <a:ext cx="221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6629400" y="4794120"/>
            <a:ext cx="0" cy="3556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6691320" y="4805280"/>
            <a:ext cx="221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60" name=""/>
          <p:cNvGrpSpPr/>
          <p:nvPr/>
        </p:nvGrpSpPr>
        <p:grpSpPr>
          <a:xfrm>
            <a:off x="4937400" y="4565520"/>
            <a:ext cx="361440" cy="736560"/>
            <a:chOff x="4937400" y="4565520"/>
            <a:chExt cx="361440" cy="736560"/>
          </a:xfrm>
        </p:grpSpPr>
        <p:sp>
          <p:nvSpPr>
            <p:cNvPr id="1061" name=""/>
            <p:cNvSpPr/>
            <p:nvPr/>
          </p:nvSpPr>
          <p:spPr>
            <a:xfrm>
              <a:off x="5105520" y="4565520"/>
              <a:ext cx="0" cy="7365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937400" y="4652640"/>
              <a:ext cx="36144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kk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063" name=""/>
          <p:cNvSpPr/>
          <p:nvPr/>
        </p:nvSpPr>
        <p:spPr>
          <a:xfrm>
            <a:off x="6515280" y="4692600"/>
            <a:ext cx="203040" cy="76320"/>
          </a:xfrm>
          <a:prstGeom prst="rect">
            <a:avLst/>
          </a:prstGeom>
          <a:solidFill>
            <a:srgbClr val="00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4152960" y="4692600"/>
            <a:ext cx="203040" cy="76320"/>
          </a:xfrm>
          <a:prstGeom prst="rect">
            <a:avLst/>
          </a:prstGeom>
          <a:solidFill>
            <a:srgbClr val="00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65" name=""/>
          <p:cNvGrpSpPr/>
          <p:nvPr/>
        </p:nvGrpSpPr>
        <p:grpSpPr>
          <a:xfrm>
            <a:off x="4127400" y="4272120"/>
            <a:ext cx="736560" cy="302040"/>
            <a:chOff x="4127400" y="4272120"/>
            <a:chExt cx="736560" cy="302040"/>
          </a:xfrm>
        </p:grpSpPr>
        <p:sp>
          <p:nvSpPr>
            <p:cNvPr id="1066" name=""/>
            <p:cNvSpPr/>
            <p:nvPr/>
          </p:nvSpPr>
          <p:spPr>
            <a:xfrm>
              <a:off x="4127400" y="4400280"/>
              <a:ext cx="7365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251600" y="4272120"/>
              <a:ext cx="36144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kk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068" name=""/>
          <p:cNvGrpSpPr/>
          <p:nvPr/>
        </p:nvGrpSpPr>
        <p:grpSpPr>
          <a:xfrm>
            <a:off x="6489720" y="4272120"/>
            <a:ext cx="736560" cy="302040"/>
            <a:chOff x="6489720" y="4272120"/>
            <a:chExt cx="736560" cy="302040"/>
          </a:xfrm>
        </p:grpSpPr>
        <p:sp>
          <p:nvSpPr>
            <p:cNvPr id="1069" name=""/>
            <p:cNvSpPr/>
            <p:nvPr/>
          </p:nvSpPr>
          <p:spPr>
            <a:xfrm>
              <a:off x="6489720" y="4400280"/>
              <a:ext cx="7365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6615000" y="4272120"/>
              <a:ext cx="26064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jj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071" name=""/>
          <p:cNvGrpSpPr/>
          <p:nvPr/>
        </p:nvGrpSpPr>
        <p:grpSpPr>
          <a:xfrm>
            <a:off x="5270400" y="4272120"/>
            <a:ext cx="736560" cy="302040"/>
            <a:chOff x="5270400" y="4272120"/>
            <a:chExt cx="736560" cy="302040"/>
          </a:xfrm>
        </p:grpSpPr>
        <p:sp>
          <p:nvSpPr>
            <p:cNvPr id="1072" name=""/>
            <p:cNvSpPr/>
            <p:nvPr/>
          </p:nvSpPr>
          <p:spPr>
            <a:xfrm>
              <a:off x="5270400" y="4400280"/>
              <a:ext cx="7365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396040" y="4272120"/>
              <a:ext cx="26064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jj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074" name=""/>
          <p:cNvGrpSpPr/>
          <p:nvPr/>
        </p:nvGrpSpPr>
        <p:grpSpPr>
          <a:xfrm>
            <a:off x="768240" y="2308320"/>
            <a:ext cx="6900840" cy="2557800"/>
            <a:chOff x="768240" y="2308320"/>
            <a:chExt cx="6900840" cy="2557800"/>
          </a:xfrm>
        </p:grpSpPr>
        <p:sp>
          <p:nvSpPr>
            <p:cNvPr id="1075" name=""/>
            <p:cNvSpPr/>
            <p:nvPr/>
          </p:nvSpPr>
          <p:spPr>
            <a:xfrm>
              <a:off x="768240" y="2308320"/>
              <a:ext cx="6900840" cy="255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for (i=0; i&lt;n; i++) {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    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for (j=jj; j &lt; min(jj+bsize,n); j++) {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     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sum = 0.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     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for (k=kk; k &lt; min(kk+bsize,n); k++) {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       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sum += a[i][k] * b[k][j];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     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}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     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c[i][j] += sum;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   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}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447920" y="2648160"/>
              <a:ext cx="230040" cy="1982880"/>
            </a:xfrm>
            <a:custGeom>
              <a:avLst/>
              <a:gdLst/>
              <a:ahLst/>
              <a:rect l="l" t="t" r="r" b="b"/>
              <a:pathLst>
                <a:path w="145" h="1249">
                  <a:moveTo>
                    <a:pt x="96" y="0"/>
                  </a:moveTo>
                  <a:lnTo>
                    <a:pt x="0" y="0"/>
                  </a:lnTo>
                  <a:lnTo>
                    <a:pt x="0" y="1248"/>
                  </a:lnTo>
                  <a:lnTo>
                    <a:pt x="144" y="1248"/>
                  </a:lnTo>
                </a:path>
              </a:pathLst>
            </a:custGeom>
            <a:noFill/>
            <a:ln cap="rnd" w="255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077" name=""/>
          <p:cNvSpPr/>
          <p:nvPr/>
        </p:nvSpPr>
        <p:spPr>
          <a:xfrm flipH="1">
            <a:off x="914400" y="3575160"/>
            <a:ext cx="533520" cy="43164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216000" y="4019400"/>
            <a:ext cx="11599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nnermos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oop Pai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entium Blocked Matrix 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ultiply Performanc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locking (bijk and bikj) improves performance by a factor of two over unblocked versions (ijk and jik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latively insensitive to array siz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081" name=""/>
          <p:cNvGraphicFramePr/>
          <p:nvPr/>
        </p:nvGraphicFramePr>
        <p:xfrm>
          <a:off x="533520" y="2505240"/>
          <a:ext cx="7815240" cy="5343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505240"/>
                    <a:ext cx="7815240" cy="53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cluding Observa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grammer can optimize for cache performanc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ow data structures are organiz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ow data are access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ested loop structur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locking is a general techniqu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ll systems favor “cache friendly code”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etting absolute optimum performance is very platform specifi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che sizes, line sizes, associativities, etc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get most of the advantage with generic co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Keep working set reasonably small (temporal locality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se small strides (spatial locality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1520" y="228600"/>
            <a:ext cx="89409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General Org of a Cache Memor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35480" y="1738440"/>
            <a:ext cx="4267080" cy="12078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330960" y="1814400"/>
            <a:ext cx="6858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• • •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016760" y="181440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–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873760" y="181440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416560" y="181440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330960" y="2487600"/>
            <a:ext cx="6858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• • •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016760" y="248760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–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873760" y="248760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16560" y="248760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664080" y="181440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664080" y="248760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349880" y="181440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349880" y="248760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755800" y="22093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t 0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16200000">
            <a:off x="6330960" y="595080"/>
            <a:ext cx="152280" cy="1981080"/>
          </a:xfrm>
          <a:custGeom>
            <a:avLst/>
            <a:gdLst>
              <a:gd name="textAreaLeft" fmla="*/ 0 w 152280"/>
              <a:gd name="textAreaRight" fmla="*/ 55080 w 15228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501"/>
                </a:lnTo>
                <a:cubicBezTo>
                  <a:pt x="10800" y="10401"/>
                  <a:pt x="16200" y="11301"/>
                  <a:pt x="21600" y="11301"/>
                </a:cubicBezTo>
                <a:cubicBezTo>
                  <a:pt x="16200" y="11301"/>
                  <a:pt x="10800" y="12201"/>
                  <a:pt x="10800" y="13101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673960" y="976320"/>
            <a:ext cx="171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B = 2</a:t>
            </a:r>
            <a:r>
              <a:rPr b="1" i="1" lang="en-US" sz="1600" spc="-1" strike="noStrike" baseline="30000">
                <a:solidFill>
                  <a:srgbClr val="000066"/>
                </a:solidFill>
                <a:latin typeface="Arial"/>
              </a:rPr>
              <a:t>b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byt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er cache blo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778880" y="1738440"/>
            <a:ext cx="152280" cy="1207800"/>
          </a:xfrm>
          <a:custGeom>
            <a:avLst/>
            <a:gdLst>
              <a:gd name="textAreaLeft" fmla="*/ 0 w 152280"/>
              <a:gd name="textAreaRight" fmla="*/ 55080 w 152280"/>
              <a:gd name="textAreaTop" fmla="*/ 31320 h 1207800"/>
              <a:gd name="textAreaBottom" fmla="*/ 1176480 h 1207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07400" y="2009880"/>
            <a:ext cx="94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E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lines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er se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444760" y="1814400"/>
            <a:ext cx="228600" cy="42814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11600 h 4281480"/>
              <a:gd name="textAreaBottom" fmla="*/ 4169880 h 4281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10760" y="3777840"/>
            <a:ext cx="118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S = 2</a:t>
            </a:r>
            <a:r>
              <a:rPr b="1" i="1" lang="en-US" sz="1600" spc="-1" strike="noStrike" baseline="30000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se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16200000">
            <a:off x="4690800" y="112824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501"/>
                </a:lnTo>
                <a:cubicBezTo>
                  <a:pt x="10800" y="10401"/>
                  <a:pt x="16200" y="11301"/>
                  <a:pt x="21600" y="11301"/>
                </a:cubicBezTo>
                <a:cubicBezTo>
                  <a:pt x="16200" y="11301"/>
                  <a:pt x="10800" y="12201"/>
                  <a:pt x="10800" y="13101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05600" y="914400"/>
            <a:ext cx="1023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t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 bi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er lin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 flipV="1" rot="16200000">
            <a:off x="3783960" y="1299240"/>
            <a:ext cx="190440" cy="533160"/>
          </a:xfrm>
          <a:custGeom>
            <a:avLst/>
            <a:gdLst>
              <a:gd name="textAreaLeft" fmla="*/ 121320 w 190440"/>
              <a:gd name="textAreaRight" fmla="*/ 190440 w 190440"/>
              <a:gd name="textAreaTop" fmla="*/ 13680 h 533160"/>
              <a:gd name="textAreaBottom" fmla="*/ 519480 h 533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223800" y="928800"/>
            <a:ext cx="111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 valid bi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er lin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00880" y="6216120"/>
            <a:ext cx="371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ache size:  </a:t>
            </a: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C = B x E x S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ata byt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213520" y="215748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• • •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432240" y="3124080"/>
            <a:ext cx="4267080" cy="120816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327720" y="3200400"/>
            <a:ext cx="6858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• • •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013520" y="320040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–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870520" y="320040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413320" y="320040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327720" y="3873600"/>
            <a:ext cx="6858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• • •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013520" y="3873600"/>
            <a:ext cx="4572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–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870520" y="3873600"/>
            <a:ext cx="4572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13320" y="3873600"/>
            <a:ext cx="4572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660840" y="320040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660840" y="3873600"/>
            <a:ext cx="4572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346640" y="320040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346640" y="3873600"/>
            <a:ext cx="914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52560" y="35953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t 1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210280" y="354348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• • •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432240" y="4888080"/>
            <a:ext cx="4267080" cy="12078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327720" y="4964040"/>
            <a:ext cx="6858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• • •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013520" y="49640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–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870520" y="49640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413320" y="49640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327720" y="5637240"/>
            <a:ext cx="6858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• • •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13520" y="56372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–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870520" y="56372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13320" y="56372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660840" y="49640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660840" y="56372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46640" y="496404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346640" y="563724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52760" y="53589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t </a:t>
            </a: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1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210280" y="530712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• • •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264280" y="44956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• • •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5600" y="1143000"/>
            <a:ext cx="2151360" cy="2288520"/>
          </a:xfrm>
          <a:prstGeom prst="rect">
            <a:avLst/>
          </a:pr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ache is an arra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f set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ach set contain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ne or more line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ach line holds 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lock of data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ddressing  Cach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26200" y="1332000"/>
            <a:ext cx="664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 bi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424200" y="1332000"/>
            <a:ext cx="71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 bi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307280" y="1711440"/>
            <a:ext cx="1143000" cy="2318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164280" y="1711440"/>
            <a:ext cx="1143000" cy="2318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021280" y="1711440"/>
            <a:ext cx="1143000" cy="23184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556400" y="1301760"/>
            <a:ext cx="721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 bi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324640" y="1910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925880" y="1910520"/>
            <a:ext cx="40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m-1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326560" y="2416320"/>
            <a:ext cx="722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&lt;tag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37200" y="2416320"/>
            <a:ext cx="1297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&lt;set index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243560" y="2416320"/>
            <a:ext cx="1554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&lt;block offset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5400000">
            <a:off x="5401800" y="1758960"/>
            <a:ext cx="304920" cy="1066680"/>
          </a:xfrm>
          <a:custGeom>
            <a:avLst/>
            <a:gdLst>
              <a:gd name="textAreaLeft" fmla="*/ 0 w 304920"/>
              <a:gd name="textAreaRight" fmla="*/ 110160 w 30492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5400000">
            <a:off x="6544800" y="1758960"/>
            <a:ext cx="304920" cy="1066680"/>
          </a:xfrm>
          <a:custGeom>
            <a:avLst/>
            <a:gdLst>
              <a:gd name="textAreaLeft" fmla="*/ 0 w 304920"/>
              <a:gd name="textAreaRight" fmla="*/ 110160 w 30492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5400000">
            <a:off x="7764120" y="1758960"/>
            <a:ext cx="304920" cy="1066680"/>
          </a:xfrm>
          <a:custGeom>
            <a:avLst/>
            <a:gdLst>
              <a:gd name="textAreaLeft" fmla="*/ 0 w 304920"/>
              <a:gd name="textAreaRight" fmla="*/ 110160 w 30492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943160" y="1053720"/>
            <a:ext cx="126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Address A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705720" y="2736720"/>
            <a:ext cx="0" cy="30492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912080" y="2749680"/>
            <a:ext cx="0" cy="57780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98480" y="2001960"/>
            <a:ext cx="3087720" cy="87444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894040" y="2057400"/>
            <a:ext cx="49536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• • •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389400" y="2057400"/>
            <a:ext cx="33156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–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562120" y="2057400"/>
            <a:ext cx="33192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32000" y="2057400"/>
            <a:ext cx="33012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894040" y="2544840"/>
            <a:ext cx="49536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• • •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389400" y="2544840"/>
            <a:ext cx="33156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–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62120" y="2544840"/>
            <a:ext cx="33192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32000" y="2544840"/>
            <a:ext cx="33012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63720" y="2057400"/>
            <a:ext cx="33012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v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63720" y="2544840"/>
            <a:ext cx="33012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v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460520" y="2057400"/>
            <a:ext cx="6602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460520" y="2544840"/>
            <a:ext cx="6602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0920" y="2310480"/>
            <a:ext cx="64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set 0: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084400" y="2305080"/>
            <a:ext cx="49680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• • •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87320" y="3022560"/>
            <a:ext cx="3089520" cy="8748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0800" y="3060720"/>
            <a:ext cx="49680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• • •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387600" y="3060720"/>
            <a:ext cx="33048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–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560680" y="3060720"/>
            <a:ext cx="33012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228760" y="3060720"/>
            <a:ext cx="33192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890800" y="3548160"/>
            <a:ext cx="49680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• • •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87600" y="3548160"/>
            <a:ext cx="33048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–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560680" y="3548160"/>
            <a:ext cx="33012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228760" y="3548160"/>
            <a:ext cx="33192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961920" y="3060720"/>
            <a:ext cx="33048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v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61920" y="3548160"/>
            <a:ext cx="33048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v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457280" y="3060720"/>
            <a:ext cx="6620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457280" y="3548160"/>
            <a:ext cx="662040" cy="22068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040" y="3315240"/>
            <a:ext cx="64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set 1: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082960" y="3308400"/>
            <a:ext cx="49500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• • •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95240" y="4281480"/>
            <a:ext cx="3089520" cy="8748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890800" y="4336920"/>
            <a:ext cx="49680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• • •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87600" y="4336920"/>
            <a:ext cx="33048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–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560680" y="4336920"/>
            <a:ext cx="33012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28760" y="4336920"/>
            <a:ext cx="33192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890800" y="4824360"/>
            <a:ext cx="49680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• • •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387600" y="4824360"/>
            <a:ext cx="33048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–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560680" y="4824360"/>
            <a:ext cx="33012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228760" y="4824360"/>
            <a:ext cx="33192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961920" y="4336920"/>
            <a:ext cx="33048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v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961920" y="4824360"/>
            <a:ext cx="33048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v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457280" y="4336920"/>
            <a:ext cx="6620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457280" y="4824360"/>
            <a:ext cx="6620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-76680" y="4590000"/>
            <a:ext cx="82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set </a:t>
            </a:r>
            <a:r>
              <a:rPr b="1" i="1" lang="en-US" sz="14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-1: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082960" y="4584600"/>
            <a:ext cx="49500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• • •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120760" y="3997440"/>
            <a:ext cx="4971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• • •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79800" y="3335400"/>
            <a:ext cx="0" cy="2206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3060720" y="3314880"/>
            <a:ext cx="4851360" cy="1260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3885840" y="3022560"/>
            <a:ext cx="283212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610160" y="3643200"/>
            <a:ext cx="4254480" cy="2014200"/>
          </a:xfrm>
          <a:prstGeom prst="rect">
            <a:avLst/>
          </a:pr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word at address A is in the cache i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tag bits in one of the &lt;valid&gt; lines in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et &lt;set index&gt; match &lt;tag&gt;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word contents begin at offset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&lt;block offset&gt; bytes from the beginning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of the block.  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irect-Mapped Cach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mplest kind of cach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haracterized by exactly one line per set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438280" y="2805120"/>
            <a:ext cx="4267440" cy="4572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438280" y="3352680"/>
            <a:ext cx="4267440" cy="4572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438280" y="4191120"/>
            <a:ext cx="4267440" cy="4572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666880" y="2881440"/>
            <a:ext cx="4572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666880" y="342900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666880" y="42670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352680" y="2881440"/>
            <a:ext cx="914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352680" y="342900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352680" y="426708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345560" y="380952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• • •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743120" y="286344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t 0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739880" y="342864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t 1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587600" y="42667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t S-1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781680" y="2805120"/>
            <a:ext cx="152640" cy="471600"/>
          </a:xfrm>
          <a:custGeom>
            <a:avLst/>
            <a:gdLst>
              <a:gd name="textAreaLeft" fmla="*/ 0 w 152640"/>
              <a:gd name="textAreaRight" fmla="*/ 55080 w 152640"/>
              <a:gd name="textAreaTop" fmla="*/ 12240 h 471600"/>
              <a:gd name="textAreaBottom" fmla="*/ 459360 h 4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85000" y="2863440"/>
            <a:ext cx="18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E=1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lines per se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419720" y="2881440"/>
            <a:ext cx="2057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419720" y="3414600"/>
            <a:ext cx="2057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419720" y="4253040"/>
            <a:ext cx="2057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ccessing Direct-Mapped Cach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t selec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 the set index bits to determine the set of interest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665600" y="2768760"/>
            <a:ext cx="4114800" cy="4572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665600" y="3316320"/>
            <a:ext cx="4114800" cy="457200"/>
          </a:xfrm>
          <a:prstGeom prst="rect">
            <a:avLst/>
          </a:prstGeom>
          <a:solidFill>
            <a:srgbClr val="00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665600" y="4154400"/>
            <a:ext cx="4114800" cy="4572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818240" y="284472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818240" y="3392640"/>
            <a:ext cx="4572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818240" y="423072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504040" y="284472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504040" y="3392640"/>
            <a:ext cx="914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504040" y="423072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496560" y="377316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• • •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970440" y="282708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t 0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967200" y="339228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t 1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814920" y="42303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t S-1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98520" y="4071960"/>
            <a:ext cx="664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 bi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496520" y="4071960"/>
            <a:ext cx="71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 bi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379600" y="4375080"/>
            <a:ext cx="1143000" cy="2318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236600" y="4375080"/>
            <a:ext cx="1143000" cy="2318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 0  0 0 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93600" y="4375080"/>
            <a:ext cx="1143000" cy="2318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422520" y="4602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-1800" y="4602960"/>
            <a:ext cx="40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m-1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609640" y="4086360"/>
            <a:ext cx="721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 bi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68720" y="4619520"/>
            <a:ext cx="484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314360" y="4619520"/>
            <a:ext cx="1059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t inde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306160" y="4619520"/>
            <a:ext cx="13168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lock offse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rot="16200000">
            <a:off x="1655640" y="3555720"/>
            <a:ext cx="304920" cy="1143000"/>
          </a:xfrm>
          <a:custGeom>
            <a:avLst/>
            <a:gdLst>
              <a:gd name="textAreaLeft" fmla="*/ 0 w 304920"/>
              <a:gd name="textAreaRight" fmla="*/ 110160 w 3049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1804680" y="3558960"/>
            <a:ext cx="3240" cy="4539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808280" y="3559320"/>
            <a:ext cx="216216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208600" y="3285720"/>
            <a:ext cx="134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lected se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558120" y="2857680"/>
            <a:ext cx="2057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558120" y="3390840"/>
            <a:ext cx="2057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558120" y="4229280"/>
            <a:ext cx="2057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ccessing Direct-Mapped Cach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ine matching and word selec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ine matching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Find a valid line in the selected set with a matching ta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ord selectio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Then extract the wor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955880" y="3774960"/>
            <a:ext cx="5844960" cy="4572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257800" y="38512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936960" y="38512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84480" y="3851280"/>
            <a:ext cx="457200" cy="30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102120" y="5329080"/>
            <a:ext cx="664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 bi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200120" y="5329080"/>
            <a:ext cx="71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 bi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083200" y="5632560"/>
            <a:ext cx="1143000" cy="2318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940200" y="5632560"/>
            <a:ext cx="1143000" cy="2318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797200" y="5632560"/>
            <a:ext cx="1143000" cy="2318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11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126120" y="5860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701800" y="5860440"/>
            <a:ext cx="40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m-1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313240" y="5343480"/>
            <a:ext cx="721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 bi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172320" y="5877000"/>
            <a:ext cx="484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017960" y="5877000"/>
            <a:ext cx="1059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t inde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009760" y="5877000"/>
            <a:ext cx="13168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lock offse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40920" y="3811320"/>
            <a:ext cx="165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lected set (i)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5114880" y="4144680"/>
            <a:ext cx="3671280" cy="1655640"/>
            <a:chOff x="5114880" y="4144680"/>
            <a:chExt cx="3671280" cy="1655640"/>
          </a:xfrm>
        </p:grpSpPr>
        <p:sp>
          <p:nvSpPr>
            <p:cNvPr id="342" name=""/>
            <p:cNvSpPr/>
            <p:nvPr/>
          </p:nvSpPr>
          <p:spPr>
            <a:xfrm flipV="1">
              <a:off x="5667480" y="4144680"/>
              <a:ext cx="228600" cy="10666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rot="16200000">
              <a:off x="5594400" y="4762080"/>
              <a:ext cx="152280" cy="11113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8800 h 1111320"/>
                <a:gd name="textAreaBottom" fmla="*/ 1082520 h 1111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560280" y="4489560"/>
              <a:ext cx="222588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(3) If (1) and (2), then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cache hit,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and block offset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select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starting byte.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2135520" y="3058920"/>
            <a:ext cx="3350520" cy="790920"/>
            <a:chOff x="2135520" y="3058920"/>
            <a:chExt cx="3350520" cy="790920"/>
          </a:xfrm>
        </p:grpSpPr>
        <p:sp>
          <p:nvSpPr>
            <p:cNvPr id="346" name=""/>
            <p:cNvSpPr/>
            <p:nvPr/>
          </p:nvSpPr>
          <p:spPr>
            <a:xfrm flipV="1">
              <a:off x="2400480" y="3392640"/>
              <a:ext cx="0" cy="4572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135520" y="3058920"/>
              <a:ext cx="535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=1?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639880" y="3061800"/>
              <a:ext cx="2846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(1) The valid bit must be se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340560" y="4092480"/>
            <a:ext cx="3567960" cy="1301400"/>
            <a:chOff x="340560" y="4092480"/>
            <a:chExt cx="3567960" cy="1301400"/>
          </a:xfrm>
        </p:grpSpPr>
        <p:sp>
          <p:nvSpPr>
            <p:cNvPr id="350" name=""/>
            <p:cNvSpPr/>
            <p:nvPr/>
          </p:nvSpPr>
          <p:spPr>
            <a:xfrm rot="16200000">
              <a:off x="3276720" y="4762080"/>
              <a:ext cx="152280" cy="11113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8800 h 1111320"/>
                <a:gd name="textAreaBottom" fmla="*/ 1082520 h 1111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102480" y="4549320"/>
              <a:ext cx="47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= ?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355920" y="4870440"/>
              <a:ext cx="0" cy="3697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40560" y="4393440"/>
              <a:ext cx="28461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(2) The tag bits in the cach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line must match th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tag bits in the addres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355920" y="4092480"/>
              <a:ext cx="0" cy="4971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2870280" y="3851280"/>
            <a:ext cx="914400" cy="30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11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394160" y="38512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800600" y="38512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010280" y="38512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w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689440" y="38512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w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146640" y="38512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w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553080" y="38512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w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667480" y="3849840"/>
            <a:ext cx="1828800" cy="30456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7800" y="354636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936960" y="354636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94160" y="354636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800600" y="354636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010280" y="354636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689440" y="354636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146640" y="354636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553080" y="354636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irect-Mapped Cache Simul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687760" y="1117440"/>
            <a:ext cx="6161040" cy="14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=16 byte addresses, B=2 bytes/block,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=4 sets, E=1 entry/s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ddress trace (reads)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0 [0000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], 1 [0001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],  13 [1101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],  8 [1000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],  0 [0000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160200" y="1577880"/>
            <a:ext cx="2046600" cy="549360"/>
            <a:chOff x="160200" y="1577880"/>
            <a:chExt cx="2046600" cy="549360"/>
          </a:xfrm>
        </p:grpSpPr>
        <p:sp>
          <p:nvSpPr>
            <p:cNvPr id="374" name=""/>
            <p:cNvSpPr/>
            <p:nvPr/>
          </p:nvSpPr>
          <p:spPr>
            <a:xfrm>
              <a:off x="160200" y="1911240"/>
              <a:ext cx="6732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42360" y="1577880"/>
              <a:ext cx="506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t=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76240" y="1577880"/>
              <a:ext cx="5562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s=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638360" y="1577880"/>
              <a:ext cx="568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b=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46000" y="1911240"/>
              <a:ext cx="6732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x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531800" y="1911240"/>
              <a:ext cx="6732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1001880" y="2936880"/>
            <a:ext cx="3065400" cy="1552680"/>
            <a:chOff x="1001880" y="2936880"/>
            <a:chExt cx="3065400" cy="1552680"/>
          </a:xfrm>
        </p:grpSpPr>
        <p:sp>
          <p:nvSpPr>
            <p:cNvPr id="381" name=""/>
            <p:cNvSpPr/>
            <p:nvPr/>
          </p:nvSpPr>
          <p:spPr>
            <a:xfrm>
              <a:off x="1568160" y="3587760"/>
              <a:ext cx="44424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1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025360" y="3587760"/>
              <a:ext cx="5202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0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558880" y="3587760"/>
              <a:ext cx="112968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m[1] m[0]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686960" y="3241800"/>
              <a:ext cx="295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068200" y="3241800"/>
              <a:ext cx="498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tag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830320" y="3241800"/>
              <a:ext cx="624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568160" y="3816360"/>
              <a:ext cx="44424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025360" y="3816360"/>
              <a:ext cx="5202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558880" y="3816360"/>
              <a:ext cx="112968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568160" y="4044960"/>
              <a:ext cx="44424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025360" y="4044960"/>
              <a:ext cx="5202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558880" y="4044960"/>
              <a:ext cx="112968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568160" y="4273560"/>
              <a:ext cx="44424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025360" y="4273560"/>
              <a:ext cx="5202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558880" y="4273560"/>
              <a:ext cx="112968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302560" y="2936880"/>
              <a:ext cx="17647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0 [0000</a:t>
              </a:r>
              <a:r>
                <a:rPr b="0" lang="en-US" sz="1800" spc="-1" strike="noStrike" baseline="-25000">
                  <a:solidFill>
                    <a:srgbClr val="000066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] </a:t>
              </a: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(miss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001880" y="3851280"/>
              <a:ext cx="460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(1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4659480" y="2936880"/>
            <a:ext cx="2811600" cy="1552680"/>
            <a:chOff x="4659480" y="2936880"/>
            <a:chExt cx="2811600" cy="1552680"/>
          </a:xfrm>
        </p:grpSpPr>
        <p:sp>
          <p:nvSpPr>
            <p:cNvPr id="399" name=""/>
            <p:cNvSpPr/>
            <p:nvPr/>
          </p:nvSpPr>
          <p:spPr>
            <a:xfrm>
              <a:off x="5149800" y="3587760"/>
              <a:ext cx="4446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1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607000" y="3587760"/>
              <a:ext cx="52092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0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140520" y="3587760"/>
              <a:ext cx="11304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m[1] m[0]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269320" y="3241800"/>
              <a:ext cx="295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649840" y="3241800"/>
              <a:ext cx="498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tag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411960" y="3241800"/>
              <a:ext cx="624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149800" y="3816360"/>
              <a:ext cx="4446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607000" y="3816360"/>
              <a:ext cx="52092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140520" y="3816360"/>
              <a:ext cx="11304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149800" y="4044960"/>
              <a:ext cx="4446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1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607000" y="4044960"/>
              <a:ext cx="52092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1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140520" y="4044960"/>
              <a:ext cx="11304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m[13] m[12]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149800" y="4273560"/>
              <a:ext cx="4446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607000" y="4273560"/>
              <a:ext cx="52092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140520" y="4273560"/>
              <a:ext cx="11304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579640" y="2936880"/>
              <a:ext cx="18914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3 [1101</a:t>
              </a:r>
              <a:r>
                <a:rPr b="0" lang="en-US" sz="1800" spc="-1" strike="noStrike" baseline="-25000">
                  <a:solidFill>
                    <a:srgbClr val="000066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] </a:t>
              </a: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(miss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659480" y="3851280"/>
              <a:ext cx="460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(3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1077840" y="5070600"/>
            <a:ext cx="2837520" cy="1551960"/>
            <a:chOff x="1077840" y="5070600"/>
            <a:chExt cx="2837520" cy="1551960"/>
          </a:xfrm>
        </p:grpSpPr>
        <p:sp>
          <p:nvSpPr>
            <p:cNvPr id="417" name=""/>
            <p:cNvSpPr/>
            <p:nvPr/>
          </p:nvSpPr>
          <p:spPr>
            <a:xfrm>
              <a:off x="1568520" y="5721120"/>
              <a:ext cx="44460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1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025720" y="5721120"/>
              <a:ext cx="52056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1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559240" y="5721120"/>
              <a:ext cx="11300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m[9] m[8]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87320" y="5375160"/>
              <a:ext cx="295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068560" y="5375160"/>
              <a:ext cx="498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tag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830680" y="5375160"/>
              <a:ext cx="624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568520" y="5949720"/>
              <a:ext cx="44460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025720" y="5949720"/>
              <a:ext cx="52056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559240" y="5949720"/>
              <a:ext cx="11300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568520" y="6178320"/>
              <a:ext cx="44460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025720" y="6178320"/>
              <a:ext cx="52056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559240" y="6178320"/>
              <a:ext cx="11300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568520" y="6406920"/>
              <a:ext cx="44460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025720" y="6406920"/>
              <a:ext cx="52056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559240" y="6406920"/>
              <a:ext cx="11300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150640" y="5070600"/>
              <a:ext cx="17647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8 [1000</a:t>
              </a:r>
              <a:r>
                <a:rPr b="0" lang="en-US" sz="1800" spc="-1" strike="noStrike" baseline="-25000">
                  <a:solidFill>
                    <a:srgbClr val="000066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] </a:t>
              </a: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(miss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077840" y="5984640"/>
              <a:ext cx="460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(4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4659480" y="5070600"/>
            <a:ext cx="2836800" cy="1551960"/>
            <a:chOff x="4659480" y="5070600"/>
            <a:chExt cx="2836800" cy="1551960"/>
          </a:xfrm>
        </p:grpSpPr>
        <p:sp>
          <p:nvSpPr>
            <p:cNvPr id="435" name=""/>
            <p:cNvSpPr/>
            <p:nvPr/>
          </p:nvSpPr>
          <p:spPr>
            <a:xfrm>
              <a:off x="5149440" y="5721120"/>
              <a:ext cx="4442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1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606640" y="5721120"/>
              <a:ext cx="52056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0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140160" y="5721120"/>
              <a:ext cx="11300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m[1] m[0]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268960" y="5375160"/>
              <a:ext cx="295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49480" y="5375160"/>
              <a:ext cx="498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tag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411600" y="5375160"/>
              <a:ext cx="624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149440" y="5949720"/>
              <a:ext cx="4442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606640" y="5949720"/>
              <a:ext cx="52056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140160" y="5949720"/>
              <a:ext cx="11300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149440" y="6178320"/>
              <a:ext cx="4442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1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606640" y="6178320"/>
              <a:ext cx="52056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1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140160" y="6178320"/>
              <a:ext cx="11300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m[13] m[12]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149440" y="6406920"/>
              <a:ext cx="4442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606640" y="6406920"/>
              <a:ext cx="52056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140160" y="6406920"/>
              <a:ext cx="11300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731560" y="5070600"/>
              <a:ext cx="17647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0 [0000</a:t>
              </a:r>
              <a:r>
                <a:rPr b="0" lang="en-US" sz="1800" spc="-1" strike="noStrike" baseline="-25000">
                  <a:solidFill>
                    <a:srgbClr val="000066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] </a:t>
              </a: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(miss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659480" y="5984640"/>
              <a:ext cx="460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(5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1562040" y="3581280"/>
            <a:ext cx="2121120" cy="901440"/>
            <a:chOff x="1562040" y="3581280"/>
            <a:chExt cx="2121120" cy="901440"/>
          </a:xfrm>
        </p:grpSpPr>
        <p:sp>
          <p:nvSpPr>
            <p:cNvPr id="453" name=""/>
            <p:cNvSpPr/>
            <p:nvPr/>
          </p:nvSpPr>
          <p:spPr>
            <a:xfrm>
              <a:off x="1562040" y="3581280"/>
              <a:ext cx="44460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019240" y="3581280"/>
              <a:ext cx="52092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552760" y="3581280"/>
              <a:ext cx="113040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562040" y="3809880"/>
              <a:ext cx="44460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019240" y="3809880"/>
              <a:ext cx="52092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552760" y="3809880"/>
              <a:ext cx="113040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562040" y="4038480"/>
              <a:ext cx="44460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019240" y="4038480"/>
              <a:ext cx="52092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552760" y="4038480"/>
              <a:ext cx="113040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62040" y="4267080"/>
              <a:ext cx="44460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019240" y="4267080"/>
              <a:ext cx="52092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552760" y="4267080"/>
              <a:ext cx="113040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5143680" y="3581280"/>
            <a:ext cx="2120400" cy="901440"/>
            <a:chOff x="5143680" y="3581280"/>
            <a:chExt cx="2120400" cy="901440"/>
          </a:xfrm>
        </p:grpSpPr>
        <p:sp>
          <p:nvSpPr>
            <p:cNvPr id="466" name=""/>
            <p:cNvSpPr/>
            <p:nvPr/>
          </p:nvSpPr>
          <p:spPr>
            <a:xfrm>
              <a:off x="5143680" y="3581280"/>
              <a:ext cx="4442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600520" y="3581280"/>
              <a:ext cx="52056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134040" y="3581280"/>
              <a:ext cx="11300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143680" y="3809880"/>
              <a:ext cx="4442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600520" y="3809880"/>
              <a:ext cx="52056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134040" y="3809880"/>
              <a:ext cx="11300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143680" y="4038480"/>
              <a:ext cx="4442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600520" y="4038480"/>
              <a:ext cx="52056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134040" y="4038480"/>
              <a:ext cx="11300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143680" y="4267080"/>
              <a:ext cx="4442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600520" y="4267080"/>
              <a:ext cx="52056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134040" y="4267080"/>
              <a:ext cx="11300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1562040" y="5715000"/>
            <a:ext cx="2121120" cy="901440"/>
            <a:chOff x="1562040" y="5715000"/>
            <a:chExt cx="2121120" cy="901440"/>
          </a:xfrm>
        </p:grpSpPr>
        <p:sp>
          <p:nvSpPr>
            <p:cNvPr id="479" name=""/>
            <p:cNvSpPr/>
            <p:nvPr/>
          </p:nvSpPr>
          <p:spPr>
            <a:xfrm>
              <a:off x="1562040" y="5715000"/>
              <a:ext cx="44460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019240" y="5715000"/>
              <a:ext cx="52092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552760" y="5715000"/>
              <a:ext cx="113040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562040" y="5943600"/>
              <a:ext cx="44460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019240" y="5943600"/>
              <a:ext cx="52092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552760" y="5943600"/>
              <a:ext cx="113040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562040" y="6172200"/>
              <a:ext cx="44460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019240" y="6172200"/>
              <a:ext cx="52092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552760" y="6172200"/>
              <a:ext cx="113040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562040" y="6400800"/>
              <a:ext cx="44460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019240" y="6400800"/>
              <a:ext cx="52092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552760" y="6400800"/>
              <a:ext cx="113040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5143680" y="5715000"/>
            <a:ext cx="2120400" cy="901440"/>
            <a:chOff x="5143680" y="5715000"/>
            <a:chExt cx="2120400" cy="901440"/>
          </a:xfrm>
        </p:grpSpPr>
        <p:sp>
          <p:nvSpPr>
            <p:cNvPr id="492" name=""/>
            <p:cNvSpPr/>
            <p:nvPr/>
          </p:nvSpPr>
          <p:spPr>
            <a:xfrm>
              <a:off x="5143680" y="5715000"/>
              <a:ext cx="4442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600520" y="5715000"/>
              <a:ext cx="52056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134040" y="5715000"/>
              <a:ext cx="11300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143680" y="5943600"/>
              <a:ext cx="4442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600520" y="5943600"/>
              <a:ext cx="52056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134040" y="5943600"/>
              <a:ext cx="11300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143680" y="6172200"/>
              <a:ext cx="4442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600520" y="6172200"/>
              <a:ext cx="52056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134040" y="6172200"/>
              <a:ext cx="11300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143680" y="6400800"/>
              <a:ext cx="4442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600520" y="6400800"/>
              <a:ext cx="52056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134040" y="6400800"/>
              <a:ext cx="11300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1714680" y="3537000"/>
            <a:ext cx="1650240" cy="312840"/>
            <a:chOff x="1714680" y="3537000"/>
            <a:chExt cx="1650240" cy="312840"/>
          </a:xfrm>
        </p:grpSpPr>
        <p:sp>
          <p:nvSpPr>
            <p:cNvPr id="505" name=""/>
            <p:cNvSpPr/>
            <p:nvPr/>
          </p:nvSpPr>
          <p:spPr>
            <a:xfrm>
              <a:off x="2193840" y="3537000"/>
              <a:ext cx="2048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676960" y="3537000"/>
              <a:ext cx="68796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M[0-1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714680" y="3537000"/>
              <a:ext cx="2048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1714680" y="5661000"/>
            <a:ext cx="1766160" cy="784080"/>
            <a:chOff x="1714680" y="5661000"/>
            <a:chExt cx="1766160" cy="784080"/>
          </a:xfrm>
        </p:grpSpPr>
        <p:grpSp>
          <p:nvGrpSpPr>
            <p:cNvPr id="509" name=""/>
            <p:cNvGrpSpPr/>
            <p:nvPr/>
          </p:nvGrpSpPr>
          <p:grpSpPr>
            <a:xfrm>
              <a:off x="1714680" y="6132240"/>
              <a:ext cx="1766160" cy="312840"/>
              <a:chOff x="1714680" y="6132240"/>
              <a:chExt cx="1766160" cy="312840"/>
            </a:xfrm>
          </p:grpSpPr>
          <p:sp>
            <p:nvSpPr>
              <p:cNvPr id="510" name=""/>
              <p:cNvSpPr/>
              <p:nvPr/>
            </p:nvSpPr>
            <p:spPr>
              <a:xfrm>
                <a:off x="2193840" y="6132240"/>
                <a:ext cx="2048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567160" y="6132240"/>
                <a:ext cx="91368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M[12-13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1714680" y="6132240"/>
                <a:ext cx="2048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513" name=""/>
            <p:cNvGrpSpPr/>
            <p:nvPr/>
          </p:nvGrpSpPr>
          <p:grpSpPr>
            <a:xfrm>
              <a:off x="1714680" y="5661000"/>
              <a:ext cx="1652040" cy="312840"/>
              <a:chOff x="1714680" y="5661000"/>
              <a:chExt cx="1652040" cy="312840"/>
            </a:xfrm>
          </p:grpSpPr>
          <p:sp>
            <p:nvSpPr>
              <p:cNvPr id="514" name=""/>
              <p:cNvSpPr/>
              <p:nvPr/>
            </p:nvSpPr>
            <p:spPr>
              <a:xfrm>
                <a:off x="2193840" y="5661000"/>
                <a:ext cx="2048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2678760" y="5661000"/>
                <a:ext cx="68796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M[8-9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1714680" y="5661000"/>
                <a:ext cx="2048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17" name=""/>
          <p:cNvGrpSpPr/>
          <p:nvPr/>
        </p:nvGrpSpPr>
        <p:grpSpPr>
          <a:xfrm>
            <a:off x="5294160" y="5672160"/>
            <a:ext cx="1766160" cy="775080"/>
            <a:chOff x="5294160" y="5672160"/>
            <a:chExt cx="1766160" cy="775080"/>
          </a:xfrm>
        </p:grpSpPr>
        <p:grpSp>
          <p:nvGrpSpPr>
            <p:cNvPr id="518" name=""/>
            <p:cNvGrpSpPr/>
            <p:nvPr/>
          </p:nvGrpSpPr>
          <p:grpSpPr>
            <a:xfrm>
              <a:off x="5294160" y="6134400"/>
              <a:ext cx="1766160" cy="312840"/>
              <a:chOff x="5294160" y="6134400"/>
              <a:chExt cx="1766160" cy="312840"/>
            </a:xfrm>
          </p:grpSpPr>
          <p:sp>
            <p:nvSpPr>
              <p:cNvPr id="519" name=""/>
              <p:cNvSpPr/>
              <p:nvPr/>
            </p:nvSpPr>
            <p:spPr>
              <a:xfrm>
                <a:off x="5773320" y="6134400"/>
                <a:ext cx="2048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146640" y="6134400"/>
                <a:ext cx="91368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M[12-13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5294160" y="6134400"/>
                <a:ext cx="2048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522" name=""/>
            <p:cNvGrpSpPr/>
            <p:nvPr/>
          </p:nvGrpSpPr>
          <p:grpSpPr>
            <a:xfrm>
              <a:off x="5294160" y="5672160"/>
              <a:ext cx="1653480" cy="312840"/>
              <a:chOff x="5294160" y="5672160"/>
              <a:chExt cx="1653480" cy="312840"/>
            </a:xfrm>
          </p:grpSpPr>
          <p:sp>
            <p:nvSpPr>
              <p:cNvPr id="523" name=""/>
              <p:cNvSpPr/>
              <p:nvPr/>
            </p:nvSpPr>
            <p:spPr>
              <a:xfrm>
                <a:off x="5773320" y="5672160"/>
                <a:ext cx="2048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259680" y="5672160"/>
                <a:ext cx="68796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M[0-1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294160" y="5672160"/>
                <a:ext cx="2048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6" name=""/>
          <p:cNvGrpSpPr/>
          <p:nvPr/>
        </p:nvGrpSpPr>
        <p:grpSpPr>
          <a:xfrm>
            <a:off x="5289480" y="3533760"/>
            <a:ext cx="1766160" cy="775080"/>
            <a:chOff x="5289480" y="3533760"/>
            <a:chExt cx="1766160" cy="775080"/>
          </a:xfrm>
        </p:grpSpPr>
        <p:grpSp>
          <p:nvGrpSpPr>
            <p:cNvPr id="527" name=""/>
            <p:cNvGrpSpPr/>
            <p:nvPr/>
          </p:nvGrpSpPr>
          <p:grpSpPr>
            <a:xfrm>
              <a:off x="5289480" y="3996000"/>
              <a:ext cx="1766160" cy="312840"/>
              <a:chOff x="5289480" y="3996000"/>
              <a:chExt cx="1766160" cy="312840"/>
            </a:xfrm>
          </p:grpSpPr>
          <p:sp>
            <p:nvSpPr>
              <p:cNvPr id="528" name=""/>
              <p:cNvSpPr/>
              <p:nvPr/>
            </p:nvSpPr>
            <p:spPr>
              <a:xfrm>
                <a:off x="5768640" y="3996000"/>
                <a:ext cx="2048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6141960" y="3996000"/>
                <a:ext cx="91368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M[12-13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289480" y="3996000"/>
                <a:ext cx="2048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531" name=""/>
            <p:cNvGrpSpPr/>
            <p:nvPr/>
          </p:nvGrpSpPr>
          <p:grpSpPr>
            <a:xfrm>
              <a:off x="5289480" y="3533760"/>
              <a:ext cx="1653480" cy="312840"/>
              <a:chOff x="5289480" y="3533760"/>
              <a:chExt cx="1653480" cy="312840"/>
            </a:xfrm>
          </p:grpSpPr>
          <p:sp>
            <p:nvSpPr>
              <p:cNvPr id="532" name=""/>
              <p:cNvSpPr/>
              <p:nvPr/>
            </p:nvSpPr>
            <p:spPr>
              <a:xfrm>
                <a:off x="5768640" y="3533760"/>
                <a:ext cx="2048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255000" y="3533760"/>
                <a:ext cx="68796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M[0-1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5289480" y="3533760"/>
                <a:ext cx="2048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8:51Z</dcterms:created>
  <dc:creator>Randal E. Bryant and David R. O'Hallaron</dc:creator>
  <dc:description/>
  <dc:language>en-US</dc:language>
  <cp:lastModifiedBy>droh</cp:lastModifiedBy>
  <cp:lastPrinted>2001-10-04T12:22:59Z</cp:lastPrinted>
  <dcterms:modified xsi:type="dcterms:W3CDTF">2002-10-28T20:32:33Z</dcterms:modified>
  <cp:revision>278</cp:revision>
  <dc:subject/>
  <dc:title>Cache Memories</dc:title>
</cp:coreProperties>
</file>