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320E9C8B-8D44-46A8-B25B-81B07240A920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t 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7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context swi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and destroying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450720"/>
            <a:ext cx="5527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8120" y="46195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2200" y="46195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71720" y="5141880"/>
            <a:ext cx="0" cy="598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78200" y="5746680"/>
            <a:ext cx="2806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1240" y="575316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865600" y="5816160"/>
            <a:ext cx="2831760" cy="546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71720" y="5904000"/>
            <a:ext cx="0" cy="725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73160" y="541980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29480" y="5692680"/>
            <a:ext cx="252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Open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11800" y="614376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9920" y="545796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9920" y="569124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ning a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call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en(filename, option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 open executes system call instruct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must find or create file, get it ready for reading or wri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integer file descrip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6920" y="2057400"/>
            <a:ext cx="6215760" cy="131076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d070 &lt;__libc_open&gt;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d082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d 80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$0x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d08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b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 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0720"/>
            <a:ext cx="574344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ult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9480" y="4495680"/>
            <a:ext cx="8045640" cy="1909800"/>
            <a:chOff x="609480" y="4495680"/>
            <a:chExt cx="8045640" cy="1909800"/>
          </a:xfrm>
        </p:grpSpPr>
        <p:sp>
          <p:nvSpPr>
            <p:cNvPr id="193" name=""/>
            <p:cNvSpPr/>
            <p:nvPr/>
          </p:nvSpPr>
          <p:spPr>
            <a:xfrm>
              <a:off x="2356560" y="4495680"/>
              <a:ext cx="1638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User Proc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60640" y="449568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0160" y="5018040"/>
              <a:ext cx="0" cy="598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76640" y="5622840"/>
              <a:ext cx="2806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89680" y="5629320"/>
              <a:ext cx="0" cy="596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3176640" y="5616720"/>
              <a:ext cx="2819520" cy="622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70160" y="5780160"/>
              <a:ext cx="0" cy="625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71240" y="5295960"/>
              <a:ext cx="1182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page faul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27920" y="5568840"/>
              <a:ext cx="2527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Create page and load into 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960" y="594828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retur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5356080"/>
              <a:ext cx="80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event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64480" y="5491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mov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5567400"/>
              <a:ext cx="6858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5445360" cy="24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89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writes to memory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 portion (page) of user’s memory is currently on dis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handler must load page into physic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to faulting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ccessful on second 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65440" y="1066680"/>
            <a:ext cx="2131560" cy="131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[500] = 13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9760" y="2666880"/>
            <a:ext cx="7313040" cy="33732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7 05 10 9d 04 08 0d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$0xd,0x8049d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0720"/>
            <a:ext cx="574344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ult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04280" y="45133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08360" y="45133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17880" y="5035680"/>
            <a:ext cx="0" cy="5983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24360" y="5640480"/>
            <a:ext cx="22334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564660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6265800"/>
            <a:ext cx="6098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18600" y="53132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5732640"/>
            <a:ext cx="2527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tect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373720"/>
            <a:ext cx="80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840" y="5508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558468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438200"/>
            <a:ext cx="670572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62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writes to memory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is not val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handler detects invalid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GSE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ignal to us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process exits with “segmentation fault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70000" y="762120"/>
            <a:ext cx="2253600" cy="131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[5000] = 13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8520" y="2819520"/>
            <a:ext cx="7313040" cy="33732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7 05 60 e3 04 08 0d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$0xd,0x804e36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6113520"/>
            <a:ext cx="25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Signal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244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f: A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roc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n instance of a running program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of the most profound ideas in computer scien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the same as “program” or “processor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provides each program with two key abstra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 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gram seems to have exclusive use of the CPU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vate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gram seems to have exclusive use of main memory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are these Illusions maintain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executions interleaved (multitasking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spaces managed by virtual memory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69880"/>
            <a:ext cx="6019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gical Control 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743200"/>
            <a:ext cx="0" cy="1828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10920" y="3276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29718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784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1172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3560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2767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35812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38862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41911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327672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358128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88620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419112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449568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3760" y="1523880"/>
            <a:ext cx="67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process has its own logical contro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607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processe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run concurrentl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re concurrent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f their flows overlap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therwise, they ar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equential.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: A &amp; B, A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: B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82320" y="3962520"/>
            <a:ext cx="5497560" cy="1981080"/>
            <a:chOff x="1282320" y="3962520"/>
            <a:chExt cx="5497560" cy="1981080"/>
          </a:xfrm>
        </p:grpSpPr>
        <p:sp>
          <p:nvSpPr>
            <p:cNvPr id="247" name=""/>
            <p:cNvSpPr/>
            <p:nvPr/>
          </p:nvSpPr>
          <p:spPr>
            <a:xfrm>
              <a:off x="1905120" y="4114800"/>
              <a:ext cx="0" cy="1828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82320" y="46483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4080" y="434340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924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8312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0700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4648320"/>
              <a:ext cx="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72200" y="495288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4080" y="525780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5562720"/>
              <a:ext cx="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66880" y="464832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6880" y="495288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66880" y="525780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66880" y="556272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66880" y="586728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er View of Concurrent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flows for concurrent processes are physically disjoint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we can think of concurrent processes are running in parallel with each oth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505320"/>
            <a:ext cx="0" cy="761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22200" y="3701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35812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1152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540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5964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40384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358128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419112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43434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73392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19520" y="403848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84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ext Switch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0160" y="990360"/>
            <a:ext cx="8294760" cy="255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es are managed by a shared chunk of OS code called th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kern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the kernel is not a separate process, but rather runs as part of some us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flow passes from one process to another via a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ontext switch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1868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872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895480" y="4027320"/>
            <a:ext cx="6480" cy="468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4495680"/>
            <a:ext cx="144792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895480" y="5334120"/>
            <a:ext cx="144792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715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20960" y="3429000"/>
            <a:ext cx="12960" cy="31240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5560" y="41148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25920" y="452916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25560" y="49417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08280" y="53784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255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46320" y="445284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46320" y="487980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46320" y="530712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46320" y="573408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46320" y="616104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46320" y="402732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4038480"/>
            <a:ext cx="0" cy="1549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20760" y="46483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701640" y="3117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914400" y="2743200"/>
            <a:ext cx="9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44514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42960" y="44197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0" y="533412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42960" y="530208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41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ivate Address Sp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90520" y="990720"/>
            <a:ext cx="8307360" cy="95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process has its own private address spa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8760" y="1935000"/>
            <a:ext cx="694836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95560" y="1674720"/>
            <a:ext cx="2230560" cy="793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code, data, heap, stack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95560" y="3438360"/>
            <a:ext cx="223056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mory mapped region f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95560" y="3971880"/>
            <a:ext cx="2230560" cy="577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4552920"/>
            <a:ext cx="223056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managed by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95560" y="2711520"/>
            <a:ext cx="2230560" cy="725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145040" y="4235040"/>
            <a:ext cx="1440" cy="3049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95560" y="2443320"/>
            <a:ext cx="223056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r 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created at runtim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4145040" y="3260520"/>
            <a:ext cx="1440" cy="1825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45040" y="2894040"/>
            <a:ext cx="1440" cy="1825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6200" y="6124680"/>
            <a:ext cx="2232000" cy="31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731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5160" y="27716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%esp (stack pointe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26120" y="2892600"/>
            <a:ext cx="304560" cy="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72280" y="1824120"/>
            <a:ext cx="101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visible 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301720" y="2041560"/>
            <a:ext cx="1800" cy="3650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929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288040" y="4540320"/>
            <a:ext cx="304560" cy="14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2273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c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59292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8048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2480" y="3797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4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86200" y="5087880"/>
            <a:ext cx="223200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ad/write seg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.data, 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86200" y="5589720"/>
            <a:ext cx="223200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ad-only seg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.init, .text, .ro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2080" y="5087880"/>
            <a:ext cx="61920" cy="1036800"/>
          </a:xfrm>
          <a:custGeom>
            <a:avLst/>
            <a:gdLst>
              <a:gd name="textAreaLeft" fmla="*/ 0 w 61920"/>
              <a:gd name="textAreaRight" fmla="*/ 22320 w 61920"/>
              <a:gd name="textAreaTop" fmla="*/ 27000 h 1036800"/>
              <a:gd name="textAreaBottom" fmla="*/ 100980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20520" y="5418000"/>
            <a:ext cx="147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oaded from th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xecutable fi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1592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fffffff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95560" y="2443320"/>
            <a:ext cx="22305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19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fork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Creating new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90520" y="1295280"/>
            <a:ext cx="8307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fork(voi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new process (child process) that is identical to the calling process (parent pro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0 to the child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child’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the parent proces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38880" y="3438360"/>
            <a:ext cx="4707000" cy="1465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ello from chil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else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ello from parent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920" y="378468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k is interest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nd often confusin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cause it is call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onc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t returns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wi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429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1560" y="3624120"/>
            <a:ext cx="1531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startup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shutdown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294760" cy="17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s do Only One Th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 startup to shutdown, a CPU simply reads and executes (interprets) a sequence of instructions, one at a ti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is sequence is the system’s physica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ntrol 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flow of contr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91040" y="32446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control flo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05280" y="3454560"/>
            <a:ext cx="0" cy="1828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7440" y="3962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99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2760" y="3284640"/>
            <a:ext cx="8547480" cy="3111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 = 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id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has x = %d\n", ++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Parent has x = %d\n", --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 from process %d with x = %d\n", getpid(), 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ent and child both run sam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tinguish parent from child by return value from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with same state, but each has private 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luding shared output file descript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ve ordering of their print statements undef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5089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5520" y="3276720"/>
            <a:ext cx="3335400" cy="2288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2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878720" y="4952880"/>
            <a:ext cx="455400" cy="337320"/>
            <a:chOff x="4878720" y="4952880"/>
            <a:chExt cx="455400" cy="337320"/>
          </a:xfrm>
        </p:grpSpPr>
        <p:sp>
          <p:nvSpPr>
            <p:cNvPr id="347" name=""/>
            <p:cNvSpPr/>
            <p:nvPr/>
          </p:nvSpPr>
          <p:spPr>
            <a:xfrm>
              <a:off x="4952880" y="5257800"/>
              <a:ext cx="3812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787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4120" y="4267080"/>
            <a:ext cx="533160" cy="1023120"/>
            <a:chOff x="5334120" y="4267080"/>
            <a:chExt cx="533160" cy="1023120"/>
          </a:xfrm>
        </p:grpSpPr>
        <p:sp>
          <p:nvSpPr>
            <p:cNvPr id="350" name=""/>
            <p:cNvSpPr/>
            <p:nvPr/>
          </p:nvSpPr>
          <p:spPr>
            <a:xfrm flipV="1">
              <a:off x="533412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334120" y="4267080"/>
              <a:ext cx="533160" cy="1023120"/>
              <a:chOff x="5334120" y="4267080"/>
              <a:chExt cx="533160" cy="1023120"/>
            </a:xfrm>
          </p:grpSpPr>
          <p:sp>
            <p:nvSpPr>
              <p:cNvPr id="352" name=""/>
              <p:cNvSpPr/>
              <p:nvPr/>
            </p:nvSpPr>
            <p:spPr>
              <a:xfrm>
                <a:off x="5334120" y="4572000"/>
                <a:ext cx="53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35920" y="49528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35920" y="42670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34120" y="5257800"/>
                <a:ext cx="53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867280" y="3962520"/>
            <a:ext cx="624960" cy="1327680"/>
            <a:chOff x="5867280" y="3962520"/>
            <a:chExt cx="624960" cy="1327680"/>
          </a:xfrm>
        </p:grpSpPr>
        <p:sp>
          <p:nvSpPr>
            <p:cNvPr id="357" name=""/>
            <p:cNvSpPr/>
            <p:nvPr/>
          </p:nvSpPr>
          <p:spPr>
            <a:xfrm flipV="1">
              <a:off x="5867280" y="49525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867280" y="42667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7280" y="426708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7280" y="495288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576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576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45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457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7280" y="525780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67280" y="45720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546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10440" y="2209680"/>
            <a:ext cx="3335400" cy="28371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3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638680" y="2666880"/>
            <a:ext cx="2072880" cy="2623320"/>
            <a:chOff x="5638680" y="2666880"/>
            <a:chExt cx="2072880" cy="2623320"/>
          </a:xfrm>
        </p:grpSpPr>
        <p:sp>
          <p:nvSpPr>
            <p:cNvPr id="371" name=""/>
            <p:cNvSpPr/>
            <p:nvPr/>
          </p:nvSpPr>
          <p:spPr>
            <a:xfrm flipV="1">
              <a:off x="655308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5257800"/>
              <a:ext cx="2057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980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457200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52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5524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86600" y="49525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086600" y="42667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86600" y="426708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6600" y="495288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508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6508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508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6508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53080" y="327636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3962520"/>
              <a:ext cx="1600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980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53080" y="327672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52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55240" y="2971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86600" y="36572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086600" y="29714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86600" y="297180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6600" y="365760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65080" y="3657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5080" y="3352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65080" y="297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65080" y="2666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095880" y="396252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8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99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4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248520" y="4419360"/>
            <a:ext cx="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4120" y="4800600"/>
            <a:ext cx="457200" cy="337320"/>
            <a:chOff x="5334120" y="4800600"/>
            <a:chExt cx="457200" cy="337320"/>
          </a:xfrm>
        </p:grpSpPr>
        <p:sp>
          <p:nvSpPr>
            <p:cNvPr id="406" name=""/>
            <p:cNvSpPr/>
            <p:nvPr/>
          </p:nvSpPr>
          <p:spPr>
            <a:xfrm>
              <a:off x="5334120" y="51055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59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791320" y="3505320"/>
            <a:ext cx="1615320" cy="1632600"/>
            <a:chOff x="5791320" y="3505320"/>
            <a:chExt cx="1615320" cy="1632600"/>
          </a:xfrm>
        </p:grpSpPr>
        <p:sp>
          <p:nvSpPr>
            <p:cNvPr id="409" name=""/>
            <p:cNvSpPr/>
            <p:nvPr/>
          </p:nvSpPr>
          <p:spPr>
            <a:xfrm>
              <a:off x="57931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91320" y="3809880"/>
              <a:ext cx="1600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60160" y="3505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791320" y="3809520"/>
              <a:ext cx="0" cy="1295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91320" y="51055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248520" y="4114800"/>
            <a:ext cx="1158120" cy="1023120"/>
            <a:chOff x="6248520" y="4114800"/>
            <a:chExt cx="1158120" cy="1023120"/>
          </a:xfrm>
        </p:grpSpPr>
        <p:sp>
          <p:nvSpPr>
            <p:cNvPr id="415" name=""/>
            <p:cNvSpPr/>
            <p:nvPr/>
          </p:nvSpPr>
          <p:spPr>
            <a:xfrm>
              <a:off x="6248520" y="441972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503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60160" y="4114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48520" y="5105520"/>
              <a:ext cx="533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781680" y="4495680"/>
            <a:ext cx="624960" cy="642240"/>
            <a:chOff x="6781680" y="4495680"/>
            <a:chExt cx="624960" cy="642240"/>
          </a:xfrm>
        </p:grpSpPr>
        <p:sp>
          <p:nvSpPr>
            <p:cNvPr id="420" name=""/>
            <p:cNvSpPr/>
            <p:nvPr/>
          </p:nvSpPr>
          <p:spPr>
            <a:xfrm flipV="1">
              <a:off x="6781680" y="48002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81680" y="480060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60160" y="480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60160" y="4495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1680" y="51055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62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5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410080" y="4724280"/>
            <a:ext cx="457200" cy="337320"/>
            <a:chOff x="5410080" y="4724280"/>
            <a:chExt cx="457200" cy="337320"/>
          </a:xfrm>
        </p:grpSpPr>
        <p:sp>
          <p:nvSpPr>
            <p:cNvPr id="429" name=""/>
            <p:cNvSpPr/>
            <p:nvPr/>
          </p:nvSpPr>
          <p:spPr>
            <a:xfrm>
              <a:off x="541008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2240" y="472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867280" y="4343400"/>
            <a:ext cx="624960" cy="718200"/>
            <a:chOff x="5867280" y="4343400"/>
            <a:chExt cx="624960" cy="718200"/>
          </a:xfrm>
        </p:grpSpPr>
        <p:sp>
          <p:nvSpPr>
            <p:cNvPr id="432" name=""/>
            <p:cNvSpPr/>
            <p:nvPr/>
          </p:nvSpPr>
          <p:spPr>
            <a:xfrm>
              <a:off x="5945760" y="4724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867280" y="46483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67280" y="46483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69440" y="4343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781680" y="3581280"/>
            <a:ext cx="624960" cy="718560"/>
            <a:chOff x="6781680" y="3581280"/>
            <a:chExt cx="624960" cy="718560"/>
          </a:xfrm>
        </p:grpSpPr>
        <p:sp>
          <p:nvSpPr>
            <p:cNvPr id="438" name=""/>
            <p:cNvSpPr/>
            <p:nvPr/>
          </p:nvSpPr>
          <p:spPr>
            <a:xfrm flipV="1">
              <a:off x="6781680" y="38862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601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81680" y="38862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42520" y="3581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81680" y="426708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324480" y="3962520"/>
            <a:ext cx="624960" cy="718200"/>
            <a:chOff x="6324480" y="3962520"/>
            <a:chExt cx="624960" cy="718200"/>
          </a:xfrm>
        </p:grpSpPr>
        <p:sp>
          <p:nvSpPr>
            <p:cNvPr id="444" name=""/>
            <p:cNvSpPr/>
            <p:nvPr/>
          </p:nvSpPr>
          <p:spPr>
            <a:xfrm flipV="1">
              <a:off x="6324480" y="4266720"/>
              <a:ext cx="0" cy="3812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296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24480" y="42670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26640" y="39625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24480" y="46483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62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x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Destroying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oid exit(int statu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its a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rmally return with statu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texit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gisters functions to be executed upon ex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28320" y="2971800"/>
            <a:ext cx="3884040" cy="2562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leanup(void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leaning up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6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exit(cleanup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68680" y="228600"/>
            <a:ext cx="2006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Zomb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rocess terminates, still consumes system resour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tables maintained by 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d a “zombi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ving corpse, half alive and half d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by parent on terminated chil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ent is given exit statu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discards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f Parent Doesn’t Reap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y parent terminates without reaping a child, then child will be reap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need explicit reaping for long-running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shells and serv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60200" y="2438280"/>
            <a:ext cx="493560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./forks 7 &am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[1]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unning Parent, PID =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rminating Child, PID = 664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39 ttyp9    00:00:03 for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0 ttyp9    00:00:00 forks &lt;defunc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1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kill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[1]    Termin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2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0066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Zombie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2520" y="3809880"/>
            <a:ext cx="3645000" cy="263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ws child process as “defunct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illing parent allows child to be reap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14920" y="431640"/>
            <a:ext cx="5255640" cy="3077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7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Terminating Child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unning Parent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480" y="26668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kill 66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6576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nterminat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il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267080" y="3733560"/>
            <a:ext cx="4330800" cy="271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ild process still active even though parent has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kill explicitly, or else will keep running indefinite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85040" y="380880"/>
            <a:ext cx="5362200" cy="3077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8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unning Child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Terminating Parent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wa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Synchronizing with childr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wait(int *child_statu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spends current process until one of its children termin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value is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the child process that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ild_statu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= NUL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then the object it points to will be set to  a status indicating why the child process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299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ing the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p to Now: two mechanisms for changing control flow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s and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and return using the stack discipli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react to changes in program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ufficient  for a useful 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icult for the CPU to react to changes in system stat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arrives from a disk or a network adapt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divides by zer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hits ctl-c at the keybo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timer expi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needs mechanisms for “exceptional control flow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wa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Synchronizing with childr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9000" y="1219320"/>
            <a:ext cx="607860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9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C: hello from chil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P: hello from parent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ait(&amp;child_statu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T: child has terminate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24480" y="5257800"/>
            <a:ext cx="381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4267080"/>
            <a:ext cx="426240" cy="1023120"/>
            <a:chOff x="6705720" y="4267080"/>
            <a:chExt cx="426240" cy="1023120"/>
          </a:xfrm>
        </p:grpSpPr>
        <p:sp>
          <p:nvSpPr>
            <p:cNvPr id="468" name=""/>
            <p:cNvSpPr/>
            <p:nvPr/>
          </p:nvSpPr>
          <p:spPr>
            <a:xfrm flipV="1">
              <a:off x="670572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45720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075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H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752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H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0572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086600" y="4267080"/>
            <a:ext cx="548640" cy="990720"/>
            <a:chOff x="7086600" y="4267080"/>
            <a:chExt cx="548640" cy="990720"/>
          </a:xfrm>
        </p:grpSpPr>
        <p:sp>
          <p:nvSpPr>
            <p:cNvPr id="474" name=""/>
            <p:cNvSpPr/>
            <p:nvPr/>
          </p:nvSpPr>
          <p:spPr>
            <a:xfrm>
              <a:off x="7088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86600" y="45720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86600" y="52578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620120" y="4572000"/>
            <a:ext cx="380880" cy="685800"/>
            <a:chOff x="7620120" y="4572000"/>
            <a:chExt cx="380880" cy="685800"/>
          </a:xfrm>
        </p:grpSpPr>
        <p:sp>
          <p:nvSpPr>
            <p:cNvPr id="478" name=""/>
            <p:cNvSpPr/>
            <p:nvPr/>
          </p:nvSpPr>
          <p:spPr>
            <a:xfrm>
              <a:off x="7620120" y="45720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01000" y="457200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2012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8001000" y="4952880"/>
            <a:ext cx="426600" cy="337320"/>
            <a:chOff x="8001000" y="4952880"/>
            <a:chExt cx="426600" cy="337320"/>
          </a:xfrm>
        </p:grpSpPr>
        <p:sp>
          <p:nvSpPr>
            <p:cNvPr id="482" name=""/>
            <p:cNvSpPr/>
            <p:nvPr/>
          </p:nvSpPr>
          <p:spPr>
            <a:xfrm>
              <a:off x="800316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0100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8381880" y="4952880"/>
            <a:ext cx="548640" cy="337320"/>
            <a:chOff x="8381880" y="4952880"/>
            <a:chExt cx="548640" cy="337320"/>
          </a:xfrm>
        </p:grpSpPr>
        <p:sp>
          <p:nvSpPr>
            <p:cNvPr id="485" name=""/>
            <p:cNvSpPr/>
            <p:nvPr/>
          </p:nvSpPr>
          <p:spPr>
            <a:xfrm>
              <a:off x="838404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52578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4978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30736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multiple children completed, will take in arbitrary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macros WIFEXITED and WEXITSTATUS to get information about exit statu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" y="1905120"/>
            <a:ext cx="8607600" cy="50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0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wpid =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&amp;child_statu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 abnormally\n", wpi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683160" y="228600"/>
            <a:ext cx="177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pi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90520" y="838080"/>
            <a:ext cx="8307360" cy="168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(pid, &amp;status, option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wait for specific proc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op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3120" y="1981080"/>
            <a:ext cx="863892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1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wpid =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waitpi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pid[i], &amp;child_status, 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abnormally\n", wpi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416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/Waitpid Example Outpu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37840" y="1600200"/>
            <a:ext cx="5941440" cy="146556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5 terminated with exit status 1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4 terminated with exit status 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3 terminated with exit status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2 terminated with exit status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6 terminated with exit status 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14160" y="4343400"/>
            <a:ext cx="5941440" cy="146556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8 terminated with exit status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9 terminated with exit status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0 terminated with exit status 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1 terminated with exit status 1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2 terminated with exit status 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4720" y="1066680"/>
            <a:ext cx="33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ai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fork1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040" y="380988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aitp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fork1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11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xe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Running new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4240" y="914040"/>
            <a:ext cx="8318520" cy="263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31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execl(char *path, char *arg0, char *arg1, …, 0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and runs executable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rg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rg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rg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s the complete path of an execut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ecomes the name of the proc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ly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either identica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or else it contains only the executable filename from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a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l” arguments to the executable start 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rg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st of args is terminated by a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char *)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rgu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error, otherwise doesn’t return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4032360"/>
            <a:ext cx="7162920" cy="22885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ecl("/usr/bin/cp", "cp", "foo", "bar", 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ait(NUL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opy complete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538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ts that require nonstandard 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d externally (interrupts) or internally (traps and fault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given time, system has multiple active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one can execute at a time, thou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rocess appears to have total control of processor + private memory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538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awn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two retu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erminat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no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p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lacing Program Executed by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ec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or varia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(normally) no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45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chanisms for exceptional control flow exists at all levels of a computer syst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w level Mechanis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ge in control flow in response to a system event (i.e.,  change in system stat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 of hardware and OS softwar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gher Level Mechanis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context swit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local jumps (setjmp/longjm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ed by eith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software (context switch and signals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 language runtime library: nonlocal jump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69880"/>
            <a:ext cx="7620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stem context for 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96000" y="213660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60600" y="1981080"/>
            <a:ext cx="6120" cy="979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07080" y="2060640"/>
            <a:ext cx="0" cy="90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2120" y="1908000"/>
            <a:ext cx="0" cy="900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64280" y="297324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42120" y="297324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0960" y="2973240"/>
            <a:ext cx="6120" cy="836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39960" y="3124080"/>
            <a:ext cx="0" cy="171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1840" y="3884760"/>
            <a:ext cx="0" cy="1407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67440" y="5407200"/>
            <a:ext cx="0" cy="46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8320" y="5407200"/>
            <a:ext cx="0" cy="46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42120" y="3809880"/>
            <a:ext cx="0" cy="1584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72320" y="3657600"/>
            <a:ext cx="0" cy="1787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39960" y="4873680"/>
            <a:ext cx="0" cy="622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5240" y="2668680"/>
            <a:ext cx="0" cy="1977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581280"/>
            <a:ext cx="8280360" cy="35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ocal/I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2920" y="444348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0640" y="4417920"/>
            <a:ext cx="1027080" cy="51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3848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DE 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9640" y="4417920"/>
            <a:ext cx="1230480" cy="49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440" y="543240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8040" y="5407200"/>
            <a:ext cx="1039680" cy="51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617920"/>
            <a:ext cx="14144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C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9040" y="5267160"/>
            <a:ext cx="1965600" cy="27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CSI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4832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ial p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50200" y="2617920"/>
            <a:ext cx="13762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rallel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4644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81200" y="2890800"/>
            <a:ext cx="4428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4644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26200" y="1704960"/>
            <a:ext cx="7556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2616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34120" y="1704960"/>
            <a:ext cx="919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327640"/>
            <a:ext cx="58932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1080" y="5707800"/>
            <a:ext cx="58932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66680" y="5707800"/>
            <a:ext cx="94896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DRO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92560" y="450720"/>
            <a:ext cx="2565360" cy="10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68160"/>
            <a:ext cx="868680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transfer of control to the OS in response to som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(i.e., change in processor stat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0240" y="258588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84320" y="25858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94200" y="3108240"/>
            <a:ext cx="0" cy="598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00320" y="3713040"/>
            <a:ext cx="2806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13360" y="371952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087360" y="3782520"/>
            <a:ext cx="2832120" cy="546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94200" y="3870360"/>
            <a:ext cx="0" cy="15127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93840" y="338616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1600" y="3659040"/>
            <a:ext cx="2527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process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hand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33720" y="4376880"/>
            <a:ext cx="1790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446640"/>
            <a:ext cx="80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6240" y="3429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48720" y="365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rupt Vec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4330440" cy="25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ype of event has a unique exception number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ex into jump table (a.k.a., interrupt vecto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 entry k points to a function (exception handler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k is called each time exception k occur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2914560"/>
            <a:ext cx="1013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35560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7846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0132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20760" y="3797280"/>
            <a:ext cx="1219320" cy="317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79360" y="407664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6360" y="355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800" y="375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7800" y="4012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40248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44956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4640" y="44946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79360" y="364500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20760" y="2425320"/>
            <a:ext cx="1219320" cy="1257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40080" y="24256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0080" y="31114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9360" y="386064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220760" y="3111120"/>
            <a:ext cx="1219320" cy="793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0080" y="37972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5105520"/>
            <a:ext cx="2589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n-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4056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79360" y="455940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20760" y="4603680"/>
            <a:ext cx="1219320" cy="501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58436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" y="2286000"/>
            <a:ext cx="38088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ynchronous Exceptions (Interrupt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d by events external to the process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cated by setting the processor’s interrupt pi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returns to “next” instru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interru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ctl-c at the keybo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rival of a packet from a netw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rival of a data sector from a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reset interrup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the reset butt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ft reset interrup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ctl-alt-delete on a P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819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nchronous 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d by events that occur as a result of executing an instructio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ntion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system calls, breakpoint traps, special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s control to “next”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ul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ntentional but possibly recoverable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page faults (recoverable), protection faults (unrecoverable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re-executes faulting (“current”) instruction or abor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ntentional and unrecover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parity error, machine check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orts current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4:39Z</dcterms:modified>
  <cp:revision>112</cp:revision>
  <dc:subject/>
  <dc:title>Exceptional Control Flow I</dc:title>
</cp:coreProperties>
</file>