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B561A3EA-D024-46AD-BC84-1168309208C9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1836720"/>
            <a:ext cx="77724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Level Programming II: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rol Flow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pt. 12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0480" y="3719160"/>
            <a:ext cx="438480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335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47640" indent="-213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dition Cod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97200" indent="-207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tt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97200" indent="-207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est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47640" indent="-213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rol Flo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97200" indent="-207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-then-els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97200" indent="-207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arieties of Loop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97200" indent="-207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witch Statemen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06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137160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Cod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1828800"/>
            <a:ext cx="3814920" cy="2832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fact_d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while (x &gt; 1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05520" y="1371600"/>
            <a:ext cx="2298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oto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48320" y="1828800"/>
            <a:ext cx="3814560" cy="283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fact_goto(int 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x &gt; 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loo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543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o-While” Loop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3120" y="5229000"/>
            <a:ext cx="8282160" cy="85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backward branch to continue loop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take branch when “while” condition hol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4400" y="1295280"/>
            <a:ext cx="2298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oto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752480"/>
            <a:ext cx="2819520" cy="310644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fact_got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x &gt; 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loo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2518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o-While” Loop Compi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90520" y="5176440"/>
            <a:ext cx="3463920" cy="126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25748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gis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25748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dx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25748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ax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sul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05320" y="1752480"/>
            <a:ext cx="548640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_fact_goto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etu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etu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1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11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%ed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esult *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ecl 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x--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$1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Compare x :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g L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gt;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81480" y="1295280"/>
            <a:ext cx="22989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880" y="990720"/>
            <a:ext cx="26035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Cod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371600"/>
            <a:ext cx="2514600" cy="9118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ile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914400"/>
            <a:ext cx="2298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oto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1371600"/>
            <a:ext cx="2438280" cy="1186200"/>
          </a:xfrm>
          <a:prstGeom prst="rect">
            <a:avLst/>
          </a:prstGeom>
          <a:solidFill>
            <a:srgbClr val="ffcc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07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eneral “Do-While” Trans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2895120"/>
            <a:ext cx="825516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lvl="1" marL="504360" indent="-2001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Bod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an be any C stat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55640" indent="-1486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ypically compound statement: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556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556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556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556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556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556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04360" indent="-2001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expression returning integ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556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= 0 interpreted as fals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0 interpreted as tru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657600"/>
            <a:ext cx="2210040" cy="1847160"/>
          </a:xfrm>
          <a:prstGeom prst="rect">
            <a:avLst/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tatement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tatement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tatement</a:t>
            </a:r>
            <a:r>
              <a:rPr b="1" i="1" lang="en-US" sz="1800" spc="-1" strike="noStrike" baseline="-25000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106668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Cod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447920"/>
            <a:ext cx="3814920" cy="2832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fact_whi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ile (x &gt; 1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05520" y="990720"/>
            <a:ext cx="31240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rst Goto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1447920"/>
            <a:ext cx="3814560" cy="36550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fact_while_got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!(x &gt; 1)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goto</a:t>
            </a:r>
            <a:r>
              <a:rPr b="1" i="1" lang="en-US" sz="1800" spc="-1" strike="noStrike">
                <a:solidFill>
                  <a:srgbClr val="003300"/>
                </a:solidFill>
                <a:latin typeface="Courier New"/>
              </a:rPr>
              <a:t> done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;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goto</a:t>
            </a:r>
            <a:r>
              <a:rPr b="1" i="1" lang="en-US" sz="1800" spc="-1" strike="noStrike">
                <a:solidFill>
                  <a:srgbClr val="003300"/>
                </a:solidFill>
                <a:latin typeface="Courier New"/>
              </a:rPr>
              <a:t> loop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6959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ile” Loop Example #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5257800"/>
            <a:ext cx="825516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this code equivalent to the do-while version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jump out of loop if test fai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1447920"/>
            <a:ext cx="26035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Cod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828800"/>
            <a:ext cx="3814920" cy="2557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fact_while(int 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ile (x &gt; 1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00600" y="1371600"/>
            <a:ext cx="3429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Goto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48320" y="1828800"/>
            <a:ext cx="3814560" cy="392940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fact_while_goto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!(x &gt; 1)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don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x &gt; 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goto</a:t>
            </a:r>
            <a:r>
              <a:rPr b="1" i="1" lang="en-US" sz="1800" spc="-1" strike="noStrike">
                <a:solidFill>
                  <a:srgbClr val="003300"/>
                </a:solidFill>
                <a:latin typeface="Courier New"/>
              </a:rPr>
              <a:t> loop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619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ctual “While” Loop Trans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4724280"/>
            <a:ext cx="37339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s same inner loop as do-while ver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uards loop entry with extra te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71600" y="990720"/>
            <a:ext cx="26035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Cod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1447920"/>
            <a:ext cx="1905120" cy="63756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ile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3276720"/>
            <a:ext cx="28954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o-While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3809880"/>
            <a:ext cx="2362320" cy="173484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!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ile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997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eneral “While” Trans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86400" y="3200400"/>
            <a:ext cx="2895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oto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867280" y="3657600"/>
            <a:ext cx="2362320" cy="2009160"/>
          </a:xfrm>
          <a:prstGeom prst="rect">
            <a:avLst/>
          </a:prstGeom>
          <a:solidFill>
            <a:srgbClr val="ffcc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!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0" y="2362320"/>
            <a:ext cx="0" cy="761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91120" y="3505320"/>
            <a:ext cx="76176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5943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” Loop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90520" y="3962520"/>
            <a:ext cx="8307360" cy="14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0000"/>
          </a:bodyPr>
          <a:p>
            <a:pPr marL="231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gorith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446400" indent="-147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loit property that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+ 2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+ 4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+ … 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en-US" sz="2000" spc="-1" strike="noStrike" baseline="30000">
                <a:solidFill>
                  <a:srgbClr val="000066"/>
                </a:solidFill>
                <a:latin typeface="Times New Roman"/>
              </a:rPr>
              <a:t>–1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Times New Roman"/>
              </a:rPr>
              <a:t>–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46400" indent="-147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ives: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·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0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· (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0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66"/>
                </a:solidFill>
                <a:latin typeface="Times New Roman"/>
              </a:rPr>
              <a:t> 2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· … · (…((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Times New Roman"/>
              </a:rPr>
              <a:t>n 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Times New Roman"/>
              </a:rPr>
              <a:t>–1</a:t>
            </a:r>
            <a:r>
              <a:rPr b="0" lang="en-US" sz="20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66"/>
                </a:solidFill>
                <a:latin typeface="Times New Roman"/>
              </a:rPr>
              <a:t> 2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)…)</a:t>
            </a:r>
            <a:r>
              <a:rPr b="0" lang="en-US" sz="2000" spc="-1" strike="noStrike" baseline="30000">
                <a:solidFill>
                  <a:srgbClr val="000066"/>
                </a:solidFill>
                <a:latin typeface="Times New Roman"/>
              </a:rPr>
              <a:t> 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68760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z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= 1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when 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=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68760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z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hen 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= 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6400" indent="-147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lexity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O(log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914400"/>
            <a:ext cx="7162560" cy="2832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Compute x raised to nonnegative power p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pwr_for(int x, unsigned p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result = 1; p != 0; p = p&gt;&gt;1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p &amp; 0x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*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648320" y="5195520"/>
            <a:ext cx="1600200" cy="597240"/>
            <a:chOff x="4648320" y="5195520"/>
            <a:chExt cx="1600200" cy="597240"/>
          </a:xfrm>
        </p:grpSpPr>
        <p:sp>
          <p:nvSpPr>
            <p:cNvPr id="177" name=""/>
            <p:cNvSpPr/>
            <p:nvPr/>
          </p:nvSpPr>
          <p:spPr>
            <a:xfrm rot="16200000">
              <a:off x="5334120" y="4509720"/>
              <a:ext cx="228600" cy="16002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234"/>
                  </a:lnTo>
                  <a:cubicBezTo>
                    <a:pt x="10800" y="9134"/>
                    <a:pt x="5400" y="10034"/>
                    <a:pt x="0" y="10034"/>
                  </a:cubicBezTo>
                  <a:cubicBezTo>
                    <a:pt x="5400" y="10034"/>
                    <a:pt x="10800" y="10934"/>
                    <a:pt x="10800" y="11834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726080" y="5424480"/>
              <a:ext cx="129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66"/>
                  </a:solidFill>
                  <a:latin typeface="Arial"/>
                </a:rPr>
                <a:t>n–1 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ime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6324480" y="5181480"/>
            <a:ext cx="2286000" cy="1202760"/>
          </a:xfrm>
          <a:prstGeom prst="rect">
            <a:avLst/>
          </a:prstGeom>
          <a:solidFill>
            <a:srgbClr val="33cccc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amp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= 3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* 3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= 3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* ((3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5743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ipwr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Compu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1066680"/>
            <a:ext cx="6933960" cy="2832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Compute x raised to nonnegative power p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pwr_for(int x, unsigned p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result = 1; p != 0; p = p&gt;&gt;1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p &amp; 0x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*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676520" y="4191120"/>
          <a:ext cx="5981760" cy="250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191120"/>
                    <a:ext cx="5981760" cy="25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520560"/>
            <a:ext cx="6573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” Loop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495680" y="1752480"/>
            <a:ext cx="3505320" cy="78048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ni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Updat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1447920"/>
            <a:ext cx="3429000" cy="2283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result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 !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 = p&gt;&gt;1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p &amp; 0x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*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19720" y="1219320"/>
            <a:ext cx="34480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eneral For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2880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Ini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4267080"/>
            <a:ext cx="1600200" cy="36324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=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08600" y="380988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4272120"/>
            <a:ext cx="1600200" cy="36324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 !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1992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pdat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43600" y="4272120"/>
            <a:ext cx="1600200" cy="36324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 = p &gt;&gt;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33720" y="5105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4876920"/>
            <a:ext cx="2971800" cy="146052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p &amp; 0x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*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5849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”</a:t>
            </a:r>
            <a:r>
              <a:rPr b="1" lang="en-US" sz="3800" spc="-1" strike="noStrike">
                <a:solidFill>
                  <a:srgbClr val="660033"/>
                </a:solidFill>
                <a:latin typeface="Symbol"/>
                <a:ea typeface="Symbol"/>
              </a:rPr>
              <a:t>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“While”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86200" y="1905120"/>
            <a:ext cx="685800" cy="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1523880"/>
            <a:ext cx="3352680" cy="780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ni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Updat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1523880"/>
            <a:ext cx="3352680" cy="14605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ni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ile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Updat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114800" y="2895480"/>
            <a:ext cx="533520" cy="30492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3276720"/>
            <a:ext cx="28958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oto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3809880"/>
            <a:ext cx="3814920" cy="2557800"/>
          </a:xfrm>
          <a:prstGeom prst="rect">
            <a:avLst/>
          </a:prstGeom>
          <a:solidFill>
            <a:srgbClr val="ffcc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ni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!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Updat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n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05520" y="1066680"/>
            <a:ext cx="2895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ile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2120" y="1066680"/>
            <a:ext cx="2895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r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2819520"/>
            <a:ext cx="28958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o-While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3352680"/>
            <a:ext cx="3814920" cy="228348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ni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!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Updat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while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19720" y="3505320"/>
            <a:ext cx="533160" cy="30456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6083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dition Cod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307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085760"/>
                <a:tab algn="l" pos="4057560"/>
                <a:tab algn="l" pos="47433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ngle Bit Regis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085760"/>
                <a:tab algn="l" pos="4057560"/>
                <a:tab algn="l" pos="47433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rry Fla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 Fla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085760"/>
                <a:tab algn="l" pos="4057560"/>
                <a:tab algn="l" pos="47433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Z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Zero Fla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flow Fla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085760"/>
                <a:tab algn="l" pos="4057560"/>
                <a:tab algn="l" pos="47433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mplicitly Set By Arithmetic Oper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085760"/>
                <a:tab algn="l" pos="4057560"/>
                <a:tab algn="l" pos="47433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ddl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0"/>
                <a:tab algn="l" pos="1085760"/>
                <a:tab algn="l" pos="4057560"/>
                <a:tab algn="l" pos="47433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 analog: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t = a + 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085760"/>
                <a:tab algn="l" pos="4057560"/>
                <a:tab algn="l" pos="47433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F set if carry out from most significant b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085760"/>
                <a:tab algn="l" pos="4057560"/>
                <a:tab algn="l" pos="47433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d to detect unsigned overflow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085760"/>
                <a:tab algn="l" pos="4057560"/>
                <a:tab algn="l" pos="47433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ZF set i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 ==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085760"/>
                <a:tab algn="l" pos="4057560"/>
                <a:tab algn="l" pos="47433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F set i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 &lt;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085760"/>
                <a:tab algn="l" pos="4057560"/>
                <a:tab algn="l" pos="47433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F set if two’s complement overflo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085760"/>
                <a:tab algn="l" pos="4057560"/>
                <a:tab algn="l" pos="47433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(a&gt;0 &amp;&amp; b&gt;0 &amp;&amp; t&lt;0) || (a&lt;0 &amp;&amp; b&lt;0 &amp;&amp; t&gt;=0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085760"/>
                <a:tab algn="l" pos="4057560"/>
                <a:tab algn="l" pos="47433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Set by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leal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nstru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6802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” Loop Compi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85800" y="4343400"/>
            <a:ext cx="1600200" cy="820440"/>
            <a:chOff x="685800" y="4343400"/>
            <a:chExt cx="1600200" cy="820440"/>
          </a:xfrm>
        </p:grpSpPr>
        <p:sp>
          <p:nvSpPr>
            <p:cNvPr id="210" name=""/>
            <p:cNvSpPr/>
            <p:nvPr/>
          </p:nvSpPr>
          <p:spPr>
            <a:xfrm>
              <a:off x="1143000" y="4343400"/>
              <a:ext cx="63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66"/>
                  </a:solidFill>
                  <a:latin typeface="Arial"/>
                </a:rPr>
                <a:t>Ini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85800" y="4800600"/>
              <a:ext cx="1600200" cy="36324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result = 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666880" y="4343400"/>
            <a:ext cx="1600200" cy="825120"/>
            <a:chOff x="2666880" y="4343400"/>
            <a:chExt cx="1600200" cy="825120"/>
          </a:xfrm>
        </p:grpSpPr>
        <p:sp>
          <p:nvSpPr>
            <p:cNvPr id="213" name=""/>
            <p:cNvSpPr/>
            <p:nvPr/>
          </p:nvSpPr>
          <p:spPr>
            <a:xfrm>
              <a:off x="3017880" y="4343400"/>
              <a:ext cx="102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66"/>
                  </a:solidFill>
                  <a:latin typeface="Arial"/>
                </a:rPr>
                <a:t>Tes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666880" y="4805280"/>
              <a:ext cx="1600200" cy="36324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 !=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762120" y="5410080"/>
            <a:ext cx="1600200" cy="825480"/>
            <a:chOff x="762120" y="5410080"/>
            <a:chExt cx="1600200" cy="825480"/>
          </a:xfrm>
        </p:grpSpPr>
        <p:sp>
          <p:nvSpPr>
            <p:cNvPr id="216" name=""/>
            <p:cNvSpPr/>
            <p:nvPr/>
          </p:nvSpPr>
          <p:spPr>
            <a:xfrm>
              <a:off x="838080" y="54100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66"/>
                  </a:solidFill>
                  <a:latin typeface="Arial"/>
                </a:rPr>
                <a:t>Update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2120" y="5872320"/>
              <a:ext cx="1600200" cy="36324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 = p &gt;&gt; 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5791320" y="45720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5029200"/>
            <a:ext cx="2971800" cy="146052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p &amp; 0x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*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1143000"/>
            <a:ext cx="28958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oto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1676520"/>
            <a:ext cx="3814920" cy="2557800"/>
          </a:xfrm>
          <a:prstGeom prst="rect">
            <a:avLst/>
          </a:prstGeom>
          <a:solidFill>
            <a:srgbClr val="ffcc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ni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!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Updat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91320" y="1295280"/>
            <a:ext cx="2743200" cy="3106440"/>
          </a:xfrm>
          <a:prstGeom prst="rect">
            <a:avLst/>
          </a:prstGeom>
          <a:solidFill>
            <a:srgbClr val="cc99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p == 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p &amp; 0x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*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 = p &gt;&gt;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p != 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2590920"/>
            <a:ext cx="685800" cy="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105160" y="151920"/>
            <a:ext cx="373356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witch Statemen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92560" y="1218960"/>
            <a:ext cx="3975120" cy="47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mplementation Op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ies of conditiona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ood if few ca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low if man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ump T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okup branch targe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voids conditional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ssible when cases are small integer constan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C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icks one based on case structur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g in example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 default give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380880"/>
            <a:ext cx="4876920" cy="5849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ypedef en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ADD, MULT, MINUS, DIV, MOD, BAD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op_typ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unparse_symbol(op_type op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itch (op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ADD 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'+'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MUL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'*'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MINUS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'-'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DIV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'/'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MOD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'%'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BAD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'?'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6451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Jump Table Structu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562000" y="1371600"/>
            <a:ext cx="2896200" cy="4952880"/>
            <a:chOff x="5562000" y="1371600"/>
            <a:chExt cx="2896200" cy="4952880"/>
          </a:xfrm>
        </p:grpSpPr>
        <p:grpSp>
          <p:nvGrpSpPr>
            <p:cNvPr id="229" name=""/>
            <p:cNvGrpSpPr/>
            <p:nvPr/>
          </p:nvGrpSpPr>
          <p:grpSpPr>
            <a:xfrm>
              <a:off x="5867280" y="1371600"/>
              <a:ext cx="2590920" cy="838080"/>
              <a:chOff x="5867280" y="1371600"/>
              <a:chExt cx="2590920" cy="838080"/>
            </a:xfrm>
          </p:grpSpPr>
          <p:sp>
            <p:nvSpPr>
              <p:cNvPr id="230" name=""/>
              <p:cNvSpPr/>
              <p:nvPr/>
            </p:nvSpPr>
            <p:spPr>
              <a:xfrm>
                <a:off x="6858000" y="1371600"/>
                <a:ext cx="1600200" cy="83808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Code Block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867280" y="137160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Targ0: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5867280" y="2362320"/>
              <a:ext cx="2590920" cy="838080"/>
              <a:chOff x="5867280" y="2362320"/>
              <a:chExt cx="2590920" cy="838080"/>
            </a:xfrm>
          </p:grpSpPr>
          <p:sp>
            <p:nvSpPr>
              <p:cNvPr id="233" name=""/>
              <p:cNvSpPr/>
              <p:nvPr/>
            </p:nvSpPr>
            <p:spPr>
              <a:xfrm>
                <a:off x="6858000" y="2362320"/>
                <a:ext cx="1600200" cy="83808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Code Block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867280" y="236232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Targ1: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5867280" y="3352680"/>
              <a:ext cx="2590920" cy="838440"/>
              <a:chOff x="5867280" y="3352680"/>
              <a:chExt cx="2590920" cy="838440"/>
            </a:xfrm>
          </p:grpSpPr>
          <p:sp>
            <p:nvSpPr>
              <p:cNvPr id="236" name=""/>
              <p:cNvSpPr/>
              <p:nvPr/>
            </p:nvSpPr>
            <p:spPr>
              <a:xfrm>
                <a:off x="6858000" y="3352680"/>
                <a:ext cx="1600200" cy="83844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Code Block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67280" y="335268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Targ2: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5562000" y="5486400"/>
              <a:ext cx="2864520" cy="838080"/>
              <a:chOff x="5562000" y="5486400"/>
              <a:chExt cx="2864520" cy="838080"/>
            </a:xfrm>
          </p:grpSpPr>
          <p:sp>
            <p:nvSpPr>
              <p:cNvPr id="239" name=""/>
              <p:cNvSpPr/>
              <p:nvPr/>
            </p:nvSpPr>
            <p:spPr>
              <a:xfrm>
                <a:off x="6826320" y="5486400"/>
                <a:ext cx="1600200" cy="83808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Code Block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66"/>
                    </a:solidFill>
                    <a:latin typeface="Arial"/>
                  </a:rPr>
                  <a:t>n</a:t>
                </a: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–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562000" y="5486400"/>
                <a:ext cx="127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Targ</a:t>
                </a:r>
                <a:r>
                  <a:rPr b="1" i="1" lang="en-US" sz="1800" spc="-1" strike="noStrike">
                    <a:solidFill>
                      <a:srgbClr val="000066"/>
                    </a:solidFill>
                    <a:latin typeface="Courier New"/>
                  </a:rPr>
                  <a:t>n</a:t>
                </a: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-1: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6858000" y="4343400"/>
              <a:ext cx="16002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2971800" y="1447920"/>
            <a:ext cx="2590560" cy="2438280"/>
            <a:chOff x="2971800" y="1447920"/>
            <a:chExt cx="2590560" cy="2438280"/>
          </a:xfrm>
        </p:grpSpPr>
        <p:sp>
          <p:nvSpPr>
            <p:cNvPr id="243" name=""/>
            <p:cNvSpPr/>
            <p:nvPr/>
          </p:nvSpPr>
          <p:spPr>
            <a:xfrm>
              <a:off x="3962160" y="1447920"/>
              <a:ext cx="16002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Targ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62160" y="1828800"/>
              <a:ext cx="16002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Targ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62160" y="2209680"/>
              <a:ext cx="16002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Targ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62160" y="3505320"/>
              <a:ext cx="16002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Targ</a:t>
              </a:r>
              <a:r>
                <a:rPr b="1" i="1" lang="en-US" sz="1800" spc="-1" strike="noStrike">
                  <a:solidFill>
                    <a:srgbClr val="000066"/>
                  </a:solidFill>
                  <a:latin typeface="Courier New"/>
                </a:rPr>
                <a:t>n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62160" y="2590920"/>
              <a:ext cx="1600200" cy="914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971800" y="14479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jtab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371600" y="4876920"/>
            <a:ext cx="2971800" cy="63756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arget = JTab[op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*targe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1447920"/>
            <a:ext cx="2286000" cy="2557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itch(op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val_0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lock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val_1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lock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• • 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val_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1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lock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91440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witch For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71960" y="4419720"/>
            <a:ext cx="30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pprox. Transl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735000" y="91440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ump Tab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02600" y="8380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ump Targe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08660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witch Statement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3975120" cy="41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ranching Possibiliti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5257800"/>
            <a:ext cx="3441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tup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4343400"/>
            <a:ext cx="593568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21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parse_symbol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21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etu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21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etu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21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21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$5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Compare op : 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21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a .L4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gt; goto don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21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*.L57(,%eax,4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oto Table[op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86400" y="1066680"/>
            <a:ext cx="333684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numerated Valu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491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491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UL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491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INU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491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IV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491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491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A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1371600"/>
            <a:ext cx="5105160" cy="2832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ypedef en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ADD, MULT, MINUS, DIV, MOD, BAD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op_typ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unparse_symbol(op_type op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itch (op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• • 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86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ssembly Setup Explan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ymbolic Label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abels of form 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.L</a:t>
            </a:r>
            <a:r>
              <a:rPr b="1" i="1" lang="en-US" sz="2000" spc="-1" strike="noStrike">
                <a:solidFill>
                  <a:srgbClr val="003300"/>
                </a:solidFill>
                <a:latin typeface="Courier New"/>
              </a:rPr>
              <a:t>X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ranslated into addresses by assembl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able Structur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target requires 4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ase address a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.L57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Jump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jmp .L49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Jump target is denoted by label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.L49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jmp *.L57(,%eax,4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tart of jump table denoted by labe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L57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ax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holds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o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ust scale by factor of 4 to get offset into t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etch target from effective Address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L57 + op*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5334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Jump Tab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3962520"/>
            <a:ext cx="333720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numerated Valu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UL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INU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IV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A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1371600"/>
            <a:ext cx="2976840" cy="255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section .ro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align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7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ong .L5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Op 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ong .L5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Op =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ong .L5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Op =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ong .L5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Op = 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ong .L55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Op =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ong .L5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Op = 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838080"/>
            <a:ext cx="34419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able Conte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14800" y="1295280"/>
            <a:ext cx="4251240" cy="5026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1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43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’+’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.L4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2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42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’*’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.L4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3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45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’-’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.L4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4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47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’/’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.L4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5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37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’%’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.L4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6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63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’?’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Fall Through to .L4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094280" y="762120"/>
            <a:ext cx="34416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argets &amp; Comple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391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witch Statement Completion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520" y="2438280"/>
            <a:ext cx="8255160" cy="784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uzz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at value returned whe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invalid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nsw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ax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t beginning of proced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is becomes the returned val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vantage of Jump Tab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do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way branch in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ope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76520" y="1066680"/>
            <a:ext cx="5935680" cy="11862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303516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49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Don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303516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303516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303516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5448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bject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2548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tup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abel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.L49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ecomes addre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804875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abel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.L57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ecomes addre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8048bc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" y="2133720"/>
            <a:ext cx="8610480" cy="20091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8048718 &lt;unparse_symbol&gt;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18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5             pushl 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19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9 e5          movl  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1b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b 45 08       movl   0x8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1e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3 f8 05       cmpl   $0x5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21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77 39          ja     804875c &lt;unparse_symbol+0x44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23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f 24 85 c0 8b jmp    *0x8048bc0(,%eax,4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6134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bject Code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Jump Tab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esn’t show up in disassembled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inspect using GD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db code-examp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(gdb) x/6xw 0x8048bc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1" i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mine </a:t>
            </a:r>
            <a:r>
              <a:rPr b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6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he</a:t>
            </a:r>
            <a:r>
              <a:rPr b="1" i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decimal format “</a:t>
            </a:r>
            <a:r>
              <a:rPr b="1" i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rds” (4-bytes each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command “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help 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” to get format document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1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8048bc0 &lt;_fini+32&gt;: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08048730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08048737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08048740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08048747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08048750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08048757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051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tracting Jump Table from Bin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44600" y="838080"/>
            <a:ext cx="83944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Jump Table Stored in Read Only Data Segment (.rodata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rious fixed values needed by your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n examine with objdump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bjdump code-examples –s –-section=.ro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ow everything in indicated segmen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ard to rea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ump table entries shown with reversed byte order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75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30870408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really means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0x0804873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6320" y="3962520"/>
            <a:ext cx="8839080" cy="1460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ontents of section .rodata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bc0 </a:t>
            </a:r>
            <a:r>
              <a:rPr b="1" i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30870408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i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37870408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i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40870408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i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47870408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0...7...@...G..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bd0 </a:t>
            </a:r>
            <a:r>
              <a:rPr b="1" i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50870408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i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57870408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46616374 28256429  P...W...Fact(%d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be0 203d2025 6c640a00 43686172 203d2025   = %ld..Char = %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…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454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tting Condition Codes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plicit Setting by Compare Instru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mpl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mpl b,a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ke computing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a-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without setting destin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F set if carry out from most significant b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d for unsigned comparis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ZF set i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 == 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F set i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(a-b) &lt;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F set if two’s complement overflo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(a&gt;0 &amp;&amp; b&lt;0 &amp;&amp; (a-b)&lt;0) || (a&lt;0 &amp;&amp; b&gt;0 &amp;&amp; (a-b)&gt;0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6832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isassembled Targe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90520" y="5181480"/>
            <a:ext cx="8307360" cy="12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ovl %esi,%esi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does noth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erted to align instructions for better cache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6320" y="1219320"/>
            <a:ext cx="8915400" cy="36550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3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8 2b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$0x2b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35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b 25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   804875c &lt;unparse_symbol+0x44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37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8 2a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$0x2a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3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b 1e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   804875c &lt;unparse_symbol+0x44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804873e: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89 f6         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  %esi,%es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4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8 2d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$0x2d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45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b 15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   804875c &lt;unparse_symbol+0x44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47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8 2f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$0x2f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4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b 0e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   804875c &lt;unparse_symbol+0x44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804874e: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89 f6         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  %esi,%es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5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8 25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$0x25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55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b 05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   804875c &lt;unparse_symbol+0x44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57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8 3f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$0x3f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594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ching Disassembled Targe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657600" y="1828800"/>
            <a:ext cx="4800600" cy="36550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3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8 2b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35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b 25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37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8 2a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3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b 1e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3e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9 f6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4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8 2d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45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b 15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47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8 2f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4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b 0e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4e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9 f6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5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8 25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55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b 05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57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8 3f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2286000"/>
            <a:ext cx="2971800" cy="25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520560"/>
                <a:tab algn="l" pos="1371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tr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20560"/>
                <a:tab algn="l" pos="1371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804873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520560"/>
                <a:tab algn="l" pos="1371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8048737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520560"/>
                <a:tab algn="l" pos="1371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8048740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520560"/>
                <a:tab algn="l" pos="1371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804874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520560"/>
                <a:tab algn="l" pos="1371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804875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520560"/>
                <a:tab algn="l" pos="1371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804875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133720" y="1980720"/>
            <a:ext cx="1676160" cy="838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133720" y="2590560"/>
            <a:ext cx="160020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33720" y="3352320"/>
            <a:ext cx="1676160" cy="304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33720" y="3886200"/>
            <a:ext cx="1600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33720" y="4267080"/>
            <a:ext cx="167616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33720" y="4572000"/>
            <a:ext cx="167616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parse Switch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647960" y="1220760"/>
            <a:ext cx="39495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 practical to use jump t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ould require 1000 entri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bvious translation into if-then-else would have max. of 9 tes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1219320"/>
            <a:ext cx="4647960" cy="5026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Return x/111 if x is multip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&amp; &lt;= 999.  -1 otherwise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div111(int 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itch(x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  0: return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111: return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222: return 2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333: return 3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444: return 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555: return 5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666: return 6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777: return 7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888: return 8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999: return 9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efault: return -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parse Switch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47960" y="1220760"/>
            <a:ext cx="39495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ares x to possible case valu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umps different places depending on outcom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1219320"/>
            <a:ext cx="4647960" cy="3380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et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$444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x:44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e L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g L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$111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x:1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e L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g L1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estl %ea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x: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e L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L1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 . 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2759040"/>
            <a:ext cx="2362320" cy="392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 . 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5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1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L1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6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2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L1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7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3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L1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8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4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L1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 . 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1295280" y="3429000"/>
            <a:ext cx="609480" cy="721440"/>
            <a:chOff x="1295280" y="3429000"/>
            <a:chExt cx="609480" cy="721440"/>
          </a:xfrm>
        </p:grpSpPr>
        <p:sp>
          <p:nvSpPr>
            <p:cNvPr id="300" name=""/>
            <p:cNvSpPr/>
            <p:nvPr/>
          </p:nvSpPr>
          <p:spPr>
            <a:xfrm flipH="1">
              <a:off x="1599840" y="3429000"/>
              <a:ext cx="304920" cy="3808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95280" y="3809880"/>
              <a:ext cx="4143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800600" y="4308480"/>
            <a:ext cx="609120" cy="721440"/>
            <a:chOff x="4800600" y="4308480"/>
            <a:chExt cx="609120" cy="721440"/>
          </a:xfrm>
        </p:grpSpPr>
        <p:sp>
          <p:nvSpPr>
            <p:cNvPr id="303" name=""/>
            <p:cNvSpPr/>
            <p:nvPr/>
          </p:nvSpPr>
          <p:spPr>
            <a:xfrm flipH="1">
              <a:off x="5105160" y="4308480"/>
              <a:ext cx="304560" cy="3808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00600" y="4689360"/>
              <a:ext cx="414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6324480" y="4308480"/>
            <a:ext cx="609480" cy="721440"/>
            <a:chOff x="6324480" y="4308480"/>
            <a:chExt cx="609480" cy="721440"/>
          </a:xfrm>
        </p:grpSpPr>
        <p:sp>
          <p:nvSpPr>
            <p:cNvPr id="306" name=""/>
            <p:cNvSpPr/>
            <p:nvPr/>
          </p:nvSpPr>
          <p:spPr>
            <a:xfrm flipH="1">
              <a:off x="6629040" y="4308480"/>
              <a:ext cx="304920" cy="3808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24480" y="4689360"/>
              <a:ext cx="4143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048120" y="4308480"/>
            <a:ext cx="609120" cy="721440"/>
            <a:chOff x="3048120" y="4308480"/>
            <a:chExt cx="609120" cy="721440"/>
          </a:xfrm>
        </p:grpSpPr>
        <p:sp>
          <p:nvSpPr>
            <p:cNvPr id="309" name=""/>
            <p:cNvSpPr/>
            <p:nvPr/>
          </p:nvSpPr>
          <p:spPr>
            <a:xfrm flipH="1">
              <a:off x="3352680" y="4308480"/>
              <a:ext cx="304560" cy="3808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48120" y="4689360"/>
              <a:ext cx="414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5486400" y="2514600"/>
            <a:ext cx="0" cy="3808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2971800" y="1676520"/>
            <a:ext cx="1295280" cy="76176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267080" y="1676520"/>
            <a:ext cx="1143000" cy="76176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10080" y="2438280"/>
            <a:ext cx="1143000" cy="9144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609840" cy="9144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981080" y="2438280"/>
            <a:ext cx="914400" cy="9144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5029200" y="2514600"/>
            <a:ext cx="380880" cy="8380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05320" y="3429000"/>
            <a:ext cx="304560" cy="76212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029200" y="3429000"/>
            <a:ext cx="533520" cy="8380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553080" y="3429000"/>
            <a:ext cx="533520" cy="8380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parse Switch Code Structu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90520" y="5181480"/>
            <a:ext cx="8307360" cy="12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rganizes cases as binary tre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garithmic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67080" y="1752480"/>
            <a:ext cx="0" cy="38124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95480" y="2514600"/>
            <a:ext cx="0" cy="3808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05120" y="3429000"/>
            <a:ext cx="0" cy="3808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352680" y="3429000"/>
            <a:ext cx="0" cy="3808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952880" y="3429000"/>
            <a:ext cx="0" cy="3808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77120" y="3429000"/>
            <a:ext cx="0" cy="3808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33920" y="4343400"/>
            <a:ext cx="0" cy="3808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486400" y="4343400"/>
            <a:ext cx="0" cy="3808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010280" y="4343400"/>
            <a:ext cx="0" cy="3808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600200" y="1447920"/>
            <a:ext cx="5788080" cy="3054240"/>
            <a:chOff x="1600200" y="1447920"/>
            <a:chExt cx="5788080" cy="3054240"/>
          </a:xfrm>
        </p:grpSpPr>
        <p:sp>
          <p:nvSpPr>
            <p:cNvPr id="333" name=""/>
            <p:cNvSpPr/>
            <p:nvPr/>
          </p:nvSpPr>
          <p:spPr>
            <a:xfrm>
              <a:off x="3962520" y="1447920"/>
              <a:ext cx="682560" cy="463320"/>
            </a:xfrm>
            <a:prstGeom prst="ellipse">
              <a:avLst/>
            </a:prstGeom>
            <a:solidFill>
              <a:srgbClr val="cc99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4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590920" y="2209680"/>
              <a:ext cx="682560" cy="463680"/>
            </a:xfrm>
            <a:prstGeom prst="ellipse">
              <a:avLst/>
            </a:prstGeom>
            <a:solidFill>
              <a:srgbClr val="cc99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1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108400" y="2209680"/>
              <a:ext cx="682920" cy="463680"/>
            </a:xfrm>
            <a:prstGeom prst="ellipse">
              <a:avLst/>
            </a:prstGeom>
            <a:solidFill>
              <a:srgbClr val="cc99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77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00200" y="3124080"/>
              <a:ext cx="682560" cy="463680"/>
            </a:xfrm>
            <a:prstGeom prst="ellipse">
              <a:avLst/>
            </a:prstGeom>
            <a:solidFill>
              <a:srgbClr val="cc99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27320" y="3124080"/>
              <a:ext cx="682560" cy="463680"/>
            </a:xfrm>
            <a:prstGeom prst="ellipse">
              <a:avLst/>
            </a:prstGeom>
            <a:solidFill>
              <a:srgbClr val="cc99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2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654440" y="3124080"/>
              <a:ext cx="682560" cy="463680"/>
            </a:xfrm>
            <a:prstGeom prst="ellipse">
              <a:avLst/>
            </a:prstGeom>
            <a:solidFill>
              <a:srgbClr val="cc99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5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181560" y="3124080"/>
              <a:ext cx="682920" cy="463680"/>
            </a:xfrm>
            <a:prstGeom prst="ellipse">
              <a:avLst/>
            </a:prstGeom>
            <a:solidFill>
              <a:srgbClr val="cc99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88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429000" y="4038480"/>
              <a:ext cx="682560" cy="463680"/>
            </a:xfrm>
            <a:prstGeom prst="ellipse">
              <a:avLst/>
            </a:prstGeom>
            <a:solidFill>
              <a:srgbClr val="cc99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3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81480" y="4038480"/>
              <a:ext cx="682920" cy="463680"/>
            </a:xfrm>
            <a:prstGeom prst="ellipse">
              <a:avLst/>
            </a:prstGeom>
            <a:solidFill>
              <a:srgbClr val="cc99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6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705720" y="4038480"/>
              <a:ext cx="682560" cy="463680"/>
            </a:xfrm>
            <a:prstGeom prst="ellipse">
              <a:avLst/>
            </a:prstGeom>
            <a:solidFill>
              <a:srgbClr val="cc99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99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1719360" y="3792600"/>
            <a:ext cx="414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666880" y="2860560"/>
            <a:ext cx="414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038480" y="2098800"/>
            <a:ext cx="414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334120" y="2895480"/>
            <a:ext cx="414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724280" y="3774960"/>
            <a:ext cx="414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248520" y="3774960"/>
            <a:ext cx="414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81680" y="4689360"/>
            <a:ext cx="414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124080" y="3774960"/>
            <a:ext cx="414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05320" y="4689360"/>
            <a:ext cx="414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57800" y="4724280"/>
            <a:ext cx="414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505320" y="167652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95280" y="3505320"/>
            <a:ext cx="493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Symbol"/>
                <a:ea typeface="Symbol"/>
              </a:rPr>
              <a:t>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752480" y="3573360"/>
            <a:ext cx="493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459320" y="167652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25800" y="1828800"/>
            <a:ext cx="493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24280" y="2514600"/>
            <a:ext cx="493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678640" y="251460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145120" y="266688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15000" y="342108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669000" y="3421080"/>
            <a:ext cx="493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135840" y="357336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133720" y="250668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87720" y="250668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554200" y="2658960"/>
            <a:ext cx="493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124080" y="4343400"/>
            <a:ext cx="493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Symbol"/>
                <a:ea typeface="Symbol"/>
              </a:rPr>
              <a:t>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81280" y="4411800"/>
            <a:ext cx="493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876920" y="434340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Symbol"/>
                <a:ea typeface="Symbol"/>
              </a:rPr>
              <a:t>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34120" y="441180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400800" y="434340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Symbol"/>
                <a:ea typeface="Symbol"/>
              </a:rPr>
              <a:t>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0" y="441180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3504600" y="350532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Symbol"/>
                <a:ea typeface="Symbol"/>
              </a:rPr>
              <a:t>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971080" y="350532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5144400" y="357336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Symbol"/>
                <a:ea typeface="Symbol"/>
              </a:rPr>
              <a:t>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4611600" y="3573360"/>
            <a:ext cx="493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613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iz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90520" y="837720"/>
            <a:ext cx="4076640" cy="522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 Control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f-then-els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-whi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hi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witch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Assembler Control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jump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ditional jump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ompiler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ust generate assembly code to implement more complex control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038120" y="837720"/>
            <a:ext cx="4559400" cy="522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tandard Techniqu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l loops converted to do-while form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arge switch statements use jump tabl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onditions in CISC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ISC machines generally have condition code register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onditions in RISC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se general registers to store condition informa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pecial comparison instructio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.g., on Alpha: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mple $16,1,$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ets register $1 to 1 when Register $16 &lt;= 1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0">
              <a:lnSpc>
                <a:spcPct val="107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07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tting Condition Codes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plicit Setting by Test instru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estl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s condition codes based on value of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amp;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ful to have one of the operands be a mas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estl b,a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ke computing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a&amp;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without setting destination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ZF set whe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&amp;b ==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F set whe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&amp;b &lt;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743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ading Condition Cod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33520" y="2070000"/>
          <a:ext cx="8229600" cy="471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70000"/>
                    <a:ext cx="822960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tX Instru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single byte based on combinations of condition cod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8001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ading Condition Codes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0520" y="837720"/>
            <a:ext cx="5533920" cy="560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tX Instru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single byte based on combinations of condition cod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e of 8 addressable byte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mbedded within first 4 integer regist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oes not alter remaining 3 byt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ypically us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movzb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to finish job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24480" y="16002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24480" y="20574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24480" y="25146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24480" y="29718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24480" y="34290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38862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4343400"/>
            <a:ext cx="2514600" cy="380880"/>
          </a:xfrm>
          <a:prstGeom prst="rect">
            <a:avLst/>
          </a:prstGeom>
          <a:solidFill>
            <a:srgbClr val="00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24480" y="4800600"/>
            <a:ext cx="2514600" cy="380880"/>
          </a:xfrm>
          <a:prstGeom prst="rect">
            <a:avLst/>
          </a:prstGeom>
          <a:solidFill>
            <a:srgbClr val="00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16002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67480" y="16002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a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53280" y="20574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d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467480" y="20574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d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153280" y="25146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c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25146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c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153280" y="29718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b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67480" y="29718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b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3880" y="3657600"/>
            <a:ext cx="3814920" cy="1186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gt (int x, int 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x &gt; 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5105520"/>
            <a:ext cx="5790960" cy="11862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ax,8(%ebp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Compare x :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g %al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al = x &gt;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zbl %al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ero rest of 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562720" y="5562720"/>
            <a:ext cx="9144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89880" y="5370480"/>
            <a:ext cx="138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te inverted ordering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472428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56080" y="152280"/>
            <a:ext cx="20318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Jump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09480" y="1600200"/>
          <a:ext cx="8229600" cy="48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82296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90520" y="685800"/>
            <a:ext cx="8307360" cy="575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jX Instru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ump to different part of code depending on condition cod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365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ditional Branch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2286000"/>
            <a:ext cx="3124080" cy="2009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x(int x, int 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x &gt; 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1371600"/>
            <a:ext cx="380988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_max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ax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e L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dx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9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38880" y="2514600"/>
            <a:ext cx="304920" cy="1447920"/>
          </a:xfrm>
          <a:custGeom>
            <a:avLst/>
            <a:gdLst>
              <a:gd name="textAreaLeft" fmla="*/ 0 w 304920"/>
              <a:gd name="textAreaRight" fmla="*/ 110160 w 3049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97520" y="30481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16765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45600" y="17524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5200" y="4495680"/>
            <a:ext cx="304920" cy="685800"/>
          </a:xfrm>
          <a:custGeom>
            <a:avLst/>
            <a:gdLst>
              <a:gd name="textAreaLeft" fmla="*/ 0 w 304920"/>
              <a:gd name="textAreaRight" fmla="*/ 110160 w 3049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0840" y="46483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96520" y="152280"/>
            <a:ext cx="8318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ditional Branch Example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4191120"/>
            <a:ext cx="60958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3035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3035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3035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ax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x :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3035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e L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= goto L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3035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d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3035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9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Don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066680"/>
            <a:ext cx="3886200" cy="283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goto_max(int x, int 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val = 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ok = (x &lt;= y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o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don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val 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5334120"/>
            <a:ext cx="304920" cy="304560"/>
          </a:xfrm>
          <a:custGeom>
            <a:avLst/>
            <a:gdLst>
              <a:gd name="textAreaLeft" fmla="*/ 0 w 304920"/>
              <a:gd name="textAreaRight" fmla="*/ 110160 w 30492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15880" y="5330880"/>
            <a:ext cx="23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kipped when x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19720" y="1649160"/>
            <a:ext cx="4178160" cy="25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 allows “goto” as means of transferring contro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loser to machine-level programming sty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ally considered bad coding sty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0-28T20:28:26Z</dcterms:modified>
  <cp:revision>74</cp:revision>
  <dc:subject/>
  <dc:title>Machine Level Programming II</dc:title>
</cp:coreProperties>
</file>