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D49F10D-4D6B-4F33-A55B-BA05C79CE99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tivations for V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lerating translation with TLB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tations, servers, modern PC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791320"/>
            <a:ext cx="8153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2600" indent="-282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: Hardware converts virtual addresses to physical addresses via OS-managed lookup table (page tabl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43000" y="3124080"/>
            <a:ext cx="1218960" cy="1143000"/>
            <a:chOff x="1143000" y="3124080"/>
            <a:chExt cx="1218960" cy="1143000"/>
          </a:xfrm>
        </p:grpSpPr>
        <p:sp>
          <p:nvSpPr>
            <p:cNvPr id="258" name=""/>
            <p:cNvSpPr/>
            <p:nvPr/>
          </p:nvSpPr>
          <p:spPr>
            <a:xfrm>
              <a:off x="1218960" y="32004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31240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342900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48520" y="1752480"/>
            <a:ext cx="1752480" cy="3353040"/>
            <a:chOff x="6248520" y="1752480"/>
            <a:chExt cx="1752480" cy="3353040"/>
          </a:xfrm>
        </p:grpSpPr>
        <p:sp>
          <p:nvSpPr>
            <p:cNvPr id="262" name=""/>
            <p:cNvSpPr/>
            <p:nvPr/>
          </p:nvSpPr>
          <p:spPr>
            <a:xfrm>
              <a:off x="6324840" y="1828800"/>
              <a:ext cx="1676160" cy="3276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17524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782040" y="1905120"/>
              <a:ext cx="914400" cy="2971800"/>
              <a:chOff x="6782040" y="1905120"/>
              <a:chExt cx="914400" cy="2971800"/>
            </a:xfrm>
          </p:grpSpPr>
          <p:sp>
            <p:nvSpPr>
              <p:cNvPr id="265" name=""/>
              <p:cNvSpPr/>
              <p:nvPr/>
            </p:nvSpPr>
            <p:spPr>
              <a:xfrm>
                <a:off x="6782040" y="1905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2040" y="2133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2040" y="2362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82040" y="2590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82040" y="2819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82040" y="3276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82040" y="3048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82040" y="3505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2040" y="3733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82040" y="3962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2040" y="4191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82040" y="4648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82040" y="4419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477120" y="18288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20574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5720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553440" y="137160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2590920"/>
            <a:ext cx="121896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514600"/>
            <a:ext cx="1219320" cy="23623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62520" y="2666880"/>
            <a:ext cx="533160" cy="2057400"/>
            <a:chOff x="3962520" y="2666880"/>
            <a:chExt cx="533160" cy="2057400"/>
          </a:xfrm>
        </p:grpSpPr>
        <p:sp>
          <p:nvSpPr>
            <p:cNvPr id="285" name=""/>
            <p:cNvSpPr/>
            <p:nvPr/>
          </p:nvSpPr>
          <p:spPr>
            <a:xfrm>
              <a:off x="3962520" y="2666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2895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62520" y="3124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3352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5812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4038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809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4267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4495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28195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41972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12800" y="21016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86000" y="3276360"/>
            <a:ext cx="1676520" cy="2286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72040" y="3152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81400" y="407664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7720" y="3238560"/>
            <a:ext cx="2486160" cy="863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67080" y="2971440"/>
            <a:ext cx="251460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285640" y="3809520"/>
            <a:ext cx="1676520" cy="3049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962160" y="4266720"/>
            <a:ext cx="533520" cy="228600"/>
            <a:chOff x="3962160" y="4266720"/>
            <a:chExt cx="533520" cy="228600"/>
          </a:xfrm>
        </p:grpSpPr>
        <p:sp>
          <p:nvSpPr>
            <p:cNvPr id="305" name=""/>
            <p:cNvSpPr/>
            <p:nvPr/>
          </p:nvSpPr>
          <p:spPr>
            <a:xfrm flipV="1">
              <a:off x="396252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96216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962160" y="3580920"/>
            <a:ext cx="533520" cy="228600"/>
            <a:chOff x="3962160" y="3580920"/>
            <a:chExt cx="533520" cy="228600"/>
          </a:xfrm>
        </p:grpSpPr>
        <p:sp>
          <p:nvSpPr>
            <p:cNvPr id="308" name=""/>
            <p:cNvSpPr/>
            <p:nvPr/>
          </p:nvSpPr>
          <p:spPr>
            <a:xfrm flipV="1">
              <a:off x="396252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96216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00600" y="5029200"/>
            <a:ext cx="1295280" cy="666720"/>
            <a:chOff x="4800600" y="5029200"/>
            <a:chExt cx="1295280" cy="666720"/>
          </a:xfrm>
        </p:grpSpPr>
        <p:sp>
          <p:nvSpPr>
            <p:cNvPr id="311" name=""/>
            <p:cNvSpPr/>
            <p:nvPr/>
          </p:nvSpPr>
          <p:spPr>
            <a:xfrm>
              <a:off x="4800600" y="5181840"/>
              <a:ext cx="1295280" cy="380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800600" y="5029200"/>
              <a:ext cx="1295280" cy="666720"/>
              <a:chOff x="4800600" y="5029200"/>
              <a:chExt cx="1295280" cy="666720"/>
            </a:xfrm>
          </p:grpSpPr>
          <p:sp>
            <p:nvSpPr>
              <p:cNvPr id="313" name=""/>
              <p:cNvSpPr/>
              <p:nvPr/>
            </p:nvSpPr>
            <p:spPr>
              <a:xfrm>
                <a:off x="4800600" y="5029200"/>
                <a:ext cx="1295280" cy="304920"/>
              </a:xfrm>
              <a:prstGeom prst="ellipse">
                <a:avLst/>
              </a:prstGeom>
              <a:solidFill>
                <a:srgbClr val="33cc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060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9588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56272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33cccc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5105520" y="533412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640" y="370512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9280" y="438156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840" y="236232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1320" y="243828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40" y="334800"/>
            <a:ext cx="880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Faults (like “Cache Misses”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an object is on disk rather than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indicates virtual address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exception handler invoked to move data from disk in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rent process suspends, others can resu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has full control over placement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4680" y="4732200"/>
            <a:ext cx="684000" cy="64008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4686480"/>
            <a:ext cx="68436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36840" y="3909960"/>
            <a:ext cx="1005120" cy="1965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90760" y="3863880"/>
            <a:ext cx="1005120" cy="196560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0080" y="39560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10080" y="409248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0080" y="423072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0080" y="436716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50360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10080" y="477828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0080" y="46418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10080" y="49150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10080" y="5051520"/>
            <a:ext cx="54900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0080" y="518940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10080" y="532620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10080" y="56008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10080" y="546264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04160" y="358128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46280" y="436716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4321080"/>
            <a:ext cx="730080" cy="1416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19160" y="44132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19160" y="454968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19160" y="46879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19160" y="48243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9160" y="496080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9160" y="523548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9160" y="50990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9160" y="537228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9160" y="55101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5040" y="403848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97000" y="4754520"/>
            <a:ext cx="1513080" cy="66348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101680" y="4595400"/>
            <a:ext cx="150840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91916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91880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91916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91880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22440" y="5921280"/>
            <a:ext cx="77652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22440" y="5829480"/>
            <a:ext cx="77652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9896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6149880"/>
            <a:ext cx="776520" cy="795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67520" y="596736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84400" y="5035680"/>
            <a:ext cx="77796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9720" y="5440320"/>
            <a:ext cx="662040" cy="38916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4320" y="426888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0960" y="43149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72160" y="488484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6080" y="483876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34320" y="4062240"/>
            <a:ext cx="1004760" cy="196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88240" y="4016520"/>
            <a:ext cx="1004760" cy="1965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07200" y="41083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07200" y="424512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07200" y="438300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07200" y="451944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07200" y="465624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07200" y="493092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07200" y="47941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07200" y="50673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07200" y="520380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07200" y="534204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07200" y="547848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07200" y="57531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07200" y="561492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7640" y="373392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43760" y="451944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7680" y="4473720"/>
            <a:ext cx="730080" cy="141588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16640" y="45655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16640" y="470232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6640" y="484020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16640" y="49766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6640" y="511344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6640" y="53881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6640" y="52513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16640" y="552456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6640" y="56624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91400" y="419112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94480" y="4906800"/>
            <a:ext cx="1512720" cy="66384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99160" y="4747680"/>
            <a:ext cx="150804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41664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641628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19920" y="6073920"/>
            <a:ext cx="77616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19920" y="5981760"/>
            <a:ext cx="77616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1992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19920" y="6302520"/>
            <a:ext cx="776160" cy="7920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65000" y="611964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81880" y="5187960"/>
            <a:ext cx="77760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41800" y="44211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78440" y="446724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553080" y="5105520"/>
            <a:ext cx="1524240" cy="48096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320" y="3309840"/>
            <a:ext cx="187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efore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7320" y="3316320"/>
            <a:ext cx="1623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fter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914040" y="50976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395680" y="52722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cing a Page Fa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6483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or Signals Control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lock of length P starting at disk address X and store starting at memory address 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Occu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emory Access (DM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 control of I/O control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 / O Controller Signals Comple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rupt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sumes suspended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19840" y="55879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95000" y="5254560"/>
            <a:ext cx="586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9840" y="5207040"/>
            <a:ext cx="559080" cy="4446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19840" y="51307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726320" y="5505480"/>
            <a:ext cx="547560" cy="1522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1400" y="5292720"/>
            <a:ext cx="631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900840" y="5130720"/>
            <a:ext cx="650520" cy="596880"/>
            <a:chOff x="6900840" y="5130720"/>
            <a:chExt cx="650520" cy="596880"/>
          </a:xfrm>
        </p:grpSpPr>
        <p:sp>
          <p:nvSpPr>
            <p:cNvPr id="427" name=""/>
            <p:cNvSpPr/>
            <p:nvPr/>
          </p:nvSpPr>
          <p:spPr>
            <a:xfrm>
              <a:off x="6921360" y="55879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00840" y="5254200"/>
              <a:ext cx="58680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21360" y="5206680"/>
              <a:ext cx="596880" cy="44460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21360" y="51307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27840" y="5505120"/>
              <a:ext cx="583920" cy="152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26400" y="5305320"/>
              <a:ext cx="62496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7207200" y="4572000"/>
            <a:ext cx="0" cy="622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07480" y="4572000"/>
            <a:ext cx="0" cy="635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12120" y="3530520"/>
            <a:ext cx="0" cy="800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10400" y="2120760"/>
            <a:ext cx="0" cy="237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3441600"/>
            <a:ext cx="304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-I/O b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1219320"/>
            <a:ext cx="1231920" cy="8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2476440"/>
            <a:ext cx="1231920" cy="4953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4368960"/>
            <a:ext cx="1231920" cy="495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34320" y="4140360"/>
            <a:ext cx="1231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60840" y="1828800"/>
            <a:ext cx="749520" cy="216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29480" y="3530520"/>
            <a:ext cx="1739880" cy="1650960"/>
          </a:xfrm>
          <a:custGeom>
            <a:avLst/>
            <a:gdLst/>
            <a:ahLst/>
            <a:rect l="l" t="t" r="r" b="b"/>
            <a:pathLst>
              <a:path w="1096" h="1040">
                <a:moveTo>
                  <a:pt x="936" y="1040"/>
                </a:moveTo>
                <a:cubicBezTo>
                  <a:pt x="924" y="895"/>
                  <a:pt x="912" y="751"/>
                  <a:pt x="936" y="656"/>
                </a:cubicBezTo>
                <a:cubicBezTo>
                  <a:pt x="959" y="560"/>
                  <a:pt x="1064" y="552"/>
                  <a:pt x="1080" y="464"/>
                </a:cubicBezTo>
                <a:cubicBezTo>
                  <a:pt x="1096" y="376"/>
                  <a:pt x="1096" y="200"/>
                  <a:pt x="1032" y="128"/>
                </a:cubicBezTo>
                <a:cubicBezTo>
                  <a:pt x="967" y="55"/>
                  <a:pt x="839" y="47"/>
                  <a:pt x="696" y="32"/>
                </a:cubicBezTo>
                <a:cubicBezTo>
                  <a:pt x="552" y="16"/>
                  <a:pt x="280" y="0"/>
                  <a:pt x="168" y="32"/>
                </a:cubicBezTo>
                <a:cubicBezTo>
                  <a:pt x="56" y="64"/>
                  <a:pt x="47" y="144"/>
                  <a:pt x="24" y="224"/>
                </a:cubicBezTo>
                <a:cubicBezTo>
                  <a:pt x="0" y="303"/>
                  <a:pt x="12" y="407"/>
                  <a:pt x="24" y="51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3778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2) DMA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00800" y="1752480"/>
            <a:ext cx="1219320" cy="236232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1447920"/>
            <a:ext cx="1600200" cy="266688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7720" y="9907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) Initiate Block 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3) Read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2: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processes can reside in physical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solve address conflict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two processes access something at the same addres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83000" y="2784600"/>
            <a:ext cx="2174760" cy="3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83000" y="3940200"/>
            <a:ext cx="217476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83000" y="4392720"/>
            <a:ext cx="217476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83000" y="4888080"/>
            <a:ext cx="217476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83000" y="3322800"/>
            <a:ext cx="217476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83000" y="5850000"/>
            <a:ext cx="217476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83000" y="5591160"/>
            <a:ext cx="21747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83000" y="5332320"/>
            <a:ext cx="217476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50864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83000" y="3094200"/>
            <a:ext cx="2174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1944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2916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83000" y="6108840"/>
            <a:ext cx="217476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81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920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24160" y="3294000"/>
            <a:ext cx="2588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42800" y="26733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742000" y="2752560"/>
            <a:ext cx="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80960" y="47768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e “brk” pt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63832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4038480"/>
            <a:ext cx="190476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ux/x86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50532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429000"/>
            <a:ext cx="1067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ace (DRA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7000" y="35798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7000" y="38084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7000" y="40370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7000" y="44956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7000" y="51800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7000" y="60958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3720" y="3351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43720" y="3579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3720" y="3808440"/>
            <a:ext cx="90144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43720" y="40370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43720" y="42656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3720" y="4494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43720" y="4722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43720" y="51562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43720" y="53704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43720" y="5802480"/>
            <a:ext cx="901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43720" y="601812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81400" y="395460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3520" y="3497400"/>
            <a:ext cx="190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41200" y="3521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41200" y="519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88560" y="45133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93880" y="32925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88560" y="6175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64920" y="60357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4920" y="4183200"/>
            <a:ext cx="2362320" cy="838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0520" y="54021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0520" y="56307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7240" y="49449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274920" y="5097600"/>
            <a:ext cx="236232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87880" y="570708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37240" y="559260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7960" y="4800600"/>
            <a:ext cx="16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e.g., read/only library cod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0080" y="304920"/>
            <a:ext cx="895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lution: Separate Virt. Addr.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and physical address spaces divided into equal-siz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s are called “pages” (both virtual and physic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has its own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 controls how virtual pages as assigned to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12880" y="40784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2880" y="56786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513720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204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Macintosh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 OS 1–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use traditional virtu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program objects accessed through “handle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ference through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s stored in shared glob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88880" y="18288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12560" y="3429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23623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236232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3886200"/>
            <a:ext cx="1524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388620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80520" y="16765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10080" y="2133720"/>
            <a:ext cx="129564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10080" y="2971800"/>
            <a:ext cx="1295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3429000"/>
            <a:ext cx="1295640" cy="6858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4114800"/>
            <a:ext cx="129564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0080" y="4800600"/>
            <a:ext cx="12956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95480" y="2133720"/>
            <a:ext cx="2514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819520" y="3047760"/>
            <a:ext cx="2590560" cy="990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9520" y="3505320"/>
            <a:ext cx="259056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95480" y="27432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572000"/>
            <a:ext cx="259056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43200" y="2666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523160" y="27428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71600" y="25142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295280" y="27432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599480" y="426672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447920" y="40381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295280" y="4572000"/>
            <a:ext cx="144792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720" y="342900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5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intosh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0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on / De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free-list management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ove any object and just update the (unique) pointer in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24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720" y="441972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22400" y="32004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6080" y="4800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37339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373392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71600" y="5257800"/>
            <a:ext cx="1523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525780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3680" y="30481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962520"/>
            <a:ext cx="129528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505320"/>
            <a:ext cx="129528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43600" y="4800600"/>
            <a:ext cx="1295280" cy="68580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5486400"/>
            <a:ext cx="129528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43600" y="6172200"/>
            <a:ext cx="12952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352680" y="3504960"/>
            <a:ext cx="2590920" cy="1904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352680" y="4876920"/>
            <a:ext cx="259092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41148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5943600"/>
            <a:ext cx="25909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5867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5638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809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056680" y="41144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8858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828800" y="41148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133720" y="5638320"/>
            <a:ext cx="121896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981080" y="54097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5943600"/>
            <a:ext cx="137160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886200"/>
            <a:ext cx="2514600" cy="76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805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vs. VM-Based Memory Mgm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, deallocating, and moving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accomplished by both techniq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 siz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variable-s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y be very small or very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fixed-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ze is equal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ne pag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4KB on x86 Linux syste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contiguous chunks of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contiguous allocation i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i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can map contiguous range of virtual addresses to disjoint ranges of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“wild write” by one process can corrupt another’s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98760" y="334800"/>
            <a:ext cx="238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OS X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” Operating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 with prot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emptive multitas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versions of MAC OS require processes to voluntarily relinquish contro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MACH 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ed at CMU in late 19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692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3: Prot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30736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 entry contains access rights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nforces this protection (trap into OS if violation occur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1828800"/>
            <a:ext cx="151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9080" y="289548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2209680"/>
            <a:ext cx="3886200" cy="1953360"/>
            <a:chOff x="1828800" y="2209680"/>
            <a:chExt cx="3886200" cy="1953360"/>
          </a:xfrm>
        </p:grpSpPr>
        <p:sp>
          <p:nvSpPr>
            <p:cNvPr id="583" name=""/>
            <p:cNvSpPr/>
            <p:nvPr/>
          </p:nvSpPr>
          <p:spPr>
            <a:xfrm>
              <a:off x="1828800" y="220968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63240" y="228600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62320" y="228600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5160" y="228600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15520" y="25909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828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0040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4240" y="25909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52680" y="25909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62520" y="29718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5520" y="297180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040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1424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7600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33526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12280" y="335268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828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0040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14600" y="335268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52680" y="33526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828800" y="2590920"/>
              <a:ext cx="689040" cy="1069560"/>
              <a:chOff x="1828800" y="2590920"/>
              <a:chExt cx="689040" cy="1069560"/>
            </a:xfrm>
          </p:grpSpPr>
          <p:sp>
            <p:nvSpPr>
              <p:cNvPr id="606" name=""/>
              <p:cNvSpPr/>
              <p:nvPr/>
            </p:nvSpPr>
            <p:spPr>
              <a:xfrm>
                <a:off x="1828800" y="259092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28800" y="297180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28800" y="33526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266688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9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9080" y="50292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j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858000" y="2286000"/>
            <a:ext cx="1752480" cy="3352320"/>
            <a:chOff x="6858000" y="2286000"/>
            <a:chExt cx="1752480" cy="3352320"/>
          </a:xfrm>
        </p:grpSpPr>
        <p:sp>
          <p:nvSpPr>
            <p:cNvPr id="614" name=""/>
            <p:cNvSpPr/>
            <p:nvPr/>
          </p:nvSpPr>
          <p:spPr>
            <a:xfrm>
              <a:off x="6934320" y="2361960"/>
              <a:ext cx="167616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8000" y="2286000"/>
              <a:ext cx="1676520" cy="327636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391520" y="2438280"/>
              <a:ext cx="914400" cy="2971080"/>
              <a:chOff x="7391520" y="2438280"/>
              <a:chExt cx="914400" cy="2971080"/>
            </a:xfrm>
          </p:grpSpPr>
          <p:sp>
            <p:nvSpPr>
              <p:cNvPr id="617" name=""/>
              <p:cNvSpPr/>
              <p:nvPr/>
            </p:nvSpPr>
            <p:spPr>
              <a:xfrm>
                <a:off x="7391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91520" y="2666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91520" y="2895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91520" y="3123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91520" y="3352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91520" y="3809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391520" y="3580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91520" y="4038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91520" y="4266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91520" y="4495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91520" y="4723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91520" y="5181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391520" y="4952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7086600" y="23619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86600" y="25905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8000" y="510516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23924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86400" y="312408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34120" y="39625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2743200"/>
            <a:ext cx="19051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334120" y="464796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828800" y="4343400"/>
            <a:ext cx="3886200" cy="1953360"/>
            <a:chOff x="1828800" y="4343400"/>
            <a:chExt cx="3886200" cy="1953360"/>
          </a:xfrm>
        </p:grpSpPr>
        <p:sp>
          <p:nvSpPr>
            <p:cNvPr id="639" name=""/>
            <p:cNvSpPr/>
            <p:nvPr/>
          </p:nvSpPr>
          <p:spPr>
            <a:xfrm>
              <a:off x="1828800" y="434340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63240" y="441972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62320" y="441972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25160" y="441972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62520" y="47242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15520" y="472428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3828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0040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24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7600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62520" y="51055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15520" y="51055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0040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4240" y="51055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52680" y="51055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62520" y="54864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2280" y="548640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14600" y="548640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52680" y="548640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6688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29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1828800" y="4724280"/>
              <a:ext cx="689040" cy="1069560"/>
              <a:chOff x="1828800" y="4724280"/>
              <a:chExt cx="689040" cy="1069560"/>
            </a:xfrm>
          </p:grpSpPr>
          <p:sp>
            <p:nvSpPr>
              <p:cNvPr id="665" name=""/>
              <p:cNvSpPr/>
              <p:nvPr/>
            </p:nvSpPr>
            <p:spPr>
              <a:xfrm>
                <a:off x="1828800" y="47242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28800" y="510516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828800" y="548604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s for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Physical DRAM as a Cache for the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 of a process can exceed physical memo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of address spaces of multiple processes can exceed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y Memory 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rocesses resident in ma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cess with its own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“active” code and data is actually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 more memory to proces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rocess can’t interfere with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ause they operate in different address spa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cannot access privileged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sections of address spaces have different permiss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 = {0, 1, …, 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{0, 1, …, 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&l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 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:  V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P  U  {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virtual address a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 a’  if data at virtual address a at physica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a’ in 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f data at virtual address a not in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r invalid or stored on dis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H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70480" y="23108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9680" y="27619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52040" y="29080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35680" y="27496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210200" y="33400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60520" y="26290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60520" y="31496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16200" y="32259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1800" y="34545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440" y="40006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800240" y="37148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8400" y="40006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295280" y="35053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352680" y="36450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28720" y="40006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Mi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70480" y="25124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9680" y="29635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44480" y="2169720"/>
            <a:ext cx="95328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2040" y="31096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16760" y="3108240"/>
            <a:ext cx="135900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ary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35680" y="29512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92800" y="3160800"/>
            <a:ext cx="660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273360" y="354168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35416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10200" y="3236760"/>
            <a:ext cx="407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610160" y="2475000"/>
            <a:ext cx="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10160" y="2475000"/>
            <a:ext cx="603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254640" y="2482560"/>
            <a:ext cx="135432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7160" y="2489040"/>
            <a:ext cx="0" cy="563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60520" y="28306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60520" y="33512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16200" y="34275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01800" y="36561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45120" y="293220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31880" y="1801800"/>
            <a:ext cx="120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63960" y="1998720"/>
            <a:ext cx="393840" cy="44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440" y="42022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4800240" y="39164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61080" y="3586320"/>
            <a:ext cx="381240" cy="596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9560" y="4049640"/>
            <a:ext cx="1538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 perfor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nly if mi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8400" y="42022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295280" y="37069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352680" y="38466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28720" y="42022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30360" y="292428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0760" y="29242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21440" y="289548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4920" y="5133960"/>
            <a:ext cx="2882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30760" y="51339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97760" y="510552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43600" y="3305160"/>
            <a:ext cx="0" cy="1663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6728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10240" y="480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39840" y="3990960"/>
            <a:ext cx="2425680" cy="368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14400" y="4800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8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2436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436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2900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52680" y="33051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52680" y="437184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5867280"/>
            <a:ext cx="832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offset bits don’t change as a result of transl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738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ame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age size (bytes)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Virtu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hysic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438280" y="34830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37116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38280" y="39402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38280" y="4168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438280" y="3254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38280" y="2111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23400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38280" y="25686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38280" y="27972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3025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38560" y="4245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38560" y="3559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3787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38560" y="4016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38560" y="3330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3102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38560" y="2873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238560" y="2644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8560" y="2187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38560" y="2416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520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56480" y="990720"/>
            <a:ext cx="20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hysical pag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 disk addre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12600" y="16542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791320" y="2111400"/>
            <a:ext cx="1379160" cy="1600200"/>
            <a:chOff x="5791320" y="2111400"/>
            <a:chExt cx="1379160" cy="1600200"/>
          </a:xfrm>
        </p:grpSpPr>
        <p:sp>
          <p:nvSpPr>
            <p:cNvPr id="761" name=""/>
            <p:cNvSpPr/>
            <p:nvPr/>
          </p:nvSpPr>
          <p:spPr>
            <a:xfrm>
              <a:off x="5791320" y="3483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91320" y="3254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91320" y="2111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2340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1320" y="25686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91320" y="27972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91320" y="30258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V="1">
            <a:off x="3276720" y="3102120"/>
            <a:ext cx="2514600" cy="1180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76720" y="3584520"/>
            <a:ext cx="2522520" cy="2232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282840" y="2720520"/>
            <a:ext cx="2508480" cy="1104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76720" y="4041720"/>
            <a:ext cx="2522520" cy="2043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270240" y="2492280"/>
            <a:ext cx="2521080" cy="8827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282840" y="2187360"/>
            <a:ext cx="2508480" cy="9522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89320" y="2905200"/>
            <a:ext cx="2502000" cy="730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95800" y="2689200"/>
            <a:ext cx="2516040" cy="278604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89320" y="2238480"/>
            <a:ext cx="250200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63760" y="2454120"/>
            <a:ext cx="2527560" cy="9525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18000" y="5068800"/>
            <a:ext cx="2124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8000" y="4816440"/>
            <a:ext cx="2124360" cy="34128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1800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236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8000" y="60847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40480" y="388620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Stor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swap file 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ular file system fil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99240" y="558792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9240" y="52466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99240" y="59324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133720" y="2111400"/>
            <a:ext cx="304560" cy="2286000"/>
            <a:chOff x="2133720" y="2111400"/>
            <a:chExt cx="304560" cy="2286000"/>
          </a:xfrm>
        </p:grpSpPr>
        <p:sp>
          <p:nvSpPr>
            <p:cNvPr id="788" name=""/>
            <p:cNvSpPr/>
            <p:nvPr/>
          </p:nvSpPr>
          <p:spPr>
            <a:xfrm>
              <a:off x="2133720" y="3483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3711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3940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133720" y="4168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33720" y="3254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133720" y="2111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2340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3720" y="2568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2797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025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1981080" y="1806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5160" y="208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35160" y="2340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5160" y="279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5160" y="3025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35160" y="3254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35160" y="3711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5160" y="4168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5160" y="394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5160" y="348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5160" y="25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1654200"/>
            <a:ext cx="7621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7360" y="9907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066680" y="1882800"/>
            <a:ext cx="990720" cy="1295280"/>
            <a:chOff x="1066680" y="1882800"/>
            <a:chExt cx="990720" cy="1295280"/>
          </a:xfrm>
        </p:grpSpPr>
        <p:sp>
          <p:nvSpPr>
            <p:cNvPr id="812" name=""/>
            <p:cNvSpPr/>
            <p:nvPr/>
          </p:nvSpPr>
          <p:spPr>
            <a:xfrm>
              <a:off x="1066680" y="1882800"/>
              <a:ext cx="0" cy="12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3178080"/>
              <a:ext cx="9907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9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via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52640" y="1273320"/>
            <a:ext cx="8523000" cy="5109840"/>
            <a:chOff x="152640" y="1273320"/>
            <a:chExt cx="8523000" cy="5109840"/>
          </a:xfrm>
        </p:grpSpPr>
        <p:sp>
          <p:nvSpPr>
            <p:cNvPr id="816" name=""/>
            <p:cNvSpPr/>
            <p:nvPr/>
          </p:nvSpPr>
          <p:spPr>
            <a:xfrm>
              <a:off x="3206880" y="1987560"/>
              <a:ext cx="31874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page number (V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07280" y="198756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34360" y="1273320"/>
              <a:ext cx="180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06880" y="5492880"/>
              <a:ext cx="3111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30960" y="549288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29200" y="6019920"/>
              <a:ext cx="203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0120" y="2368440"/>
              <a:ext cx="0" cy="3073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67840" y="51595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10440" y="515952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05160" y="515952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14960" y="5159520"/>
              <a:ext cx="63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860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300880" y="1654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98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160" y="165420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640" y="1378080"/>
              <a:ext cx="2796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table base regis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25840" y="30542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25840" y="3282840"/>
              <a:ext cx="280692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25840" y="35114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25840" y="37400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1164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43680" y="3422520"/>
              <a:ext cx="0" cy="2057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742840" y="48769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4560" y="4572000"/>
              <a:ext cx="17571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 valid=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hen p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in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1280" y="2687760"/>
              <a:ext cx="70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i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94960" y="2666880"/>
              <a:ext cx="3281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23880" y="1752480"/>
              <a:ext cx="0" cy="2210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23880" y="3962520"/>
              <a:ext cx="1435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542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542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542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542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400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400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400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400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29000" y="3451320"/>
              <a:ext cx="0" cy="1425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8760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58680" y="2670120"/>
              <a:ext cx="94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23880" y="19810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PN acts a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ble ind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135160" y="2362320"/>
              <a:ext cx="1612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35160" y="3033720"/>
              <a:ext cx="0" cy="41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35160" y="3451320"/>
              <a:ext cx="90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parate (set of) page table(s) p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PN forms index into page table (points to a page table ent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598788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(PTE) provides information about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1) then the page is 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physical page number (PPN) to construc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0) then the page i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59878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ecking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rights field indicate allowable ac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read-only, read-write, execute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support multiple protection modes (e.g., kernel vs. us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tection violation fault if user doesn’t have necessary permi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295280" y="3192480"/>
            <a:ext cx="598824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1041120" y="914400"/>
            <a:ext cx="6559920" cy="1554120"/>
            <a:chOff x="1041120" y="914400"/>
            <a:chExt cx="6559920" cy="1554120"/>
          </a:xfrm>
        </p:grpSpPr>
        <p:sp>
          <p:nvSpPr>
            <p:cNvPr id="872" name=""/>
            <p:cNvSpPr/>
            <p:nvPr/>
          </p:nvSpPr>
          <p:spPr>
            <a:xfrm>
              <a:off x="1073160" y="10285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70000" y="1035000"/>
              <a:ext cx="0" cy="939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041120" y="2006280"/>
              <a:ext cx="1028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82680" y="13968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241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529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21400" y="10728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76480" y="12063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90800" y="1206360"/>
              <a:ext cx="749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32560" y="11808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311520" y="1828440"/>
              <a:ext cx="203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31188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2323800" y="2425680"/>
              <a:ext cx="3987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324160" y="1891800"/>
              <a:ext cx="0" cy="533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2070000" y="189216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2840" y="1853640"/>
              <a:ext cx="0" cy="571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638680" y="185400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305240" y="1828440"/>
              <a:ext cx="24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0524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86360" y="2381040"/>
              <a:ext cx="38160" cy="5040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0816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248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89440" y="91440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98800" y="190476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59200" y="21841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066680" y="1015920"/>
              <a:ext cx="0" cy="990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rating VM an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686800" cy="37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Caches “Physically Addressed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d by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have blocks in cache at sam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share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doesn’t need to be concerned with protection iss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 rights checked as part of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 Address Translation Before Cache Look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this could involve a memory access itself (of the PT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course, page table entries can also become cach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600" y="334800"/>
            <a:ext cx="8864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1: DRAM a “Cache” for Dis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ll address space is quite larg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es:                        ~4,000,000,000 (4 b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4-bit addresses: ~16,000,000,000,000,000,000 (16 quint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 storage is ~300X cheaper than DRAM 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RAM: ~ $33,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isk:     ~  $1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ccess large amounts of data in a cost-effective manner, the bulk of the data must be stored on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5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2880" y="4648320"/>
            <a:ext cx="6236640" cy="1915560"/>
            <a:chOff x="992880" y="4648320"/>
            <a:chExt cx="6236640" cy="1915560"/>
          </a:xfrm>
        </p:grpSpPr>
        <p:sp>
          <p:nvSpPr>
            <p:cNvPr id="88" name=""/>
            <p:cNvSpPr/>
            <p:nvPr/>
          </p:nvSpPr>
          <p:spPr>
            <a:xfrm>
              <a:off x="2821680" y="4800240"/>
              <a:ext cx="149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GB: ~$20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105520" y="5055840"/>
              <a:ext cx="2124000" cy="1508040"/>
              <a:chOff x="5105520" y="5055840"/>
              <a:chExt cx="2124000" cy="1508040"/>
            </a:xfrm>
          </p:grpSpPr>
          <p:sp>
            <p:nvSpPr>
              <p:cNvPr id="90" name=""/>
              <p:cNvSpPr/>
              <p:nvPr/>
            </p:nvSpPr>
            <p:spPr>
              <a:xfrm>
                <a:off x="5105520" y="5308200"/>
                <a:ext cx="2124000" cy="1015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05520" y="5055840"/>
                <a:ext cx="2124000" cy="341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105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29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05520" y="6324120"/>
                <a:ext cx="2124000" cy="23976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412600" y="4648320"/>
              <a:ext cx="16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0 GB: ~$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440" y="5257440"/>
              <a:ext cx="1131840" cy="1131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9320" y="5562360"/>
              <a:ext cx="849240" cy="441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2880" y="5105160"/>
              <a:ext cx="15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MB: ~$5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7909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440" y="579096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680" y="5638680"/>
              <a:ext cx="824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4200" y="563868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6440" y="5638680"/>
              <a:ext cx="85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143000" y="3079800"/>
            <a:ext cx="6559560" cy="2940120"/>
            <a:chOff x="1143000" y="3079800"/>
            <a:chExt cx="6559560" cy="2940120"/>
          </a:xfrm>
        </p:grpSpPr>
        <p:sp>
          <p:nvSpPr>
            <p:cNvPr id="901" name=""/>
            <p:cNvSpPr/>
            <p:nvPr/>
          </p:nvSpPr>
          <p:spPr>
            <a:xfrm>
              <a:off x="1174680" y="33973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7188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143000" y="4375080"/>
              <a:ext cx="10288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46400" y="37656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56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L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ooku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544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22920" y="3441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78000" y="35751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62520" y="36133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34080" y="35496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395760" y="4205160"/>
              <a:ext cx="220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88200" y="4195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438280" y="6000840"/>
              <a:ext cx="1968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425680" y="4260600"/>
              <a:ext cx="0" cy="1739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2171520" y="426096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012000" y="4222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740200" y="422280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06400" y="4197240"/>
              <a:ext cx="241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06760" y="4203720"/>
              <a:ext cx="0" cy="1778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78520" y="5969160"/>
              <a:ext cx="38160" cy="5076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0968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2400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91320" y="32828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59400" y="441324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40640" y="56959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25640" y="4800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24360" y="307980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2680" y="4356000"/>
              <a:ext cx="0" cy="432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92440" y="44132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5640" y="5753160"/>
              <a:ext cx="0" cy="101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71760" y="5861160"/>
              <a:ext cx="673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4038480" y="3613320"/>
              <a:ext cx="12960" cy="224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393800" y="6000840"/>
              <a:ext cx="1981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3505320" y="4349520"/>
              <a:ext cx="0" cy="44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4300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Lookaside Buffer” (TLB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mall hardware cache in MM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virtual page numbers to  physical page 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ains complete page table entries for small number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5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51240" y="1295280"/>
            <a:ext cx="192384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87680" y="1295280"/>
            <a:ext cx="109224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6124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652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0572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91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4-bit virtu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-bit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size = 6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960480" y="2819520"/>
            <a:ext cx="6823080" cy="609480"/>
            <a:chOff x="960480" y="2819520"/>
            <a:chExt cx="6823080" cy="609480"/>
          </a:xfrm>
        </p:grpSpPr>
        <p:grpSp>
          <p:nvGrpSpPr>
            <p:cNvPr id="1037" name=""/>
            <p:cNvGrpSpPr/>
            <p:nvPr/>
          </p:nvGrpSpPr>
          <p:grpSpPr>
            <a:xfrm>
              <a:off x="960480" y="2819520"/>
              <a:ext cx="487440" cy="609480"/>
              <a:chOff x="960480" y="2819520"/>
              <a:chExt cx="487440" cy="609480"/>
            </a:xfrm>
          </p:grpSpPr>
          <p:sp>
            <p:nvSpPr>
              <p:cNvPr id="1038" name=""/>
              <p:cNvSpPr/>
              <p:nvPr/>
            </p:nvSpPr>
            <p:spPr>
              <a:xfrm>
                <a:off x="9604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9604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1447920" y="2819520"/>
              <a:ext cx="487080" cy="609480"/>
              <a:chOff x="1447920" y="2819520"/>
              <a:chExt cx="487080" cy="609480"/>
            </a:xfrm>
          </p:grpSpPr>
          <p:sp>
            <p:nvSpPr>
              <p:cNvPr id="1041" name=""/>
              <p:cNvSpPr/>
              <p:nvPr/>
            </p:nvSpPr>
            <p:spPr>
              <a:xfrm>
                <a:off x="144792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4792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935000" y="2819520"/>
              <a:ext cx="487440" cy="609480"/>
              <a:chOff x="1935000" y="2819520"/>
              <a:chExt cx="487440" cy="6094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93500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500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2422440" y="2819520"/>
              <a:ext cx="487440" cy="609480"/>
              <a:chOff x="2422440" y="2819520"/>
              <a:chExt cx="487440" cy="609480"/>
            </a:xfrm>
          </p:grpSpPr>
          <p:sp>
            <p:nvSpPr>
              <p:cNvPr id="1047" name=""/>
              <p:cNvSpPr/>
              <p:nvPr/>
            </p:nvSpPr>
            <p:spPr>
              <a:xfrm>
                <a:off x="24224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4224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2909880" y="2819520"/>
              <a:ext cx="487440" cy="609480"/>
              <a:chOff x="2909880" y="2819520"/>
              <a:chExt cx="487440" cy="609480"/>
            </a:xfrm>
          </p:grpSpPr>
          <p:sp>
            <p:nvSpPr>
              <p:cNvPr id="1050" name=""/>
              <p:cNvSpPr/>
              <p:nvPr/>
            </p:nvSpPr>
            <p:spPr>
              <a:xfrm>
                <a:off x="29098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098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397320" y="2819520"/>
              <a:ext cx="487440" cy="609480"/>
              <a:chOff x="3397320" y="2819520"/>
              <a:chExt cx="487440" cy="609480"/>
            </a:xfrm>
          </p:grpSpPr>
          <p:sp>
            <p:nvSpPr>
              <p:cNvPr id="1053" name=""/>
              <p:cNvSpPr/>
              <p:nvPr/>
            </p:nvSpPr>
            <p:spPr>
              <a:xfrm>
                <a:off x="33973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973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3884760" y="2819520"/>
              <a:ext cx="487080" cy="609480"/>
              <a:chOff x="3884760" y="2819520"/>
              <a:chExt cx="487080" cy="609480"/>
            </a:xfrm>
          </p:grpSpPr>
          <p:sp>
            <p:nvSpPr>
              <p:cNvPr id="1056" name=""/>
              <p:cNvSpPr/>
              <p:nvPr/>
            </p:nvSpPr>
            <p:spPr>
              <a:xfrm>
                <a:off x="388476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88476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71840" y="2819520"/>
              <a:ext cx="487440" cy="609480"/>
              <a:chOff x="4371840" y="2819520"/>
              <a:chExt cx="487440" cy="6094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3718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3718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4859280" y="2819520"/>
              <a:ext cx="487440" cy="609480"/>
              <a:chOff x="4859280" y="2819520"/>
              <a:chExt cx="487440" cy="609480"/>
            </a:xfrm>
          </p:grpSpPr>
          <p:sp>
            <p:nvSpPr>
              <p:cNvPr id="1062" name=""/>
              <p:cNvSpPr/>
              <p:nvPr/>
            </p:nvSpPr>
            <p:spPr>
              <a:xfrm>
                <a:off x="48592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8592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346720" y="2819520"/>
              <a:ext cx="487440" cy="609480"/>
              <a:chOff x="5346720" y="2819520"/>
              <a:chExt cx="487440" cy="609480"/>
            </a:xfrm>
          </p:grpSpPr>
          <p:sp>
            <p:nvSpPr>
              <p:cNvPr id="1065" name=""/>
              <p:cNvSpPr/>
              <p:nvPr/>
            </p:nvSpPr>
            <p:spPr>
              <a:xfrm>
                <a:off x="53467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467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5834160" y="2819520"/>
              <a:ext cx="487440" cy="609480"/>
              <a:chOff x="5834160" y="2819520"/>
              <a:chExt cx="487440" cy="6094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83416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3416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321600" y="2819520"/>
              <a:ext cx="487080" cy="609480"/>
              <a:chOff x="6321600" y="2819520"/>
              <a:chExt cx="487080" cy="609480"/>
            </a:xfrm>
          </p:grpSpPr>
          <p:sp>
            <p:nvSpPr>
              <p:cNvPr id="1071" name=""/>
              <p:cNvSpPr/>
              <p:nvPr/>
            </p:nvSpPr>
            <p:spPr>
              <a:xfrm>
                <a:off x="632160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2160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808680" y="2819520"/>
              <a:ext cx="487440" cy="609480"/>
              <a:chOff x="6808680" y="2819520"/>
              <a:chExt cx="487440" cy="60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68086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8086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7296120" y="2819520"/>
              <a:ext cx="487440" cy="609480"/>
              <a:chOff x="7296120" y="2819520"/>
              <a:chExt cx="487440" cy="60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72961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2961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935000" y="4572000"/>
            <a:ext cx="5848560" cy="609480"/>
            <a:chOff x="1935000" y="4572000"/>
            <a:chExt cx="5848560" cy="609480"/>
          </a:xfrm>
        </p:grpSpPr>
        <p:grpSp>
          <p:nvGrpSpPr>
            <p:cNvPr id="1080" name=""/>
            <p:cNvGrpSpPr/>
            <p:nvPr/>
          </p:nvGrpSpPr>
          <p:grpSpPr>
            <a:xfrm>
              <a:off x="1935000" y="4572000"/>
              <a:ext cx="487440" cy="609480"/>
              <a:chOff x="1935000" y="4572000"/>
              <a:chExt cx="487440" cy="609480"/>
            </a:xfrm>
          </p:grpSpPr>
          <p:sp>
            <p:nvSpPr>
              <p:cNvPr id="1081" name=""/>
              <p:cNvSpPr/>
              <p:nvPr/>
            </p:nvSpPr>
            <p:spPr>
              <a:xfrm>
                <a:off x="193500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500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2422440" y="4572000"/>
              <a:ext cx="487440" cy="609480"/>
              <a:chOff x="2422440" y="4572000"/>
              <a:chExt cx="487440" cy="609480"/>
            </a:xfrm>
          </p:grpSpPr>
          <p:sp>
            <p:nvSpPr>
              <p:cNvPr id="1084" name=""/>
              <p:cNvSpPr/>
              <p:nvPr/>
            </p:nvSpPr>
            <p:spPr>
              <a:xfrm>
                <a:off x="24224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224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909880" y="4572000"/>
              <a:ext cx="487440" cy="609480"/>
              <a:chOff x="2909880" y="4572000"/>
              <a:chExt cx="487440" cy="609480"/>
            </a:xfrm>
          </p:grpSpPr>
          <p:sp>
            <p:nvSpPr>
              <p:cNvPr id="1087" name=""/>
              <p:cNvSpPr/>
              <p:nvPr/>
            </p:nvSpPr>
            <p:spPr>
              <a:xfrm>
                <a:off x="29098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098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397320" y="4572000"/>
              <a:ext cx="487440" cy="609480"/>
              <a:chOff x="3397320" y="4572000"/>
              <a:chExt cx="487440" cy="609480"/>
            </a:xfrm>
          </p:grpSpPr>
          <p:sp>
            <p:nvSpPr>
              <p:cNvPr id="1090" name=""/>
              <p:cNvSpPr/>
              <p:nvPr/>
            </p:nvSpPr>
            <p:spPr>
              <a:xfrm>
                <a:off x="33973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973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3884760" y="4572000"/>
              <a:ext cx="487080" cy="609480"/>
              <a:chOff x="3884760" y="4572000"/>
              <a:chExt cx="487080" cy="609480"/>
            </a:xfrm>
          </p:grpSpPr>
          <p:sp>
            <p:nvSpPr>
              <p:cNvPr id="1093" name=""/>
              <p:cNvSpPr/>
              <p:nvPr/>
            </p:nvSpPr>
            <p:spPr>
              <a:xfrm>
                <a:off x="388476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8476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4371840" y="4572000"/>
              <a:ext cx="487440" cy="609480"/>
              <a:chOff x="4371840" y="4572000"/>
              <a:chExt cx="487440" cy="609480"/>
            </a:xfrm>
          </p:grpSpPr>
          <p:sp>
            <p:nvSpPr>
              <p:cNvPr id="1096" name=""/>
              <p:cNvSpPr/>
              <p:nvPr/>
            </p:nvSpPr>
            <p:spPr>
              <a:xfrm>
                <a:off x="43718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718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859280" y="4572000"/>
              <a:ext cx="487440" cy="609480"/>
              <a:chOff x="4859280" y="4572000"/>
              <a:chExt cx="487440" cy="609480"/>
            </a:xfrm>
          </p:grpSpPr>
          <p:sp>
            <p:nvSpPr>
              <p:cNvPr id="1099" name=""/>
              <p:cNvSpPr/>
              <p:nvPr/>
            </p:nvSpPr>
            <p:spPr>
              <a:xfrm>
                <a:off x="48592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8592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346720" y="4572000"/>
              <a:ext cx="487440" cy="609480"/>
              <a:chOff x="5346720" y="4572000"/>
              <a:chExt cx="487440" cy="609480"/>
            </a:xfrm>
          </p:grpSpPr>
          <p:sp>
            <p:nvSpPr>
              <p:cNvPr id="1102" name=""/>
              <p:cNvSpPr/>
              <p:nvPr/>
            </p:nvSpPr>
            <p:spPr>
              <a:xfrm>
                <a:off x="53467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467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5834160" y="4572000"/>
              <a:ext cx="487440" cy="609480"/>
              <a:chOff x="5834160" y="4572000"/>
              <a:chExt cx="487440" cy="609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583416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3416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6321600" y="4572000"/>
              <a:ext cx="487080" cy="609480"/>
              <a:chOff x="6321600" y="4572000"/>
              <a:chExt cx="487080" cy="609480"/>
            </a:xfrm>
          </p:grpSpPr>
          <p:sp>
            <p:nvSpPr>
              <p:cNvPr id="1108" name=""/>
              <p:cNvSpPr/>
              <p:nvPr/>
            </p:nvSpPr>
            <p:spPr>
              <a:xfrm>
                <a:off x="632160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32160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6808680" y="4572000"/>
              <a:ext cx="487440" cy="609480"/>
              <a:chOff x="6808680" y="4572000"/>
              <a:chExt cx="487440" cy="609480"/>
            </a:xfrm>
          </p:grpSpPr>
          <p:sp>
            <p:nvSpPr>
              <p:cNvPr id="1111" name=""/>
              <p:cNvSpPr/>
              <p:nvPr/>
            </p:nvSpPr>
            <p:spPr>
              <a:xfrm>
                <a:off x="68086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086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7296120" y="4572000"/>
              <a:ext cx="487440" cy="609480"/>
              <a:chOff x="7296120" y="4572000"/>
              <a:chExt cx="487440" cy="60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72961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961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6" name=""/>
          <p:cNvGrpSpPr/>
          <p:nvPr/>
        </p:nvGrpSpPr>
        <p:grpSpPr>
          <a:xfrm>
            <a:off x="4859280" y="3589200"/>
            <a:ext cx="2924280" cy="335520"/>
            <a:chOff x="4859280" y="3589200"/>
            <a:chExt cx="2924280" cy="335520"/>
          </a:xfrm>
        </p:grpSpPr>
        <p:sp>
          <p:nvSpPr>
            <p:cNvPr id="1117" name=""/>
            <p:cNvSpPr/>
            <p:nvPr/>
          </p:nvSpPr>
          <p:spPr>
            <a:xfrm>
              <a:off x="4859280" y="37339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84640" y="35892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4876920" y="5257800"/>
            <a:ext cx="2923920" cy="335520"/>
            <a:chOff x="4876920" y="5257800"/>
            <a:chExt cx="2923920" cy="335520"/>
          </a:xfrm>
        </p:grpSpPr>
        <p:sp>
          <p:nvSpPr>
            <p:cNvPr id="1120" name=""/>
            <p:cNvSpPr/>
            <p:nvPr/>
          </p:nvSpPr>
          <p:spPr>
            <a:xfrm>
              <a:off x="4876920" y="5402520"/>
              <a:ext cx="2923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01560" y="52578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1981080" y="5257800"/>
            <a:ext cx="2924280" cy="335520"/>
            <a:chOff x="1981080" y="5257800"/>
            <a:chExt cx="2924280" cy="335520"/>
          </a:xfrm>
        </p:grpSpPr>
        <p:sp>
          <p:nvSpPr>
            <p:cNvPr id="1123" name=""/>
            <p:cNvSpPr/>
            <p:nvPr/>
          </p:nvSpPr>
          <p:spPr>
            <a:xfrm>
              <a:off x="1981080" y="54025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06800" y="525780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960480" y="3581280"/>
            <a:ext cx="3916080" cy="335520"/>
            <a:chOff x="960480" y="3581280"/>
            <a:chExt cx="3916080" cy="335520"/>
          </a:xfrm>
        </p:grpSpPr>
        <p:sp>
          <p:nvSpPr>
            <p:cNvPr id="1126" name=""/>
            <p:cNvSpPr/>
            <p:nvPr/>
          </p:nvSpPr>
          <p:spPr>
            <a:xfrm>
              <a:off x="960480" y="3726000"/>
              <a:ext cx="3916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67440" y="358128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1621080" y="4017960"/>
            <a:ext cx="245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13360" y="4006800"/>
            <a:ext cx="225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5880" y="5607000"/>
            <a:ext cx="265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64120" y="5638680"/>
            <a:ext cx="245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11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 first 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2612880" y="2325600"/>
          <a:ext cx="4154400" cy="2764080"/>
        </p:xfrm>
        <a:graphic>
          <a:graphicData uri="http://schemas.openxmlformats.org/drawingml/2006/table">
            <a:tbl>
              <a:tblPr/>
              <a:tblGrid>
                <a:gridCol w="693360"/>
                <a:gridCol w="692280"/>
                <a:gridCol w="691560"/>
                <a:gridCol w="693720"/>
                <a:gridCol w="691560"/>
                <a:gridCol w="691920"/>
              </a:tblGrid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way 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960480" y="2362320"/>
            <a:ext cx="6823080" cy="1370520"/>
            <a:chOff x="960480" y="2362320"/>
            <a:chExt cx="6823080" cy="1370520"/>
          </a:xfrm>
        </p:grpSpPr>
        <p:grpSp>
          <p:nvGrpSpPr>
            <p:cNvPr id="1138" name=""/>
            <p:cNvGrpSpPr/>
            <p:nvPr/>
          </p:nvGrpSpPr>
          <p:grpSpPr>
            <a:xfrm>
              <a:off x="960480" y="2627280"/>
              <a:ext cx="6823080" cy="609480"/>
              <a:chOff x="960480" y="2627280"/>
              <a:chExt cx="6823080" cy="60948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960480" y="2627280"/>
                <a:ext cx="487440" cy="609480"/>
                <a:chOff x="960480" y="2627280"/>
                <a:chExt cx="487440" cy="6094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9604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9604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447920" y="2627280"/>
                <a:ext cx="487080" cy="609480"/>
                <a:chOff x="1447920" y="2627280"/>
                <a:chExt cx="487080" cy="609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44792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44792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935000" y="2627280"/>
                <a:ext cx="487440" cy="609480"/>
                <a:chOff x="1935000" y="2627280"/>
                <a:chExt cx="487440" cy="60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500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93500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2422440" y="2627280"/>
                <a:ext cx="487440" cy="609480"/>
                <a:chOff x="2422440" y="2627280"/>
                <a:chExt cx="487440" cy="6094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24224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4224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909880" y="2627280"/>
                <a:ext cx="487440" cy="609480"/>
                <a:chOff x="2909880" y="2627280"/>
                <a:chExt cx="487440" cy="6094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9098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9098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397320" y="2627280"/>
                <a:ext cx="487440" cy="609480"/>
                <a:chOff x="3397320" y="2627280"/>
                <a:chExt cx="487440" cy="6094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3973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3973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884760" y="2627280"/>
                <a:ext cx="487080" cy="609480"/>
                <a:chOff x="3884760" y="2627280"/>
                <a:chExt cx="487080" cy="6094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388476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88476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4371840" y="2627280"/>
                <a:ext cx="487440" cy="609480"/>
                <a:chOff x="4371840" y="2627280"/>
                <a:chExt cx="487440" cy="6094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43718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3718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4859280" y="2627280"/>
                <a:ext cx="487440" cy="609480"/>
                <a:chOff x="4859280" y="2627280"/>
                <a:chExt cx="487440" cy="609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48592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8592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346720" y="2627280"/>
                <a:ext cx="487440" cy="609480"/>
                <a:chOff x="5346720" y="2627280"/>
                <a:chExt cx="487440" cy="609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53467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467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5834160" y="2627280"/>
                <a:ext cx="487440" cy="609480"/>
                <a:chOff x="5834160" y="2627280"/>
                <a:chExt cx="487440" cy="609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583416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83416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6321600" y="2627280"/>
                <a:ext cx="487080" cy="609480"/>
                <a:chOff x="6321600" y="2627280"/>
                <a:chExt cx="487080" cy="60948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632160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32160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808680" y="2627280"/>
                <a:ext cx="487440" cy="609480"/>
                <a:chOff x="6808680" y="2627280"/>
                <a:chExt cx="487440" cy="6094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8086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8086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7296120" y="2627280"/>
                <a:ext cx="487440" cy="609480"/>
                <a:chOff x="7296120" y="2627280"/>
                <a:chExt cx="487440" cy="6094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72961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2961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4859280" y="3397320"/>
              <a:ext cx="2924280" cy="335520"/>
              <a:chOff x="4859280" y="3397320"/>
              <a:chExt cx="2924280" cy="335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35420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984640" y="33973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960480" y="3389400"/>
              <a:ext cx="3916080" cy="335520"/>
              <a:chOff x="960480" y="3389400"/>
              <a:chExt cx="3916080" cy="335520"/>
            </a:xfrm>
          </p:grpSpPr>
          <p:sp>
            <p:nvSpPr>
              <p:cNvPr id="1185" name=""/>
              <p:cNvSpPr/>
              <p:nvPr/>
            </p:nvSpPr>
            <p:spPr>
              <a:xfrm>
                <a:off x="960480" y="3534120"/>
                <a:ext cx="3916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467440" y="338940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3881520" y="2382840"/>
              <a:ext cx="992160" cy="307800"/>
              <a:chOff x="3881520" y="2382840"/>
              <a:chExt cx="992160" cy="307800"/>
            </a:xfrm>
          </p:grpSpPr>
          <p:sp>
            <p:nvSpPr>
              <p:cNvPr id="1188" name=""/>
              <p:cNvSpPr/>
              <p:nvPr/>
            </p:nvSpPr>
            <p:spPr>
              <a:xfrm>
                <a:off x="38815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105800" y="238284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960480" y="2362320"/>
              <a:ext cx="2926440" cy="307800"/>
              <a:chOff x="960480" y="2362320"/>
              <a:chExt cx="2926440" cy="307800"/>
            </a:xfrm>
          </p:grpSpPr>
          <p:sp>
            <p:nvSpPr>
              <p:cNvPr id="1191" name=""/>
              <p:cNvSpPr/>
              <p:nvPr/>
            </p:nvSpPr>
            <p:spPr>
              <a:xfrm>
                <a:off x="960480" y="2486160"/>
                <a:ext cx="292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202840" y="236232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3" name=""/>
          <p:cNvGraphicFramePr/>
          <p:nvPr/>
        </p:nvGraphicFramePr>
        <p:xfrm>
          <a:off x="457200" y="4241880"/>
          <a:ext cx="8153280" cy="1625400"/>
        </p:xfrm>
        <a:graphic>
          <a:graphicData uri="http://schemas.openxmlformats.org/drawingml/2006/table">
            <a:tbl>
              <a:tblPr/>
              <a:tblGrid>
                <a:gridCol w="625320"/>
                <a:gridCol w="630360"/>
                <a:gridCol w="625680"/>
                <a:gridCol w="628560"/>
                <a:gridCol w="625320"/>
                <a:gridCol w="627120"/>
                <a:gridCol w="628560"/>
                <a:gridCol w="627120"/>
                <a:gridCol w="625680"/>
                <a:gridCol w="628560"/>
                <a:gridCol w="625320"/>
                <a:gridCol w="630360"/>
                <a:gridCol w="625320"/>
              </a:tblGrid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284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544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l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lin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711440" y="2362320"/>
            <a:ext cx="5865840" cy="1395720"/>
            <a:chOff x="1711440" y="2362320"/>
            <a:chExt cx="5865840" cy="1395720"/>
          </a:xfrm>
        </p:grpSpPr>
        <p:grpSp>
          <p:nvGrpSpPr>
            <p:cNvPr id="1197" name=""/>
            <p:cNvGrpSpPr/>
            <p:nvPr/>
          </p:nvGrpSpPr>
          <p:grpSpPr>
            <a:xfrm>
              <a:off x="1711440" y="2736720"/>
              <a:ext cx="5847840" cy="609480"/>
              <a:chOff x="1711440" y="2736720"/>
              <a:chExt cx="5847840" cy="60948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1711440" y="2736720"/>
                <a:ext cx="487080" cy="609480"/>
                <a:chOff x="1711440" y="2736720"/>
                <a:chExt cx="487080" cy="6094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7114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7114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2198520" y="2736720"/>
                <a:ext cx="487080" cy="609480"/>
                <a:chOff x="2198520" y="2736720"/>
                <a:chExt cx="487080" cy="60948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21985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1985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2685960" y="2736720"/>
                <a:ext cx="487080" cy="609480"/>
                <a:chOff x="2685960" y="2736720"/>
                <a:chExt cx="487080" cy="60948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26859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6859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3173400" y="2736720"/>
                <a:ext cx="487080" cy="609480"/>
                <a:chOff x="3173400" y="2736720"/>
                <a:chExt cx="487080" cy="6094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31734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734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3660840" y="2736720"/>
                <a:ext cx="486720" cy="609480"/>
                <a:chOff x="3660840" y="2736720"/>
                <a:chExt cx="486720" cy="6094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366084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6084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4147920" y="2736720"/>
                <a:ext cx="487080" cy="609480"/>
                <a:chOff x="4147920" y="2736720"/>
                <a:chExt cx="487080" cy="6094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41479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1479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4635360" y="2736720"/>
                <a:ext cx="487080" cy="609480"/>
                <a:chOff x="4635360" y="2736720"/>
                <a:chExt cx="487080" cy="6094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46353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6353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5122800" y="2736720"/>
                <a:ext cx="487080" cy="609480"/>
                <a:chOff x="5122800" y="2736720"/>
                <a:chExt cx="487080" cy="60948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51228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1228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610240" y="2736720"/>
                <a:ext cx="487080" cy="609480"/>
                <a:chOff x="5610240" y="2736720"/>
                <a:chExt cx="487080" cy="6094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6102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6102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6097680" y="2736720"/>
                <a:ext cx="486720" cy="609480"/>
                <a:chOff x="6097680" y="2736720"/>
                <a:chExt cx="486720" cy="60948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609768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09768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584760" y="2736720"/>
                <a:ext cx="487080" cy="609480"/>
                <a:chOff x="6584760" y="2736720"/>
                <a:chExt cx="487080" cy="6094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5847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5847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7072200" y="2736720"/>
                <a:ext cx="487080" cy="609480"/>
                <a:chOff x="7072200" y="2736720"/>
                <a:chExt cx="487080" cy="60948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70722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0722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4" name=""/>
            <p:cNvGrpSpPr/>
            <p:nvPr/>
          </p:nvGrpSpPr>
          <p:grpSpPr>
            <a:xfrm>
              <a:off x="4653000" y="3422520"/>
              <a:ext cx="2924280" cy="335520"/>
              <a:chOff x="4653000" y="3422520"/>
              <a:chExt cx="2924280" cy="335520"/>
            </a:xfrm>
          </p:grpSpPr>
          <p:sp>
            <p:nvSpPr>
              <p:cNvPr id="1235" name=""/>
              <p:cNvSpPr/>
              <p:nvPr/>
            </p:nvSpPr>
            <p:spPr>
              <a:xfrm>
                <a:off x="4653000" y="35672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78360" y="34225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757520" y="3422520"/>
              <a:ext cx="2923920" cy="335520"/>
              <a:chOff x="1757520" y="3422520"/>
              <a:chExt cx="2923920" cy="335520"/>
            </a:xfrm>
          </p:grpSpPr>
          <p:sp>
            <p:nvSpPr>
              <p:cNvPr id="1238" name=""/>
              <p:cNvSpPr/>
              <p:nvPr/>
            </p:nvSpPr>
            <p:spPr>
              <a:xfrm>
                <a:off x="1757520" y="356724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2880" y="34225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6556320" y="2382840"/>
              <a:ext cx="992160" cy="307800"/>
              <a:chOff x="6556320" y="2382840"/>
              <a:chExt cx="992160" cy="307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65563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853680" y="238284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4635360" y="2362320"/>
              <a:ext cx="1927080" cy="307800"/>
              <a:chOff x="4635360" y="2362320"/>
              <a:chExt cx="1927080" cy="3078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635360" y="248616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92880" y="236232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1711440" y="2382840"/>
              <a:ext cx="2894760" cy="307800"/>
              <a:chOff x="1711440" y="2382840"/>
              <a:chExt cx="2894760" cy="307800"/>
            </a:xfrm>
          </p:grpSpPr>
          <p:sp>
            <p:nvSpPr>
              <p:cNvPr id="1247" name=""/>
              <p:cNvSpPr/>
              <p:nvPr/>
            </p:nvSpPr>
            <p:spPr>
              <a:xfrm>
                <a:off x="1711440" y="250668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062520" y="238284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49" name=""/>
          <p:cNvGraphicFramePr/>
          <p:nvPr/>
        </p:nvGraphicFramePr>
        <p:xfrm>
          <a:off x="228600" y="3851280"/>
          <a:ext cx="8686800" cy="2554200"/>
        </p:xfrm>
        <a:graphic>
          <a:graphicData uri="http://schemas.openxmlformats.org/drawingml/2006/table">
            <a:tbl>
              <a:tblPr/>
              <a:tblGrid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</a:tblGrid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3D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253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6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300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303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306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309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6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347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353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356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359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B8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364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7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408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411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414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9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420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7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464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467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470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04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475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476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525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528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0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531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9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8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569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572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575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578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581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6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348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KB (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ag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P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a 4 MB page tabl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20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solu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-level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2-level table (P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1 table: 1024 entries, each of which points to a Level 2 page tab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2 table:  1024 entries, each of which points to a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486400" y="259092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4640" y="3276720"/>
            <a:ext cx="699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467480" y="19051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467480" y="32767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467480" y="48006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43160" y="44020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273800" y="106668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6324480" y="1904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6324480" y="32767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24480" y="4336920"/>
            <a:ext cx="1143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0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evels in Memory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19320" y="2849400"/>
            <a:ext cx="42544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14640" y="2306520"/>
            <a:ext cx="982440" cy="993960"/>
            <a:chOff x="2114640" y="2306520"/>
            <a:chExt cx="982440" cy="993960"/>
          </a:xfrm>
        </p:grpSpPr>
        <p:sp>
          <p:nvSpPr>
            <p:cNvPr id="107" name=""/>
            <p:cNvSpPr/>
            <p:nvPr/>
          </p:nvSpPr>
          <p:spPr>
            <a:xfrm>
              <a:off x="2114640" y="2306520"/>
              <a:ext cx="982440" cy="9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7440" y="2946240"/>
              <a:ext cx="6368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92680" y="2306520"/>
            <a:ext cx="297000" cy="1307880"/>
            <a:chOff x="3892680" y="2306520"/>
            <a:chExt cx="297000" cy="1307880"/>
          </a:xfrm>
        </p:grpSpPr>
        <p:sp>
          <p:nvSpPr>
            <p:cNvPr id="110" name=""/>
            <p:cNvSpPr/>
            <p:nvPr/>
          </p:nvSpPr>
          <p:spPr>
            <a:xfrm>
              <a:off x="3892680" y="2306520"/>
              <a:ext cx="271440" cy="13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14640" y="2404080"/>
              <a:ext cx="2750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968720" y="2306520"/>
            <a:ext cx="963720" cy="10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5000" y="255096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760" y="411624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480" y="4116240"/>
            <a:ext cx="65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37512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640" y="37512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69080" y="3751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45960" y="375120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9400" y="4116240"/>
            <a:ext cx="1348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KB-4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2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1000" y="4116240"/>
            <a:ext cx="115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24 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2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3840" y="4116240"/>
            <a:ext cx="128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01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35240" y="5791320"/>
            <a:ext cx="558792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1480" y="546408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1600" y="25923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4240" y="2592360"/>
            <a:ext cx="5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1120" y="2592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4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4960" y="1905120"/>
            <a:ext cx="12826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8840" y="1905120"/>
            <a:ext cx="17398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53400" y="15019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7640" y="1501920"/>
            <a:ext cx="167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570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The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’s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rge “flat”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allocate large blocks of contiguous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“owns”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s private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affected by behavior of other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virtual address space created by mapping to set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not be contiguo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d dynamical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force protection during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anages many processe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ally switching among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when one must wait for resour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isk I/O to handle 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4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RAM vs. SRAM as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87631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vs. disk is more extreme than SRAM vs. DRA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latenci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RAM ~10X slower than S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k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D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ce of exploiting spatial locality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byte is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successive byte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s. ~4X improvement for page-mode vs. regular accesses to DRA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tom lin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decisions made for DRAM caches driven by enormous cost of mi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246640"/>
            <a:ext cx="1131840" cy="113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4200" y="562752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557856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8720" y="565452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297400"/>
            <a:ext cx="2124360" cy="101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045040"/>
            <a:ext cx="2124360" cy="34128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584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63133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c0c0c0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640" y="562752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334800"/>
            <a:ext cx="848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act of Properties on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f DRAM was to be organized similar to an SRAM cache, how would we set the following design paramet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e siz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arge, since disk better at transferring large block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ociativity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gh, to mimimize miss rat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hrough or write back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rite back, since can’t afford to perform small writes to disk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at would the impact of these choices be 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tremely low.  &lt;&lt; 1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ust match cache/DRAM performan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latenc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ery high.  ~20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g storage overhe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ow, relative to block siz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539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stored with cache 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from cache block to memory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cached to un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ve a few bits by only storing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tag for block not i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quickly match against multiple tag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43000" y="4800600"/>
            <a:ext cx="1577520" cy="700560"/>
            <a:chOff x="1143000" y="4800600"/>
            <a:chExt cx="1577520" cy="700560"/>
          </a:xfrm>
        </p:grpSpPr>
        <p:sp>
          <p:nvSpPr>
            <p:cNvPr id="151" name=""/>
            <p:cNvSpPr/>
            <p:nvPr/>
          </p:nvSpPr>
          <p:spPr>
            <a:xfrm>
              <a:off x="1447560" y="518148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38080" y="51656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480060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23360" y="3962520"/>
            <a:ext cx="4572720" cy="2286000"/>
            <a:chOff x="3123360" y="3962520"/>
            <a:chExt cx="4572720" cy="2286000"/>
          </a:xfrm>
        </p:grpSpPr>
        <p:sp>
          <p:nvSpPr>
            <p:cNvPr id="155" name=""/>
            <p:cNvSpPr/>
            <p:nvPr/>
          </p:nvSpPr>
          <p:spPr>
            <a:xfrm>
              <a:off x="4800240" y="4343400"/>
              <a:ext cx="28958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5680" y="4343400"/>
              <a:ext cx="58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440" y="43434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33760" y="4724640"/>
              <a:ext cx="2209680" cy="335520"/>
              <a:chOff x="5333760" y="4724640"/>
              <a:chExt cx="2209680" cy="335520"/>
            </a:xfrm>
          </p:grpSpPr>
          <p:sp>
            <p:nvSpPr>
              <p:cNvPr id="159" name=""/>
              <p:cNvSpPr/>
              <p:nvPr/>
            </p:nvSpPr>
            <p:spPr>
              <a:xfrm>
                <a:off x="5333760" y="4724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48160" y="4724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38680" y="4724640"/>
                <a:ext cx="345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4724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24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33760" y="5105520"/>
              <a:ext cx="2209680" cy="335520"/>
              <a:chOff x="5333760" y="5105520"/>
              <a:chExt cx="2209680" cy="33552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3760" y="510552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48160" y="51055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8680" y="510552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29040" y="5105520"/>
                <a:ext cx="498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33760" y="5867640"/>
              <a:ext cx="2209680" cy="335520"/>
              <a:chOff x="5333760" y="5867640"/>
              <a:chExt cx="2209680" cy="3355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33760" y="5867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48160" y="5867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38680" y="5867640"/>
                <a:ext cx="307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29400" y="5867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0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714640" y="541044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54104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240" y="472464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240" y="510552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280" y="586764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114080" y="4953240"/>
              <a:ext cx="12193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14440" y="5181480"/>
              <a:ext cx="1219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4440" y="5257800"/>
              <a:ext cx="12193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85480" y="5257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3360" y="5105520"/>
              <a:ext cx="72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00"/>
                  </a:solidFill>
                  <a:latin typeface="Arial"/>
                </a:rPr>
                <a:t>= X?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962520"/>
              <a:ext cx="10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Cache”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7543440" y="5257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560" y="334800"/>
            <a:ext cx="871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“Cache”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72000"/>
            <a:ext cx="2057400" cy="1905120"/>
            <a:chOff x="5410080" y="4572000"/>
            <a:chExt cx="2057400" cy="1905120"/>
          </a:xfrm>
        </p:grpSpPr>
        <p:sp>
          <p:nvSpPr>
            <p:cNvPr id="187" name=""/>
            <p:cNvSpPr/>
            <p:nvPr/>
          </p:nvSpPr>
          <p:spPr>
            <a:xfrm>
              <a:off x="5486040" y="4572000"/>
              <a:ext cx="19814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840" y="45720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9560" y="4953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4953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2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9560" y="5334120"/>
              <a:ext cx="12952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00440" y="5334120"/>
              <a:ext cx="49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560" y="6096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6096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0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6390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410080" y="4953240"/>
              <a:ext cx="624960" cy="1478520"/>
              <a:chOff x="5410080" y="4953240"/>
              <a:chExt cx="624960" cy="1478520"/>
            </a:xfrm>
          </p:grpSpPr>
          <p:sp>
            <p:nvSpPr>
              <p:cNvPr id="197" name=""/>
              <p:cNvSpPr/>
              <p:nvPr/>
            </p:nvSpPr>
            <p:spPr>
              <a:xfrm>
                <a:off x="5486040" y="495324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040" y="533412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10080" y="6096240"/>
                <a:ext cx="624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N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609480" y="4952880"/>
            <a:ext cx="1577520" cy="700560"/>
            <a:chOff x="609480" y="4952880"/>
            <a:chExt cx="1577520" cy="700560"/>
          </a:xfrm>
        </p:grpSpPr>
        <p:sp>
          <p:nvSpPr>
            <p:cNvPr id="201" name=""/>
            <p:cNvSpPr/>
            <p:nvPr/>
          </p:nvSpPr>
          <p:spPr>
            <a:xfrm>
              <a:off x="914040" y="533376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04560" y="53179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495288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95480" y="4572000"/>
            <a:ext cx="1905120" cy="1905120"/>
          </a:xfrm>
          <a:prstGeom prst="rect">
            <a:avLst/>
          </a:prstGeom>
          <a:solidFill>
            <a:srgbClr val="33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1960" y="4572000"/>
            <a:ext cx="11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4952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5334120"/>
            <a:ext cx="129564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6095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5638680"/>
            <a:ext cx="2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95480" y="4952880"/>
            <a:ext cx="422280" cy="1478520"/>
            <a:chOff x="2895480" y="4952880"/>
            <a:chExt cx="422280" cy="1478520"/>
          </a:xfrm>
        </p:grpSpPr>
        <p:sp>
          <p:nvSpPr>
            <p:cNvPr id="211" name=""/>
            <p:cNvSpPr/>
            <p:nvPr/>
          </p:nvSpPr>
          <p:spPr>
            <a:xfrm>
              <a:off x="2895480" y="4952880"/>
              <a:ext cx="42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3337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J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6095880"/>
              <a:ext cx="41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828800" y="5562720"/>
            <a:ext cx="1523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6095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4952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0280" y="5354640"/>
            <a:ext cx="94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On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5562360"/>
            <a:ext cx="137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20280" y="4191120"/>
            <a:ext cx="10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ache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7760" y="419112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31484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llocated page of virtual memory has entry i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ping from virtual pages to physical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uncached form to 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even if page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ecifies disk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ay to indicate where to find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Physical Memory On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ray machines, early PCs, nearly all embedded system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884920"/>
            <a:ext cx="868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2520" indent="-3398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generated by the CPU correspond directly to bytes in physical memo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362320" y="2057400"/>
            <a:ext cx="4343400" cy="3733560"/>
            <a:chOff x="2362320" y="2057400"/>
            <a:chExt cx="4343400" cy="3733560"/>
          </a:xfrm>
        </p:grpSpPr>
        <p:grpSp>
          <p:nvGrpSpPr>
            <p:cNvPr id="227" name=""/>
            <p:cNvGrpSpPr/>
            <p:nvPr/>
          </p:nvGrpSpPr>
          <p:grpSpPr>
            <a:xfrm>
              <a:off x="2362320" y="3124080"/>
              <a:ext cx="1218960" cy="1143000"/>
              <a:chOff x="2362320" y="3124080"/>
              <a:chExt cx="1218960" cy="1143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438280" y="320040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62320" y="312408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33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920" y="3429000"/>
                <a:ext cx="71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"/>
                  </a:rPr>
                  <a:t>CPU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029200" y="2514600"/>
              <a:ext cx="167652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24382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486400" y="2590560"/>
              <a:ext cx="914400" cy="2971800"/>
              <a:chOff x="5486400" y="2590560"/>
              <a:chExt cx="914400" cy="2971800"/>
            </a:xfrm>
          </p:grpSpPr>
          <p:sp>
            <p:nvSpPr>
              <p:cNvPr id="234" name=""/>
              <p:cNvSpPr/>
              <p:nvPr/>
            </p:nvSpPr>
            <p:spPr>
              <a:xfrm>
                <a:off x="5486400" y="2590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6400" y="2819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6400" y="3047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86400" y="3276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86400" y="3504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6400" y="3962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86400" y="3733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86400" y="4190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86400" y="4419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86400" y="4647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86400" y="4876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86400" y="5333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86400" y="5105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181480" y="25146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27432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3240" y="52578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8160" y="2057400"/>
              <a:ext cx="10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581280" y="3200400"/>
              <a:ext cx="182880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581280" y="3885840"/>
              <a:ext cx="182880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6040" y="2730240"/>
              <a:ext cx="13474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29T16:15:52Z</dcterms:modified>
  <cp:revision>123</cp:revision>
  <dc:subject/>
  <dc:title>Virtual Memory</dc:title>
</cp:coreProperties>
</file>