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FBB92630-BD13-40A1-870F-C523EAB7C44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V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cellaneous Topic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24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Memory Layo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ing Poin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ffer Ov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858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et Worm and IM Wa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21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vember, 1988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net Worm attacks thousands of Internet hos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id it happe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ly, 199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crosoft launches MSN Messenger (instant messaging system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ssenger clients can access popular AOL Instant Messaging Service (AIM)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65080" y="4827960"/>
            <a:ext cx="122076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5920" y="3821400"/>
            <a:ext cx="109980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12880" y="5878800"/>
            <a:ext cx="109980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9360" y="4827960"/>
            <a:ext cx="1099800" cy="90828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83800" y="4827960"/>
            <a:ext cx="122076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4800" y="5273640"/>
            <a:ext cx="6858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97640" y="5273640"/>
            <a:ext cx="6858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572000"/>
            <a:ext cx="304920" cy="3808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172200" y="5638680"/>
            <a:ext cx="380880" cy="3049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619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et Worm and IM War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199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ysteriously, Messenger clients can no longer access AIM serve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crosoft and AOL begin the IM wa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OL changes server to disallow Messenger cli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crosoft makes changes to clients to defeat AOL chang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least 13 such skirmish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id it happe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Internet Worm and AOL/Microsoft War were both based o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tack buffer overflow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exploits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ny Unix functions do not check argument siz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target buffers to overflow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ing Library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ation of Unix func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way to specify limit on number of characters to r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problems with other Unix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trcp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Copies string of arbitrary l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canf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scanf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scanf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when giv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nversion specific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1905120"/>
            <a:ext cx="5410080" cy="3380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Get string from stdin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har *gets(char *dest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int c = getc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har *p = des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while (c != EOF &amp;&amp; c != '\n'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*p++ =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 = getc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*p = '\0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return des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41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ulnerable Buff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3733920"/>
            <a:ext cx="4495680" cy="17348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int main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printf("Type a string:"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echo(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return 0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1219320"/>
            <a:ext cx="5410080" cy="2009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0920" y="228600"/>
            <a:ext cx="641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Execu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523880"/>
            <a:ext cx="5410080" cy="9118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unix&gt;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./bufdem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743200"/>
            <a:ext cx="5410080" cy="9118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4038480"/>
            <a:ext cx="5410080" cy="9118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4567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489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7400" y="3429000"/>
            <a:ext cx="69343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echo: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Save %ebp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movl %esp,%ebp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subl $20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Save %ebx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addl $-12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  <a:ea typeface="MS Mincho"/>
              </a:rPr>
              <a:t>leal -4(%ebp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Compute buf as %ebp-4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Push buf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all get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Call gets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990720"/>
            <a:ext cx="5410440" cy="2009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04920" y="990720"/>
            <a:ext cx="2652120" cy="3124080"/>
            <a:chOff x="304920" y="990720"/>
            <a:chExt cx="2652120" cy="3124080"/>
          </a:xfrm>
        </p:grpSpPr>
        <p:sp>
          <p:nvSpPr>
            <p:cNvPr id="291" name=""/>
            <p:cNvSpPr/>
            <p:nvPr/>
          </p:nvSpPr>
          <p:spPr>
            <a:xfrm>
              <a:off x="304920" y="213372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4920" y="243864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20" y="27432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6160" y="27432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7040" y="27432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47920" y="27432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3132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1829160" y="25909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88520" y="24386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920" y="99072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4920" y="304812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920" y="99072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530880" cy="1617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72520" y="297180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93840" y="152280"/>
            <a:ext cx="4813560" cy="2284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gdb bufdem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break ech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point 1 at 0x804858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ru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point 1, 0x8048583 in echo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rint /x *(unsigned *)$eb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$1 = 0xbffff8f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rint /x *((unsigned *)$ebp + 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$3 = 0x804864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5791320"/>
            <a:ext cx="662940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8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804857c &lt;echo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d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0xffffffe8(%ebp),%ebx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# Return Po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143000" y="2590920"/>
            <a:ext cx="2652120" cy="3124080"/>
            <a:chOff x="1143000" y="2590920"/>
            <a:chExt cx="2652120" cy="3124080"/>
          </a:xfrm>
        </p:grpSpPr>
        <p:sp>
          <p:nvSpPr>
            <p:cNvPr id="308" name=""/>
            <p:cNvSpPr/>
            <p:nvPr/>
          </p:nvSpPr>
          <p:spPr>
            <a:xfrm>
              <a:off x="1143000" y="373392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43000" y="403884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4300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424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940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667240" y="41911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6600" y="403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3000" y="259092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3000" y="464832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43000" y="259092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191120" y="2590920"/>
            <a:ext cx="3689280" cy="3124080"/>
            <a:chOff x="4191120" y="2590920"/>
            <a:chExt cx="3689280" cy="3124080"/>
          </a:xfrm>
        </p:grpSpPr>
        <p:sp>
          <p:nvSpPr>
            <p:cNvPr id="321" name=""/>
            <p:cNvSpPr/>
            <p:nvPr/>
          </p:nvSpPr>
          <p:spPr>
            <a:xfrm>
              <a:off x="6480360" y="40384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91120" y="2676600"/>
              <a:ext cx="761760" cy="151452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52880" y="3733920"/>
              <a:ext cx="1524240" cy="3045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52880" y="4038480"/>
              <a:ext cx="152424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5288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412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1500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588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7928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52880" y="259092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52880" y="464832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952880" y="3733920"/>
              <a:ext cx="1524240" cy="914400"/>
              <a:chOff x="4952880" y="3733920"/>
              <a:chExt cx="1524240" cy="91440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4952880" y="4038480"/>
                <a:ext cx="1524240" cy="304560"/>
                <a:chOff x="4952880" y="4038480"/>
                <a:chExt cx="1524240" cy="304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952880" y="4038480"/>
                  <a:ext cx="38124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b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334120" y="403848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715000" y="403848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095880" y="4038480"/>
                  <a:ext cx="38124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4952880" y="3733920"/>
                <a:ext cx="1524240" cy="304560"/>
                <a:chOff x="4952880" y="3733920"/>
                <a:chExt cx="1524240" cy="3045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4952880" y="373392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334120" y="373392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715000" y="373392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95880" y="373392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4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4952880" y="434340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34120" y="434340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15000" y="434340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95880" y="434340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4952880" y="259092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810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60520" y="167652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47280" y="17524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= “123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00640" y="55627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 Proble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460760" y="2209680"/>
            <a:ext cx="3689280" cy="3124440"/>
            <a:chOff x="4460760" y="2209680"/>
            <a:chExt cx="3689280" cy="3124440"/>
          </a:xfrm>
        </p:grpSpPr>
        <p:sp>
          <p:nvSpPr>
            <p:cNvPr id="353" name=""/>
            <p:cNvSpPr/>
            <p:nvPr/>
          </p:nvSpPr>
          <p:spPr>
            <a:xfrm>
              <a:off x="6750000" y="36576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60760" y="2295360"/>
              <a:ext cx="761760" cy="151452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2520" y="335268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22520" y="3657600"/>
              <a:ext cx="152424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22520" y="3962520"/>
              <a:ext cx="38124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03760" y="3962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84640" y="3962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65520" y="3962520"/>
              <a:ext cx="38124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4892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22520" y="220968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22520" y="4267080"/>
              <a:ext cx="1524240" cy="10670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222520" y="3352680"/>
              <a:ext cx="1524240" cy="914400"/>
              <a:chOff x="5222520" y="3352680"/>
              <a:chExt cx="1524240" cy="9144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5222520" y="3657240"/>
                <a:ext cx="1524240" cy="304560"/>
                <a:chOff x="5222520" y="3657240"/>
                <a:chExt cx="1524240" cy="3045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22520" y="3657240"/>
                  <a:ext cx="38124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b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603760" y="365724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984640" y="365724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65520" y="3657240"/>
                  <a:ext cx="38124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222520" y="3352680"/>
                <a:ext cx="1524240" cy="304560"/>
                <a:chOff x="5222520" y="3352680"/>
                <a:chExt cx="1524240" cy="304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222520" y="335268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603760" y="335268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984640" y="335268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65520" y="335268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4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5222520" y="396216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0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03760" y="396216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84640" y="396216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65520" y="396216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222520" y="2209680"/>
              <a:ext cx="1524240" cy="312444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536840" y="2209680"/>
            <a:ext cx="2652120" cy="3124080"/>
            <a:chOff x="1536840" y="2209680"/>
            <a:chExt cx="2652120" cy="3124080"/>
          </a:xfrm>
        </p:grpSpPr>
        <p:sp>
          <p:nvSpPr>
            <p:cNvPr id="381" name=""/>
            <p:cNvSpPr/>
            <p:nvPr/>
          </p:nvSpPr>
          <p:spPr>
            <a:xfrm>
              <a:off x="1536840" y="335268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36840" y="365760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36840" y="396216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18080" y="396216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98960" y="396216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79840" y="396216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63240" y="3962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061080" y="380988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20440" y="3657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36840" y="220968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36840" y="426708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36840" y="220968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96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1066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= “12345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4724280"/>
            <a:ext cx="7848720" cy="15541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2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ush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3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  80483e4 &lt;_init+0x50&gt;  # 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8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  0xffffffe8(%ebp),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b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d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pop    %ebp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# %ebp gets set to invalid valu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e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43434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cho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986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200400" y="1143000"/>
            <a:ext cx="3689280" cy="3352680"/>
            <a:chOff x="3200400" y="1143000"/>
            <a:chExt cx="3689280" cy="3352680"/>
          </a:xfrm>
        </p:grpSpPr>
        <p:sp>
          <p:nvSpPr>
            <p:cNvPr id="399" name=""/>
            <p:cNvSpPr/>
            <p:nvPr/>
          </p:nvSpPr>
          <p:spPr>
            <a:xfrm>
              <a:off x="5489640" y="25909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200400" y="2743200"/>
              <a:ext cx="762120" cy="175248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2286000"/>
              <a:ext cx="152388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62520" y="2590920"/>
              <a:ext cx="152388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62520" y="289548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43400" y="289548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24280" y="289548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05520" y="289548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88560" y="28954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114300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62520" y="3200400"/>
              <a:ext cx="152388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3962520" y="2286000"/>
              <a:ext cx="1523520" cy="914400"/>
              <a:chOff x="3962520" y="2286000"/>
              <a:chExt cx="1523520" cy="91440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3962520" y="2590560"/>
                <a:ext cx="1523520" cy="304560"/>
                <a:chOff x="3962520" y="2590560"/>
                <a:chExt cx="1523520" cy="3045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962520" y="259056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b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343400" y="2590560"/>
                  <a:ext cx="38052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724280" y="2590560"/>
                  <a:ext cx="38052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00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105160" y="259056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5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3962520" y="2286000"/>
                <a:ext cx="1523520" cy="304560"/>
                <a:chOff x="3962520" y="2286000"/>
                <a:chExt cx="1523520" cy="304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962520" y="228600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343400" y="2286000"/>
                  <a:ext cx="38052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724280" y="2286000"/>
                  <a:ext cx="38052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105160" y="228600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4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3962520" y="289548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43400" y="2895480"/>
                <a:ext cx="38052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24280" y="2895480"/>
                <a:ext cx="38052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105160" y="289548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3962520" y="1143000"/>
              <a:ext cx="152388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1066680"/>
            <a:ext cx="2652120" cy="3124080"/>
            <a:chOff x="685800" y="1066680"/>
            <a:chExt cx="2652120" cy="3124080"/>
          </a:xfrm>
        </p:grpSpPr>
        <p:sp>
          <p:nvSpPr>
            <p:cNvPr id="427" name=""/>
            <p:cNvSpPr/>
            <p:nvPr/>
          </p:nvSpPr>
          <p:spPr>
            <a:xfrm>
              <a:off x="685800" y="220968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5800" y="251460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281916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67040" y="281916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47920" y="281916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281916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12200" y="281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10040" y="266688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69400" y="2514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5800" y="106668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5800" y="312408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" y="106668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791320" y="320040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ved value of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t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bfff003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d news when later attempt to restor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19920" y="1371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= “12345678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33520" y="1219320"/>
            <a:ext cx="2652120" cy="3124080"/>
            <a:chOff x="533520" y="1219320"/>
            <a:chExt cx="2652120" cy="3124080"/>
          </a:xfrm>
        </p:grpSpPr>
        <p:sp>
          <p:nvSpPr>
            <p:cNvPr id="443" name=""/>
            <p:cNvSpPr/>
            <p:nvPr/>
          </p:nvSpPr>
          <p:spPr>
            <a:xfrm>
              <a:off x="533520" y="236232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3520" y="266724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520" y="29718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14760" y="29718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95640" y="29718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76520" y="29718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59920" y="297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057760" y="28195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17120" y="266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3520" y="121932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3520" y="327672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3520" y="121932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219320" y="5791320"/>
            <a:ext cx="662940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8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804857c &lt;echo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d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0xffffffe8(%ebp),%ebx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# Return Po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895480" y="1295280"/>
            <a:ext cx="3994200" cy="4321080"/>
            <a:chOff x="2895480" y="1295280"/>
            <a:chExt cx="3994200" cy="4321080"/>
          </a:xfrm>
        </p:grpSpPr>
        <p:sp>
          <p:nvSpPr>
            <p:cNvPr id="457" name=""/>
            <p:cNvSpPr/>
            <p:nvPr/>
          </p:nvSpPr>
          <p:spPr>
            <a:xfrm>
              <a:off x="5489640" y="27432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3200400" y="2894760"/>
              <a:ext cx="762120" cy="175284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520" y="2438280"/>
              <a:ext cx="152388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62520" y="2743200"/>
              <a:ext cx="152388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62520" y="30481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43400" y="30481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24280" y="3048120"/>
              <a:ext cx="38124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5520" y="30481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8560" y="30481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62520" y="129528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62520" y="3352680"/>
              <a:ext cx="1523880" cy="10670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962520" y="2438280"/>
              <a:ext cx="1523520" cy="914400"/>
              <a:chOff x="3962520" y="2438280"/>
              <a:chExt cx="1523520" cy="91440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3962520" y="2742840"/>
                <a:ext cx="1523520" cy="304560"/>
                <a:chOff x="3962520" y="2742840"/>
                <a:chExt cx="1523520" cy="30456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962520" y="274284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343400" y="2742840"/>
                  <a:ext cx="38052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7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724280" y="2742840"/>
                  <a:ext cx="38052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105160" y="274284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5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962520" y="2438280"/>
                <a:ext cx="1523520" cy="304560"/>
                <a:chOff x="3962520" y="2438280"/>
                <a:chExt cx="1523520" cy="3045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962520" y="243828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343400" y="2438280"/>
                  <a:ext cx="38052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724280" y="2438280"/>
                  <a:ext cx="38052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105160" y="243828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00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3962520" y="304776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43400" y="3047760"/>
                <a:ext cx="38052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24280" y="3047760"/>
                <a:ext cx="38052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05160" y="304776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3962520" y="1295280"/>
              <a:ext cx="1523880" cy="312444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86400" y="2590920"/>
              <a:ext cx="762120" cy="2666880"/>
            </a:xfrm>
            <a:custGeom>
              <a:avLst/>
              <a:gdLst/>
              <a:ahLst/>
              <a:rect l="l" t="t" r="r" b="b"/>
              <a:pathLst>
                <a:path w="640" h="2016">
                  <a:moveTo>
                    <a:pt x="0" y="0"/>
                  </a:moveTo>
                  <a:cubicBezTo>
                    <a:pt x="192" y="80"/>
                    <a:pt x="384" y="160"/>
                    <a:pt x="480" y="336"/>
                  </a:cubicBezTo>
                  <a:cubicBezTo>
                    <a:pt x="576" y="512"/>
                    <a:pt x="640" y="776"/>
                    <a:pt x="576" y="1056"/>
                  </a:cubicBezTo>
                  <a:cubicBezTo>
                    <a:pt x="512" y="1336"/>
                    <a:pt x="176" y="1856"/>
                    <a:pt x="96" y="2016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60720" y="4495680"/>
              <a:ext cx="1756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valid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95480" y="5029200"/>
              <a:ext cx="25909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 longer pointing to desired return poi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400800" y="3733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return address corrup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9880" y="228600"/>
            <a:ext cx="5181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Memory Layo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76720" y="9144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untime stack (8MB limi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eap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ynamically allocated storag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call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o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ew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LL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ynamically Linked Librari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brary routines (e.g.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d into object code when first execut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ally allocated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arrays &amp; strings declared in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machine instruc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-on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057400"/>
            <a:ext cx="10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pp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hex digits of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505320"/>
            <a:ext cx="121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d H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. 6.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920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m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44080" y="152280"/>
            <a:ext cx="1980000" cy="6540480"/>
            <a:chOff x="1144080" y="152280"/>
            <a:chExt cx="1980000" cy="6540480"/>
          </a:xfrm>
        </p:grpSpPr>
        <p:sp>
          <p:nvSpPr>
            <p:cNvPr id="86" name=""/>
            <p:cNvSpPr/>
            <p:nvPr/>
          </p:nvSpPr>
          <p:spPr>
            <a:xfrm>
              <a:off x="1676520" y="502920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342900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182880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22860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4080" y="152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4080" y="1766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4080" y="3381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4080" y="4995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4080" y="1523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C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44080" y="3124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44080" y="4724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4080" y="6324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76520" y="228600"/>
              <a:ext cx="1447560" cy="64008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76520" y="1828800"/>
              <a:ext cx="144756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76520" y="4724280"/>
              <a:ext cx="144756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6019920"/>
              <a:ext cx="144756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5715000"/>
              <a:ext cx="144756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520" y="5029200"/>
              <a:ext cx="1447560" cy="68580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6520" y="3200400"/>
              <a:ext cx="1447560" cy="15238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4080" y="6019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26640" y="228600"/>
            <a:ext cx="7759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licious Use of Buffer Over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520" y="5486040"/>
            <a:ext cx="8255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lvl="1" marL="425880" indent="-168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string contains byte representation of executable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5880" indent="-168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verwrite return address with address of buff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5880" indent="-168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r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execute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ill jump to exploit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71600" y="3416400"/>
            <a:ext cx="2438280" cy="14605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bar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buf[64]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(buf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971720"/>
            <a:ext cx="1828800" cy="1186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o()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21120" y="74916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fter call to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gets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29400" y="2819520"/>
            <a:ext cx="106668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29400" y="1600200"/>
            <a:ext cx="106668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72400" y="16002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89680" y="3200400"/>
            <a:ext cx="211320" cy="2209680"/>
          </a:xfrm>
          <a:custGeom>
            <a:avLst/>
            <a:gdLst>
              <a:gd name="textAreaLeft" fmla="*/ 0 w 211320"/>
              <a:gd name="textAreaRight" fmla="*/ 76320 w 2113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29400" y="4788000"/>
            <a:ext cx="1066680" cy="62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-48240" y="2273040"/>
            <a:ext cx="105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66680" y="2730600"/>
            <a:ext cx="533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52840" y="22089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o stack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197840" y="41284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r stack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64400" y="461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59320" y="4788000"/>
            <a:ext cx="304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27600" y="4136400"/>
            <a:ext cx="1067040" cy="642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lo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27600" y="3195720"/>
            <a:ext cx="1067040" cy="9367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18080" y="283212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62480" y="298908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t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oits Based on Buffer Over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uffer overflow bugs allow remote machines to execute arbitrary code on victim machin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et w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rly versions of the finger server (fingerd) us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s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read the argument sent by the clien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finger droh@cs.cmu.ed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m attacked fingerd server by sending phony argumen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finger “exploit-code  padding  new-return-address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oit code: executed a root shell on the victim machine with a direct TCP connection to the attack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oits Based on Buffer Over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uffer overflow bugs allow remote machines to execute arbitrary code on victim machin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 Wa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OL exploited existing buffer overflow bug in AIM cli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it code: returned 4-byte signature (the bytes at some location in the AIM client) to serv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Microsoft changed code to match signature, AOL changed signature loca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743200" y="11520"/>
            <a:ext cx="3657600" cy="1007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Date: Wed, 11 Aug 1999 11:30:57 -0700 (PDT)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From: Phil Bucking &lt;philbucking@yahoo.com&gt;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Subject: AOL exploiting buffer overrun bug in their own software!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To: rms@pharlap.com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r. Smith,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 am writing you because I have discovered something that I think you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ight find interesting because you are an Internet security expert with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experience in this area. I have also tried to contact AOL but received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no response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 am a developer who has been working on a revolutionary new instant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essaging client that should be released later this year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t appears that the AIM client has a buffer overrun bug. By itself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this might not be the end of the world, as MS surely has had its share.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But AOL is now *exploiting their own buffer overrun bug* to help in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ts efforts to block MS Instant Messenger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...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Since you have significant credibility with the press I hope that you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an use this information to help inform people that behind AOL's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friendly exterior they are nefariously compromising peoples' security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Sincerely,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Phil Bucking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Founder, Bucking Consulting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philbucking@yahoo.com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267080" y="56386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t was later determined that this email originated from within Microsoft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Red Wor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ne 18, 2001.  Microsoft announces buffer overflow vulnerability in IIS Internet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ly 19, 2001. over 250,000 machines infected by new virus in 9 hou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te house must change its IP address.  Pentagon shut down public WWW servers for da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We Set Up CS:APP Web Si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ived strings of for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 /default.ida?NNNNNNNNNNNNNNNNNNNNNNNNNNNNNNNNNNNNNNN....NNNNNNNNNNNNNNNNNNNNNNNNNNNNNNNNNNNNNNNNN%u9090%u6858%ucbd3%u7801%u9090%u6858%ucbd3%u7801%u9090%u6858%ucbd3%u7801%u9090%u9090%u8190%u00c3%u0003%u8b00%u531b%u53ff%u0078%u0000%u00=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TTP/1.0" 400 325 "-" "-"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Red Exploi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-360" y="1220760"/>
            <a:ext cx="8597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s 100 threads run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read sel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 random IP addresses &amp; send attack st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ween 1st &amp; 19th of mon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tack www.whitehouse.go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nd 98,304 packets; sleep for 4-1/2 hours; repe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ial of service attac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ween 21st &amp; 27th of mon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face server’s home p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fter waiting 2 hou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9" name="hackedweb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38941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Red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ter Version Even More Mal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Red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of April, 2002, over 18,000 machines infec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spre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ved Way for NIMD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ety of propagation metho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was to exploit vulnerabilities left behind by Code Red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Overflow Vulnerabi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90520" y="3962520"/>
            <a:ext cx="8307360" cy="24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Library Routines that Limit String L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ead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ncpy instead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c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us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can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sion specif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read the st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523880" y="1600200"/>
            <a:ext cx="5410440" cy="2009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fgets(buf, 4, stdin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Floating Poi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6643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86: first computer to implement IEEE F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parate 8087 FPU (floating point uni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86: merged FPU and Integer Unit onto one chi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to add, multiply, and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data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ous control &amp; status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oating Point Forma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 (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: 32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 (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: 64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precision (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ong 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: 80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705720" y="1447920"/>
            <a:ext cx="167616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oder 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quenc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9608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24852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0" y="434340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05920" y="434340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0" y="3048120"/>
            <a:ext cx="1447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543800" y="2438280"/>
            <a:ext cx="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048120"/>
            <a:ext cx="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305920" y="3048120"/>
            <a:ext cx="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29400" y="4876920"/>
            <a:ext cx="190512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69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U Data Register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79080" y="1364760"/>
            <a:ext cx="6211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PU register format (extended precision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372680" y="1903320"/>
            <a:ext cx="5636160" cy="611280"/>
            <a:chOff x="1372680" y="1903320"/>
            <a:chExt cx="5636160" cy="611280"/>
          </a:xfrm>
        </p:grpSpPr>
        <p:sp>
          <p:nvSpPr>
            <p:cNvPr id="540" name=""/>
            <p:cNvSpPr/>
            <p:nvPr/>
          </p:nvSpPr>
          <p:spPr>
            <a:xfrm>
              <a:off x="1447920" y="2209680"/>
              <a:ext cx="30456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220968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66880" y="2209680"/>
              <a:ext cx="426744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29120" y="1903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9200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6340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760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78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7268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79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533520" y="2590920"/>
            <a:ext cx="4114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PU regist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register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ly forms shallow sta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p call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st(0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ush too many, bottom values disappea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03200" y="579132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grows dow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114800" y="4495680"/>
            <a:ext cx="4496400" cy="1282680"/>
            <a:chOff x="4114800" y="4495680"/>
            <a:chExt cx="4496400" cy="1282680"/>
          </a:xfrm>
        </p:grpSpPr>
        <p:sp>
          <p:nvSpPr>
            <p:cNvPr id="551" name=""/>
            <p:cNvSpPr/>
            <p:nvPr/>
          </p:nvSpPr>
          <p:spPr>
            <a:xfrm>
              <a:off x="5565960" y="4495680"/>
              <a:ext cx="215244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4800" y="5410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op”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57800" y="5562360"/>
              <a:ext cx="304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62720" y="4800600"/>
              <a:ext cx="2152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62720" y="5105160"/>
              <a:ext cx="2152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62720" y="5410080"/>
              <a:ext cx="2152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57800" y="4495680"/>
              <a:ext cx="2743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98960" y="54100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0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98960" y="510516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1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98960" y="48006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2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98960" y="44956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3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134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Memor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15680" y="1038240"/>
            <a:ext cx="1980000" cy="5397480"/>
            <a:chOff x="2515680" y="1038240"/>
            <a:chExt cx="1980000" cy="5397480"/>
          </a:xfrm>
        </p:grpSpPr>
        <p:sp>
          <p:nvSpPr>
            <p:cNvPr id="108" name=""/>
            <p:cNvSpPr/>
            <p:nvPr/>
          </p:nvSpPr>
          <p:spPr>
            <a:xfrm>
              <a:off x="3048120" y="10382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inke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8120" y="477216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8120" y="317196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157176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5680" y="1509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5680" y="3124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5680" y="47386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5680" y="2867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15680" y="4467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5680" y="6067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8120" y="1571760"/>
              <a:ext cx="144756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1571760"/>
              <a:ext cx="1447560" cy="1807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4467240"/>
              <a:ext cx="144756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8120" y="5762520"/>
              <a:ext cx="144756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8120" y="5457960"/>
              <a:ext cx="144756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175248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15680" y="5791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25360" y="762120"/>
            <a:ext cx="1980360" cy="5688000"/>
            <a:chOff x="4725360" y="762120"/>
            <a:chExt cx="1980360" cy="5688000"/>
          </a:xfrm>
        </p:grpSpPr>
        <p:sp>
          <p:nvSpPr>
            <p:cNvPr id="126" name=""/>
            <p:cNvSpPr/>
            <p:nvPr/>
          </p:nvSpPr>
          <p:spPr>
            <a:xfrm>
              <a:off x="5257800" y="7621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ome Hea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47862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7800" y="31860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57800" y="15858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5360" y="1523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25360" y="3138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25360" y="4753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5360" y="2881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5360" y="4481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5360" y="6081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158580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57800" y="1585800"/>
              <a:ext cx="1447920" cy="2430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57800" y="448164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7800" y="577692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7800" y="547200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57800" y="3733920"/>
              <a:ext cx="1447920" cy="74772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190512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943600" y="327672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5360" y="5791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935400" y="762120"/>
            <a:ext cx="1980000" cy="5702040"/>
            <a:chOff x="6935400" y="762120"/>
            <a:chExt cx="1980000" cy="5702040"/>
          </a:xfrm>
        </p:grpSpPr>
        <p:sp>
          <p:nvSpPr>
            <p:cNvPr id="146" name=""/>
            <p:cNvSpPr/>
            <p:nvPr/>
          </p:nvSpPr>
          <p:spPr>
            <a:xfrm>
              <a:off x="7467480" y="7621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or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ea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7480" y="48006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32004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67480" y="16002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5400" y="1538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5400" y="3152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35400" y="4767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35400" y="2895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35400" y="44956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35400" y="6095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67480" y="160020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1600200"/>
              <a:ext cx="144792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449568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579132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7480" y="548640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5105520"/>
              <a:ext cx="1447920" cy="3808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7480" y="2971800"/>
              <a:ext cx="1447920" cy="15238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3280" y="205740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153280" y="4876560"/>
              <a:ext cx="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5400" y="5791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06000" y="1023840"/>
            <a:ext cx="1980000" cy="5397480"/>
            <a:chOff x="306000" y="1023840"/>
            <a:chExt cx="1980000" cy="5397480"/>
          </a:xfrm>
        </p:grpSpPr>
        <p:sp>
          <p:nvSpPr>
            <p:cNvPr id="167" name=""/>
            <p:cNvSpPr/>
            <p:nvPr/>
          </p:nvSpPr>
          <p:spPr>
            <a:xfrm>
              <a:off x="838080" y="1023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nitially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475776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315756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155736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6000" y="1495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6000" y="3110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6000" y="4724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6000" y="2852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6000" y="4452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6000" y="6053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080" y="155736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8080" y="1557360"/>
              <a:ext cx="1447920" cy="1191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574848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544356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6000" y="5791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175248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08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U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rge number of floating point instructions and forma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50 basic instruction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, store, add, multip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, cos, tan, arctan, and log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ple instru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7520" y="4038480"/>
            <a:ext cx="8489520" cy="20566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dz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sh 0.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z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ds  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sh 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single precision re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muls 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st(0) &lt;- %st(0)*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pl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add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st(1) &lt;- %st(0)+%st(1); po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 and p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518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Cod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 Inner Product of Two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on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3048120"/>
            <a:ext cx="3502080" cy="3009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loat ipf (float x[]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loat y[]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loat result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sult += x[i] * y[i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56680" y="1371600"/>
            <a:ext cx="5087880" cy="4995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ushl %ebp              # setup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sp,%ebp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ushl %ebx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8(%ebp),%ebx       # %ebx=&amp;x 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2(%ebp),%ecx      # %ecx=&amp;y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6(%ebp),%edx      # %edx=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ldz                    # push +0.0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xorl %eax,%eax          # i=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mpl %edx,%eax          # if i&gt;=n don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ge .L3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5: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lds (%ebx,%eax,4)      # push x[i]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muls (%ecx,%eax,4)     # st(0)*=y[i]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addp                   # st(1)+=st(0); p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cl %eax               # i++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mpl %edx,%eax          # if i&lt;n repeat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l .L5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3: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-4(%ebp),%ebx      # finish  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bp, 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t                     # st(0) = 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858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ner Product Stack Tr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8880" y="1263600"/>
            <a:ext cx="12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ldz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16444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5200" y="16444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76000" y="1644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21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462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8080" y="31240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924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1430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00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588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430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5200" y="434340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7600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397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7276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8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0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+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5200" y="56386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7600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1055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896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81480" y="31240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264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864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1940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022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864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178600" y="434340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1940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831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1]*y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1616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022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7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78600" y="56386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69860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53480" y="60199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+x[1]*y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1720" y="8064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88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eration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91364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eration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08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nal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Layou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/machine dependent (including kernel vers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c partitioning: stack/data/text/heap/DLL found in most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e Declaration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ation obscure, but very system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ing with Strange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 to analyze nonstandard ca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what happens when stack corrupted due to buffer overflow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s to step through with GD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A32 Floating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nge “shallow stack”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870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xt &amp; Stack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371600"/>
            <a:ext cx="6095880" cy="1613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break ma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r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reakpoint 1, 0x804856f in main (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print $es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$3 = (void *) 0xbffffc7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3657600"/>
            <a:ext cx="6110280" cy="203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56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be rea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0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4856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bf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ffc7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0480" y="685800"/>
            <a:ext cx="1980000" cy="5397480"/>
            <a:chOff x="6630480" y="685800"/>
            <a:chExt cx="1980000" cy="5397480"/>
          </a:xfrm>
        </p:grpSpPr>
        <p:sp>
          <p:nvSpPr>
            <p:cNvPr id="187" name=""/>
            <p:cNvSpPr/>
            <p:nvPr/>
          </p:nvSpPr>
          <p:spPr>
            <a:xfrm>
              <a:off x="7162560" y="6858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nitially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62560" y="441972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62560" y="281952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62560" y="121932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30480" y="11574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30480" y="2772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30480" y="43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30480" y="2514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3048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30480" y="5715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2560" y="121932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560" y="1219320"/>
              <a:ext cx="1447920" cy="1191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560" y="541044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560" y="510552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30480" y="5453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8360" y="141444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Link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990720"/>
            <a:ext cx="6400800" cy="2833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print mallo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$1 = {&lt;text variable, no debug info&gt;} 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454 &lt;malloc&g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r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rogram exited normal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print mallo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$2 = {void *(unsigned int)}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40006240 &lt;malloc&g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0520" y="3886200"/>
            <a:ext cx="641520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itial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in text segment that invokes dynamic link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45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be rea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45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n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in DLL reg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859080" y="762120"/>
            <a:ext cx="1980000" cy="5397120"/>
            <a:chOff x="6859080" y="762120"/>
            <a:chExt cx="1980000" cy="5397120"/>
          </a:xfrm>
        </p:grpSpPr>
        <p:sp>
          <p:nvSpPr>
            <p:cNvPr id="207" name=""/>
            <p:cNvSpPr/>
            <p:nvPr/>
          </p:nvSpPr>
          <p:spPr>
            <a:xfrm>
              <a:off x="7391520" y="762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inke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91520" y="4495680"/>
              <a:ext cx="1447560" cy="159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91520" y="2895480"/>
              <a:ext cx="1447560" cy="159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1520" y="1295280"/>
              <a:ext cx="1447560" cy="159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9080" y="1233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9080" y="284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9080" y="4462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59080" y="2590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9080" y="4190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9080" y="579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1520" y="1295280"/>
              <a:ext cx="1447560" cy="480024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91520" y="1295280"/>
              <a:ext cx="1447560" cy="1803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91520" y="4190760"/>
              <a:ext cx="144756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91520" y="5486040"/>
              <a:ext cx="144756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91520" y="5181480"/>
              <a:ext cx="1447560" cy="3042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77320" y="1476000"/>
              <a:ext cx="0" cy="45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9080" y="5514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84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Alloc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244520"/>
            <a:ext cx="7010640" cy="4478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big_array[1&lt;&lt;24];  /*  16 MB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huge_array[1&lt;&lt;28]; /* 256 MB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eyond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*p1, *p2, *p3, *p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useless() {  return 0; 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1 &lt;&lt;28);  /* 256 MB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 = malloc(1 &lt;&lt; 8);  /* 256 B 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3 = malloc(1 &lt;&lt;28);  /* 256 MB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4 = malloc(1 &lt;&lt; 8);  /* 256 B 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Some print statements ..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578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Addr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1143000"/>
            <a:ext cx="5105520" cy="4478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$esp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bffffc7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p3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500b50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p1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400b40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al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4000624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p4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1904a640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p2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1904a53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beyond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1904a52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big_array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1804a5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uge_array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a5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ain()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856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useless()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856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845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724280" y="5333760"/>
            <a:ext cx="1981440" cy="75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5029200"/>
            <a:ext cx="198144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4648320"/>
            <a:ext cx="198144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267080"/>
            <a:ext cx="1905120" cy="762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3886200"/>
            <a:ext cx="1905120" cy="762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3581280"/>
            <a:ext cx="190512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200400"/>
            <a:ext cx="175248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2819520"/>
            <a:ext cx="1752480" cy="1600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2438280"/>
            <a:ext cx="1828800" cy="1524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2057400"/>
            <a:ext cx="1828800" cy="1752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1676520"/>
            <a:ext cx="1752480" cy="1676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800600" y="1066320"/>
            <a:ext cx="18288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554160" y="838080"/>
            <a:ext cx="1980360" cy="4925880"/>
            <a:chOff x="6554160" y="838080"/>
            <a:chExt cx="1980360" cy="4925880"/>
          </a:xfrm>
        </p:grpSpPr>
        <p:sp>
          <p:nvSpPr>
            <p:cNvPr id="241" name=""/>
            <p:cNvSpPr/>
            <p:nvPr/>
          </p:nvSpPr>
          <p:spPr>
            <a:xfrm>
              <a:off x="7086600" y="41004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86600" y="25002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6600" y="9000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54160" y="838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4160" y="2452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4160" y="4066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4160" y="2195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54160" y="3795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54160" y="53956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90000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86600" y="900000"/>
              <a:ext cx="144792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86600" y="379548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86600" y="509076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86600" y="478620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86600" y="4404960"/>
              <a:ext cx="1447920" cy="38124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86600" y="2271600"/>
              <a:ext cx="1447920" cy="15238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72400" y="135720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772400" y="4176000"/>
              <a:ext cx="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4160" y="5090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5079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 opera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1400" y="831960"/>
            <a:ext cx="815868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rators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ociativ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)  []  -&gt;  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  ~  ++  --  +  -  *  &amp; (type) sizeo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ight to lef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  /  %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  -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 &gt;&gt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  &lt;=  &gt;  &gt;=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==  !=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^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|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&amp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||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ight to lef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= += -= *= /= %= &amp;= ^= != &lt;&lt;= &gt;&gt;=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ight to lef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,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: Una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ve higher precedence than binary form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36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 pointer decla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8120" y="1054080"/>
            <a:ext cx="840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 pointer to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[13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n array[13] of pointer to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(p[13]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n array[13] of pointer to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*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 pointer to a pointer to an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(*p)[13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 pointer to an array[13] of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f(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 is a function returning a pointer to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(*f)(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 is a pointer to a function returning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(*(*f())[13])(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 is a function returning ptr to an array[13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pointers to functions returning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(*(*x[3])())[5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 is an array[3] of pointers  to function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ing pointers to array[5] of i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8:13Z</dcterms:modified>
  <cp:revision>97</cp:revision>
  <dc:subject/>
  <dc:title>Machine Level Programming V</dc:title>
</cp:coreProperties>
</file>