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32888" cy="68468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492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9968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16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492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9968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280" y="247320"/>
            <a:ext cx="8704440" cy="36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492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89968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16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492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89968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280" y="247320"/>
            <a:ext cx="8704440" cy="36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920" y="639000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110B02A6-BB02-4BFE-8CAA-321090EFD514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718400" y="6380640"/>
            <a:ext cx="7459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CS:AP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000" y="365040"/>
            <a:ext cx="7762680" cy="113976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1800" rIns="9180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673000" y="4216320"/>
            <a:ext cx="37850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Randal E. Bryant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80760" y="5245200"/>
            <a:ext cx="599472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33"/>
                </a:solidFill>
                <a:latin typeface="Arial"/>
              </a:rPr>
              <a:t>Carnegie Mellon University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05720" y="6515280"/>
            <a:ext cx="78120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CS:AP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52920" y="1022400"/>
            <a:ext cx="25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98200" y="755640"/>
            <a:ext cx="5652000" cy="2915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54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CS:APP Chapter 4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Computer Architecture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00"/>
                </a:solidFill>
                <a:latin typeface="Arial"/>
              </a:rPr>
              <a:t>Instruction Set</a:t>
            </a:r>
            <a:endParaRPr b="0" lang="en-US" sz="6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00"/>
                </a:solidFill>
                <a:latin typeface="Arial"/>
              </a:rPr>
              <a:t>Architecture</a:t>
            </a:r>
            <a:endParaRPr b="0" lang="en-US" sz="6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04120" y="5940360"/>
            <a:ext cx="3336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http://csapp.cs.cmu.ed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Jump Instruc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800600" y="1218960"/>
            <a:ext cx="433080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fer to generically as “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jX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ncodings differ only by “function code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ased on values of condition cod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ame as IA32 counterpar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ncode full destination addr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nlike PC-relative addressing seen in IA32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459720" y="914400"/>
            <a:ext cx="4645800" cy="762120"/>
            <a:chOff x="459720" y="914400"/>
            <a:chExt cx="4645800" cy="762120"/>
          </a:xfrm>
        </p:grpSpPr>
        <p:sp>
          <p:nvSpPr>
            <p:cNvPr id="299" name=""/>
            <p:cNvSpPr/>
            <p:nvPr/>
          </p:nvSpPr>
          <p:spPr>
            <a:xfrm>
              <a:off x="487440" y="1219320"/>
              <a:ext cx="4618080" cy="45720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3300"/>
              </a:solidFill>
              <a:miter/>
            </a:ln>
            <a:effectLst>
              <a:outerShdw dist="17819" dir="2700000" blurRad="0" rotWithShape="0">
                <a:srgbClr val="00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16040" y="1295640"/>
              <a:ext cx="11127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jmp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D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1828800" y="1295640"/>
              <a:ext cx="609480" cy="304560"/>
              <a:chOff x="1828800" y="1295640"/>
              <a:chExt cx="609480" cy="304560"/>
            </a:xfrm>
          </p:grpSpPr>
          <p:sp>
            <p:nvSpPr>
              <p:cNvPr id="302" name=""/>
              <p:cNvSpPr/>
              <p:nvPr/>
            </p:nvSpPr>
            <p:spPr>
              <a:xfrm>
                <a:off x="1828800" y="129564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7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133720" y="129564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0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828800" y="129564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05" name=""/>
            <p:cNvSpPr/>
            <p:nvPr/>
          </p:nvSpPr>
          <p:spPr>
            <a:xfrm>
              <a:off x="459720" y="914400"/>
              <a:ext cx="22060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Jump Unconditionally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438280" y="1295640"/>
              <a:ext cx="24386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Des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460440" y="1676520"/>
            <a:ext cx="4645080" cy="761400"/>
            <a:chOff x="460440" y="1676520"/>
            <a:chExt cx="4645080" cy="761400"/>
          </a:xfrm>
        </p:grpSpPr>
        <p:sp>
          <p:nvSpPr>
            <p:cNvPr id="308" name=""/>
            <p:cNvSpPr/>
            <p:nvPr/>
          </p:nvSpPr>
          <p:spPr>
            <a:xfrm>
              <a:off x="487440" y="1981080"/>
              <a:ext cx="4618080" cy="45684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3300"/>
              </a:solidFill>
              <a:miter/>
            </a:ln>
            <a:effectLst>
              <a:outerShdw dist="17819" dir="2700000" blurRad="0" rotWithShape="0">
                <a:srgbClr val="00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6040" y="2057400"/>
              <a:ext cx="111276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jle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D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1828800" y="2057400"/>
              <a:ext cx="609480" cy="304200"/>
              <a:chOff x="1828800" y="2057400"/>
              <a:chExt cx="609480" cy="304200"/>
            </a:xfrm>
          </p:grpSpPr>
          <p:sp>
            <p:nvSpPr>
              <p:cNvPr id="311" name=""/>
              <p:cNvSpPr/>
              <p:nvPr/>
            </p:nvSpPr>
            <p:spPr>
              <a:xfrm>
                <a:off x="1828800" y="2057400"/>
                <a:ext cx="304920" cy="30420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7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133720" y="2057400"/>
                <a:ext cx="304560" cy="30420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828800" y="2057400"/>
                <a:ext cx="609480" cy="30420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>
              <a:off x="460440" y="1676520"/>
              <a:ext cx="26251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Jump When Less or Equa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438280" y="2057400"/>
              <a:ext cx="2438640" cy="304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Des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459360" y="2438280"/>
            <a:ext cx="4646160" cy="762120"/>
            <a:chOff x="459360" y="2438280"/>
            <a:chExt cx="4646160" cy="762120"/>
          </a:xfrm>
        </p:grpSpPr>
        <p:sp>
          <p:nvSpPr>
            <p:cNvPr id="317" name=""/>
            <p:cNvSpPr/>
            <p:nvPr/>
          </p:nvSpPr>
          <p:spPr>
            <a:xfrm>
              <a:off x="487440" y="2743200"/>
              <a:ext cx="4618080" cy="45720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3300"/>
              </a:solidFill>
              <a:miter/>
            </a:ln>
            <a:effectLst>
              <a:outerShdw dist="17819" dir="2700000" blurRad="0" rotWithShape="0">
                <a:srgbClr val="00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16040" y="2819520"/>
              <a:ext cx="11127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jl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D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1828800" y="2819520"/>
              <a:ext cx="609480" cy="304560"/>
              <a:chOff x="1828800" y="2819520"/>
              <a:chExt cx="609480" cy="304560"/>
            </a:xfrm>
          </p:grpSpPr>
          <p:sp>
            <p:nvSpPr>
              <p:cNvPr id="320" name=""/>
              <p:cNvSpPr/>
              <p:nvPr/>
            </p:nvSpPr>
            <p:spPr>
              <a:xfrm>
                <a:off x="1828800" y="28195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7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133720" y="281952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2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828800" y="28195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459360" y="2438280"/>
              <a:ext cx="1757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Jump When Les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438280" y="2819520"/>
              <a:ext cx="24386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Des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459360" y="3200400"/>
            <a:ext cx="4646160" cy="762120"/>
            <a:chOff x="459360" y="3200400"/>
            <a:chExt cx="4646160" cy="762120"/>
          </a:xfrm>
        </p:grpSpPr>
        <p:sp>
          <p:nvSpPr>
            <p:cNvPr id="326" name=""/>
            <p:cNvSpPr/>
            <p:nvPr/>
          </p:nvSpPr>
          <p:spPr>
            <a:xfrm>
              <a:off x="487440" y="3505320"/>
              <a:ext cx="4618080" cy="45720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3300"/>
              </a:solidFill>
              <a:miter/>
            </a:ln>
            <a:effectLst>
              <a:outerShdw dist="17819" dir="2700000" blurRad="0" rotWithShape="0">
                <a:srgbClr val="00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16040" y="3581640"/>
              <a:ext cx="11127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je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D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1828800" y="3581640"/>
              <a:ext cx="609480" cy="304560"/>
              <a:chOff x="1828800" y="3581640"/>
              <a:chExt cx="609480" cy="304560"/>
            </a:xfrm>
          </p:grpSpPr>
          <p:sp>
            <p:nvSpPr>
              <p:cNvPr id="329" name=""/>
              <p:cNvSpPr/>
              <p:nvPr/>
            </p:nvSpPr>
            <p:spPr>
              <a:xfrm>
                <a:off x="1828800" y="358164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7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133720" y="358164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3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828800" y="358164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459360" y="3200400"/>
              <a:ext cx="1847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Jump When Equa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438280" y="3581640"/>
              <a:ext cx="24386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Des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460440" y="3962520"/>
            <a:ext cx="4645080" cy="761400"/>
            <a:chOff x="460440" y="3962520"/>
            <a:chExt cx="4645080" cy="761400"/>
          </a:xfrm>
        </p:grpSpPr>
        <p:sp>
          <p:nvSpPr>
            <p:cNvPr id="335" name=""/>
            <p:cNvSpPr/>
            <p:nvPr/>
          </p:nvSpPr>
          <p:spPr>
            <a:xfrm>
              <a:off x="487440" y="4267080"/>
              <a:ext cx="4618080" cy="45684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3300"/>
              </a:solidFill>
              <a:miter/>
            </a:ln>
            <a:effectLst>
              <a:outerShdw dist="17819" dir="2700000" blurRad="0" rotWithShape="0">
                <a:srgbClr val="00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16040" y="4343400"/>
              <a:ext cx="111276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jne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D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37" name=""/>
            <p:cNvGrpSpPr/>
            <p:nvPr/>
          </p:nvGrpSpPr>
          <p:grpSpPr>
            <a:xfrm>
              <a:off x="1828800" y="4343400"/>
              <a:ext cx="609480" cy="304200"/>
              <a:chOff x="1828800" y="4343400"/>
              <a:chExt cx="609480" cy="304200"/>
            </a:xfrm>
          </p:grpSpPr>
          <p:sp>
            <p:nvSpPr>
              <p:cNvPr id="338" name=""/>
              <p:cNvSpPr/>
              <p:nvPr/>
            </p:nvSpPr>
            <p:spPr>
              <a:xfrm>
                <a:off x="1828800" y="4343400"/>
                <a:ext cx="304920" cy="30420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7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133720" y="4343400"/>
                <a:ext cx="304560" cy="30420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4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828800" y="4343400"/>
                <a:ext cx="609480" cy="30420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>
              <a:off x="460440" y="3962520"/>
              <a:ext cx="22410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Jump When Not Equa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438280" y="4343400"/>
              <a:ext cx="2438640" cy="304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Des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62240" y="4724280"/>
            <a:ext cx="4643280" cy="762120"/>
            <a:chOff x="462240" y="4724280"/>
            <a:chExt cx="4643280" cy="762120"/>
          </a:xfrm>
        </p:grpSpPr>
        <p:sp>
          <p:nvSpPr>
            <p:cNvPr id="344" name=""/>
            <p:cNvSpPr/>
            <p:nvPr/>
          </p:nvSpPr>
          <p:spPr>
            <a:xfrm>
              <a:off x="487440" y="5029200"/>
              <a:ext cx="4618080" cy="45720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3300"/>
              </a:solidFill>
              <a:miter/>
            </a:ln>
            <a:effectLst>
              <a:outerShdw dist="17819" dir="2700000" blurRad="0" rotWithShape="0">
                <a:srgbClr val="00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16040" y="5105520"/>
              <a:ext cx="11127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jge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D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46" name=""/>
            <p:cNvGrpSpPr/>
            <p:nvPr/>
          </p:nvGrpSpPr>
          <p:grpSpPr>
            <a:xfrm>
              <a:off x="1828800" y="5105520"/>
              <a:ext cx="609480" cy="304560"/>
              <a:chOff x="1828800" y="5105520"/>
              <a:chExt cx="609480" cy="304560"/>
            </a:xfrm>
          </p:grpSpPr>
          <p:sp>
            <p:nvSpPr>
              <p:cNvPr id="347" name=""/>
              <p:cNvSpPr/>
              <p:nvPr/>
            </p:nvSpPr>
            <p:spPr>
              <a:xfrm>
                <a:off x="1828800" y="51055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7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133720" y="510552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5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828800" y="51055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462240" y="4724280"/>
              <a:ext cx="28839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Jump When Greater or Equa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438280" y="5105520"/>
              <a:ext cx="24386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Des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460440" y="5486400"/>
            <a:ext cx="4645080" cy="762120"/>
            <a:chOff x="460440" y="5486400"/>
            <a:chExt cx="4645080" cy="762120"/>
          </a:xfrm>
        </p:grpSpPr>
        <p:sp>
          <p:nvSpPr>
            <p:cNvPr id="353" name=""/>
            <p:cNvSpPr/>
            <p:nvPr/>
          </p:nvSpPr>
          <p:spPr>
            <a:xfrm>
              <a:off x="487440" y="5791320"/>
              <a:ext cx="4618080" cy="45720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3300"/>
              </a:solidFill>
              <a:miter/>
            </a:ln>
            <a:effectLst>
              <a:outerShdw dist="17819" dir="2700000" blurRad="0" rotWithShape="0">
                <a:srgbClr val="00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16040" y="5867640"/>
              <a:ext cx="11127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jg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D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1828800" y="5867640"/>
              <a:ext cx="609480" cy="304560"/>
              <a:chOff x="1828800" y="5867640"/>
              <a:chExt cx="609480" cy="304560"/>
            </a:xfrm>
          </p:grpSpPr>
          <p:sp>
            <p:nvSpPr>
              <p:cNvPr id="356" name=""/>
              <p:cNvSpPr/>
              <p:nvPr/>
            </p:nvSpPr>
            <p:spPr>
              <a:xfrm>
                <a:off x="1828800" y="586764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7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133720" y="586764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6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828800" y="586764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59" name=""/>
            <p:cNvSpPr/>
            <p:nvPr/>
          </p:nvSpPr>
          <p:spPr>
            <a:xfrm>
              <a:off x="460440" y="5486400"/>
              <a:ext cx="20170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Jump When Great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438280" y="5867640"/>
              <a:ext cx="24386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Des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Y86 Program Stack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657600" y="1218960"/>
            <a:ext cx="49276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gion of memory holding program dat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d in Y86 (and IA32) for supporting procedure call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ck top indicated by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ddress of top stack elemen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ck grows toward lower addres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op element is at highest address in the stack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hen pushing, must first decrement stack point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hen popping, increment stack point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647720" y="1676520"/>
            <a:ext cx="1219320" cy="304560"/>
          </a:xfrm>
          <a:prstGeom prst="rect">
            <a:avLst/>
          </a:prstGeom>
          <a:solidFill>
            <a:srgbClr val="ffcc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647720" y="1981080"/>
            <a:ext cx="1219320" cy="304920"/>
          </a:xfrm>
          <a:prstGeom prst="rect">
            <a:avLst/>
          </a:prstGeom>
          <a:solidFill>
            <a:srgbClr val="ffcc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47720" y="2286000"/>
            <a:ext cx="1219320" cy="304920"/>
          </a:xfrm>
          <a:prstGeom prst="rect">
            <a:avLst/>
          </a:prstGeom>
          <a:solidFill>
            <a:srgbClr val="ffcc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647720" y="4419720"/>
            <a:ext cx="1219320" cy="304560"/>
          </a:xfrm>
          <a:prstGeom prst="rect">
            <a:avLst/>
          </a:prstGeom>
          <a:solidFill>
            <a:srgbClr val="ffcc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647720" y="4724280"/>
            <a:ext cx="1219320" cy="304920"/>
          </a:xfrm>
          <a:prstGeom prst="rect">
            <a:avLst/>
          </a:prstGeom>
          <a:solidFill>
            <a:srgbClr val="ffcc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647720" y="5029200"/>
            <a:ext cx="1219320" cy="304920"/>
          </a:xfrm>
          <a:prstGeom prst="rect">
            <a:avLst/>
          </a:prstGeom>
          <a:solidFill>
            <a:srgbClr val="ffcc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647720" y="5334120"/>
            <a:ext cx="1219320" cy="304560"/>
          </a:xfrm>
          <a:prstGeom prst="rect">
            <a:avLst/>
          </a:prstGeom>
          <a:solidFill>
            <a:srgbClr val="ffcc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867040" y="5451480"/>
            <a:ext cx="380880" cy="0"/>
          </a:xfrm>
          <a:prstGeom prst="line">
            <a:avLst/>
          </a:prstGeom>
          <a:ln w="19080">
            <a:solidFill>
              <a:srgbClr val="ff000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46840" y="5299200"/>
            <a:ext cx="6408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647720" y="2590920"/>
            <a:ext cx="1219320" cy="1828800"/>
          </a:xfrm>
          <a:prstGeom prst="rect">
            <a:avLst/>
          </a:prstGeom>
          <a:solidFill>
            <a:srgbClr val="ffcc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838080" y="1828800"/>
            <a:ext cx="0" cy="3657600"/>
          </a:xfrm>
          <a:prstGeom prst="line">
            <a:avLst/>
          </a:prstGeom>
          <a:ln w="19080">
            <a:solidFill>
              <a:srgbClr val="00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28600" y="3200400"/>
            <a:ext cx="1371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creasin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ress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447920" y="5638680"/>
            <a:ext cx="17524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ack “Top”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371600" y="1066680"/>
            <a:ext cx="17524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ack “Bottom”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ck Oper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7696440" cy="155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9000"/>
          </a:bodyPr>
          <a:p>
            <a:pPr lvl="1" marL="289440" indent="-95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cremen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s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y 4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289440" indent="-95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ore word from rA to memory a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289440" indent="-95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ke IA3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28944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28944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28944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289440" indent="-95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 word from memory a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289440" indent="-95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ave in r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289440" indent="-95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cremen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s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y 4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289440" indent="-95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ke IA3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639720" y="1295280"/>
            <a:ext cx="3322800" cy="609840"/>
            <a:chOff x="639720" y="1295280"/>
            <a:chExt cx="3322800" cy="609840"/>
          </a:xfrm>
        </p:grpSpPr>
        <p:sp>
          <p:nvSpPr>
            <p:cNvPr id="380" name=""/>
            <p:cNvSpPr/>
            <p:nvPr/>
          </p:nvSpPr>
          <p:spPr>
            <a:xfrm>
              <a:off x="639720" y="1295280"/>
              <a:ext cx="3322800" cy="60984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3300"/>
              </a:solidFill>
              <a:miter/>
            </a:ln>
            <a:effectLst>
              <a:outerShdw dist="17819" dir="2700000" blurRad="0" rotWithShape="0">
                <a:srgbClr val="00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68320" y="1447920"/>
              <a:ext cx="19051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pushl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r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2438280" y="1447920"/>
              <a:ext cx="609480" cy="304560"/>
              <a:chOff x="2438280" y="1447920"/>
              <a:chExt cx="609480" cy="304560"/>
            </a:xfrm>
          </p:grpSpPr>
          <p:sp>
            <p:nvSpPr>
              <p:cNvPr id="383" name=""/>
              <p:cNvSpPr/>
              <p:nvPr/>
            </p:nvSpPr>
            <p:spPr>
              <a:xfrm>
                <a:off x="2438280" y="14479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743200" y="144792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0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438280" y="14479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3048120" y="1447920"/>
              <a:ext cx="609480" cy="304560"/>
              <a:chOff x="3048120" y="1447920"/>
              <a:chExt cx="609480" cy="304560"/>
            </a:xfrm>
          </p:grpSpPr>
          <p:sp>
            <p:nvSpPr>
              <p:cNvPr id="387" name=""/>
              <p:cNvSpPr/>
              <p:nvPr/>
            </p:nvSpPr>
            <p:spPr>
              <a:xfrm>
                <a:off x="3048120" y="14479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Arial"/>
                  </a:rPr>
                  <a:t>r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353040" y="144792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8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048120" y="14479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0" name=""/>
          <p:cNvGrpSpPr/>
          <p:nvPr/>
        </p:nvGrpSpPr>
        <p:grpSpPr>
          <a:xfrm>
            <a:off x="639720" y="3352680"/>
            <a:ext cx="3322800" cy="609840"/>
            <a:chOff x="639720" y="3352680"/>
            <a:chExt cx="3322800" cy="609840"/>
          </a:xfrm>
        </p:grpSpPr>
        <p:sp>
          <p:nvSpPr>
            <p:cNvPr id="391" name=""/>
            <p:cNvSpPr/>
            <p:nvPr/>
          </p:nvSpPr>
          <p:spPr>
            <a:xfrm>
              <a:off x="639720" y="3352680"/>
              <a:ext cx="3322800" cy="60984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3300"/>
              </a:solidFill>
              <a:miter/>
            </a:ln>
            <a:effectLst>
              <a:outerShdw dist="17819" dir="2700000" blurRad="0" rotWithShape="0">
                <a:srgbClr val="00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68320" y="3505320"/>
              <a:ext cx="19051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popl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r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2438280" y="3505320"/>
              <a:ext cx="609480" cy="304560"/>
              <a:chOff x="2438280" y="3505320"/>
              <a:chExt cx="609480" cy="304560"/>
            </a:xfrm>
          </p:grpSpPr>
          <p:sp>
            <p:nvSpPr>
              <p:cNvPr id="394" name=""/>
              <p:cNvSpPr/>
              <p:nvPr/>
            </p:nvSpPr>
            <p:spPr>
              <a:xfrm>
                <a:off x="2438280" y="35053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b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743200" y="350532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0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438280" y="35053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3048120" y="3505320"/>
              <a:ext cx="609480" cy="304560"/>
              <a:chOff x="3048120" y="3505320"/>
              <a:chExt cx="609480" cy="304560"/>
            </a:xfrm>
          </p:grpSpPr>
          <p:sp>
            <p:nvSpPr>
              <p:cNvPr id="398" name=""/>
              <p:cNvSpPr/>
              <p:nvPr/>
            </p:nvSpPr>
            <p:spPr>
              <a:xfrm>
                <a:off x="3048120" y="35053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Arial"/>
                  </a:rPr>
                  <a:t>r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353040" y="350532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8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048120" y="35053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ubroutine Call and Retur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7696440" cy="155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3000"/>
          </a:bodyPr>
          <a:p>
            <a:pPr lvl="1" marL="319320" indent="-1047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ush address of next instruction onto stac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19320" indent="-1047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rt executing instructions at Des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19320" indent="-1047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ke IA3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1932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1932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1932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19320" indent="-1047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p value from stac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19320" indent="-1047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 as address for next instru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19320" indent="-1047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ke IA3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1932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639720" y="1295280"/>
            <a:ext cx="5380200" cy="609840"/>
            <a:chOff x="639720" y="1295280"/>
            <a:chExt cx="5380200" cy="609840"/>
          </a:xfrm>
        </p:grpSpPr>
        <p:sp>
          <p:nvSpPr>
            <p:cNvPr id="404" name=""/>
            <p:cNvSpPr/>
            <p:nvPr/>
          </p:nvSpPr>
          <p:spPr>
            <a:xfrm>
              <a:off x="639720" y="1295280"/>
              <a:ext cx="5380200" cy="60984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3300"/>
              </a:solidFill>
              <a:miter/>
            </a:ln>
            <a:effectLst>
              <a:outerShdw dist="17819" dir="2700000" blurRad="0" rotWithShape="0">
                <a:srgbClr val="00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68320" y="1447920"/>
              <a:ext cx="19051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call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D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06" name=""/>
            <p:cNvGrpSpPr/>
            <p:nvPr/>
          </p:nvGrpSpPr>
          <p:grpSpPr>
            <a:xfrm>
              <a:off x="2773440" y="1447920"/>
              <a:ext cx="609480" cy="304560"/>
              <a:chOff x="2773440" y="1447920"/>
              <a:chExt cx="609480" cy="304560"/>
            </a:xfrm>
          </p:grpSpPr>
          <p:sp>
            <p:nvSpPr>
              <p:cNvPr id="407" name=""/>
              <p:cNvSpPr/>
              <p:nvPr/>
            </p:nvSpPr>
            <p:spPr>
              <a:xfrm>
                <a:off x="2773440" y="14479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8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078360" y="144792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0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773440" y="14479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10" name=""/>
            <p:cNvSpPr/>
            <p:nvPr/>
          </p:nvSpPr>
          <p:spPr>
            <a:xfrm>
              <a:off x="3353040" y="1447920"/>
              <a:ext cx="24382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Des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609480" y="3581280"/>
            <a:ext cx="5379840" cy="609480"/>
            <a:chOff x="609480" y="3581280"/>
            <a:chExt cx="5379840" cy="609480"/>
          </a:xfrm>
        </p:grpSpPr>
        <p:sp>
          <p:nvSpPr>
            <p:cNvPr id="412" name=""/>
            <p:cNvSpPr/>
            <p:nvPr/>
          </p:nvSpPr>
          <p:spPr>
            <a:xfrm>
              <a:off x="609480" y="3581280"/>
              <a:ext cx="5379840" cy="60948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3300"/>
              </a:solidFill>
              <a:miter/>
            </a:ln>
            <a:effectLst>
              <a:outerShdw dist="17819" dir="2700000" blurRad="0" rotWithShape="0">
                <a:srgbClr val="00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38080" y="3733560"/>
              <a:ext cx="1904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re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2742840" y="3733560"/>
              <a:ext cx="609480" cy="304920"/>
              <a:chOff x="2742840" y="3733560"/>
              <a:chExt cx="609480" cy="304920"/>
            </a:xfrm>
          </p:grpSpPr>
          <p:sp>
            <p:nvSpPr>
              <p:cNvPr id="415" name=""/>
              <p:cNvSpPr/>
              <p:nvPr/>
            </p:nvSpPr>
            <p:spPr>
              <a:xfrm>
                <a:off x="2742840" y="373356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9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047760" y="373356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0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742840" y="3733560"/>
                <a:ext cx="609480" cy="30492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iscellaneous Instruc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7696440" cy="155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6000"/>
          </a:bodyPr>
          <a:p>
            <a:pPr lvl="1" marL="415800" indent="-136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n’t do anyth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1580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1580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1580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15800" indent="-136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op executing instru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15800" indent="-136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A32 has comparable instruction, but can’t execute it in user m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15800" indent="-136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e will use it to stop the simulato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639720" y="1295280"/>
            <a:ext cx="2637000" cy="609840"/>
            <a:chOff x="639720" y="1295280"/>
            <a:chExt cx="2637000" cy="609840"/>
          </a:xfrm>
        </p:grpSpPr>
        <p:sp>
          <p:nvSpPr>
            <p:cNvPr id="421" name=""/>
            <p:cNvSpPr/>
            <p:nvPr/>
          </p:nvSpPr>
          <p:spPr>
            <a:xfrm>
              <a:off x="639720" y="1295280"/>
              <a:ext cx="2637000" cy="60984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3300"/>
              </a:solidFill>
              <a:miter/>
            </a:ln>
            <a:effectLst>
              <a:outerShdw dist="17819" dir="2700000" blurRad="0" rotWithShape="0">
                <a:srgbClr val="00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68320" y="1447920"/>
              <a:ext cx="19051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nop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2438280" y="1447920"/>
              <a:ext cx="609480" cy="304560"/>
              <a:chOff x="2438280" y="1447920"/>
              <a:chExt cx="609480" cy="304560"/>
            </a:xfrm>
          </p:grpSpPr>
          <p:sp>
            <p:nvSpPr>
              <p:cNvPr id="424" name=""/>
              <p:cNvSpPr/>
              <p:nvPr/>
            </p:nvSpPr>
            <p:spPr>
              <a:xfrm>
                <a:off x="2438280" y="14479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0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743200" y="144792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0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438280" y="14479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7" name=""/>
          <p:cNvGrpSpPr/>
          <p:nvPr/>
        </p:nvGrpSpPr>
        <p:grpSpPr>
          <a:xfrm>
            <a:off x="639720" y="2743200"/>
            <a:ext cx="2637000" cy="609480"/>
            <a:chOff x="639720" y="2743200"/>
            <a:chExt cx="2637000" cy="609480"/>
          </a:xfrm>
        </p:grpSpPr>
        <p:sp>
          <p:nvSpPr>
            <p:cNvPr id="428" name=""/>
            <p:cNvSpPr/>
            <p:nvPr/>
          </p:nvSpPr>
          <p:spPr>
            <a:xfrm>
              <a:off x="639720" y="2743200"/>
              <a:ext cx="2637000" cy="60948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3300"/>
              </a:solidFill>
              <a:miter/>
            </a:ln>
            <a:effectLst>
              <a:outerShdw dist="17819" dir="2700000" blurRad="0" rotWithShape="0">
                <a:srgbClr val="00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68320" y="2895480"/>
              <a:ext cx="190512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hal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2438280" y="2895480"/>
              <a:ext cx="609480" cy="304200"/>
              <a:chOff x="2438280" y="2895480"/>
              <a:chExt cx="609480" cy="304200"/>
            </a:xfrm>
          </p:grpSpPr>
          <p:sp>
            <p:nvSpPr>
              <p:cNvPr id="431" name=""/>
              <p:cNvSpPr/>
              <p:nvPr/>
            </p:nvSpPr>
            <p:spPr>
              <a:xfrm>
                <a:off x="2438280" y="2895480"/>
                <a:ext cx="304920" cy="30420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743200" y="2895480"/>
                <a:ext cx="304560" cy="30420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0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438280" y="2895480"/>
                <a:ext cx="609480" cy="30420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riting Y86 Cod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90520" y="1218960"/>
            <a:ext cx="8244000" cy="281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y to Use C Compiler as Much as Possib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rite code in 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ile for IA32 with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gcc -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ransliterate into Y86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ding Examp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ind number of elements in null-terminated lis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292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len1(int a[]);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292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1828440" y="4343400"/>
            <a:ext cx="2657520" cy="1469880"/>
            <a:chOff x="1828440" y="4343400"/>
            <a:chExt cx="2657520" cy="1469880"/>
          </a:xfrm>
        </p:grpSpPr>
        <p:sp>
          <p:nvSpPr>
            <p:cNvPr id="437" name=""/>
            <p:cNvSpPr/>
            <p:nvPr/>
          </p:nvSpPr>
          <p:spPr>
            <a:xfrm>
              <a:off x="2398680" y="4392720"/>
              <a:ext cx="1182600" cy="358560"/>
            </a:xfrm>
            <a:prstGeom prst="rect">
              <a:avLst/>
            </a:prstGeom>
            <a:noFill/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504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398680" y="4746600"/>
              <a:ext cx="1182600" cy="358920"/>
            </a:xfrm>
            <a:prstGeom prst="rect">
              <a:avLst/>
            </a:prstGeom>
            <a:noFill/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612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398680" y="5100480"/>
              <a:ext cx="1182600" cy="358920"/>
            </a:xfrm>
            <a:prstGeom prst="rect">
              <a:avLst/>
            </a:prstGeom>
            <a:noFill/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739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398680" y="5454720"/>
              <a:ext cx="1182600" cy="358560"/>
            </a:xfrm>
            <a:prstGeom prst="rect">
              <a:avLst/>
            </a:prstGeom>
            <a:noFill/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133360" y="4495680"/>
              <a:ext cx="228600" cy="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828440" y="4343400"/>
              <a:ext cx="2293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936600" y="4869000"/>
              <a:ext cx="54936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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Y86 Code Generation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7052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First Try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rite typical array cod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56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56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56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56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56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56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56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56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56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56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mpile with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cc -O2 -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12960" y="1218960"/>
            <a:ext cx="40719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Problem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ard to do array indexing on Y86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ince don’t have scaled addressing mode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0">
              <a:lnSpc>
                <a:spcPct val="107000"/>
              </a:lnSpc>
              <a:spcBef>
                <a:spcPts val="201"/>
              </a:spcBef>
              <a:buNone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04920" y="2438280"/>
            <a:ext cx="4343400" cy="2562840"/>
          </a:xfrm>
          <a:prstGeom prst="rect">
            <a:avLst/>
          </a:prstGeom>
          <a:solidFill>
            <a:srgbClr val="ffcc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Find number of elements i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ull-terminated list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len1(int a[]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len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len = 0; a[len]; len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len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952880" y="2895480"/>
            <a:ext cx="3822840" cy="1191240"/>
          </a:xfrm>
          <a:prstGeom prst="rect">
            <a:avLst/>
          </a:prstGeom>
          <a:solidFill>
            <a:srgbClr val="ffcc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18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cl 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cmpl $0,(%edx,%eax,4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ne L1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Y86 Code Generation Example #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7052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Second Try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rite with pointer cod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56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56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56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56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56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56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56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56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56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56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mpile with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cc -O2 -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12960" y="1218960"/>
            <a:ext cx="40719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Result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on’t need to do indexed addressing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0">
              <a:lnSpc>
                <a:spcPct val="107000"/>
              </a:lnSpc>
              <a:spcBef>
                <a:spcPts val="201"/>
              </a:spcBef>
              <a:buNone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04920" y="2438280"/>
            <a:ext cx="4343400" cy="2562840"/>
          </a:xfrm>
          <a:prstGeom prst="rect">
            <a:avLst/>
          </a:prstGeom>
          <a:solidFill>
            <a:srgbClr val="ffcc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Find number of elements i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ull-terminated list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len2(int a[]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len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ile (*a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n++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len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952880" y="2895480"/>
            <a:ext cx="3822840" cy="2014200"/>
          </a:xfrm>
          <a:prstGeom prst="rect">
            <a:avLst/>
          </a:prstGeom>
          <a:solidFill>
            <a:srgbClr val="ffcc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24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dx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cl 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26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$4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estl %eax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ne L2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Y86 Code Generation Example #3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90160" y="1219320"/>
            <a:ext cx="407052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8000"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IA32 Cod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430920" indent="-1414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tup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12960" y="1218960"/>
            <a:ext cx="40719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Y86 Cod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tup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04840"/>
            <a:ext cx="3047760" cy="2014200"/>
          </a:xfrm>
          <a:prstGeom prst="rect">
            <a:avLst/>
          </a:prstGeom>
          <a:solidFill>
            <a:srgbClr val="ffcc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n2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orl %ecx,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dx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 L2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809880" y="1981080"/>
            <a:ext cx="5181840" cy="2014200"/>
          </a:xfrm>
          <a:prstGeom prst="rect">
            <a:avLst/>
          </a:prstGeom>
          <a:solidFill>
            <a:srgbClr val="ffcc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n2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ave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orl %ecx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len =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rmovl %esp,%eb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et fram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rmovl 8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Get 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rmovl (%ed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Get *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 L26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Goto ent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Y86 Code Generation Example #4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90160" y="1219320"/>
            <a:ext cx="407052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8000"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IA32 Cod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430920" indent="-1414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oop + Finish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12960" y="1218960"/>
            <a:ext cx="40719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Y86 Cod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oop + Finish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28600" y="1981080"/>
            <a:ext cx="3048120" cy="3660120"/>
          </a:xfrm>
          <a:prstGeom prst="rect">
            <a:avLst/>
          </a:prstGeom>
          <a:solidFill>
            <a:srgbClr val="ffcc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24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dx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cl 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26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$4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estl %eax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ne L2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cx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op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657600" y="1981080"/>
            <a:ext cx="4737240" cy="3660120"/>
          </a:xfrm>
          <a:prstGeom prst="rect">
            <a:avLst/>
          </a:prstGeom>
          <a:solidFill>
            <a:srgbClr val="ffcc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24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rmovl (%ed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Get *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rmovl $1,%esi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%esi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len+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26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ntry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rmovl $4,%es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%esi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a+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ndl %eax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a == 0?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ne L24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No--Lo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rmovl %ebp,%es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P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rmovl %ecx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Rtn le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op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struction Set Architectur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0520" y="1142640"/>
            <a:ext cx="4890960" cy="528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ssembly Language View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cessor stat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75680" indent="-2235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gisters, memory, …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tru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75680" indent="-2235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ddl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movl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leal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…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75680" indent="-2235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ow instructions are encoded as byt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ayer of Abstra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bove: how to program machin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75680" indent="-2235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ocessor executes instructions in a sequenc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elow: what needs to be buil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75680" indent="-2235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 variety of tricks to make it run fas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75680" indent="-2235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.g., execute multiple instructions simultaneousl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5486400" y="1523880"/>
            <a:ext cx="2743200" cy="4168800"/>
            <a:chOff x="5486400" y="1523880"/>
            <a:chExt cx="2743200" cy="4168800"/>
          </a:xfrm>
        </p:grpSpPr>
        <p:sp>
          <p:nvSpPr>
            <p:cNvPr id="86" name=""/>
            <p:cNvSpPr/>
            <p:nvPr/>
          </p:nvSpPr>
          <p:spPr>
            <a:xfrm>
              <a:off x="5486400" y="3047760"/>
              <a:ext cx="2743200" cy="358920"/>
            </a:xfrm>
            <a:prstGeom prst="rect">
              <a:avLst/>
            </a:prstGeom>
            <a:solidFill>
              <a:srgbClr val="003300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ff"/>
                  </a:solidFill>
                  <a:latin typeface="Arial"/>
                </a:rPr>
                <a:t>IS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867280" y="2286000"/>
              <a:ext cx="1067040" cy="739800"/>
            </a:xfrm>
            <a:prstGeom prst="rect">
              <a:avLst/>
            </a:prstGeom>
            <a:solidFill>
              <a:srgbClr val="99ffcc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ompil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34320" y="2286000"/>
              <a:ext cx="990360" cy="739800"/>
            </a:xfrm>
            <a:prstGeom prst="rect">
              <a:avLst/>
            </a:prstGeom>
            <a:solidFill>
              <a:srgbClr val="99ffcc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867280" y="3429000"/>
              <a:ext cx="2057400" cy="7398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PU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esig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4190760"/>
              <a:ext cx="2057400" cy="7398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ircui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esig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4952880"/>
              <a:ext cx="2057400" cy="7398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hi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Layou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1523880"/>
              <a:ext cx="2057400" cy="739800"/>
            </a:xfrm>
            <a:prstGeom prst="rect">
              <a:avLst/>
            </a:prstGeom>
            <a:solidFill>
              <a:srgbClr val="99ffcc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pplicatio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rogram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Y86 Program Structur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638320" y="1295280"/>
            <a:ext cx="3327480" cy="521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gram starts at address 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set up stac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ake sure don’t overwrite code!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initialize dat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use symbolic nam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28600" y="990720"/>
            <a:ext cx="5715000" cy="5580360"/>
          </a:xfrm>
          <a:prstGeom prst="rect">
            <a:avLst/>
          </a:prstGeom>
          <a:solidFill>
            <a:srgbClr val="ffcc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rmovl Stack,%es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et up stac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rmovl %esp,%eb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et up fram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rmovl List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Push argume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ll len2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Call Func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hal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Hal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align 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ist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List of element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ong 504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ong 612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ong 739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ong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Func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n2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 . 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Allocate space for stac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pos 0x1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ack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ssembling Y86 Progra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90160" y="1828800"/>
            <a:ext cx="8294760" cy="460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enerates “object code” fil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g.yo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ctually looks like disassembler outpu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28600" y="1295280"/>
            <a:ext cx="2971800" cy="368280"/>
          </a:xfrm>
          <a:prstGeom prst="rect">
            <a:avLst/>
          </a:prstGeom>
          <a:solidFill>
            <a:srgbClr val="ffff66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ix&gt; yas eg.y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85800" y="2971800"/>
            <a:ext cx="7696080" cy="2864520"/>
          </a:xfrm>
          <a:prstGeom prst="rect">
            <a:avLst/>
          </a:prstGeom>
          <a:solidFill>
            <a:srgbClr val="ffcc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00: 308400010000 |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rmovl Stack,%esp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# Set up stack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06: 2045         |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rmovl %esp,%ebp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# Set up fram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08: 308218000000 |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rmovl List,%edx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0e: a028         |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ushl %edx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# Push argumen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10: 8028000000   |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all len2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# Call Functio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15: 10           |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halt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# Hal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18:              | .align 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18:              | List: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# List of element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18: b3130000     |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.long 5043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1c: ed170000     |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.long 6125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20: e31c0000     |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.long 7395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24: 00000000     |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.long 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imulating Y86 Progra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90160" y="1828800"/>
            <a:ext cx="8294760" cy="460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truction set simulato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mputes effect of each instruction on processor stat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ints changes in state from origina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28600" y="1295280"/>
            <a:ext cx="2971800" cy="368280"/>
          </a:xfrm>
          <a:prstGeom prst="rect">
            <a:avLst/>
          </a:prstGeom>
          <a:solidFill>
            <a:srgbClr val="ffff66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ix&gt; yis eg.y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85800" y="2971800"/>
            <a:ext cx="7696080" cy="2864520"/>
          </a:xfrm>
          <a:prstGeom prst="rect">
            <a:avLst/>
          </a:prstGeom>
          <a:solidFill>
            <a:srgbClr val="ffcc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Stopped in 41 steps at PC = 0x16.  Exception 'HLT', CC Z=1 S=0 O=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hanges to registers: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%eax: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0000000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0000003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%ecx: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0000000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0000003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%edx: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0000000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0000028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%esp: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0000000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00000fc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%ebp: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0000000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000010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%esi: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0000000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000000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hanges to memory: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0f4: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0000000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000010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0f8: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0000000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0000015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0fc: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0000000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0000018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ISC Instruction Se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29440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lex Instruction Set Compu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minant style through mid-80’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ack-oriented instruction se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 stack to pass arguments, save program coun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plicit push and pop instru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rithmetic instructions can access memor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ddl %eax, 12(%ebx,%ecx,4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75680" indent="-2235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quires memory read and writ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75680" indent="-2235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mplex address calcul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dition cod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t as side effect of arithmetic and logical instru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hilosoph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 instructions to perform “typical” programming task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ISC Instruction Se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29440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duced Instruction Set Compu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rnal project at IBM, later popularized by Hennessy (Stanford) and Patterson (Berkeley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ewer, simpler instruc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ight take more to get given task don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execute them with small and fast hardwa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gister-oriented instruction se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ny more (typically 32) regis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 for arguments, return pointer, temporar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nly load and store instructions can access memor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milar to Y86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rmovl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mmov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o Condition cod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est instructions return 0/1 in regis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IPS Regist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3568680" cy="407664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4965840" y="1447920"/>
            <a:ext cx="3568680" cy="40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IPS Instruction Examp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838080" y="5340240"/>
            <a:ext cx="7324560" cy="358920"/>
            <a:chOff x="838080" y="5340240"/>
            <a:chExt cx="7324560" cy="358920"/>
          </a:xfrm>
        </p:grpSpPr>
        <p:sp>
          <p:nvSpPr>
            <p:cNvPr id="484" name=""/>
            <p:cNvSpPr/>
            <p:nvPr/>
          </p:nvSpPr>
          <p:spPr>
            <a:xfrm>
              <a:off x="838080" y="5340240"/>
              <a:ext cx="1373400" cy="358920"/>
            </a:xfrm>
            <a:prstGeom prst="rect">
              <a:avLst/>
            </a:prstGeom>
            <a:solidFill>
              <a:srgbClr val="ffccff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160" rIns="47160" tIns="47160" bIns="471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O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11480" y="5340240"/>
              <a:ext cx="1144440" cy="35892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160" rIns="47160" tIns="47160" bIns="471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R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355920" y="5340240"/>
              <a:ext cx="1144440" cy="35892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160" rIns="47160" tIns="47160" bIns="471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R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500360" y="5340240"/>
              <a:ext cx="3662280" cy="3589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160" rIns="47160" tIns="47160" bIns="471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Offse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828720" y="1143000"/>
            <a:ext cx="7324200" cy="664560"/>
            <a:chOff x="828720" y="1143000"/>
            <a:chExt cx="7324200" cy="664560"/>
          </a:xfrm>
        </p:grpSpPr>
        <p:grpSp>
          <p:nvGrpSpPr>
            <p:cNvPr id="489" name=""/>
            <p:cNvGrpSpPr/>
            <p:nvPr/>
          </p:nvGrpSpPr>
          <p:grpSpPr>
            <a:xfrm>
              <a:off x="828720" y="1447560"/>
              <a:ext cx="7324200" cy="360000"/>
              <a:chOff x="828720" y="1447560"/>
              <a:chExt cx="7324200" cy="360000"/>
            </a:xfrm>
          </p:grpSpPr>
          <p:sp>
            <p:nvSpPr>
              <p:cNvPr id="490" name=""/>
              <p:cNvSpPr/>
              <p:nvPr/>
            </p:nvSpPr>
            <p:spPr>
              <a:xfrm>
                <a:off x="828720" y="1447560"/>
                <a:ext cx="1373040" cy="360000"/>
              </a:xfrm>
              <a:prstGeom prst="rect">
                <a:avLst/>
              </a:prstGeom>
              <a:solidFill>
                <a:srgbClr val="ffccff"/>
              </a:solidFill>
              <a:ln w="1908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7160" rIns="47160" tIns="47160" bIns="4716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5840"/>
                    <a:tab algn="l" pos="1832040"/>
                    <a:tab algn="l" pos="2747880"/>
                    <a:tab algn="l" pos="3664080"/>
                    <a:tab algn="l" pos="4579920"/>
                    <a:tab algn="l" pos="5495760"/>
                    <a:tab algn="l" pos="6411960"/>
                    <a:tab algn="l" pos="7327800"/>
                    <a:tab algn="l" pos="8244000"/>
                    <a:tab algn="l" pos="9159840"/>
                    <a:tab algn="l" pos="1007604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Op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201760" y="1447560"/>
                <a:ext cx="1144440" cy="36000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7160" rIns="47160" tIns="47160" bIns="4716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5840"/>
                    <a:tab algn="l" pos="1832040"/>
                    <a:tab algn="l" pos="2747880"/>
                    <a:tab algn="l" pos="3664080"/>
                    <a:tab algn="l" pos="4579920"/>
                    <a:tab algn="l" pos="5495760"/>
                    <a:tab algn="l" pos="6411960"/>
                    <a:tab algn="l" pos="7327800"/>
                    <a:tab algn="l" pos="8244000"/>
                    <a:tab algn="l" pos="9159840"/>
                    <a:tab algn="l" pos="1007604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Courier New"/>
                  </a:rPr>
                  <a:t>R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346200" y="1447560"/>
                <a:ext cx="1144440" cy="36000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7160" rIns="47160" tIns="47160" bIns="4716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5840"/>
                    <a:tab algn="l" pos="1832040"/>
                    <a:tab algn="l" pos="2747880"/>
                    <a:tab algn="l" pos="3664080"/>
                    <a:tab algn="l" pos="4579920"/>
                    <a:tab algn="l" pos="5495760"/>
                    <a:tab algn="l" pos="6411960"/>
                    <a:tab algn="l" pos="7327800"/>
                    <a:tab algn="l" pos="8244000"/>
                    <a:tab algn="l" pos="9159840"/>
                    <a:tab algn="l" pos="1007604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Courier New"/>
                  </a:rPr>
                  <a:t>Rb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490640" y="1447560"/>
                <a:ext cx="1144440" cy="36000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7160" rIns="47160" tIns="47160" bIns="4716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5840"/>
                    <a:tab algn="l" pos="1832040"/>
                    <a:tab algn="l" pos="2747880"/>
                    <a:tab algn="l" pos="3664080"/>
                    <a:tab algn="l" pos="4579920"/>
                    <a:tab algn="l" pos="5495760"/>
                    <a:tab algn="l" pos="6411960"/>
                    <a:tab algn="l" pos="7327800"/>
                    <a:tab algn="l" pos="8244000"/>
                    <a:tab algn="l" pos="9159840"/>
                    <a:tab algn="l" pos="1007604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Courier New"/>
                  </a:rPr>
                  <a:t>Rd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779880" y="1447560"/>
                <a:ext cx="1373040" cy="360000"/>
              </a:xfrm>
              <a:prstGeom prst="rect">
                <a:avLst/>
              </a:prstGeom>
              <a:solidFill>
                <a:srgbClr val="ffccff"/>
              </a:solidFill>
              <a:ln w="1908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7160" rIns="47160" tIns="47160" bIns="4716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5840"/>
                    <a:tab algn="l" pos="1832040"/>
                    <a:tab algn="l" pos="2747880"/>
                    <a:tab algn="l" pos="3664080"/>
                    <a:tab algn="l" pos="4579920"/>
                    <a:tab algn="l" pos="5495760"/>
                    <a:tab algn="l" pos="6411960"/>
                    <a:tab algn="l" pos="7327800"/>
                    <a:tab algn="l" pos="8244000"/>
                    <a:tab algn="l" pos="9159840"/>
                    <a:tab algn="l" pos="1007604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Fn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635440" y="1447560"/>
                <a:ext cx="1144440" cy="3600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7160" rIns="47160" tIns="47160" bIns="4716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5840"/>
                    <a:tab algn="l" pos="1832040"/>
                    <a:tab algn="l" pos="2747880"/>
                    <a:tab algn="l" pos="3664080"/>
                    <a:tab algn="l" pos="4579920"/>
                    <a:tab algn="l" pos="5495760"/>
                    <a:tab algn="l" pos="6411960"/>
                    <a:tab algn="l" pos="7327800"/>
                    <a:tab algn="l" pos="8244000"/>
                    <a:tab algn="l" pos="9159840"/>
                    <a:tab algn="l" pos="1007604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0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96" name=""/>
            <p:cNvSpPr/>
            <p:nvPr/>
          </p:nvSpPr>
          <p:spPr>
            <a:xfrm>
              <a:off x="828720" y="1143000"/>
              <a:ext cx="91260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7160" rIns="47160" tIns="47160" bIns="4716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-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838080" y="2362320"/>
            <a:ext cx="7324560" cy="664200"/>
            <a:chOff x="838080" y="2362320"/>
            <a:chExt cx="7324560" cy="664200"/>
          </a:xfrm>
        </p:grpSpPr>
        <p:grpSp>
          <p:nvGrpSpPr>
            <p:cNvPr id="498" name=""/>
            <p:cNvGrpSpPr/>
            <p:nvPr/>
          </p:nvGrpSpPr>
          <p:grpSpPr>
            <a:xfrm>
              <a:off x="838080" y="2666880"/>
              <a:ext cx="7324560" cy="359640"/>
              <a:chOff x="838080" y="2666880"/>
              <a:chExt cx="7324560" cy="359640"/>
            </a:xfrm>
          </p:grpSpPr>
          <p:sp>
            <p:nvSpPr>
              <p:cNvPr id="499" name=""/>
              <p:cNvSpPr/>
              <p:nvPr/>
            </p:nvSpPr>
            <p:spPr>
              <a:xfrm>
                <a:off x="838080" y="2666880"/>
                <a:ext cx="1373400" cy="359640"/>
              </a:xfrm>
              <a:prstGeom prst="rect">
                <a:avLst/>
              </a:prstGeom>
              <a:solidFill>
                <a:srgbClr val="ffccff"/>
              </a:solidFill>
              <a:ln w="1908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7160" rIns="47160" tIns="47160" bIns="4716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5840"/>
                    <a:tab algn="l" pos="1832040"/>
                    <a:tab algn="l" pos="2747880"/>
                    <a:tab algn="l" pos="3664080"/>
                    <a:tab algn="l" pos="4579920"/>
                    <a:tab algn="l" pos="5495760"/>
                    <a:tab algn="l" pos="6411960"/>
                    <a:tab algn="l" pos="7327800"/>
                    <a:tab algn="l" pos="8244000"/>
                    <a:tab algn="l" pos="9159840"/>
                    <a:tab algn="l" pos="1007604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Op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211480" y="2666880"/>
                <a:ext cx="1144440" cy="35964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7160" rIns="47160" tIns="47160" bIns="4716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5840"/>
                    <a:tab algn="l" pos="1832040"/>
                    <a:tab algn="l" pos="2747880"/>
                    <a:tab algn="l" pos="3664080"/>
                    <a:tab algn="l" pos="4579920"/>
                    <a:tab algn="l" pos="5495760"/>
                    <a:tab algn="l" pos="6411960"/>
                    <a:tab algn="l" pos="7327800"/>
                    <a:tab algn="l" pos="8244000"/>
                    <a:tab algn="l" pos="9159840"/>
                    <a:tab algn="l" pos="1007604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Courier New"/>
                  </a:rPr>
                  <a:t>R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3355920" y="2666880"/>
                <a:ext cx="1144440" cy="35964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7160" rIns="47160" tIns="47160" bIns="4716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5840"/>
                    <a:tab algn="l" pos="1832040"/>
                    <a:tab algn="l" pos="2747880"/>
                    <a:tab algn="l" pos="3664080"/>
                    <a:tab algn="l" pos="4579920"/>
                    <a:tab algn="l" pos="5495760"/>
                    <a:tab algn="l" pos="6411960"/>
                    <a:tab algn="l" pos="7327800"/>
                    <a:tab algn="l" pos="8244000"/>
                    <a:tab algn="l" pos="9159840"/>
                    <a:tab algn="l" pos="1007604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Courier New"/>
                  </a:rPr>
                  <a:t>Rb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500360" y="2666880"/>
                <a:ext cx="3662280" cy="3596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7160" rIns="47160" tIns="47160" bIns="4716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5840"/>
                    <a:tab algn="l" pos="1832040"/>
                    <a:tab algn="l" pos="2747880"/>
                    <a:tab algn="l" pos="3664080"/>
                    <a:tab algn="l" pos="4579920"/>
                    <a:tab algn="l" pos="5495760"/>
                    <a:tab algn="l" pos="6411960"/>
                    <a:tab algn="l" pos="7327800"/>
                    <a:tab algn="l" pos="8244000"/>
                    <a:tab algn="l" pos="9159840"/>
                    <a:tab algn="l" pos="1007604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Immediate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03" name=""/>
            <p:cNvSpPr/>
            <p:nvPr/>
          </p:nvSpPr>
          <p:spPr>
            <a:xfrm>
              <a:off x="838080" y="2362320"/>
              <a:ext cx="684360" cy="34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7160" rIns="47160" tIns="47160" bIns="4716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-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838080" y="5029200"/>
            <a:ext cx="14464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47160" bIns="471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oad/Stor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143000" y="2057400"/>
            <a:ext cx="71629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u $3,$2,$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Register add: $3 = $2+$1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143000" y="3200400"/>
            <a:ext cx="708660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u $3,$2, 3145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mmediate add: $3 = $2+314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ll $3,$2,2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hift left: $3 = $2 &lt;&lt; 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219320" y="5791320"/>
            <a:ext cx="708660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w $3,16($2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Load Word: $3 = M[$2+16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w $3,16($2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tore Word: M[$2+16] = $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838080" y="4213080"/>
            <a:ext cx="7324560" cy="358920"/>
            <a:chOff x="838080" y="4213080"/>
            <a:chExt cx="7324560" cy="358920"/>
          </a:xfrm>
        </p:grpSpPr>
        <p:sp>
          <p:nvSpPr>
            <p:cNvPr id="509" name=""/>
            <p:cNvSpPr/>
            <p:nvPr/>
          </p:nvSpPr>
          <p:spPr>
            <a:xfrm>
              <a:off x="838080" y="4213080"/>
              <a:ext cx="1373400" cy="358920"/>
            </a:xfrm>
            <a:prstGeom prst="rect">
              <a:avLst/>
            </a:prstGeom>
            <a:solidFill>
              <a:srgbClr val="ffccff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160" rIns="47160" tIns="47160" bIns="471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O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211480" y="4213080"/>
              <a:ext cx="1144440" cy="35892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160" rIns="47160" tIns="47160" bIns="471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R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355920" y="4213080"/>
              <a:ext cx="1144440" cy="35892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160" rIns="47160" tIns="47160" bIns="471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R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500360" y="4213080"/>
              <a:ext cx="3662280" cy="3589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160" rIns="47160" tIns="47160" bIns="471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Offse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13" name=""/>
          <p:cNvSpPr/>
          <p:nvPr/>
        </p:nvSpPr>
        <p:spPr>
          <a:xfrm>
            <a:off x="838080" y="3902040"/>
            <a:ext cx="14464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47160" bIns="471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ranc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219320" y="4648320"/>
            <a:ext cx="70866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eq $3,$2,des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Branch when $3 = $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ISC vs. RISC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riginal Debat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rong opinions!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ISC proponents---easy for compiler, fewer code by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ISC proponents---better for optimizing compilers, can make run fast with simple chip desig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urrent Statu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 desktop processors, choice of ISA not a technical issu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ith enough hardware, can make anything run fas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de compatibility more importan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 embedded processors, RISC makes sens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maller, cheaper, less pow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umma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Y86 Instruction Set Architectur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milar state and instructions as IA3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mpler encoding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omewhere between CISC and RIS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 Important is ISA Design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ss now than befo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ith enough hardware, can make almost anything go fas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l is moving away from IA3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oes not allow enough parallel execu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troduced IA64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596960" indent="-2268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64-bit word sizes (overcome address space limitation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596960" indent="-2268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adically different style of instruction set with explicit parallelis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596960" indent="-2268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equires sophisticated compiler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362320" y="1494000"/>
            <a:ext cx="1676160" cy="9144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1494000"/>
            <a:ext cx="8380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%ea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362320" y="1722600"/>
            <a:ext cx="8380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%ec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62320" y="1951200"/>
            <a:ext cx="8380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62320" y="2179800"/>
            <a:ext cx="8380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00400" y="1494000"/>
            <a:ext cx="8380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%esi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00400" y="1722600"/>
            <a:ext cx="8380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%edi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1951200"/>
            <a:ext cx="8380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00400" y="2179800"/>
            <a:ext cx="8380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Y86 Processor Stat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90160" y="2590560"/>
            <a:ext cx="8294760" cy="38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314880"/>
                <a:tab algn="l" pos="462924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gram Regis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314880"/>
                <a:tab algn="l" pos="462924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ame 8 as with IA32.  Each 32 bit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314880"/>
                <a:tab algn="l" pos="462924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dition Cod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314880"/>
                <a:tab algn="l" pos="462924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ingle-bit flags set by arithmetic or logical instruc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596960" indent="-2268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3314880"/>
                <a:tab algn="l" pos="462924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F: Overflow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ZF: Zero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F:Negativ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314880"/>
                <a:tab algn="l" pos="462924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gram Coun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314880"/>
                <a:tab algn="l" pos="462924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dicates address of instruc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314880"/>
                <a:tab algn="l" pos="462924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314880"/>
                <a:tab algn="l" pos="462924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yte-addressable storage arra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314880"/>
                <a:tab algn="l" pos="462924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ords stored in little-endian byte ord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62320" y="914400"/>
            <a:ext cx="167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rogram register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038480" y="106668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ondition cod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67080" y="2179800"/>
            <a:ext cx="838440" cy="2286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67080" y="190512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4120" y="1494000"/>
            <a:ext cx="1676160" cy="9144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4120" y="11430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343400" y="1676520"/>
            <a:ext cx="685800" cy="228600"/>
            <a:chOff x="4343400" y="1676520"/>
            <a:chExt cx="685800" cy="228600"/>
          </a:xfrm>
        </p:grpSpPr>
        <p:sp>
          <p:nvSpPr>
            <p:cNvPr id="111" name=""/>
            <p:cNvSpPr/>
            <p:nvPr/>
          </p:nvSpPr>
          <p:spPr>
            <a:xfrm>
              <a:off x="4343400" y="1676520"/>
              <a:ext cx="228600" cy="2286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Courier New"/>
                </a:rPr>
                <a:t>OF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572000" y="1676520"/>
              <a:ext cx="228600" cy="2286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Courier New"/>
                </a:rPr>
                <a:t>ZF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800600" y="1676520"/>
              <a:ext cx="228600" cy="2286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Courier New"/>
                </a:rPr>
                <a:t>SF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343400" y="1676520"/>
              <a:ext cx="685800" cy="22860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Y86 Instruc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--6 bytes of information read from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n determine instruction length from first byt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t as many instruction types, and simpler encoding than with IA32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accesses and modifies some part(s) of the program stat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ncoding Regist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90160" y="1142640"/>
            <a:ext cx="8294760" cy="528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ach register has 4-bit ID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ame encoding as in IA3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gister ID 8 indicates “no register”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ill use this in our hardware design in multiple plac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286000" y="1676520"/>
            <a:ext cx="3048120" cy="914400"/>
            <a:chOff x="2286000" y="1676520"/>
            <a:chExt cx="3048120" cy="914400"/>
          </a:xfrm>
        </p:grpSpPr>
        <p:sp>
          <p:nvSpPr>
            <p:cNvPr id="120" name=""/>
            <p:cNvSpPr/>
            <p:nvPr/>
          </p:nvSpPr>
          <p:spPr>
            <a:xfrm>
              <a:off x="2286000" y="1676520"/>
              <a:ext cx="838080" cy="2286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%eax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86000" y="1905120"/>
              <a:ext cx="838080" cy="2286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%ecx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86000" y="2133720"/>
              <a:ext cx="838080" cy="2286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%edx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86000" y="2362320"/>
              <a:ext cx="838080" cy="2286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%ebx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114800" y="1676520"/>
              <a:ext cx="838080" cy="2286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%esi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14800" y="1905120"/>
              <a:ext cx="838080" cy="2286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%edi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114800" y="2133720"/>
              <a:ext cx="838080" cy="2286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114800" y="2362320"/>
              <a:ext cx="838080" cy="2286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124080" y="1676520"/>
              <a:ext cx="381240" cy="2286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124080" y="1905120"/>
              <a:ext cx="381240" cy="2286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Courier New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24080" y="2133720"/>
              <a:ext cx="381240" cy="2286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Courier New"/>
                </a:rPr>
                <a:t>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124080" y="2362320"/>
              <a:ext cx="381240" cy="2286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Courier New"/>
                </a:rPr>
                <a:t>3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952880" y="1676520"/>
              <a:ext cx="381240" cy="2286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Courier New"/>
                </a:rPr>
                <a:t>6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952880" y="1905120"/>
              <a:ext cx="381240" cy="2286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Courier New"/>
                </a:rPr>
                <a:t>7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952880" y="2133720"/>
              <a:ext cx="381240" cy="2286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Courier New"/>
                </a:rPr>
                <a:t>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952880" y="2362320"/>
              <a:ext cx="381240" cy="2286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Courier New"/>
                </a:rPr>
                <a:t>5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09480" y="2514600"/>
            <a:ext cx="3657600" cy="609480"/>
          </a:xfrm>
          <a:prstGeom prst="rect">
            <a:avLst/>
          </a:prstGeom>
          <a:solidFill>
            <a:srgbClr val="ffff66"/>
          </a:solidFill>
          <a:ln w="19080">
            <a:solidFill>
              <a:srgbClr val="003300"/>
            </a:solidFill>
            <a:miter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struction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29476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320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ddition Instru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20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20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20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1668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16680" indent="-202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 value in register rA to that in register rB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49680" indent="-197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tore result in register rB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949680" indent="-197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te that Y86 only allows addition to be applied to register dat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16680" indent="-202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t condition codes based on resul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16680" indent="-202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.g.,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addl %eax,%esi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ncoding: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60 06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16680" indent="-202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wo-byte encod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49680" indent="-197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irst indicates instruction typ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949680" indent="-197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econd gives source and destination register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838080" y="2666880"/>
            <a:ext cx="3124440" cy="304920"/>
            <a:chOff x="838080" y="2666880"/>
            <a:chExt cx="3124440" cy="304920"/>
          </a:xfrm>
        </p:grpSpPr>
        <p:sp>
          <p:nvSpPr>
            <p:cNvPr id="140" name=""/>
            <p:cNvSpPr/>
            <p:nvPr/>
          </p:nvSpPr>
          <p:spPr>
            <a:xfrm>
              <a:off x="838080" y="2666880"/>
              <a:ext cx="1905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addl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rA</a:t>
              </a: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,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r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2743200" y="2666880"/>
              <a:ext cx="609480" cy="304920"/>
              <a:chOff x="2743200" y="2666880"/>
              <a:chExt cx="609480" cy="304920"/>
            </a:xfrm>
          </p:grpSpPr>
          <p:sp>
            <p:nvSpPr>
              <p:cNvPr id="142" name=""/>
              <p:cNvSpPr/>
              <p:nvPr/>
            </p:nvSpPr>
            <p:spPr>
              <a:xfrm>
                <a:off x="2743200" y="266688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6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048120" y="266688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0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743200" y="2666880"/>
                <a:ext cx="609480" cy="30492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352680" y="2666880"/>
              <a:ext cx="609840" cy="304920"/>
              <a:chOff x="3352680" y="2666880"/>
              <a:chExt cx="609840" cy="304920"/>
            </a:xfrm>
          </p:grpSpPr>
          <p:sp>
            <p:nvSpPr>
              <p:cNvPr id="146" name=""/>
              <p:cNvSpPr/>
              <p:nvPr/>
            </p:nvSpPr>
            <p:spPr>
              <a:xfrm>
                <a:off x="3352680" y="266688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Arial"/>
                  </a:rPr>
                  <a:t>r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657600" y="266688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Arial"/>
                  </a:rPr>
                  <a:t>rB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352680" y="2666880"/>
                <a:ext cx="609840" cy="30492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9" name=""/>
          <p:cNvGrpSpPr/>
          <p:nvPr/>
        </p:nvGrpSpPr>
        <p:grpSpPr>
          <a:xfrm>
            <a:off x="4038480" y="2133720"/>
            <a:ext cx="3699360" cy="532800"/>
            <a:chOff x="4038480" y="2133720"/>
            <a:chExt cx="3699360" cy="532800"/>
          </a:xfrm>
        </p:grpSpPr>
        <p:sp>
          <p:nvSpPr>
            <p:cNvPr id="150" name=""/>
            <p:cNvSpPr/>
            <p:nvPr/>
          </p:nvSpPr>
          <p:spPr>
            <a:xfrm flipH="1">
              <a:off x="4038480" y="2286000"/>
              <a:ext cx="914400" cy="380520"/>
            </a:xfrm>
            <a:prstGeom prst="line">
              <a:avLst/>
            </a:prstGeom>
            <a:ln w="19080">
              <a:solidFill>
                <a:srgbClr val="ff0002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952880" y="2133720"/>
              <a:ext cx="278496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2"/>
                  </a:solidFill>
                  <a:latin typeface="Arial"/>
                </a:rPr>
                <a:t>Encoded Representatio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1905120" y="1600200"/>
            <a:ext cx="3622680" cy="1066680"/>
            <a:chOff x="1905120" y="1600200"/>
            <a:chExt cx="3622680" cy="1066680"/>
          </a:xfrm>
        </p:grpSpPr>
        <p:sp>
          <p:nvSpPr>
            <p:cNvPr id="153" name=""/>
            <p:cNvSpPr/>
            <p:nvPr/>
          </p:nvSpPr>
          <p:spPr>
            <a:xfrm flipH="1">
              <a:off x="1905120" y="1752480"/>
              <a:ext cx="838080" cy="914400"/>
            </a:xfrm>
            <a:prstGeom prst="line">
              <a:avLst/>
            </a:prstGeom>
            <a:ln w="19080">
              <a:solidFill>
                <a:srgbClr val="ff0002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43200" y="1600200"/>
              <a:ext cx="27846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2"/>
                  </a:solidFill>
                  <a:latin typeface="Arial"/>
                </a:rPr>
                <a:t>Generic Form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rithmetic and Logical Oper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343040" y="1218960"/>
            <a:ext cx="42418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fer to generically as “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OP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ncodings differ only by “function code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w-order 4 bytes in first instruction wor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t condition codes as side effec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63400" y="1676520"/>
            <a:ext cx="3657600" cy="609480"/>
          </a:xfrm>
          <a:prstGeom prst="rect">
            <a:avLst/>
          </a:prstGeom>
          <a:solidFill>
            <a:srgbClr val="ffff66"/>
          </a:solidFill>
          <a:ln w="19080">
            <a:solidFill>
              <a:srgbClr val="003300"/>
            </a:solidFill>
            <a:miter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2000" y="1828800"/>
            <a:ext cx="3124440" cy="304920"/>
            <a:chOff x="792000" y="1828800"/>
            <a:chExt cx="3124440" cy="304920"/>
          </a:xfrm>
        </p:grpSpPr>
        <p:sp>
          <p:nvSpPr>
            <p:cNvPr id="159" name=""/>
            <p:cNvSpPr/>
            <p:nvPr/>
          </p:nvSpPr>
          <p:spPr>
            <a:xfrm>
              <a:off x="792000" y="1828800"/>
              <a:ext cx="1905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addl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rA</a:t>
              </a: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,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r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2697120" y="1828800"/>
              <a:ext cx="609480" cy="304920"/>
              <a:chOff x="2697120" y="1828800"/>
              <a:chExt cx="609480" cy="304920"/>
            </a:xfrm>
          </p:grpSpPr>
          <p:sp>
            <p:nvSpPr>
              <p:cNvPr id="161" name=""/>
              <p:cNvSpPr/>
              <p:nvPr/>
            </p:nvSpPr>
            <p:spPr>
              <a:xfrm>
                <a:off x="2697120" y="182880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6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002040" y="182880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0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697120" y="1828800"/>
                <a:ext cx="609480" cy="30492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3306600" y="1828800"/>
              <a:ext cx="609840" cy="304920"/>
              <a:chOff x="3306600" y="1828800"/>
              <a:chExt cx="609840" cy="304920"/>
            </a:xfrm>
          </p:grpSpPr>
          <p:sp>
            <p:nvSpPr>
              <p:cNvPr id="165" name=""/>
              <p:cNvSpPr/>
              <p:nvPr/>
            </p:nvSpPr>
            <p:spPr>
              <a:xfrm>
                <a:off x="3306600" y="182880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Arial"/>
                  </a:rPr>
                  <a:t>r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611520" y="182880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Arial"/>
                  </a:rPr>
                  <a:t>rB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06600" y="1828800"/>
                <a:ext cx="609840" cy="30492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8" name=""/>
          <p:cNvSpPr/>
          <p:nvPr/>
        </p:nvSpPr>
        <p:spPr>
          <a:xfrm>
            <a:off x="563400" y="2819520"/>
            <a:ext cx="3657600" cy="609480"/>
          </a:xfrm>
          <a:prstGeom prst="rect">
            <a:avLst/>
          </a:prstGeom>
          <a:solidFill>
            <a:srgbClr val="ffff66"/>
          </a:solidFill>
          <a:ln w="19080">
            <a:solidFill>
              <a:srgbClr val="003300"/>
            </a:solidFill>
            <a:miter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792000" y="2971800"/>
            <a:ext cx="3124440" cy="304920"/>
            <a:chOff x="792000" y="2971800"/>
            <a:chExt cx="3124440" cy="304920"/>
          </a:xfrm>
        </p:grpSpPr>
        <p:sp>
          <p:nvSpPr>
            <p:cNvPr id="170" name=""/>
            <p:cNvSpPr/>
            <p:nvPr/>
          </p:nvSpPr>
          <p:spPr>
            <a:xfrm>
              <a:off x="792000" y="2971800"/>
              <a:ext cx="1905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subl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rA</a:t>
              </a: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,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r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2697120" y="2971800"/>
              <a:ext cx="609480" cy="304920"/>
              <a:chOff x="2697120" y="2971800"/>
              <a:chExt cx="609480" cy="304920"/>
            </a:xfrm>
          </p:grpSpPr>
          <p:sp>
            <p:nvSpPr>
              <p:cNvPr id="172" name=""/>
              <p:cNvSpPr/>
              <p:nvPr/>
            </p:nvSpPr>
            <p:spPr>
              <a:xfrm>
                <a:off x="2697120" y="297180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6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002040" y="297180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697120" y="2971800"/>
                <a:ext cx="609480" cy="30492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3306600" y="2971800"/>
              <a:ext cx="609840" cy="304920"/>
              <a:chOff x="3306600" y="2971800"/>
              <a:chExt cx="609840" cy="304920"/>
            </a:xfrm>
          </p:grpSpPr>
          <p:sp>
            <p:nvSpPr>
              <p:cNvPr id="176" name=""/>
              <p:cNvSpPr/>
              <p:nvPr/>
            </p:nvSpPr>
            <p:spPr>
              <a:xfrm>
                <a:off x="3306600" y="297180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Arial"/>
                  </a:rPr>
                  <a:t>r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611520" y="297180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Arial"/>
                  </a:rPr>
                  <a:t>rB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306600" y="2971800"/>
                <a:ext cx="609840" cy="30492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9" name=""/>
          <p:cNvSpPr/>
          <p:nvPr/>
        </p:nvSpPr>
        <p:spPr>
          <a:xfrm>
            <a:off x="563400" y="3962520"/>
            <a:ext cx="3657600" cy="609480"/>
          </a:xfrm>
          <a:prstGeom prst="rect">
            <a:avLst/>
          </a:prstGeom>
          <a:solidFill>
            <a:srgbClr val="ffff66"/>
          </a:solidFill>
          <a:ln w="19080">
            <a:solidFill>
              <a:srgbClr val="003300"/>
            </a:solidFill>
            <a:miter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792000" y="4114800"/>
            <a:ext cx="3124440" cy="304920"/>
            <a:chOff x="792000" y="4114800"/>
            <a:chExt cx="3124440" cy="304920"/>
          </a:xfrm>
        </p:grpSpPr>
        <p:sp>
          <p:nvSpPr>
            <p:cNvPr id="181" name=""/>
            <p:cNvSpPr/>
            <p:nvPr/>
          </p:nvSpPr>
          <p:spPr>
            <a:xfrm>
              <a:off x="792000" y="4114800"/>
              <a:ext cx="1905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andl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rA</a:t>
              </a: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,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r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697120" y="4114800"/>
              <a:ext cx="609480" cy="304920"/>
              <a:chOff x="2697120" y="4114800"/>
              <a:chExt cx="609480" cy="304920"/>
            </a:xfrm>
          </p:grpSpPr>
          <p:sp>
            <p:nvSpPr>
              <p:cNvPr id="183" name=""/>
              <p:cNvSpPr/>
              <p:nvPr/>
            </p:nvSpPr>
            <p:spPr>
              <a:xfrm>
                <a:off x="2697120" y="411480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6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002040" y="411480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2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697120" y="4114800"/>
                <a:ext cx="609480" cy="30492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306600" y="4114800"/>
              <a:ext cx="609840" cy="304920"/>
              <a:chOff x="3306600" y="4114800"/>
              <a:chExt cx="609840" cy="304920"/>
            </a:xfrm>
          </p:grpSpPr>
          <p:sp>
            <p:nvSpPr>
              <p:cNvPr id="187" name=""/>
              <p:cNvSpPr/>
              <p:nvPr/>
            </p:nvSpPr>
            <p:spPr>
              <a:xfrm>
                <a:off x="3306600" y="411480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Arial"/>
                  </a:rPr>
                  <a:t>r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611520" y="411480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Arial"/>
                  </a:rPr>
                  <a:t>rB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306600" y="4114800"/>
                <a:ext cx="609840" cy="30492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0" name=""/>
          <p:cNvSpPr/>
          <p:nvPr/>
        </p:nvSpPr>
        <p:spPr>
          <a:xfrm>
            <a:off x="563400" y="5105520"/>
            <a:ext cx="3657600" cy="609480"/>
          </a:xfrm>
          <a:prstGeom prst="rect">
            <a:avLst/>
          </a:prstGeom>
          <a:solidFill>
            <a:srgbClr val="ffff66"/>
          </a:solidFill>
          <a:ln w="19080">
            <a:solidFill>
              <a:srgbClr val="003300"/>
            </a:solidFill>
            <a:miter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2000" y="5257800"/>
            <a:ext cx="3124440" cy="304920"/>
            <a:chOff x="792000" y="5257800"/>
            <a:chExt cx="3124440" cy="304920"/>
          </a:xfrm>
        </p:grpSpPr>
        <p:sp>
          <p:nvSpPr>
            <p:cNvPr id="192" name=""/>
            <p:cNvSpPr/>
            <p:nvPr/>
          </p:nvSpPr>
          <p:spPr>
            <a:xfrm>
              <a:off x="792000" y="5257800"/>
              <a:ext cx="1905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xorl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rA</a:t>
              </a: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,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r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2697120" y="5257800"/>
              <a:ext cx="609480" cy="304920"/>
              <a:chOff x="2697120" y="5257800"/>
              <a:chExt cx="609480" cy="304920"/>
            </a:xfrm>
          </p:grpSpPr>
          <p:sp>
            <p:nvSpPr>
              <p:cNvPr id="194" name=""/>
              <p:cNvSpPr/>
              <p:nvPr/>
            </p:nvSpPr>
            <p:spPr>
              <a:xfrm>
                <a:off x="2697120" y="525780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6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002040" y="525780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3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697120" y="5257800"/>
                <a:ext cx="609480" cy="30492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3306600" y="5257800"/>
              <a:ext cx="609840" cy="304920"/>
              <a:chOff x="3306600" y="5257800"/>
              <a:chExt cx="609840" cy="304920"/>
            </a:xfrm>
          </p:grpSpPr>
          <p:sp>
            <p:nvSpPr>
              <p:cNvPr id="198" name=""/>
              <p:cNvSpPr/>
              <p:nvPr/>
            </p:nvSpPr>
            <p:spPr>
              <a:xfrm>
                <a:off x="3306600" y="525780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Arial"/>
                  </a:rPr>
                  <a:t>r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611520" y="525780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Arial"/>
                  </a:rPr>
                  <a:t>rB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306600" y="5257800"/>
                <a:ext cx="609840" cy="30492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1" name=""/>
          <p:cNvSpPr/>
          <p:nvPr/>
        </p:nvSpPr>
        <p:spPr>
          <a:xfrm>
            <a:off x="560160" y="1295280"/>
            <a:ext cx="537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61240" y="2438280"/>
            <a:ext cx="2376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ubtract (rA from rB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60160" y="3581280"/>
            <a:ext cx="537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2320" y="4724280"/>
            <a:ext cx="14882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xclusive-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300960" y="1049400"/>
            <a:ext cx="2396160" cy="702720"/>
            <a:chOff x="300960" y="1049400"/>
            <a:chExt cx="2396160" cy="702720"/>
          </a:xfrm>
        </p:grpSpPr>
        <p:sp>
          <p:nvSpPr>
            <p:cNvPr id="206" name=""/>
            <p:cNvSpPr/>
            <p:nvPr/>
          </p:nvSpPr>
          <p:spPr>
            <a:xfrm>
              <a:off x="2239920" y="1371600"/>
              <a:ext cx="457200" cy="380520"/>
            </a:xfrm>
            <a:prstGeom prst="line">
              <a:avLst/>
            </a:prstGeom>
            <a:ln w="19080">
              <a:solidFill>
                <a:srgbClr val="ff0002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00960" y="1049400"/>
              <a:ext cx="191016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2"/>
                  </a:solidFill>
                  <a:latin typeface="Arial"/>
                </a:rPr>
                <a:t>Instruction Cod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02240" y="1049400"/>
            <a:ext cx="1695240" cy="702720"/>
            <a:chOff x="2802240" y="1049400"/>
            <a:chExt cx="1695240" cy="702720"/>
          </a:xfrm>
        </p:grpSpPr>
        <p:sp>
          <p:nvSpPr>
            <p:cNvPr id="209" name=""/>
            <p:cNvSpPr/>
            <p:nvPr/>
          </p:nvSpPr>
          <p:spPr>
            <a:xfrm flipH="1">
              <a:off x="3153960" y="1371600"/>
              <a:ext cx="228240" cy="380520"/>
            </a:xfrm>
            <a:prstGeom prst="line">
              <a:avLst/>
            </a:prstGeom>
            <a:ln w="19080">
              <a:solidFill>
                <a:srgbClr val="ff0002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802240" y="1049400"/>
              <a:ext cx="169524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2"/>
                  </a:solidFill>
                  <a:latin typeface="Arial"/>
                </a:rPr>
                <a:t>Function Cod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ove Oper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7720" y="5105160"/>
            <a:ext cx="7696440" cy="15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ke the IA32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ov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stru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mpler format for memory addres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ive different names to keep them distinc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34800" y="1295280"/>
            <a:ext cx="5989680" cy="609840"/>
          </a:xfrm>
          <a:prstGeom prst="rect">
            <a:avLst/>
          </a:prstGeom>
          <a:solidFill>
            <a:srgbClr val="ffff66"/>
          </a:solidFill>
          <a:ln w="19080">
            <a:solidFill>
              <a:srgbClr val="003300"/>
            </a:solidFill>
            <a:miter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563400" y="1447920"/>
            <a:ext cx="3124440" cy="304560"/>
            <a:chOff x="563400" y="1447920"/>
            <a:chExt cx="3124440" cy="304560"/>
          </a:xfrm>
        </p:grpSpPr>
        <p:sp>
          <p:nvSpPr>
            <p:cNvPr id="215" name=""/>
            <p:cNvSpPr/>
            <p:nvPr/>
          </p:nvSpPr>
          <p:spPr>
            <a:xfrm>
              <a:off x="563400" y="1447920"/>
              <a:ext cx="19051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rrmovl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rA</a:t>
              </a: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,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r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2468520" y="1447920"/>
              <a:ext cx="609480" cy="304560"/>
              <a:chOff x="2468520" y="1447920"/>
              <a:chExt cx="609480" cy="304560"/>
            </a:xfrm>
          </p:grpSpPr>
          <p:sp>
            <p:nvSpPr>
              <p:cNvPr id="217" name=""/>
              <p:cNvSpPr/>
              <p:nvPr/>
            </p:nvSpPr>
            <p:spPr>
              <a:xfrm>
                <a:off x="2468520" y="14479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2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773440" y="144792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0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468520" y="14479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3078000" y="1447920"/>
              <a:ext cx="609840" cy="304560"/>
              <a:chOff x="3078000" y="1447920"/>
              <a:chExt cx="609840" cy="304560"/>
            </a:xfrm>
          </p:grpSpPr>
          <p:sp>
            <p:nvSpPr>
              <p:cNvPr id="221" name=""/>
              <p:cNvSpPr/>
              <p:nvPr/>
            </p:nvSpPr>
            <p:spPr>
              <a:xfrm>
                <a:off x="3078000" y="14479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Arial"/>
                  </a:rPr>
                  <a:t>r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382920" y="14479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Arial"/>
                  </a:rPr>
                  <a:t>rB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078000" y="1447920"/>
                <a:ext cx="60984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4" name=""/>
          <p:cNvSpPr/>
          <p:nvPr/>
        </p:nvSpPr>
        <p:spPr>
          <a:xfrm>
            <a:off x="351000" y="2286000"/>
            <a:ext cx="5943600" cy="609480"/>
          </a:xfrm>
          <a:prstGeom prst="rect">
            <a:avLst/>
          </a:prstGeom>
          <a:solidFill>
            <a:srgbClr val="ffff66"/>
          </a:solidFill>
          <a:ln w="19080">
            <a:solidFill>
              <a:srgbClr val="003300"/>
            </a:solidFill>
            <a:miter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29960" y="1336680"/>
            <a:ext cx="23324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gister --&gt; Regist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401160" y="2286000"/>
            <a:ext cx="25488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mmediate --&gt; Regist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503280" y="2438280"/>
            <a:ext cx="5562360" cy="304920"/>
            <a:chOff x="503280" y="2438280"/>
            <a:chExt cx="5562360" cy="304920"/>
          </a:xfrm>
        </p:grpSpPr>
        <p:sp>
          <p:nvSpPr>
            <p:cNvPr id="228" name=""/>
            <p:cNvSpPr/>
            <p:nvPr/>
          </p:nvSpPr>
          <p:spPr>
            <a:xfrm>
              <a:off x="503280" y="2438280"/>
              <a:ext cx="1904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irmovl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V</a:t>
              </a: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,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r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2408040" y="2438280"/>
              <a:ext cx="3657600" cy="304560"/>
              <a:chOff x="2408040" y="2438280"/>
              <a:chExt cx="3657600" cy="3045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2408040" y="2438280"/>
                <a:ext cx="609480" cy="304560"/>
                <a:chOff x="2408040" y="2438280"/>
                <a:chExt cx="609480" cy="3045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2408040" y="2438280"/>
                  <a:ext cx="304920" cy="3045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3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2712960" y="2438280"/>
                  <a:ext cx="304560" cy="3045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0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2408040" y="2438280"/>
                  <a:ext cx="609480" cy="30456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3017520" y="2438280"/>
                <a:ext cx="609840" cy="304560"/>
                <a:chOff x="3017520" y="2438280"/>
                <a:chExt cx="609840" cy="30456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3017520" y="2438280"/>
                  <a:ext cx="304920" cy="3045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8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3322440" y="2438280"/>
                  <a:ext cx="304920" cy="3045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Arial"/>
                    </a:rPr>
                    <a:t>rB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3017520" y="2438280"/>
                  <a:ext cx="609840" cy="30456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3627360" y="2438280"/>
                <a:ext cx="24382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9" name=""/>
          <p:cNvSpPr/>
          <p:nvPr/>
        </p:nvSpPr>
        <p:spPr>
          <a:xfrm>
            <a:off x="351000" y="3276720"/>
            <a:ext cx="5943600" cy="609480"/>
          </a:xfrm>
          <a:prstGeom prst="rect">
            <a:avLst/>
          </a:prstGeom>
          <a:solidFill>
            <a:srgbClr val="ffff66"/>
          </a:solidFill>
          <a:ln w="19080">
            <a:solidFill>
              <a:srgbClr val="003300"/>
            </a:solidFill>
            <a:miter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401160" y="3276720"/>
            <a:ext cx="22942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gister --&gt; 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503280" y="3429000"/>
            <a:ext cx="5562360" cy="304920"/>
            <a:chOff x="503280" y="3429000"/>
            <a:chExt cx="5562360" cy="304920"/>
          </a:xfrm>
        </p:grpSpPr>
        <p:sp>
          <p:nvSpPr>
            <p:cNvPr id="242" name=""/>
            <p:cNvSpPr/>
            <p:nvPr/>
          </p:nvSpPr>
          <p:spPr>
            <a:xfrm>
              <a:off x="503280" y="3429000"/>
              <a:ext cx="1904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rmmovl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rA</a:t>
              </a: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,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D</a:t>
              </a: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(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rB)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2408040" y="3429000"/>
              <a:ext cx="3657600" cy="304560"/>
              <a:chOff x="2408040" y="3429000"/>
              <a:chExt cx="3657600" cy="304560"/>
            </a:xfrm>
          </p:grpSpPr>
          <p:grpSp>
            <p:nvGrpSpPr>
              <p:cNvPr id="244" name=""/>
              <p:cNvGrpSpPr/>
              <p:nvPr/>
            </p:nvGrpSpPr>
            <p:grpSpPr>
              <a:xfrm>
                <a:off x="2408040" y="3429000"/>
                <a:ext cx="609480" cy="304560"/>
                <a:chOff x="2408040" y="3429000"/>
                <a:chExt cx="609480" cy="3045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2408040" y="3429000"/>
                  <a:ext cx="304920" cy="3045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4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712960" y="3429000"/>
                  <a:ext cx="304560" cy="3045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0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2408040" y="3429000"/>
                  <a:ext cx="609480" cy="30456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3017520" y="3429000"/>
                <a:ext cx="609840" cy="304560"/>
                <a:chOff x="3017520" y="3429000"/>
                <a:chExt cx="609840" cy="30456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3017520" y="3429000"/>
                  <a:ext cx="304920" cy="3045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99"/>
                      </a:solidFill>
                      <a:latin typeface="Arial"/>
                    </a:rPr>
                    <a:t>rA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3322440" y="3429000"/>
                  <a:ext cx="304920" cy="3045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Arial"/>
                    </a:rPr>
                    <a:t>rB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3017520" y="3429000"/>
                  <a:ext cx="609840" cy="30456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2" name=""/>
              <p:cNvSpPr/>
              <p:nvPr/>
            </p:nvSpPr>
            <p:spPr>
              <a:xfrm>
                <a:off x="3627360" y="3429000"/>
                <a:ext cx="24382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3" name=""/>
          <p:cNvSpPr/>
          <p:nvPr/>
        </p:nvSpPr>
        <p:spPr>
          <a:xfrm>
            <a:off x="351000" y="4343400"/>
            <a:ext cx="5943600" cy="609480"/>
          </a:xfrm>
          <a:prstGeom prst="rect">
            <a:avLst/>
          </a:prstGeom>
          <a:solidFill>
            <a:srgbClr val="ffff66"/>
          </a:solidFill>
          <a:ln w="19080">
            <a:solidFill>
              <a:srgbClr val="003300"/>
            </a:solidFill>
            <a:miter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01160" y="4343400"/>
            <a:ext cx="22942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mory --&gt; Regist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503280" y="4495680"/>
            <a:ext cx="5562360" cy="304920"/>
            <a:chOff x="503280" y="4495680"/>
            <a:chExt cx="5562360" cy="304920"/>
          </a:xfrm>
        </p:grpSpPr>
        <p:sp>
          <p:nvSpPr>
            <p:cNvPr id="256" name=""/>
            <p:cNvSpPr/>
            <p:nvPr/>
          </p:nvSpPr>
          <p:spPr>
            <a:xfrm>
              <a:off x="503280" y="4495680"/>
              <a:ext cx="1904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mrmovl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D</a:t>
              </a: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(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rB), r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2408040" y="4495680"/>
              <a:ext cx="3657600" cy="304560"/>
              <a:chOff x="2408040" y="4495680"/>
              <a:chExt cx="3657600" cy="304560"/>
            </a:xfrm>
          </p:grpSpPr>
          <p:grpSp>
            <p:nvGrpSpPr>
              <p:cNvPr id="258" name=""/>
              <p:cNvGrpSpPr/>
              <p:nvPr/>
            </p:nvGrpSpPr>
            <p:grpSpPr>
              <a:xfrm>
                <a:off x="2408040" y="4495680"/>
                <a:ext cx="609480" cy="304560"/>
                <a:chOff x="2408040" y="4495680"/>
                <a:chExt cx="609480" cy="30456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2408040" y="4495680"/>
                  <a:ext cx="304920" cy="3045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5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2712960" y="4495680"/>
                  <a:ext cx="304560" cy="3045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0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2408040" y="4495680"/>
                  <a:ext cx="609480" cy="30456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3017520" y="4495680"/>
                <a:ext cx="609840" cy="304560"/>
                <a:chOff x="3017520" y="4495680"/>
                <a:chExt cx="609840" cy="30456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3017520" y="4495680"/>
                  <a:ext cx="304920" cy="3045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99"/>
                      </a:solidFill>
                      <a:latin typeface="Arial"/>
                    </a:rPr>
                    <a:t>rA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3322440" y="4495680"/>
                  <a:ext cx="304920" cy="3045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Arial"/>
                    </a:rPr>
                    <a:t>rB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3017520" y="4495680"/>
                  <a:ext cx="609840" cy="30456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6" name=""/>
              <p:cNvSpPr/>
              <p:nvPr/>
            </p:nvSpPr>
            <p:spPr>
              <a:xfrm>
                <a:off x="3627360" y="4495680"/>
                <a:ext cx="24382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28600" y="3657600"/>
            <a:ext cx="6172200" cy="380880"/>
          </a:xfrm>
          <a:prstGeom prst="rect">
            <a:avLst/>
          </a:prstGeom>
          <a:solidFill>
            <a:srgbClr val="ffcc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" y="4038480"/>
            <a:ext cx="6172200" cy="381240"/>
          </a:xfrm>
          <a:prstGeom prst="rect">
            <a:avLst/>
          </a:prstGeom>
          <a:solidFill>
            <a:srgbClr val="ffcc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8600" y="3276720"/>
            <a:ext cx="6172200" cy="380880"/>
          </a:xfrm>
          <a:prstGeom prst="rect">
            <a:avLst/>
          </a:prstGeom>
          <a:solidFill>
            <a:srgbClr val="ffcc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8600" y="1828800"/>
            <a:ext cx="8610480" cy="380880"/>
          </a:xfrm>
          <a:prstGeom prst="rect">
            <a:avLst/>
          </a:prstGeom>
          <a:solidFill>
            <a:srgbClr val="ffff66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" y="2209680"/>
            <a:ext cx="8610480" cy="381240"/>
          </a:xfrm>
          <a:prstGeom prst="rect">
            <a:avLst/>
          </a:prstGeom>
          <a:solidFill>
            <a:srgbClr val="ffff66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" y="2590920"/>
            <a:ext cx="8610480" cy="380880"/>
          </a:xfrm>
          <a:prstGeom prst="rect">
            <a:avLst/>
          </a:prstGeom>
          <a:solidFill>
            <a:srgbClr val="ffff66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" y="1447920"/>
            <a:ext cx="8610480" cy="380880"/>
          </a:xfrm>
          <a:prstGeom prst="rect">
            <a:avLst/>
          </a:prstGeom>
          <a:solidFill>
            <a:srgbClr val="ffff66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ove Instruction Examp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429000" y="1447920"/>
            <a:ext cx="2209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irmovl $0xabcd, %edx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0880" y="1447920"/>
            <a:ext cx="22100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movl $0xabcd, 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77120" y="1447920"/>
            <a:ext cx="2209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30 82 cd ab 00 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4680" y="1066680"/>
            <a:ext cx="5738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IA3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508560" y="1066680"/>
            <a:ext cx="4975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Y8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517080" y="1066680"/>
            <a:ext cx="11361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Encodin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429000" y="182880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rrmovl %esp, %ebx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0880" y="1828800"/>
            <a:ext cx="221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movl %esp, %eb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477120" y="182880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20 43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29000" y="220968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mrmovl -12(%ebp),%ec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0880" y="2209680"/>
            <a:ext cx="221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movl -12(%ebp),%ec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477120" y="220968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50 15 f4 ff ff f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429000" y="2590920"/>
            <a:ext cx="2209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rmmovl %esi,0x41c(%esp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0880" y="2590920"/>
            <a:ext cx="22100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movl %esi,0x41c(%esp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29000" y="3276720"/>
            <a:ext cx="2209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Courier New"/>
              </a:rPr>
              <a:t>—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0880" y="3276720"/>
            <a:ext cx="22100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movl $0xabcd, (%eax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429000" y="365760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Courier New"/>
              </a:rPr>
              <a:t>—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80880" y="3657600"/>
            <a:ext cx="221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movl %eax, 12(%eax,%edx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429000" y="403848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Courier New"/>
              </a:rPr>
              <a:t>—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0880" y="4038480"/>
            <a:ext cx="221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movl (%ebp,%eax,4),%ec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477120" y="2590920"/>
            <a:ext cx="2209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40 64 1c 04 00 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3T17:17:57Z</dcterms:created>
  <dc:creator>Randal E. Bryant</dc:creator>
  <dc:description/>
  <dc:language>en-US</dc:language>
  <cp:lastModifiedBy>Randal E. Bryant</cp:lastModifiedBy>
  <cp:lastPrinted>1999-02-26T14:55:35Z</cp:lastPrinted>
  <dcterms:modified xsi:type="dcterms:W3CDTF">2002-05-30T16:36:13Z</dcterms:modified>
  <cp:revision>63</cp:revision>
  <dc:subject>SRC Review Slides</dc:subject>
  <dc:title>Formal Processor Verification</dc:title>
</cp:coreProperties>
</file>