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1F19C7F0-2F80-488B-BB2A-3F663F7BAF88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45280" y="533520"/>
            <a:ext cx="5758560" cy="343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Pipelined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04280" y="152280"/>
            <a:ext cx="8704440" cy="77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lling X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85800" y="12952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0: irmovl $10,%ed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5812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0384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956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9528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4100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8672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3244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2388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5812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0384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4956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9528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4100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6: irmovl  $3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0384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4956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9528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4100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8672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" y="19051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4956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10080" y="19051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867280" y="19051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324480" y="19051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2096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9528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867280" y="220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324480" y="220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781680" y="220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85800" y="28195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c: addl %edx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4100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3244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7816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2388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6960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31240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e: ha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3244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816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6960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1532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960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85800" y="9907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demo-h0.y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257800" y="2057400"/>
            <a:ext cx="152280" cy="76212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715000" y="2362320"/>
            <a:ext cx="152280" cy="45720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4100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8672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8672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324480" y="2514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81680" y="2514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238880" y="2514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172200" y="2666880"/>
            <a:ext cx="152280" cy="15264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85800" y="25146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1532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2971440" y="3429000"/>
            <a:ext cx="1981080" cy="1917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H="1">
            <a:off x="4419360" y="3429000"/>
            <a:ext cx="990360" cy="1308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971800" y="49528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ycle 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402240" y="5105520"/>
            <a:ext cx="25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5867280" y="4114800"/>
            <a:ext cx="1447920" cy="609480"/>
            <a:chOff x="5867280" y="4114800"/>
            <a:chExt cx="1447920" cy="609480"/>
          </a:xfrm>
        </p:grpSpPr>
        <p:sp>
          <p:nvSpPr>
            <p:cNvPr id="1393" name=""/>
            <p:cNvSpPr/>
            <p:nvPr/>
          </p:nvSpPr>
          <p:spPr>
            <a:xfrm>
              <a:off x="5867280" y="4114800"/>
              <a:ext cx="1447920" cy="609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867280" y="4406760"/>
              <a:ext cx="1447920" cy="31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W_dstE = </a:t>
              </a: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5867280" y="5943600"/>
            <a:ext cx="1447920" cy="838080"/>
            <a:chOff x="5867280" y="5943600"/>
            <a:chExt cx="1447920" cy="838080"/>
          </a:xfrm>
        </p:grpSpPr>
        <p:sp>
          <p:nvSpPr>
            <p:cNvPr id="1396" name=""/>
            <p:cNvSpPr/>
            <p:nvPr/>
          </p:nvSpPr>
          <p:spPr>
            <a:xfrm>
              <a:off x="5867280" y="5943600"/>
              <a:ext cx="1447920" cy="838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67280" y="6235560"/>
              <a:ext cx="12193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A = 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B = </a:t>
              </a:r>
              <a:r>
                <a:rPr b="1" lang="en-US" sz="1400" spc="-1" strike="noStrike">
                  <a:solidFill>
                    <a:srgbClr val="0080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98" name=""/>
          <p:cNvSpPr/>
          <p:nvPr/>
        </p:nvSpPr>
        <p:spPr>
          <a:xfrm>
            <a:off x="5003640" y="5410080"/>
            <a:ext cx="25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4419720" y="4724280"/>
            <a:ext cx="1447560" cy="609480"/>
            <a:chOff x="4419720" y="4724280"/>
            <a:chExt cx="1447560" cy="609480"/>
          </a:xfrm>
        </p:grpSpPr>
        <p:sp>
          <p:nvSpPr>
            <p:cNvPr id="1400" name=""/>
            <p:cNvSpPr/>
            <p:nvPr/>
          </p:nvSpPr>
          <p:spPr>
            <a:xfrm>
              <a:off x="4419720" y="4724280"/>
              <a:ext cx="1447560" cy="609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419720" y="5016240"/>
              <a:ext cx="1447560" cy="31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M_dstE = </a:t>
              </a: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02" name=""/>
          <p:cNvGrpSpPr/>
          <p:nvPr/>
        </p:nvGrpSpPr>
        <p:grpSpPr>
          <a:xfrm>
            <a:off x="4419720" y="5943600"/>
            <a:ext cx="1447560" cy="838080"/>
            <a:chOff x="4419720" y="5943600"/>
            <a:chExt cx="1447560" cy="838080"/>
          </a:xfrm>
        </p:grpSpPr>
        <p:sp>
          <p:nvSpPr>
            <p:cNvPr id="1403" name=""/>
            <p:cNvSpPr/>
            <p:nvPr/>
          </p:nvSpPr>
          <p:spPr>
            <a:xfrm>
              <a:off x="4419720" y="5943600"/>
              <a:ext cx="1447560" cy="838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419720" y="6235560"/>
              <a:ext cx="121896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A = 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B = </a:t>
              </a:r>
              <a:r>
                <a:rPr b="1" lang="en-US" sz="1400" spc="-1" strike="noStrike">
                  <a:solidFill>
                    <a:srgbClr val="0080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2971800" y="5334120"/>
            <a:ext cx="1447560" cy="609480"/>
            <a:chOff x="2971800" y="5334120"/>
            <a:chExt cx="1447560" cy="609480"/>
          </a:xfrm>
        </p:grpSpPr>
        <p:sp>
          <p:nvSpPr>
            <p:cNvPr id="1406" name=""/>
            <p:cNvSpPr/>
            <p:nvPr/>
          </p:nvSpPr>
          <p:spPr>
            <a:xfrm>
              <a:off x="2971800" y="5334120"/>
              <a:ext cx="1447560" cy="609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971800" y="5626080"/>
              <a:ext cx="1447560" cy="31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E_dstE = </a:t>
              </a: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2971800" y="5943600"/>
            <a:ext cx="1447920" cy="838080"/>
            <a:chOff x="2971800" y="5943600"/>
            <a:chExt cx="1447920" cy="838080"/>
          </a:xfrm>
        </p:grpSpPr>
        <p:sp>
          <p:nvSpPr>
            <p:cNvPr id="1409" name=""/>
            <p:cNvSpPr/>
            <p:nvPr/>
          </p:nvSpPr>
          <p:spPr>
            <a:xfrm>
              <a:off x="2971800" y="5943600"/>
              <a:ext cx="1447920" cy="838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971800" y="6235560"/>
              <a:ext cx="12193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A = 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B = </a:t>
              </a:r>
              <a:r>
                <a:rPr b="1" lang="en-US" sz="1400" spc="-1" strike="noStrike">
                  <a:solidFill>
                    <a:srgbClr val="0080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4419720" y="43434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ycle 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867280" y="3733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ycle 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867280" y="3429000"/>
            <a:ext cx="0" cy="685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324480" y="3429000"/>
            <a:ext cx="990720" cy="685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Happens When Stalling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380520" y="3505320"/>
            <a:ext cx="829476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ing instruction held back in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llowing instruction stays in fetch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bbles injected into execut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dynamically generated nop’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ve through later stag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5334120" y="1295280"/>
            <a:ext cx="2590560" cy="1828800"/>
            <a:chOff x="5334120" y="1295280"/>
            <a:chExt cx="2590560" cy="1828800"/>
          </a:xfrm>
        </p:grpSpPr>
        <p:sp>
          <p:nvSpPr>
            <p:cNvPr id="1418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0: irmovl $10,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6: irmovl  $3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334120" y="28195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23" name=""/>
          <p:cNvGrpSpPr/>
          <p:nvPr/>
        </p:nvGrpSpPr>
        <p:grpSpPr>
          <a:xfrm>
            <a:off x="304920" y="1143000"/>
            <a:ext cx="2895480" cy="1600200"/>
            <a:chOff x="304920" y="1143000"/>
            <a:chExt cx="2895480" cy="1600200"/>
          </a:xfrm>
        </p:grpSpPr>
        <p:sp>
          <p:nvSpPr>
            <p:cNvPr id="1424" name=""/>
            <p:cNvSpPr/>
            <p:nvPr/>
          </p:nvSpPr>
          <p:spPr>
            <a:xfrm>
              <a:off x="304920" y="1143000"/>
              <a:ext cx="2895480" cy="160020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33160" y="1524240"/>
              <a:ext cx="2590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0: irmovl $10,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33160" y="1828800"/>
              <a:ext cx="259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6: irmovl  $3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33160" y="2133720"/>
              <a:ext cx="259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33160" y="1219320"/>
              <a:ext cx="259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# demo-h0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33160" y="2438640"/>
              <a:ext cx="2590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5334120" y="1295280"/>
            <a:ext cx="2590560" cy="1828800"/>
            <a:chOff x="5334120" y="1295280"/>
            <a:chExt cx="2590560" cy="1828800"/>
          </a:xfrm>
        </p:grpSpPr>
        <p:sp>
          <p:nvSpPr>
            <p:cNvPr id="1431" name=""/>
            <p:cNvSpPr/>
            <p:nvPr/>
          </p:nvSpPr>
          <p:spPr>
            <a:xfrm>
              <a:off x="5334120" y="16002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0: irmovl $10,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6: irmovl  $3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334120" y="28195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5334120" y="1295280"/>
            <a:ext cx="2590560" cy="1828800"/>
            <a:chOff x="5334120" y="1295280"/>
            <a:chExt cx="2590560" cy="1828800"/>
          </a:xfrm>
        </p:grpSpPr>
        <p:sp>
          <p:nvSpPr>
            <p:cNvPr id="1438" name=""/>
            <p:cNvSpPr/>
            <p:nvPr/>
          </p:nvSpPr>
          <p:spPr>
            <a:xfrm>
              <a:off x="5334120" y="16002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6: irmovl  $3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334120" y="28195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5334120" y="1295280"/>
            <a:ext cx="2590560" cy="1828800"/>
            <a:chOff x="5334120" y="1295280"/>
            <a:chExt cx="2590560" cy="1828800"/>
          </a:xfrm>
        </p:grpSpPr>
        <p:sp>
          <p:nvSpPr>
            <p:cNvPr id="1445" name=""/>
            <p:cNvSpPr/>
            <p:nvPr/>
          </p:nvSpPr>
          <p:spPr>
            <a:xfrm>
              <a:off x="5334120" y="16002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334120" y="28195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5334120" y="1295280"/>
            <a:ext cx="2666880" cy="1981440"/>
            <a:chOff x="5334120" y="1295280"/>
            <a:chExt cx="2666880" cy="1981440"/>
          </a:xfrm>
        </p:grpSpPr>
        <p:sp>
          <p:nvSpPr>
            <p:cNvPr id="1452" name=""/>
            <p:cNvSpPr/>
            <p:nvPr/>
          </p:nvSpPr>
          <p:spPr>
            <a:xfrm>
              <a:off x="5334120" y="16002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334120" y="2819520"/>
              <a:ext cx="26668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3809880" y="1600200"/>
            <a:ext cx="1524240" cy="1523880"/>
            <a:chOff x="3809880" y="1600200"/>
            <a:chExt cx="1524240" cy="1523880"/>
          </a:xfrm>
        </p:grpSpPr>
        <p:sp>
          <p:nvSpPr>
            <p:cNvPr id="1459" name=""/>
            <p:cNvSpPr/>
            <p:nvPr/>
          </p:nvSpPr>
          <p:spPr>
            <a:xfrm>
              <a:off x="3809880" y="1600200"/>
              <a:ext cx="152424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rite B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809880" y="1904760"/>
              <a:ext cx="152424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809880" y="2209680"/>
              <a:ext cx="152424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809880" y="2514600"/>
              <a:ext cx="152424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809880" y="2819160"/>
              <a:ext cx="152424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04280" y="759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ing Sta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380520" y="5238720"/>
            <a:ext cx="82947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ipeline Contro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detects stall con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s mode signals for how pipeline registers should upd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66" name="" descr=""/>
          <p:cNvPicPr/>
          <p:nvPr/>
        </p:nvPicPr>
        <p:blipFill>
          <a:blip r:embed="rId1"/>
          <a:stretch/>
        </p:blipFill>
        <p:spPr>
          <a:xfrm>
            <a:off x="631800" y="835200"/>
            <a:ext cx="6297480" cy="43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Register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5175000" y="1217520"/>
            <a:ext cx="3305520" cy="1117800"/>
            <a:chOff x="5175000" y="1217520"/>
            <a:chExt cx="3305520" cy="1117800"/>
          </a:xfrm>
        </p:grpSpPr>
        <p:sp>
          <p:nvSpPr>
            <p:cNvPr id="1469" name=""/>
            <p:cNvSpPr/>
            <p:nvPr/>
          </p:nvSpPr>
          <p:spPr>
            <a:xfrm>
              <a:off x="5527800" y="1765440"/>
              <a:ext cx="549000" cy="366480"/>
            </a:xfrm>
            <a:custGeom>
              <a:avLst/>
              <a:gdLst/>
              <a:ahLst/>
              <a:rect l="l" t="t" r="r" b="b"/>
              <a:pathLst>
                <a:path w="691" h="460">
                  <a:moveTo>
                    <a:pt x="0" y="460"/>
                  </a:moveTo>
                  <a:lnTo>
                    <a:pt x="384" y="460"/>
                  </a:lnTo>
                  <a:lnTo>
                    <a:pt x="384" y="0"/>
                  </a:lnTo>
                  <a:lnTo>
                    <a:pt x="69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83360" y="1217520"/>
              <a:ext cx="1098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643000" y="1265400"/>
              <a:ext cx="45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ising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682600" y="146052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527800" y="1765440"/>
              <a:ext cx="549000" cy="366480"/>
            </a:xfrm>
            <a:custGeom>
              <a:avLst/>
              <a:gdLst/>
              <a:ahLst/>
              <a:rect l="l" t="t" r="r" b="b"/>
              <a:pathLst>
                <a:path w="691" h="460">
                  <a:moveTo>
                    <a:pt x="0" y="460"/>
                  </a:moveTo>
                  <a:lnTo>
                    <a:pt x="384" y="460"/>
                  </a:lnTo>
                  <a:lnTo>
                    <a:pt x="384" y="0"/>
                  </a:lnTo>
                  <a:lnTo>
                    <a:pt x="69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283360" y="1217520"/>
              <a:ext cx="1098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43000" y="1265400"/>
              <a:ext cx="45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ising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682600" y="146052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175000" y="1432080"/>
              <a:ext cx="135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2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77040" y="1374840"/>
              <a:ext cx="4921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697440" y="1432080"/>
              <a:ext cx="135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2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580160" y="1359000"/>
              <a:ext cx="9003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87800" y="140652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y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482" name=""/>
            <p:cNvGrpSpPr/>
            <p:nvPr/>
          </p:nvGrpSpPr>
          <p:grpSpPr>
            <a:xfrm>
              <a:off x="6945480" y="1297080"/>
              <a:ext cx="912600" cy="1038240"/>
              <a:chOff x="6945480" y="1297080"/>
              <a:chExt cx="912600" cy="1038240"/>
            </a:xfrm>
          </p:grpSpPr>
          <p:sp>
            <p:nvSpPr>
              <p:cNvPr id="1483" name=""/>
              <p:cNvSpPr/>
              <p:nvPr/>
            </p:nvSpPr>
            <p:spPr>
              <a:xfrm>
                <a:off x="7310520" y="1297080"/>
                <a:ext cx="183960" cy="1038240"/>
              </a:xfrm>
              <a:prstGeom prst="rect">
                <a:avLst/>
              </a:prstGeom>
              <a:solidFill>
                <a:srgbClr val="66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396200" y="1708200"/>
                <a:ext cx="102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945480" y="172404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1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1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493040" y="172404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1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1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66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310520" y="1297080"/>
                <a:ext cx="183960" cy="1038240"/>
              </a:xfrm>
              <a:prstGeom prst="rect">
                <a:avLst/>
              </a:prstGeom>
              <a:solidFill>
                <a:srgbClr val="66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396200" y="1708200"/>
                <a:ext cx="102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945480" y="172404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1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1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493040" y="172404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1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1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66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1" name=""/>
          <p:cNvGrpSpPr/>
          <p:nvPr/>
        </p:nvGrpSpPr>
        <p:grpSpPr>
          <a:xfrm>
            <a:off x="4834080" y="3103560"/>
            <a:ext cx="3630600" cy="1136520"/>
            <a:chOff x="4834080" y="3103560"/>
            <a:chExt cx="3630600" cy="1136520"/>
          </a:xfrm>
        </p:grpSpPr>
        <p:sp>
          <p:nvSpPr>
            <p:cNvPr id="1492" name=""/>
            <p:cNvSpPr/>
            <p:nvPr/>
          </p:nvSpPr>
          <p:spPr>
            <a:xfrm>
              <a:off x="5508720" y="3651120"/>
              <a:ext cx="547560" cy="366840"/>
            </a:xfrm>
            <a:custGeom>
              <a:avLst/>
              <a:gdLst/>
              <a:ahLst/>
              <a:rect l="l" t="t" r="r" b="b"/>
              <a:pathLst>
                <a:path w="691" h="460">
                  <a:moveTo>
                    <a:pt x="0" y="460"/>
                  </a:moveTo>
                  <a:lnTo>
                    <a:pt x="384" y="460"/>
                  </a:lnTo>
                  <a:lnTo>
                    <a:pt x="384" y="0"/>
                  </a:lnTo>
                  <a:lnTo>
                    <a:pt x="69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264280" y="3103560"/>
              <a:ext cx="1098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623920" y="3151080"/>
              <a:ext cx="45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ising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663520" y="334656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508720" y="3651120"/>
              <a:ext cx="547560" cy="366840"/>
            </a:xfrm>
            <a:custGeom>
              <a:avLst/>
              <a:gdLst/>
              <a:ahLst/>
              <a:rect l="l" t="t" r="r" b="b"/>
              <a:pathLst>
                <a:path w="691" h="460">
                  <a:moveTo>
                    <a:pt x="0" y="460"/>
                  </a:moveTo>
                  <a:lnTo>
                    <a:pt x="384" y="460"/>
                  </a:lnTo>
                  <a:lnTo>
                    <a:pt x="384" y="0"/>
                  </a:lnTo>
                  <a:lnTo>
                    <a:pt x="69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264280" y="3103560"/>
              <a:ext cx="1098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623920" y="3151080"/>
              <a:ext cx="45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ising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663520" y="334656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834080" y="3260880"/>
              <a:ext cx="4921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156280" y="3317760"/>
              <a:ext cx="135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2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57960" y="3260880"/>
              <a:ext cx="4921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78360" y="3317760"/>
              <a:ext cx="135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2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559640" y="3244680"/>
              <a:ext cx="9050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670160" y="329256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x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06" name=""/>
            <p:cNvGrpSpPr/>
            <p:nvPr/>
          </p:nvGrpSpPr>
          <p:grpSpPr>
            <a:xfrm>
              <a:off x="6924600" y="3201840"/>
              <a:ext cx="914400" cy="1038240"/>
              <a:chOff x="6924600" y="3201840"/>
              <a:chExt cx="914400" cy="1038240"/>
            </a:xfrm>
          </p:grpSpPr>
          <p:sp>
            <p:nvSpPr>
              <p:cNvPr id="1507" name=""/>
              <p:cNvSpPr/>
              <p:nvPr/>
            </p:nvSpPr>
            <p:spPr>
              <a:xfrm>
                <a:off x="7291440" y="3201840"/>
                <a:ext cx="183960" cy="1038240"/>
              </a:xfrm>
              <a:prstGeom prst="rect">
                <a:avLst/>
              </a:prstGeom>
              <a:solidFill>
                <a:srgbClr val="b2b2b2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376400" y="3613320"/>
                <a:ext cx="102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924600" y="362916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460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0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473960" y="362916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0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0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b2b2b2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291440" y="3201840"/>
                <a:ext cx="183960" cy="1038240"/>
              </a:xfrm>
              <a:prstGeom prst="rect">
                <a:avLst/>
              </a:prstGeom>
              <a:solidFill>
                <a:srgbClr val="b2b2b2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376400" y="3613320"/>
                <a:ext cx="102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924600" y="362916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460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0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473960" y="362916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0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0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b2b2b2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5" name=""/>
          <p:cNvSpPr/>
          <p:nvPr/>
        </p:nvSpPr>
        <p:spPr>
          <a:xfrm>
            <a:off x="3513240" y="4992840"/>
            <a:ext cx="183960" cy="1038240"/>
          </a:xfrm>
          <a:prstGeom prst="rect">
            <a:avLst/>
          </a:prstGeom>
          <a:solidFill>
            <a:srgbClr val="b2b2b2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598200" y="5403960"/>
            <a:ext cx="102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3330720" y="6029280"/>
            <a:ext cx="252360" cy="182520"/>
            <a:chOff x="3330720" y="6029280"/>
            <a:chExt cx="252360" cy="182520"/>
          </a:xfrm>
        </p:grpSpPr>
        <p:sp>
          <p:nvSpPr>
            <p:cNvPr id="1518" name=""/>
            <p:cNvSpPr/>
            <p:nvPr/>
          </p:nvSpPr>
          <p:spPr>
            <a:xfrm>
              <a:off x="3330720" y="6075360"/>
              <a:ext cx="226800" cy="136440"/>
            </a:xfrm>
            <a:custGeom>
              <a:avLst/>
              <a:gdLst/>
              <a:ahLst/>
              <a:rect l="l" t="t" r="r" b="b"/>
              <a:pathLst>
                <a:path w="286" h="173">
                  <a:moveTo>
                    <a:pt x="286" y="0"/>
                  </a:moveTo>
                  <a:lnTo>
                    <a:pt x="230" y="173"/>
                  </a:lnTo>
                  <a:lnTo>
                    <a:pt x="0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532320" y="6029280"/>
              <a:ext cx="50760" cy="57240"/>
            </a:xfrm>
            <a:custGeom>
              <a:avLst/>
              <a:gdLst/>
              <a:ahLst/>
              <a:rect l="l" t="t" r="r" b="b"/>
              <a:pathLst>
                <a:path w="62" h="74">
                  <a:moveTo>
                    <a:pt x="62" y="74"/>
                  </a:moveTo>
                  <a:lnTo>
                    <a:pt x="51" y="0"/>
                  </a:lnTo>
                  <a:lnTo>
                    <a:pt x="0" y="53"/>
                  </a:lnTo>
                  <a:lnTo>
                    <a:pt x="6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3627360" y="6029280"/>
            <a:ext cx="250920" cy="182520"/>
            <a:chOff x="3627360" y="6029280"/>
            <a:chExt cx="250920" cy="182520"/>
          </a:xfrm>
        </p:grpSpPr>
        <p:sp>
          <p:nvSpPr>
            <p:cNvPr id="1521" name=""/>
            <p:cNvSpPr/>
            <p:nvPr/>
          </p:nvSpPr>
          <p:spPr>
            <a:xfrm>
              <a:off x="3651120" y="6075360"/>
              <a:ext cx="227160" cy="136440"/>
            </a:xfrm>
            <a:custGeom>
              <a:avLst/>
              <a:gdLst/>
              <a:ahLst/>
              <a:rect l="l" t="t" r="r" b="b"/>
              <a:pathLst>
                <a:path w="286" h="173">
                  <a:moveTo>
                    <a:pt x="0" y="0"/>
                  </a:moveTo>
                  <a:lnTo>
                    <a:pt x="56" y="173"/>
                  </a:lnTo>
                  <a:lnTo>
                    <a:pt x="286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627360" y="6029280"/>
              <a:ext cx="49320" cy="5724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63" y="53"/>
                  </a:moveTo>
                  <a:lnTo>
                    <a:pt x="10" y="0"/>
                  </a:lnTo>
                  <a:lnTo>
                    <a:pt x="0" y="74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23" name=""/>
          <p:cNvSpPr/>
          <p:nvPr/>
        </p:nvSpPr>
        <p:spPr>
          <a:xfrm>
            <a:off x="3146400" y="5419800"/>
            <a:ext cx="366840" cy="182520"/>
          </a:xfrm>
          <a:custGeom>
            <a:avLst/>
            <a:gdLst/>
            <a:ahLst/>
            <a:rect l="l" t="t" r="r" b="b"/>
            <a:pathLst>
              <a:path w="460" h="230">
                <a:moveTo>
                  <a:pt x="307" y="0"/>
                </a:moveTo>
                <a:lnTo>
                  <a:pt x="307" y="96"/>
                </a:lnTo>
                <a:lnTo>
                  <a:pt x="0" y="96"/>
                </a:lnTo>
                <a:lnTo>
                  <a:pt x="0" y="134"/>
                </a:lnTo>
                <a:lnTo>
                  <a:pt x="307" y="134"/>
                </a:lnTo>
                <a:lnTo>
                  <a:pt x="307" y="230"/>
                </a:lnTo>
                <a:lnTo>
                  <a:pt x="460" y="115"/>
                </a:lnTo>
                <a:lnTo>
                  <a:pt x="307" y="0"/>
                </a:lnTo>
                <a:close/>
              </a:path>
            </a:pathLst>
          </a:custGeom>
          <a:solidFill>
            <a:srgbClr val="66cc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695760" y="5419800"/>
            <a:ext cx="365040" cy="182520"/>
          </a:xfrm>
          <a:custGeom>
            <a:avLst/>
            <a:gdLst/>
            <a:ahLst/>
            <a:rect l="l" t="t" r="r" b="b"/>
            <a:pathLst>
              <a:path w="460" h="230">
                <a:moveTo>
                  <a:pt x="307" y="0"/>
                </a:moveTo>
                <a:lnTo>
                  <a:pt x="307" y="96"/>
                </a:lnTo>
                <a:lnTo>
                  <a:pt x="0" y="96"/>
                </a:lnTo>
                <a:lnTo>
                  <a:pt x="0" y="134"/>
                </a:lnTo>
                <a:lnTo>
                  <a:pt x="307" y="134"/>
                </a:lnTo>
                <a:lnTo>
                  <a:pt x="307" y="230"/>
                </a:lnTo>
                <a:lnTo>
                  <a:pt x="460" y="115"/>
                </a:lnTo>
                <a:lnTo>
                  <a:pt x="307" y="0"/>
                </a:lnTo>
                <a:close/>
              </a:path>
            </a:pathLst>
          </a:custGeom>
          <a:solidFill>
            <a:srgbClr val="b2b2b2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13240" y="4992840"/>
            <a:ext cx="183960" cy="1038240"/>
          </a:xfrm>
          <a:prstGeom prst="rect">
            <a:avLst/>
          </a:prstGeom>
          <a:solidFill>
            <a:srgbClr val="b2b2b2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98200" y="5403960"/>
            <a:ext cx="102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3330720" y="6029280"/>
            <a:ext cx="252360" cy="182520"/>
            <a:chOff x="3330720" y="6029280"/>
            <a:chExt cx="252360" cy="182520"/>
          </a:xfrm>
        </p:grpSpPr>
        <p:sp>
          <p:nvSpPr>
            <p:cNvPr id="1528" name=""/>
            <p:cNvSpPr/>
            <p:nvPr/>
          </p:nvSpPr>
          <p:spPr>
            <a:xfrm>
              <a:off x="3330720" y="6075360"/>
              <a:ext cx="226800" cy="136440"/>
            </a:xfrm>
            <a:custGeom>
              <a:avLst/>
              <a:gdLst/>
              <a:ahLst/>
              <a:rect l="l" t="t" r="r" b="b"/>
              <a:pathLst>
                <a:path w="286" h="173">
                  <a:moveTo>
                    <a:pt x="286" y="0"/>
                  </a:moveTo>
                  <a:lnTo>
                    <a:pt x="230" y="173"/>
                  </a:lnTo>
                  <a:lnTo>
                    <a:pt x="0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532320" y="6029280"/>
              <a:ext cx="50760" cy="57240"/>
            </a:xfrm>
            <a:custGeom>
              <a:avLst/>
              <a:gdLst/>
              <a:ahLst/>
              <a:rect l="l" t="t" r="r" b="b"/>
              <a:pathLst>
                <a:path w="62" h="74">
                  <a:moveTo>
                    <a:pt x="62" y="74"/>
                  </a:moveTo>
                  <a:lnTo>
                    <a:pt x="51" y="0"/>
                  </a:lnTo>
                  <a:lnTo>
                    <a:pt x="0" y="53"/>
                  </a:lnTo>
                  <a:lnTo>
                    <a:pt x="6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627360" y="6029280"/>
            <a:ext cx="250920" cy="182520"/>
            <a:chOff x="3627360" y="6029280"/>
            <a:chExt cx="250920" cy="182520"/>
          </a:xfrm>
        </p:grpSpPr>
        <p:sp>
          <p:nvSpPr>
            <p:cNvPr id="1531" name=""/>
            <p:cNvSpPr/>
            <p:nvPr/>
          </p:nvSpPr>
          <p:spPr>
            <a:xfrm>
              <a:off x="3651120" y="6075360"/>
              <a:ext cx="227160" cy="136440"/>
            </a:xfrm>
            <a:custGeom>
              <a:avLst/>
              <a:gdLst/>
              <a:ahLst/>
              <a:rect l="l" t="t" r="r" b="b"/>
              <a:pathLst>
                <a:path w="286" h="173">
                  <a:moveTo>
                    <a:pt x="0" y="0"/>
                  </a:moveTo>
                  <a:lnTo>
                    <a:pt x="56" y="173"/>
                  </a:lnTo>
                  <a:lnTo>
                    <a:pt x="286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627360" y="6029280"/>
              <a:ext cx="49320" cy="5724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63" y="53"/>
                  </a:moveTo>
                  <a:lnTo>
                    <a:pt x="10" y="0"/>
                  </a:lnTo>
                  <a:lnTo>
                    <a:pt x="0" y="74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3146400" y="5419800"/>
            <a:ext cx="366840" cy="182520"/>
          </a:xfrm>
          <a:custGeom>
            <a:avLst/>
            <a:gdLst/>
            <a:ahLst/>
            <a:rect l="l" t="t" r="r" b="b"/>
            <a:pathLst>
              <a:path w="460" h="230">
                <a:moveTo>
                  <a:pt x="307" y="0"/>
                </a:moveTo>
                <a:lnTo>
                  <a:pt x="307" y="96"/>
                </a:lnTo>
                <a:lnTo>
                  <a:pt x="0" y="96"/>
                </a:lnTo>
                <a:lnTo>
                  <a:pt x="0" y="134"/>
                </a:lnTo>
                <a:lnTo>
                  <a:pt x="307" y="134"/>
                </a:lnTo>
                <a:lnTo>
                  <a:pt x="307" y="230"/>
                </a:lnTo>
                <a:lnTo>
                  <a:pt x="460" y="115"/>
                </a:lnTo>
                <a:lnTo>
                  <a:pt x="307" y="0"/>
                </a:lnTo>
                <a:close/>
              </a:path>
            </a:pathLst>
          </a:custGeom>
          <a:solidFill>
            <a:srgbClr val="66cc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695760" y="5419800"/>
            <a:ext cx="365040" cy="182520"/>
          </a:xfrm>
          <a:custGeom>
            <a:avLst/>
            <a:gdLst/>
            <a:ahLst/>
            <a:rect l="l" t="t" r="r" b="b"/>
            <a:pathLst>
              <a:path w="460" h="230">
                <a:moveTo>
                  <a:pt x="307" y="0"/>
                </a:moveTo>
                <a:lnTo>
                  <a:pt x="307" y="96"/>
                </a:lnTo>
                <a:lnTo>
                  <a:pt x="0" y="96"/>
                </a:lnTo>
                <a:lnTo>
                  <a:pt x="0" y="134"/>
                </a:lnTo>
                <a:lnTo>
                  <a:pt x="307" y="134"/>
                </a:lnTo>
                <a:lnTo>
                  <a:pt x="307" y="230"/>
                </a:lnTo>
                <a:lnTo>
                  <a:pt x="460" y="115"/>
                </a:lnTo>
                <a:lnTo>
                  <a:pt x="307" y="0"/>
                </a:lnTo>
                <a:close/>
              </a:path>
            </a:pathLst>
          </a:custGeom>
          <a:solidFill>
            <a:srgbClr val="b2b2b2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4834080" y="4863960"/>
            <a:ext cx="3843360" cy="1155960"/>
            <a:chOff x="4834080" y="4863960"/>
            <a:chExt cx="3843360" cy="1155960"/>
          </a:xfrm>
        </p:grpSpPr>
        <p:grpSp>
          <p:nvGrpSpPr>
            <p:cNvPr id="1536" name=""/>
            <p:cNvGrpSpPr/>
            <p:nvPr/>
          </p:nvGrpSpPr>
          <p:grpSpPr>
            <a:xfrm>
              <a:off x="4834080" y="4863960"/>
              <a:ext cx="3843360" cy="1155960"/>
              <a:chOff x="4834080" y="4863960"/>
              <a:chExt cx="3843360" cy="1155960"/>
            </a:xfrm>
          </p:grpSpPr>
          <p:sp>
            <p:nvSpPr>
              <p:cNvPr id="1537" name=""/>
              <p:cNvSpPr/>
              <p:nvPr/>
            </p:nvSpPr>
            <p:spPr>
              <a:xfrm>
                <a:off x="4834080" y="5021280"/>
                <a:ext cx="493560" cy="51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291440" y="4981680"/>
                <a:ext cx="183960" cy="10382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362360" y="51847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362360" y="540540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362360" y="56246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508720" y="5411880"/>
                <a:ext cx="549360" cy="366480"/>
              </a:xfrm>
              <a:custGeom>
                <a:avLst/>
                <a:gdLst/>
                <a:ahLst/>
                <a:rect l="l" t="t" r="r" b="b"/>
                <a:pathLst>
                  <a:path w="691" h="460">
                    <a:moveTo>
                      <a:pt x="0" y="460"/>
                    </a:moveTo>
                    <a:lnTo>
                      <a:pt x="384" y="460"/>
                    </a:lnTo>
                    <a:lnTo>
                      <a:pt x="384" y="0"/>
                    </a:lnTo>
                    <a:lnTo>
                      <a:pt x="691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264280" y="4863960"/>
                <a:ext cx="109836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623200" y="4911840"/>
                <a:ext cx="4579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ising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662800" y="5106960"/>
                <a:ext cx="3754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lock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508720" y="5411880"/>
                <a:ext cx="549360" cy="366480"/>
              </a:xfrm>
              <a:custGeom>
                <a:avLst/>
                <a:gdLst/>
                <a:ahLst/>
                <a:rect l="l" t="t" r="r" b="b"/>
                <a:pathLst>
                  <a:path w="691" h="460">
                    <a:moveTo>
                      <a:pt x="0" y="460"/>
                    </a:moveTo>
                    <a:lnTo>
                      <a:pt x="384" y="460"/>
                    </a:lnTo>
                    <a:lnTo>
                      <a:pt x="384" y="0"/>
                    </a:lnTo>
                    <a:lnTo>
                      <a:pt x="691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264280" y="4863960"/>
                <a:ext cx="109836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623200" y="4911840"/>
                <a:ext cx="4579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ising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662800" y="5106960"/>
                <a:ext cx="3754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lock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155200" y="5078520"/>
                <a:ext cx="13500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99"/>
                    </a:solidFill>
                    <a:latin typeface="Wingdings 3"/>
                    <a:ea typeface="Wingdings 3"/>
                  </a:rPr>
                  <a:t></a:t>
                </a:r>
                <a:endParaRPr b="0" lang="en-US" sz="2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357960" y="5021280"/>
                <a:ext cx="492120" cy="51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679440" y="5078520"/>
                <a:ext cx="13500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99"/>
                    </a:solidFill>
                    <a:latin typeface="Wingdings 3"/>
                    <a:ea typeface="Wingdings 3"/>
                  </a:rPr>
                  <a:t></a:t>
                </a:r>
                <a:endParaRPr b="0" lang="en-US" sz="2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561440" y="5014800"/>
                <a:ext cx="111600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669440" y="5052960"/>
                <a:ext cx="6818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utput = 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358480" y="5068800"/>
                <a:ext cx="2980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ourier New"/>
                  </a:rPr>
                  <a:t>nop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56" name=""/>
            <p:cNvSpPr/>
            <p:nvPr/>
          </p:nvSpPr>
          <p:spPr>
            <a:xfrm>
              <a:off x="6926400" y="5419800"/>
              <a:ext cx="365040" cy="182520"/>
            </a:xfrm>
            <a:custGeom>
              <a:avLst/>
              <a:gdLst/>
              <a:ahLst/>
              <a:rect l="l" t="t" r="r" b="b"/>
              <a:pathLst>
                <a:path w="461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1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473960" y="5419800"/>
              <a:ext cx="366840" cy="182520"/>
            </a:xfrm>
            <a:custGeom>
              <a:avLst/>
              <a:gdLst/>
              <a:ahLst/>
              <a:rect l="l" t="t" r="r" b="b"/>
              <a:pathLst>
                <a:path w="461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1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609480" y="1297080"/>
            <a:ext cx="4737240" cy="1360440"/>
            <a:chOff x="609480" y="1297080"/>
            <a:chExt cx="4737240" cy="1360440"/>
          </a:xfrm>
        </p:grpSpPr>
        <p:sp>
          <p:nvSpPr>
            <p:cNvPr id="1559" name=""/>
            <p:cNvSpPr/>
            <p:nvPr/>
          </p:nvSpPr>
          <p:spPr>
            <a:xfrm>
              <a:off x="4853160" y="1374840"/>
              <a:ext cx="4935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740040" y="1359000"/>
              <a:ext cx="9050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49120" y="140652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x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743200" y="1359000"/>
              <a:ext cx="7747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851200" y="1406520"/>
              <a:ext cx="636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put = y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06640" y="2192400"/>
              <a:ext cx="5954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017160" y="2239920"/>
              <a:ext cx="339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tall 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017520" y="243540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699000" y="2192400"/>
              <a:ext cx="6714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809520" y="2239920"/>
              <a:ext cx="4946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ubbl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101480" y="243540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32320" y="1297080"/>
              <a:ext cx="183960" cy="103824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616920" y="1708200"/>
              <a:ext cx="102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72" name=""/>
            <p:cNvGrpSpPr/>
            <p:nvPr/>
          </p:nvGrpSpPr>
          <p:grpSpPr>
            <a:xfrm>
              <a:off x="3349800" y="2333520"/>
              <a:ext cx="252360" cy="182520"/>
              <a:chOff x="3349800" y="2333520"/>
              <a:chExt cx="252360" cy="182520"/>
            </a:xfrm>
          </p:grpSpPr>
          <p:sp>
            <p:nvSpPr>
              <p:cNvPr id="1573" name=""/>
              <p:cNvSpPr/>
              <p:nvPr/>
            </p:nvSpPr>
            <p:spPr>
              <a:xfrm>
                <a:off x="3349800" y="2378160"/>
                <a:ext cx="226800" cy="13788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0"/>
                    </a:moveTo>
                    <a:lnTo>
                      <a:pt x="230" y="173"/>
                    </a:lnTo>
                    <a:lnTo>
                      <a:pt x="0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551400" y="233352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62" h="74">
                    <a:moveTo>
                      <a:pt x="62" y="74"/>
                    </a:moveTo>
                    <a:lnTo>
                      <a:pt x="51" y="0"/>
                    </a:lnTo>
                    <a:lnTo>
                      <a:pt x="0" y="53"/>
                    </a:lnTo>
                    <a:lnTo>
                      <a:pt x="6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3646440" y="2333520"/>
              <a:ext cx="250920" cy="182520"/>
              <a:chOff x="3646440" y="2333520"/>
              <a:chExt cx="250920" cy="182520"/>
            </a:xfrm>
          </p:grpSpPr>
          <p:sp>
            <p:nvSpPr>
              <p:cNvPr id="1576" name=""/>
              <p:cNvSpPr/>
              <p:nvPr/>
            </p:nvSpPr>
            <p:spPr>
              <a:xfrm>
                <a:off x="3670200" y="2378160"/>
                <a:ext cx="227160" cy="13788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0" y="0"/>
                    </a:moveTo>
                    <a:lnTo>
                      <a:pt x="56" y="173"/>
                    </a:lnTo>
                    <a:lnTo>
                      <a:pt x="286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646440" y="233352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63" y="53"/>
                    </a:moveTo>
                    <a:lnTo>
                      <a:pt x="10" y="0"/>
                    </a:lnTo>
                    <a:lnTo>
                      <a:pt x="0" y="74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78" name=""/>
            <p:cNvSpPr/>
            <p:nvPr/>
          </p:nvSpPr>
          <p:spPr>
            <a:xfrm>
              <a:off x="3165480" y="1724040"/>
              <a:ext cx="3668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714840" y="1724040"/>
              <a:ext cx="3650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b2b2b2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532320" y="1297080"/>
              <a:ext cx="183960" cy="103824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616920" y="1708200"/>
              <a:ext cx="102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82" name=""/>
            <p:cNvGrpSpPr/>
            <p:nvPr/>
          </p:nvGrpSpPr>
          <p:grpSpPr>
            <a:xfrm>
              <a:off x="3349800" y="2333520"/>
              <a:ext cx="252360" cy="182520"/>
              <a:chOff x="3349800" y="2333520"/>
              <a:chExt cx="252360" cy="182520"/>
            </a:xfrm>
          </p:grpSpPr>
          <p:sp>
            <p:nvSpPr>
              <p:cNvPr id="1583" name=""/>
              <p:cNvSpPr/>
              <p:nvPr/>
            </p:nvSpPr>
            <p:spPr>
              <a:xfrm>
                <a:off x="3349800" y="2378160"/>
                <a:ext cx="226800" cy="13788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0"/>
                    </a:moveTo>
                    <a:lnTo>
                      <a:pt x="230" y="173"/>
                    </a:lnTo>
                    <a:lnTo>
                      <a:pt x="0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51400" y="233352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62" h="74">
                    <a:moveTo>
                      <a:pt x="62" y="74"/>
                    </a:moveTo>
                    <a:lnTo>
                      <a:pt x="51" y="0"/>
                    </a:lnTo>
                    <a:lnTo>
                      <a:pt x="0" y="53"/>
                    </a:lnTo>
                    <a:lnTo>
                      <a:pt x="6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3646440" y="2333520"/>
              <a:ext cx="250920" cy="182520"/>
              <a:chOff x="3646440" y="2333520"/>
              <a:chExt cx="250920" cy="182520"/>
            </a:xfrm>
          </p:grpSpPr>
          <p:sp>
            <p:nvSpPr>
              <p:cNvPr id="1586" name=""/>
              <p:cNvSpPr/>
              <p:nvPr/>
            </p:nvSpPr>
            <p:spPr>
              <a:xfrm>
                <a:off x="3670200" y="2378160"/>
                <a:ext cx="227160" cy="13788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0" y="0"/>
                    </a:moveTo>
                    <a:lnTo>
                      <a:pt x="56" y="173"/>
                    </a:lnTo>
                    <a:lnTo>
                      <a:pt x="286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646440" y="233352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63" y="53"/>
                    </a:moveTo>
                    <a:lnTo>
                      <a:pt x="10" y="0"/>
                    </a:lnTo>
                    <a:lnTo>
                      <a:pt x="0" y="74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88" name=""/>
            <p:cNvSpPr/>
            <p:nvPr/>
          </p:nvSpPr>
          <p:spPr>
            <a:xfrm>
              <a:off x="3165480" y="1724040"/>
              <a:ext cx="3668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714840" y="1724040"/>
              <a:ext cx="3650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b2b2b2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09480" y="1660680"/>
              <a:ext cx="158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rm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609480" y="3201840"/>
            <a:ext cx="4016520" cy="1341720"/>
            <a:chOff x="609480" y="3201840"/>
            <a:chExt cx="4016520" cy="1341720"/>
          </a:xfrm>
        </p:grpSpPr>
        <p:sp>
          <p:nvSpPr>
            <p:cNvPr id="1592" name=""/>
            <p:cNvSpPr/>
            <p:nvPr/>
          </p:nvSpPr>
          <p:spPr>
            <a:xfrm>
              <a:off x="3720960" y="3244680"/>
              <a:ext cx="9050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830040" y="329256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x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724120" y="3244680"/>
              <a:ext cx="7747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832120" y="3292560"/>
              <a:ext cx="636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put = y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887560" y="4078440"/>
              <a:ext cx="5954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979360" y="412596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3300"/>
                  </a:solidFill>
                  <a:latin typeface="Arial"/>
                </a:rPr>
                <a:t>stall 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997720" y="432108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3300"/>
                  </a:solidFill>
                  <a:latin typeface="Arial"/>
                </a:rPr>
                <a:t>= 1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679920" y="4078440"/>
              <a:ext cx="6714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790440" y="4125960"/>
              <a:ext cx="4946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ubbl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082400" y="432108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513240" y="3201840"/>
              <a:ext cx="183960" cy="103824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598200" y="3613320"/>
              <a:ext cx="102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604" name=""/>
            <p:cNvGrpSpPr/>
            <p:nvPr/>
          </p:nvGrpSpPr>
          <p:grpSpPr>
            <a:xfrm>
              <a:off x="3328920" y="4238640"/>
              <a:ext cx="254160" cy="182520"/>
              <a:chOff x="3328920" y="4238640"/>
              <a:chExt cx="254160" cy="182520"/>
            </a:xfrm>
          </p:grpSpPr>
          <p:sp>
            <p:nvSpPr>
              <p:cNvPr id="1605" name=""/>
              <p:cNvSpPr/>
              <p:nvPr/>
            </p:nvSpPr>
            <p:spPr>
              <a:xfrm>
                <a:off x="3328920" y="4282920"/>
                <a:ext cx="228600" cy="1382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0"/>
                    </a:moveTo>
                    <a:lnTo>
                      <a:pt x="230" y="173"/>
                    </a:lnTo>
                    <a:lnTo>
                      <a:pt x="0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532320" y="423864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62" h="74">
                    <a:moveTo>
                      <a:pt x="62" y="74"/>
                    </a:moveTo>
                    <a:lnTo>
                      <a:pt x="51" y="0"/>
                    </a:lnTo>
                    <a:lnTo>
                      <a:pt x="0" y="53"/>
                    </a:lnTo>
                    <a:lnTo>
                      <a:pt x="6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3627360" y="4238640"/>
              <a:ext cx="250920" cy="182520"/>
              <a:chOff x="3627360" y="4238640"/>
              <a:chExt cx="250920" cy="182520"/>
            </a:xfrm>
          </p:grpSpPr>
          <p:sp>
            <p:nvSpPr>
              <p:cNvPr id="1608" name=""/>
              <p:cNvSpPr/>
              <p:nvPr/>
            </p:nvSpPr>
            <p:spPr>
              <a:xfrm>
                <a:off x="3651120" y="4282920"/>
                <a:ext cx="227160" cy="1382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0" y="0"/>
                    </a:moveTo>
                    <a:lnTo>
                      <a:pt x="56" y="173"/>
                    </a:lnTo>
                    <a:lnTo>
                      <a:pt x="286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627360" y="423864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63" y="53"/>
                    </a:moveTo>
                    <a:lnTo>
                      <a:pt x="10" y="0"/>
                    </a:lnTo>
                    <a:lnTo>
                      <a:pt x="0" y="74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10" name=""/>
            <p:cNvSpPr/>
            <p:nvPr/>
          </p:nvSpPr>
          <p:spPr>
            <a:xfrm>
              <a:off x="3146400" y="3629160"/>
              <a:ext cx="3668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695760" y="3629160"/>
              <a:ext cx="3650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b2b2b2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513240" y="3201840"/>
              <a:ext cx="183960" cy="103824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598200" y="3613320"/>
              <a:ext cx="102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614" name=""/>
            <p:cNvGrpSpPr/>
            <p:nvPr/>
          </p:nvGrpSpPr>
          <p:grpSpPr>
            <a:xfrm>
              <a:off x="3328920" y="4238640"/>
              <a:ext cx="254160" cy="182520"/>
              <a:chOff x="3328920" y="4238640"/>
              <a:chExt cx="254160" cy="182520"/>
            </a:xfrm>
          </p:grpSpPr>
          <p:sp>
            <p:nvSpPr>
              <p:cNvPr id="1615" name=""/>
              <p:cNvSpPr/>
              <p:nvPr/>
            </p:nvSpPr>
            <p:spPr>
              <a:xfrm>
                <a:off x="3328920" y="4282920"/>
                <a:ext cx="228600" cy="1382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0"/>
                    </a:moveTo>
                    <a:lnTo>
                      <a:pt x="230" y="173"/>
                    </a:lnTo>
                    <a:lnTo>
                      <a:pt x="0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532320" y="423864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62" h="74">
                    <a:moveTo>
                      <a:pt x="62" y="74"/>
                    </a:moveTo>
                    <a:lnTo>
                      <a:pt x="51" y="0"/>
                    </a:lnTo>
                    <a:lnTo>
                      <a:pt x="0" y="53"/>
                    </a:lnTo>
                    <a:lnTo>
                      <a:pt x="6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3627360" y="4238640"/>
              <a:ext cx="250920" cy="182520"/>
              <a:chOff x="3627360" y="4238640"/>
              <a:chExt cx="250920" cy="182520"/>
            </a:xfrm>
          </p:grpSpPr>
          <p:sp>
            <p:nvSpPr>
              <p:cNvPr id="1618" name=""/>
              <p:cNvSpPr/>
              <p:nvPr/>
            </p:nvSpPr>
            <p:spPr>
              <a:xfrm>
                <a:off x="3651120" y="4282920"/>
                <a:ext cx="227160" cy="1382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0" y="0"/>
                    </a:moveTo>
                    <a:lnTo>
                      <a:pt x="56" y="173"/>
                    </a:lnTo>
                    <a:lnTo>
                      <a:pt x="286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627360" y="423864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63" y="53"/>
                    </a:moveTo>
                    <a:lnTo>
                      <a:pt x="10" y="0"/>
                    </a:lnTo>
                    <a:lnTo>
                      <a:pt x="0" y="74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20" name=""/>
            <p:cNvSpPr/>
            <p:nvPr/>
          </p:nvSpPr>
          <p:spPr>
            <a:xfrm>
              <a:off x="3146400" y="3629160"/>
              <a:ext cx="3668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695760" y="3629160"/>
              <a:ext cx="3650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b2b2b2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09480" y="3546360"/>
              <a:ext cx="158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l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609480" y="5016600"/>
            <a:ext cx="4016520" cy="1298520"/>
            <a:chOff x="609480" y="5016600"/>
            <a:chExt cx="4016520" cy="1298520"/>
          </a:xfrm>
        </p:grpSpPr>
        <p:sp>
          <p:nvSpPr>
            <p:cNvPr id="1624" name=""/>
            <p:cNvSpPr/>
            <p:nvPr/>
          </p:nvSpPr>
          <p:spPr>
            <a:xfrm>
              <a:off x="3720960" y="5016600"/>
              <a:ext cx="9050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830040" y="506412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x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724120" y="5016600"/>
              <a:ext cx="7747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32120" y="5064120"/>
              <a:ext cx="636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put = y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87560" y="5850000"/>
              <a:ext cx="5954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98440" y="5897520"/>
              <a:ext cx="339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tall 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998440" y="609300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679920" y="5850000"/>
              <a:ext cx="6714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67400" y="5897520"/>
              <a:ext cx="5403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3300"/>
                  </a:solidFill>
                  <a:latin typeface="Arial"/>
                </a:rPr>
                <a:t>bubbl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081680" y="609300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3300"/>
                  </a:solidFill>
                  <a:latin typeface="Arial"/>
                </a:rPr>
                <a:t>= 1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09480" y="5334120"/>
              <a:ext cx="158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ubbl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Forwar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ïve Pipe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isn’t written until completion of write-back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urce operands read from register file in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s to be in register file at start of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generated in execute or memory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i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 value directly from generating instruction to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s to be available at end of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Forward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290160" y="3047760"/>
            <a:ext cx="344340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r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write-back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tination value in W pipeline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ward as valB for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2514600" y="914400"/>
            <a:ext cx="5973840" cy="4449600"/>
            <a:chOff x="2514600" y="914400"/>
            <a:chExt cx="5973840" cy="4449600"/>
          </a:xfrm>
        </p:grpSpPr>
        <p:sp>
          <p:nvSpPr>
            <p:cNvPr id="1640" name=""/>
            <p:cNvSpPr/>
            <p:nvPr/>
          </p:nvSpPr>
          <p:spPr>
            <a:xfrm>
              <a:off x="2514600" y="1219320"/>
              <a:ext cx="20718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59680" y="126828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256560" y="126828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844440" y="1268280"/>
              <a:ext cx="4197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260960" y="126828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83084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00652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95880" y="914400"/>
              <a:ext cx="3668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37300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56272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73840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92776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10488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292800" y="914400"/>
              <a:ext cx="3668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46992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65964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83532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02468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20180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389720" y="914400"/>
              <a:ext cx="3668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720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75656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93224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830840" y="1219320"/>
              <a:ext cx="36648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000040" y="125424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19588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357520" y="125424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562720" y="1219320"/>
              <a:ext cx="36648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25440" y="125424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92776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077520" y="125424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29280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433920" y="125424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30840" y="1219320"/>
              <a:ext cx="36648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000040" y="125424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19588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357520" y="125424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562720" y="1219320"/>
              <a:ext cx="36648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725440" y="125424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92776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077520" y="125424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29280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433920" y="125424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514600" y="1461960"/>
              <a:ext cx="207180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659680" y="151272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256560" y="151272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924360" y="1512720"/>
              <a:ext cx="33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260960" y="151272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19588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365080" y="149868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562720" y="1461960"/>
              <a:ext cx="36648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22560" y="149868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92776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092280" y="149868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29280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442920" y="149868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659640" y="1461960"/>
              <a:ext cx="366480" cy="2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798960" y="149868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19588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365080" y="149868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562720" y="1461960"/>
              <a:ext cx="36648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722560" y="149868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92776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092280" y="149868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29280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442920" y="149868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659640" y="1461960"/>
              <a:ext cx="366480" cy="2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798960" y="149868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514600" y="1706400"/>
              <a:ext cx="2071800" cy="2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59680" y="175752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240000" y="175752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562720" y="1706400"/>
              <a:ext cx="36648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731920" y="174132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92776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087600" y="174132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29280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457320" y="174132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659640" y="1706400"/>
              <a:ext cx="366480" cy="244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809400" y="174132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02468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65440" y="174132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562720" y="1706400"/>
              <a:ext cx="36648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731920" y="174132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2776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087600" y="174132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29280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457320" y="174132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659640" y="1706400"/>
              <a:ext cx="366480" cy="244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809400" y="174132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02468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165440" y="174132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514600" y="1951200"/>
              <a:ext cx="20718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659680" y="200016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240000" y="200016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92776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6960" y="198612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29280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454440" y="198612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659640" y="1951200"/>
              <a:ext cx="366480" cy="244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822720" y="198612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02468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174800" y="198612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38972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30840" y="198612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92776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096960" y="198612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29280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454440" y="198612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659640" y="1951200"/>
              <a:ext cx="366480" cy="244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822720" y="198612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02468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174800" y="198612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38972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530840" y="198612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514600" y="2193840"/>
              <a:ext cx="207180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659680" y="224460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e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245040" y="2244600"/>
              <a:ext cx="33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657240" y="2244600"/>
              <a:ext cx="846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749760" y="224460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002480" y="2244600"/>
              <a:ext cx="1684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175280" y="224460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29280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462000" y="222876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659640" y="2193840"/>
              <a:ext cx="366480" cy="244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819480" y="222876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02468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189200" y="222876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38972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539840" y="222876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75656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895880" y="222876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29280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462000" y="222876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659640" y="2193840"/>
              <a:ext cx="366480" cy="244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19480" y="222876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02468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189200" y="222876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38972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539840" y="222876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75656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895880" y="222876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514600" y="2438280"/>
              <a:ext cx="207180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674800" y="2487600"/>
              <a:ext cx="9226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10: halt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783" name=""/>
            <p:cNvGrpSpPr/>
            <p:nvPr/>
          </p:nvGrpSpPr>
          <p:grpSpPr>
            <a:xfrm>
              <a:off x="2514600" y="914400"/>
              <a:ext cx="5973840" cy="4449600"/>
              <a:chOff x="2514600" y="914400"/>
              <a:chExt cx="5973840" cy="4449600"/>
            </a:xfrm>
          </p:grpSpPr>
          <p:sp>
            <p:nvSpPr>
              <p:cNvPr id="1784" name=""/>
              <p:cNvSpPr/>
              <p:nvPr/>
            </p:nvSpPr>
            <p:spPr>
              <a:xfrm>
                <a:off x="6659640" y="2438280"/>
                <a:ext cx="366480" cy="244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827760" y="2473200"/>
                <a:ext cx="10116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02468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184880" y="2473200"/>
                <a:ext cx="119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38972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554600" y="2473200"/>
                <a:ext cx="110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75656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905960" y="2473200"/>
                <a:ext cx="137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812160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8261640" y="2473200"/>
                <a:ext cx="156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659640" y="2438280"/>
                <a:ext cx="366480" cy="244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827760" y="2473200"/>
                <a:ext cx="10116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02468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184880" y="2473200"/>
                <a:ext cx="119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38972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554600" y="2473200"/>
                <a:ext cx="110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75656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905960" y="2473200"/>
                <a:ext cx="137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812160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8261640" y="2473200"/>
                <a:ext cx="156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H="1">
                <a:off x="5622840" y="2681280"/>
                <a:ext cx="1036800" cy="609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024680" y="2681280"/>
                <a:ext cx="1036800" cy="609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8121600" y="914400"/>
                <a:ext cx="365040" cy="24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8265600" y="969840"/>
                <a:ext cx="140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514600" y="974880"/>
                <a:ext cx="2071800" cy="24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660400" y="1019160"/>
                <a:ext cx="10065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# demo-h2.ys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049800" y="2986200"/>
                <a:ext cx="152424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576840" y="3033720"/>
                <a:ext cx="54936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ycle 6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622840" y="3290760"/>
                <a:ext cx="2438640" cy="793800"/>
              </a:xfrm>
              <a:prstGeom prst="rect">
                <a:avLst/>
              </a:prstGeom>
              <a:solidFill>
                <a:srgbClr val="66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798240" y="3343320"/>
                <a:ext cx="156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085160" y="3595680"/>
                <a:ext cx="976320" cy="244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203600" y="3633840"/>
                <a:ext cx="140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356240" y="364968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446960" y="364968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681680" y="3633840"/>
                <a:ext cx="7992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827120" y="3629160"/>
                <a:ext cx="525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927560" y="3633840"/>
                <a:ext cx="784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622840" y="4570560"/>
                <a:ext cx="2438640" cy="793440"/>
              </a:xfrm>
              <a:prstGeom prst="rect">
                <a:avLst/>
              </a:prstGeom>
              <a:solidFill>
                <a:srgbClr val="66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819840" y="4622760"/>
                <a:ext cx="119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597720" y="4875120"/>
                <a:ext cx="1463760" cy="42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6722640" y="4916520"/>
                <a:ext cx="272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092000" y="4911840"/>
                <a:ext cx="525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197480" y="4916520"/>
                <a:ext cx="140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350120" y="493236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440480" y="493236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675200" y="4916520"/>
                <a:ext cx="7992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758000" y="491652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881480" y="4916520"/>
                <a:ext cx="15624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722640" y="5113440"/>
                <a:ext cx="272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92000" y="5108400"/>
                <a:ext cx="525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201800" y="5113440"/>
                <a:ext cx="2109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_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419600" y="5113440"/>
                <a:ext cx="272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726320" y="511344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846560" y="5113440"/>
                <a:ext cx="784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719760" y="4083120"/>
                <a:ext cx="20664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828840" y="4084560"/>
                <a:ext cx="586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828840" y="4221000"/>
                <a:ext cx="586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828840" y="4359240"/>
                <a:ext cx="586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622840" y="3595680"/>
                <a:ext cx="1463760" cy="42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5745960" y="3638520"/>
                <a:ext cx="2109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_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963400" y="3638520"/>
                <a:ext cx="281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279840" y="363852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411960" y="364824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04120" y="364824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745960" y="3817800"/>
                <a:ext cx="2109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_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964840" y="3817800"/>
                <a:ext cx="311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alE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273720" y="3817800"/>
                <a:ext cx="20052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3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5622840" y="4875120"/>
                <a:ext cx="976320" cy="42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747760" y="4917960"/>
                <a:ext cx="281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rcA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064200" y="491796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195960" y="493380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288120" y="493380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5747760" y="5087880"/>
                <a:ext cx="281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rcB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064200" y="508788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195960" y="509760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288120" y="509760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860" name=""/>
              <p:cNvGrpSpPr/>
              <p:nvPr/>
            </p:nvGrpSpPr>
            <p:grpSpPr>
              <a:xfrm>
                <a:off x="7085160" y="3949560"/>
                <a:ext cx="852480" cy="925560"/>
                <a:chOff x="7085160" y="3949560"/>
                <a:chExt cx="852480" cy="925560"/>
              </a:xfrm>
            </p:grpSpPr>
            <p:sp>
              <p:nvSpPr>
                <p:cNvPr id="1861" name=""/>
                <p:cNvSpPr/>
                <p:nvPr/>
              </p:nvSpPr>
              <p:spPr>
                <a:xfrm>
                  <a:off x="7085160" y="3949560"/>
                  <a:ext cx="804600" cy="811440"/>
                </a:xfrm>
                <a:custGeom>
                  <a:avLst/>
                  <a:gdLst/>
                  <a:ahLst/>
                  <a:rect l="l" t="t" r="r" b="b"/>
                  <a:pathLst>
                    <a:path w="1012" h="1022">
                      <a:moveTo>
                        <a:pt x="0" y="0"/>
                      </a:moveTo>
                      <a:lnTo>
                        <a:pt x="0" y="29"/>
                      </a:lnTo>
                      <a:lnTo>
                        <a:pt x="998" y="29"/>
                      </a:lnTo>
                      <a:lnTo>
                        <a:pt x="998" y="15"/>
                      </a:lnTo>
                      <a:lnTo>
                        <a:pt x="984" y="15"/>
                      </a:lnTo>
                      <a:lnTo>
                        <a:pt x="985" y="19"/>
                      </a:lnTo>
                      <a:lnTo>
                        <a:pt x="988" y="24"/>
                      </a:lnTo>
                      <a:lnTo>
                        <a:pt x="993" y="27"/>
                      </a:lnTo>
                      <a:lnTo>
                        <a:pt x="984" y="15"/>
                      </a:lnTo>
                      <a:lnTo>
                        <a:pt x="984" y="1022"/>
                      </a:lnTo>
                      <a:lnTo>
                        <a:pt x="1012" y="1022"/>
                      </a:lnTo>
                      <a:lnTo>
                        <a:pt x="1012" y="15"/>
                      </a:lnTo>
                      <a:lnTo>
                        <a:pt x="1012" y="15"/>
                      </a:lnTo>
                      <a:lnTo>
                        <a:pt x="1011" y="10"/>
                      </a:lnTo>
                      <a:lnTo>
                        <a:pt x="1008" y="5"/>
                      </a:lnTo>
                      <a:lnTo>
                        <a:pt x="1003" y="2"/>
                      </a:lnTo>
                      <a:lnTo>
                        <a:pt x="99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7819920" y="4759200"/>
                  <a:ext cx="117720" cy="115920"/>
                </a:xfrm>
                <a:custGeom>
                  <a:avLst/>
                  <a:gdLst/>
                  <a:ahLst/>
                  <a:rect l="l" t="t" r="r" b="b"/>
                  <a:pathLst>
                    <a:path w="149" h="147">
                      <a:moveTo>
                        <a:pt x="0" y="0"/>
                      </a:moveTo>
                      <a:lnTo>
                        <a:pt x="74" y="147"/>
                      </a:lnTo>
                      <a:lnTo>
                        <a:pt x="14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pass Pat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290160" y="1066320"/>
            <a:ext cx="3900600" cy="53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ode St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warding logic selects valA and val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rmally from 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warding: get valA or valB from later pipelin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warding Sourc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e: va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: valE, val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back: valE, val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65" name="" descr=""/>
          <p:cNvPicPr/>
          <p:nvPr/>
        </p:nvPicPr>
        <p:blipFill>
          <a:blip r:embed="rId1"/>
          <a:srcRect l="33811" t="0" r="0" b="28351"/>
          <a:stretch/>
        </p:blipFill>
        <p:spPr>
          <a:xfrm>
            <a:off x="4876920" y="228600"/>
            <a:ext cx="388440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Forwarding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304920" y="2819160"/>
            <a:ext cx="344304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%edx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nerated by ALU during previous cyc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ward from memory as val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%eax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 just generated by ALU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ward from execute as val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68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6572520" cy="53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5333760" y="76320"/>
            <a:ext cx="3622680" cy="112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ing Forwar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5028840" y="1295280"/>
            <a:ext cx="4102200" cy="51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additional feedback paths from E, M, and W pipeline registers into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logic blocks to select from multiple sources for valA and valB in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1"/>
          <a:srcRect l="0" t="0" r="0" b="23382"/>
          <a:stretch/>
        </p:blipFill>
        <p:spPr>
          <a:xfrm>
            <a:off x="76320" y="380880"/>
            <a:ext cx="529272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04280" y="759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ing Forwar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873" name="" descr=""/>
          <p:cNvPicPr/>
          <p:nvPr/>
        </p:nvPicPr>
        <p:blipFill>
          <a:blip r:embed="rId1"/>
          <a:srcRect l="38875" t="0" r="0" b="27245"/>
          <a:stretch/>
        </p:blipFill>
        <p:spPr>
          <a:xfrm>
            <a:off x="380880" y="838080"/>
            <a:ext cx="3235320" cy="5562720"/>
          </a:xfrm>
          <a:prstGeom prst="rect">
            <a:avLst/>
          </a:prstGeom>
          <a:ln w="0">
            <a:noFill/>
          </a:ln>
        </p:spPr>
      </p:pic>
      <p:sp>
        <p:nvSpPr>
          <p:cNvPr id="1874" name=""/>
          <p:cNvSpPr/>
          <p:nvPr/>
        </p:nvSpPr>
        <p:spPr>
          <a:xfrm>
            <a:off x="3886200" y="1066680"/>
            <a:ext cx="52452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# What should be the A value?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ew_E_valA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Use incremented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icode in { ICALL, IJXX } : D_valP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E from execut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E_dstE : e_valE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M from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M_dstM : m_valM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E from memor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M_dstE : M_valE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M from write back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W_dstM : W_valM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E from write 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W_dstE : W_val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Use value read from 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d_rvalA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Make the pipelined processor work!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Hazar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having register R as source follows shortly after instruction having register R as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on condition, don’t want to slow down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Hazar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predict conditional bran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r design predicts all branches as being tak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aïve pipeline executes two extra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ting return address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aïve pipeline executes three extra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king Sure It Really Wor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f multiple special cases happen simultaneously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26600" y="759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 of Forwar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290160" y="3200400"/>
            <a:ext cx="4357800" cy="32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ad-use depend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needed by end of decode stage in cycle 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read from memory in memory stage of cycle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7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50120" cy="556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Load/Use Hazar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290160" y="3200400"/>
            <a:ext cx="4357800" cy="32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 using instruction for one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then pick up loaded value by forwarding from memory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8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4076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26600" y="152280"/>
            <a:ext cx="8704440" cy="77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Load/Use Hazar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882" name="" descr=""/>
          <p:cNvPicPr/>
          <p:nvPr/>
        </p:nvPicPr>
        <p:blipFill>
          <a:blip r:embed="rId1"/>
          <a:srcRect l="0" t="30137" r="0" b="23167"/>
          <a:stretch/>
        </p:blipFill>
        <p:spPr>
          <a:xfrm>
            <a:off x="1752480" y="1219320"/>
            <a:ext cx="5295960" cy="357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3" name=""/>
          <p:cNvGraphicFramePr/>
          <p:nvPr/>
        </p:nvGraphicFramePr>
        <p:xfrm>
          <a:off x="914400" y="5105520"/>
          <a:ext cx="6630840" cy="1082520"/>
        </p:xfrm>
        <a:graphic>
          <a:graphicData uri="http://schemas.openxmlformats.org/drawingml/2006/table">
            <a:tbl>
              <a:tblPr/>
              <a:tblGrid>
                <a:gridCol w="2363760"/>
                <a:gridCol w="4267080"/>
              </a:tblGrid>
              <a:tr h="4680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145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_icode in { IMRMOVL, IPOPL } &amp;&amp; E_dstM in { d_srcA, d_srcB }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or Load/Use Hazar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290160" y="3352320"/>
            <a:ext cx="4357800" cy="30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 instructions in fetch and decode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ject bubble into execut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914400" y="762120"/>
            <a:ext cx="7326360" cy="2399760"/>
            <a:chOff x="914400" y="762120"/>
            <a:chExt cx="7326360" cy="2399760"/>
          </a:xfrm>
        </p:grpSpPr>
        <p:sp>
          <p:nvSpPr>
            <p:cNvPr id="1887" name=""/>
            <p:cNvSpPr/>
            <p:nvPr/>
          </p:nvSpPr>
          <p:spPr>
            <a:xfrm>
              <a:off x="914400" y="1085760"/>
              <a:ext cx="2203560" cy="25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044720" y="112536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773360" y="112536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500560" y="1125360"/>
              <a:ext cx="64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28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125160" y="1125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57192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76344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96072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15260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34988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54140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73868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92876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12748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31792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51664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70672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90544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09552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29460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48468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68340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87348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57192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752280" y="11235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96072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130640" y="11235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349880" y="108576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524120" y="11235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73868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900320" y="11235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51664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667120" y="138240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57192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752280" y="11235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96072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130640" y="11235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349880" y="108576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524120" y="11235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73868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900320" y="11235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1664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667120" y="138240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914400" y="1346040"/>
              <a:ext cx="22035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044720" y="13856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773360" y="13856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606040" y="13856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021840" y="13856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c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96072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141440" y="138240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349880" y="134604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519440" y="138240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73868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913280" y="138240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12748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289120" y="138240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12748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278320" y="11235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96072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141440" y="138240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349880" y="134604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519440" y="138240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73868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913280" y="138240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12748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289120" y="138240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12748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278320" y="11235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914400" y="1604880"/>
              <a:ext cx="2203560" cy="25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044720" y="16444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773360" y="16444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m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99840" y="16444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606040" y="16444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c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916720" y="164448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 0(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437640" y="16444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747600" y="16444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349880" y="160488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530240" y="164268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73868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908600" y="164268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12748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02080" y="164268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1664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676480" y="164268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90544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056280" y="164268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349880" y="160488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530240" y="164268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73868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908600" y="164268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12748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302080" y="164268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51664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676480" y="164268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90544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056280" y="164268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914400" y="1863360"/>
              <a:ext cx="220356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044720" y="19033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2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773360" y="19033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500920" y="19033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021840" y="19033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b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73868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919400" y="190152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12748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297400" y="190152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51664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691240" y="190152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90544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065640" y="190152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294600" y="1863360"/>
              <a:ext cx="390240" cy="26028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445080" y="190152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73868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919400" y="190152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12748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297400" y="190152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51664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691240" y="190152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90544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065640" y="190152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294600" y="1863360"/>
              <a:ext cx="390240" cy="26028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445080" y="190152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914400" y="2124000"/>
              <a:ext cx="2203560" cy="25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044720" y="21636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8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773360" y="21636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m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501280" y="21636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(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813760" y="21636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125160" y="216360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),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331800" y="21589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437640" y="2158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852720" y="2158920"/>
              <a:ext cx="854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Load 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685760" y="2158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12748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308200" y="21603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516640" y="2124000"/>
              <a:ext cx="39060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686560" y="21603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90544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080040" y="21603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294600" y="212400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454440" y="21603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683400" y="2124000"/>
              <a:ext cx="39060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33880" y="21603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12748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308200" y="21603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516640" y="2124000"/>
              <a:ext cx="39060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686560" y="21603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90544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080040" y="21603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294600" y="212400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454440" y="21603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683400" y="2124000"/>
              <a:ext cx="39060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833880" y="21603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914400" y="762120"/>
              <a:ext cx="22035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045080" y="796680"/>
              <a:ext cx="64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668240" y="7966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774080" y="7966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uh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084040" y="7966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189880" y="79668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914400" y="2641320"/>
              <a:ext cx="2203560" cy="25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045080" y="2680920"/>
              <a:ext cx="64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e: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774080" y="268092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292120" y="26809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397960" y="2680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b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707920" y="26809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812680" y="267624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917080" y="2676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332520" y="26762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Use 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061520" y="2676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914400" y="2901600"/>
              <a:ext cx="22035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044000" y="294156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20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12748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308200" y="21603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51664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686560" y="21603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90544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080040" y="21603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294600" y="2124000"/>
              <a:ext cx="39024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454440" y="21603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68340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833880" y="21603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94600" y="2382480"/>
              <a:ext cx="390240" cy="260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468840" y="242064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683400" y="2382480"/>
              <a:ext cx="390600" cy="260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843240" y="242064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072200" y="2382480"/>
              <a:ext cx="390600" cy="260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223040" y="242064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07220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230600" y="822240"/>
              <a:ext cx="1407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905440" y="264132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75360" y="267948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294600" y="2641320"/>
              <a:ext cx="39024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464160" y="267948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683400" y="264132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858000" y="267948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072200" y="264132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232400" y="267948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461360" y="264132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611840" y="267948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6136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619760" y="822240"/>
              <a:ext cx="1407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914400" y="2382480"/>
              <a:ext cx="200988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773720" y="2415960"/>
              <a:ext cx="64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294600" y="2901600"/>
              <a:ext cx="390240" cy="26028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474960" y="293832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683400" y="290160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853320" y="293832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072200" y="290160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246800" y="293832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461360" y="2901600"/>
              <a:ext cx="39024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621200" y="293832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850160" y="290160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001000" y="293832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516640" y="264132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697000" y="267948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905440" y="290160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086160" y="293832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6153120" y="2473200"/>
              <a:ext cx="141480" cy="167400"/>
              <a:chOff x="6153120" y="2473200"/>
              <a:chExt cx="141480" cy="167400"/>
            </a:xfrm>
          </p:grpSpPr>
          <p:sp>
            <p:nvSpPr>
              <p:cNvPr id="2103" name=""/>
              <p:cNvSpPr/>
              <p:nvPr/>
            </p:nvSpPr>
            <p:spPr>
              <a:xfrm>
                <a:off x="6164280" y="2512440"/>
                <a:ext cx="54000" cy="128160"/>
              </a:xfrm>
              <a:custGeom>
                <a:avLst/>
                <a:gdLst/>
                <a:ahLst/>
                <a:rect l="l" t="t" r="r" b="b"/>
                <a:pathLst>
                  <a:path w="69" h="164">
                    <a:moveTo>
                      <a:pt x="0" y="164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53120" y="2499840"/>
                <a:ext cx="65160" cy="140760"/>
              </a:xfrm>
              <a:custGeom>
                <a:avLst/>
                <a:gdLst/>
                <a:ahLst/>
                <a:rect l="l" t="t" r="r" b="b"/>
                <a:pathLst>
                  <a:path w="84" h="179">
                    <a:moveTo>
                      <a:pt x="0" y="179"/>
                    </a:moveTo>
                    <a:lnTo>
                      <a:pt x="31" y="179"/>
                    </a:lnTo>
                    <a:lnTo>
                      <a:pt x="31" y="15"/>
                    </a:lnTo>
                    <a:lnTo>
                      <a:pt x="15" y="15"/>
                    </a:lnTo>
                    <a:lnTo>
                      <a:pt x="15" y="30"/>
                    </a:lnTo>
                    <a:lnTo>
                      <a:pt x="21" y="29"/>
                    </a:lnTo>
                    <a:lnTo>
                      <a:pt x="26" y="25"/>
                    </a:lnTo>
                    <a:lnTo>
                      <a:pt x="29" y="20"/>
                    </a:lnTo>
                    <a:lnTo>
                      <a:pt x="15" y="30"/>
                    </a:lnTo>
                    <a:lnTo>
                      <a:pt x="84" y="30"/>
                    </a:lnTo>
                    <a:lnTo>
                      <a:pt x="8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216480" y="2473200"/>
                <a:ext cx="78120" cy="7884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100"/>
                    </a:moveTo>
                    <a:lnTo>
                      <a:pt x="99" y="49"/>
                    </a:lnTo>
                    <a:lnTo>
                      <a:pt x="0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106" name=""/>
            <p:cNvSpPr/>
            <p:nvPr/>
          </p:nvSpPr>
          <p:spPr>
            <a:xfrm>
              <a:off x="778500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943400" y="822240"/>
              <a:ext cx="1407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2108" name=""/>
          <p:cNvGraphicFramePr/>
          <p:nvPr/>
        </p:nvGraphicFramePr>
        <p:xfrm>
          <a:off x="457200" y="5029200"/>
          <a:ext cx="7689960" cy="94284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290160" y="4952880"/>
            <a:ext cx="829476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uld only execute first 8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380880" y="1828800"/>
            <a:ext cx="861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xorl %eax,%ea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2:    jne  t             # No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7:    irmovl $1, %eax    # Fall throug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d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e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f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0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1: t: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irmovl $3,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Target (Should not execut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7: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irmovl $4, 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Should not 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d:    irmovl $5, %edx    # Should not 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784440" y="1219320"/>
            <a:ext cx="1326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mo-j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ndling Mis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04920" y="3657600"/>
            <a:ext cx="800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308520" indent="-308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edict branch as tak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195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2 instructions at targ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cel when mispredic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195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ct branch not-taken in execute st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195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 following cycle, replace instructions in execute and decode by bubbl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195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side effects have occurred y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15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79148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Mispredicted Branc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2117" name=""/>
          <p:cNvGraphicFramePr/>
          <p:nvPr/>
        </p:nvGraphicFramePr>
        <p:xfrm>
          <a:off x="1219320" y="4191120"/>
          <a:ext cx="6630840" cy="941400"/>
        </p:xfrm>
        <a:graphic>
          <a:graphicData uri="http://schemas.openxmlformats.org/drawingml/2006/table">
            <a:tbl>
              <a:tblPr/>
              <a:tblGrid>
                <a:gridCol w="2363760"/>
                <a:gridCol w="426708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_icode = IJXX &amp; !e_B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8" name="" descr=""/>
          <p:cNvPicPr/>
          <p:nvPr/>
        </p:nvPicPr>
        <p:blipFill>
          <a:blip r:embed="rId1"/>
          <a:srcRect l="1441" t="26156" r="12076" b="51144"/>
          <a:stretch/>
        </p:blipFill>
        <p:spPr>
          <a:xfrm>
            <a:off x="2133720" y="1676520"/>
            <a:ext cx="458136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or Mis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304920" y="3657600"/>
            <a:ext cx="800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7791480" cy="283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2" name=""/>
          <p:cNvGraphicFramePr/>
          <p:nvPr/>
        </p:nvGraphicFramePr>
        <p:xfrm>
          <a:off x="762120" y="4800600"/>
          <a:ext cx="7689600" cy="941400"/>
        </p:xfrm>
        <a:graphic>
          <a:graphicData uri="http://schemas.openxmlformats.org/drawingml/2006/table">
            <a:tbl>
              <a:tblPr/>
              <a:tblGrid>
                <a:gridCol w="2363400"/>
                <a:gridCol w="1065240"/>
                <a:gridCol w="1065240"/>
                <a:gridCol w="1065240"/>
                <a:gridCol w="1065240"/>
                <a:gridCol w="106524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"/>
          <p:cNvSpPr/>
          <p:nvPr/>
        </p:nvSpPr>
        <p:spPr>
          <a:xfrm>
            <a:off x="228600" y="1371600"/>
            <a:ext cx="8610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irmovl Stack,%esp  # Initialize 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6:    call p             # Procedure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b:    irmovl $5,%esi     # Return po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1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0: .pos 0x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0: p: irmovl $-1,%edi    # proced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6:    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027:    irmovl $1,%eax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02d:    irmovl $2,%ecx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033:    irmovl $3,%edx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9:    irmovl $4,%ebx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: .pos 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: Stack:                # Stack: 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304920" y="5334120"/>
            <a:ext cx="8294400" cy="48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viously executed three additional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5262120" y="304920"/>
            <a:ext cx="1738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mo-retb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"/>
          <p:cNvSpPr/>
          <p:nvPr/>
        </p:nvSpPr>
        <p:spPr>
          <a:xfrm>
            <a:off x="990720" y="9907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133280" y="1052640"/>
            <a:ext cx="13874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26:    r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0384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4250160" y="10350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44956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4696200" y="10350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49528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5157720" y="10350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54100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5598000" y="10350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63244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501240" y="133992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990720" y="12952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98160" y="134784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4956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707360" y="13399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9528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153400" y="13399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54100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5614920" y="13399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58672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6055200" y="133992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58672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6044040" y="10350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990720" y="16002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198160" y="165276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49528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5164560" y="16444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54100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5610600" y="16444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8672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6072120" y="164448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3244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512400" y="16444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67816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958440" y="164448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990720" y="19051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2198160" y="195732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4100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621760" y="194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58672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067800" y="19494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3244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6529320" y="19494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7816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969600" y="19494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2388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7415640" y="19494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990720" y="22096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133640" y="2271600"/>
            <a:ext cx="1067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0b: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197440" y="2271600"/>
            <a:ext cx="747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rmovl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2943000" y="2271600"/>
            <a:ext cx="427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5,%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367800" y="2271600"/>
            <a:ext cx="32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792960" y="2271600"/>
            <a:ext cx="960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Retur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58672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078960" y="22543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324480" y="2209680"/>
            <a:ext cx="459000" cy="306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525000" y="22543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67816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986520" y="22543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2388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426800" y="225432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76960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872840" y="225432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990720" y="6858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134360" y="73980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dem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1773360" y="739800"/>
            <a:ext cx="10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78840" y="739800"/>
            <a:ext cx="427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8672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078960" y="22543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3244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525000" y="22543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7816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986520" y="22543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72388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7426800" y="225432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6960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7872840" y="225432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181480" y="4952880"/>
            <a:ext cx="1906560" cy="763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117120" y="50180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5181480" y="5257800"/>
            <a:ext cx="190656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16480" y="5300640"/>
            <a:ext cx="357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5798520" y="5294160"/>
            <a:ext cx="66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5929200" y="53006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317560" y="5521320"/>
            <a:ext cx="178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5622120" y="5514840"/>
            <a:ext cx="66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767560" y="5540400"/>
            <a:ext cx="10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873040" y="5540400"/>
            <a:ext cx="32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181480" y="4952880"/>
            <a:ext cx="1906560" cy="763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117120" y="50180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181480" y="5257800"/>
            <a:ext cx="190656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316480" y="5300640"/>
            <a:ext cx="357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5798520" y="5294160"/>
            <a:ext cx="66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929200" y="53006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5317560" y="5521320"/>
            <a:ext cx="178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622120" y="5514840"/>
            <a:ext cx="66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767560" y="5540400"/>
            <a:ext cx="10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5873040" y="5540400"/>
            <a:ext cx="32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H="1">
            <a:off x="5181120" y="25146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324480" y="251460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27" name=""/>
          <p:cNvGrpSpPr/>
          <p:nvPr/>
        </p:nvGrpSpPr>
        <p:grpSpPr>
          <a:xfrm>
            <a:off x="5181480" y="3200400"/>
            <a:ext cx="1906560" cy="1598760"/>
            <a:chOff x="5181480" y="3200400"/>
            <a:chExt cx="1906560" cy="1598760"/>
          </a:xfrm>
        </p:grpSpPr>
        <p:sp>
          <p:nvSpPr>
            <p:cNvPr id="2228" name=""/>
            <p:cNvSpPr/>
            <p:nvPr/>
          </p:nvSpPr>
          <p:spPr>
            <a:xfrm>
              <a:off x="5181480" y="3200400"/>
              <a:ext cx="1906560" cy="839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082200" y="32655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181480" y="3505320"/>
              <a:ext cx="1906560" cy="5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316120" y="3670200"/>
              <a:ext cx="37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739840" y="367020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906880" y="368928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181480" y="3200400"/>
              <a:ext cx="1906560" cy="839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082200" y="32655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181480" y="3505320"/>
              <a:ext cx="1906560" cy="5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316120" y="3670200"/>
              <a:ext cx="37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739840" y="367020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906880" y="368928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943600" y="4191120"/>
              <a:ext cx="2570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080400" y="419256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080400" y="436392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080400" y="453564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rrect 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380880" y="3200400"/>
            <a:ext cx="4648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lvl="1" marL="735480" indent="-2419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asses through pipeline, stall at fetch st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ile in decode, execute, and memory st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419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ject bubble into decode st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419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ease stall when reach write-back st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419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Sta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112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curren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incremented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program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e AL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or write data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419580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Retur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2247" name=""/>
          <p:cNvGraphicFramePr/>
          <p:nvPr/>
        </p:nvGraphicFramePr>
        <p:xfrm>
          <a:off x="1371600" y="5181480"/>
          <a:ext cx="6630840" cy="941400"/>
        </p:xfrm>
        <a:graphic>
          <a:graphicData uri="http://schemas.openxmlformats.org/drawingml/2006/table">
            <a:tbl>
              <a:tblPr/>
              <a:tblGrid>
                <a:gridCol w="2363760"/>
                <a:gridCol w="426708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RET in { D_icode, E_icode, M_icode }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8" name="" descr=""/>
          <p:cNvPicPr/>
          <p:nvPr/>
        </p:nvPicPr>
        <p:blipFill>
          <a:blip r:embed="rId1"/>
          <a:srcRect l="0" t="6224" r="0" b="0"/>
          <a:stretch/>
        </p:blipFill>
        <p:spPr>
          <a:xfrm>
            <a:off x="2209680" y="1066680"/>
            <a:ext cx="47530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/>
          <p:nvPr/>
        </p:nvSpPr>
        <p:spPr>
          <a:xfrm>
            <a:off x="990720" y="11430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132920" y="1204920"/>
            <a:ext cx="13874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26:    r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40384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249800" y="11872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44956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4695480" y="11872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49528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5157000" y="118728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54100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597640" y="11872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3244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500520" y="14922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990720" y="14479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197440" y="150012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44956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707000" y="14922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9528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152680" y="14922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54100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5614200" y="14922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58672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6054840" y="14922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8672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043320" y="118728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990720" y="17524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2197440" y="180504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49528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164200" y="17971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4100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609880" y="17971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8672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071400" y="17971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3244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6512040" y="179712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7816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957720" y="179712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990720" y="20574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2197440" y="210996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4100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621400" y="21016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8672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67080" y="21016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63244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6528600" y="210168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7816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969240" y="21016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72388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7414920" y="210168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990720" y="23623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1133280" y="2424240"/>
            <a:ext cx="1067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0b: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2197440" y="2424240"/>
            <a:ext cx="747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rmovl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2942280" y="2424240"/>
            <a:ext cx="427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5,%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3367800" y="2424240"/>
            <a:ext cx="32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3792240" y="2424240"/>
            <a:ext cx="960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Retur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8672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078600" y="24066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324480" y="2362320"/>
            <a:ext cx="459000" cy="306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524280" y="24066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7816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985800" y="24066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2388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426440" y="24066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76960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872120" y="24066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990720" y="8380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1134000" y="89208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dem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1773000" y="892080"/>
            <a:ext cx="10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1878840" y="892080"/>
            <a:ext cx="427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8672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6078600" y="24066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63244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6524280" y="24066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67816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985800" y="24066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2388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426440" y="24066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76960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7872120" y="24066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or Retur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380880" y="3200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29" name=""/>
          <p:cNvGraphicFramePr/>
          <p:nvPr/>
        </p:nvGraphicFramePr>
        <p:xfrm>
          <a:off x="685800" y="3048120"/>
          <a:ext cx="7689960" cy="9144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al Control Ca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290160" y="914400"/>
            <a:ext cx="8294760" cy="551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tion (on next cycl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332" name=""/>
          <p:cNvGraphicFramePr/>
          <p:nvPr/>
        </p:nvGraphicFramePr>
        <p:xfrm>
          <a:off x="1143000" y="1523880"/>
          <a:ext cx="6630840" cy="2022480"/>
        </p:xfrm>
        <a:graphic>
          <a:graphicData uri="http://schemas.openxmlformats.org/drawingml/2006/table">
            <a:tbl>
              <a:tblPr/>
              <a:tblGrid>
                <a:gridCol w="2363760"/>
                <a:gridCol w="4267080"/>
              </a:tblGrid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0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RET in { D_icode, E_icode, M_icode }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_icode in { IMRMOVL, IPOPL } &amp;&amp; E_dstM in { d_srcA, d_srcB }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_icode = IJXX &amp; !e_B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3" name=""/>
          <p:cNvGraphicFramePr/>
          <p:nvPr/>
        </p:nvGraphicFramePr>
        <p:xfrm>
          <a:off x="914400" y="4343400"/>
          <a:ext cx="7689960" cy="18558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ing Pipeline Contro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290160" y="5714640"/>
            <a:ext cx="82947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6080" indent="-222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generates pipeline control 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22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 occurs at start of following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36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5160" cy="46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itial Version of Pipeline Contro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380880" y="990720"/>
            <a:ext cx="8534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F_stall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Conditions for a load/use haz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icode in { IMRMOVL, IPOPL } &amp;&amp; E_dstM in { d_srcA, d_srcB } ||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Stalling at fetch while ret passes through pipe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ET in { D_icode, E_icode, M_icode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D_stall =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Conditions for a load/use haz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icode in { IMRMOVL, IPOPL } &amp;&amp; E_dstM in { d_srcA, d_srcB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D_bubble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Mispredicted bran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E_icode == IJXX &amp;&amp; !e_Bch) ||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Stalling at fetch while ret passes through pipe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ET in { D_icode, E_icode, M_icode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E_bubble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Mispredicted bran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E_icode == IJXX &amp;&amp; !e_Bch) ||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Load/use haz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icode in { IMRMOVL, IPOPL } &amp;&amp; E_dstM in { d_srcA, d_srcB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Combin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290160" y="3428640"/>
            <a:ext cx="8396280" cy="30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ecial cases that can arise on same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bination 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-taken bran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 at branch targ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bination 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that reads from memory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llowed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41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80200" cy="20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Combination 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6840" y="4876560"/>
            <a:ext cx="8396280" cy="30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uld handle as mispredicted bran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s F pipeline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PC selection logic will be using M_valM anyh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1905120" y="2666880"/>
            <a:ext cx="3278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45" name=""/>
          <p:cNvGrpSpPr/>
          <p:nvPr/>
        </p:nvGrpSpPr>
        <p:grpSpPr>
          <a:xfrm>
            <a:off x="533520" y="990720"/>
            <a:ext cx="3049560" cy="1633320"/>
            <a:chOff x="533520" y="990720"/>
            <a:chExt cx="3049560" cy="1633320"/>
          </a:xfrm>
        </p:grpSpPr>
        <p:sp>
          <p:nvSpPr>
            <p:cNvPr id="2346" name=""/>
            <p:cNvSpPr/>
            <p:nvPr/>
          </p:nvSpPr>
          <p:spPr>
            <a:xfrm>
              <a:off x="990720" y="1676520"/>
              <a:ext cx="91584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324080" y="172404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J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33520" y="167652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07480" y="1736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990720" y="198108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33520" y="1981080"/>
              <a:ext cx="458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96680" y="20415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990720" y="137160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33520" y="137160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73280" y="1432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85800" y="990720"/>
              <a:ext cx="1220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75520" y="1050840"/>
              <a:ext cx="927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spredic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990720" y="1676520"/>
              <a:ext cx="91584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324080" y="172404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J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33520" y="167652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07480" y="1736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990720" y="198108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33520" y="1981080"/>
              <a:ext cx="458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96680" y="20415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990720" y="137160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33520" y="137160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73280" y="1432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85800" y="990720"/>
              <a:ext cx="1220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75520" y="1050840"/>
              <a:ext cx="927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spredic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70" name=""/>
            <p:cNvGrpSpPr/>
            <p:nvPr/>
          </p:nvGrpSpPr>
          <p:grpSpPr>
            <a:xfrm>
              <a:off x="2210040" y="990720"/>
              <a:ext cx="1373040" cy="1328760"/>
              <a:chOff x="2210040" y="990720"/>
              <a:chExt cx="1373040" cy="1328760"/>
            </a:xfrm>
          </p:grpSpPr>
          <p:sp>
            <p:nvSpPr>
              <p:cNvPr id="2371" name=""/>
              <p:cNvSpPr/>
              <p:nvPr/>
            </p:nvSpPr>
            <p:spPr>
              <a:xfrm>
                <a:off x="2667240" y="1676520"/>
                <a:ext cx="915840" cy="30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2210040" y="1676520"/>
                <a:ext cx="4586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2484000" y="1736640"/>
                <a:ext cx="13644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2667240" y="1981080"/>
                <a:ext cx="915840" cy="3063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3000600" y="2028960"/>
                <a:ext cx="3664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re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2210040" y="1981080"/>
                <a:ext cx="45864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2473200" y="204156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2667240" y="1371600"/>
                <a:ext cx="915840" cy="30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2210040" y="1371600"/>
                <a:ext cx="4586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2449800" y="143208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2362320" y="990720"/>
                <a:ext cx="122076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2764080" y="1057320"/>
                <a:ext cx="3664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re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3171600" y="1038240"/>
                <a:ext cx="1134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384" name=""/>
            <p:cNvSpPr/>
            <p:nvPr/>
          </p:nvSpPr>
          <p:spPr>
            <a:xfrm>
              <a:off x="2667240" y="167652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210040" y="167652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484000" y="1736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667240" y="1981080"/>
              <a:ext cx="91584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000600" y="202896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210040" y="1981080"/>
              <a:ext cx="458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473200" y="20415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667240" y="137160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210040" y="137160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449800" y="1432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362320" y="990720"/>
              <a:ext cx="1220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764080" y="105732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171600" y="1038240"/>
              <a:ext cx="1134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667240" y="167652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210040" y="167652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484000" y="1736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667240" y="1981080"/>
              <a:ext cx="91584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000600" y="202896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210040" y="1981080"/>
              <a:ext cx="458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473200" y="20415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67240" y="137160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210040" y="137160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449800" y="1432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362320" y="990720"/>
              <a:ext cx="1220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764080" y="105732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171600" y="1038240"/>
              <a:ext cx="1134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410" name=""/>
            <p:cNvGrpSpPr/>
            <p:nvPr/>
          </p:nvGrpSpPr>
          <p:grpSpPr>
            <a:xfrm>
              <a:off x="1398600" y="2286000"/>
              <a:ext cx="1776600" cy="304920"/>
              <a:chOff x="1398600" y="2286000"/>
              <a:chExt cx="1776600" cy="304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1447920" y="2381400"/>
                <a:ext cx="1676520" cy="209520"/>
              </a:xfrm>
              <a:custGeom>
                <a:avLst/>
                <a:gdLst/>
                <a:ahLst/>
                <a:rect l="l" t="t" r="r" b="b"/>
                <a:pathLst>
                  <a:path w="1056" h="132">
                    <a:moveTo>
                      <a:pt x="0" y="0"/>
                    </a:moveTo>
                    <a:lnTo>
                      <a:pt x="0" y="132"/>
                    </a:lnTo>
                    <a:lnTo>
                      <a:pt x="1056" y="132"/>
                    </a:lnTo>
                    <a:lnTo>
                      <a:pt x="105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398600" y="228600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3" y="63"/>
                    </a:moveTo>
                    <a:lnTo>
                      <a:pt x="31" y="0"/>
                    </a:lnTo>
                    <a:lnTo>
                      <a:pt x="0" y="63"/>
                    </a:lnTo>
                    <a:lnTo>
                      <a:pt x="6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3075120" y="228600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3" y="63"/>
                    </a:moveTo>
                    <a:lnTo>
                      <a:pt x="31" y="0"/>
                    </a:lnTo>
                    <a:lnTo>
                      <a:pt x="0" y="63"/>
                    </a:lnTo>
                    <a:lnTo>
                      <a:pt x="6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14" name=""/>
            <p:cNvSpPr/>
            <p:nvPr/>
          </p:nvSpPr>
          <p:spPr>
            <a:xfrm>
              <a:off x="1295640" y="2286000"/>
              <a:ext cx="19825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664280" y="2346480"/>
              <a:ext cx="13327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bination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2416" name=""/>
          <p:cNvGraphicFramePr/>
          <p:nvPr/>
        </p:nvGraphicFramePr>
        <p:xfrm>
          <a:off x="685800" y="2819520"/>
          <a:ext cx="7689960" cy="18540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bin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7" name="" descr=""/>
          <p:cNvPicPr/>
          <p:nvPr/>
        </p:nvPicPr>
        <p:blipFill>
          <a:blip r:embed="rId1"/>
          <a:srcRect l="0" t="75612" r="0" b="0"/>
          <a:stretch/>
        </p:blipFill>
        <p:spPr>
          <a:xfrm>
            <a:off x="4343400" y="990720"/>
            <a:ext cx="4373640" cy="15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Combination 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304560" y="5105520"/>
            <a:ext cx="839628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attempt to bubbl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 pipeline register 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aled by processor as pipeline err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1447920" y="167652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1724040" y="1720800"/>
            <a:ext cx="45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9907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2650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4479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768320" y="2025720"/>
            <a:ext cx="36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9907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2542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4479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9907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12308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1430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379880" y="1050840"/>
            <a:ext cx="835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/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446508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98168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45428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443088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474516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15268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44654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98240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44546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4312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474588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15340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44654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98240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4546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4312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74588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515340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905120" y="2666880"/>
            <a:ext cx="3278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2921400" y="2362320"/>
            <a:ext cx="1332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83" name=""/>
          <p:cNvGrpSpPr/>
          <p:nvPr/>
        </p:nvGrpSpPr>
        <p:grpSpPr>
          <a:xfrm>
            <a:off x="1855800" y="2286000"/>
            <a:ext cx="3452760" cy="304560"/>
            <a:chOff x="1855800" y="2286000"/>
            <a:chExt cx="3452760" cy="304560"/>
          </a:xfrm>
        </p:grpSpPr>
        <p:sp>
          <p:nvSpPr>
            <p:cNvPr id="2484" name=""/>
            <p:cNvSpPr/>
            <p:nvPr/>
          </p:nvSpPr>
          <p:spPr>
            <a:xfrm>
              <a:off x="1905120" y="2328120"/>
              <a:ext cx="3352680" cy="262440"/>
            </a:xfrm>
            <a:custGeom>
              <a:avLst/>
              <a:gdLst/>
              <a:ahLst/>
              <a:rect l="l" t="t" r="r" b="b"/>
              <a:pathLst>
                <a:path w="2112" h="372">
                  <a:moveTo>
                    <a:pt x="0" y="0"/>
                  </a:moveTo>
                  <a:lnTo>
                    <a:pt x="0" y="372"/>
                  </a:lnTo>
                  <a:lnTo>
                    <a:pt x="2112" y="372"/>
                  </a:lnTo>
                  <a:lnTo>
                    <a:pt x="21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855800" y="2286000"/>
              <a:ext cx="100080" cy="442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208480" y="2286000"/>
              <a:ext cx="100080" cy="442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87" name=""/>
          <p:cNvSpPr/>
          <p:nvPr/>
        </p:nvSpPr>
        <p:spPr>
          <a:xfrm>
            <a:off x="3276720" y="2286000"/>
            <a:ext cx="1982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488" name=""/>
          <p:cNvGraphicFramePr/>
          <p:nvPr/>
        </p:nvGraphicFramePr>
        <p:xfrm>
          <a:off x="609480" y="2819520"/>
          <a:ext cx="7689960" cy="199692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bin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 + 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ndling Control Combination 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304560" y="5105520"/>
            <a:ext cx="839628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/use hazard should get prior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 should be held in decode stage for additional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1447920" y="167652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724040" y="1720800"/>
            <a:ext cx="45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9907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2650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4479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768320" y="2025720"/>
            <a:ext cx="36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9907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12542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14479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9907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12308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1430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379880" y="1050840"/>
            <a:ext cx="835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/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446508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98168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445428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443088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474516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515268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4654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498240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4546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4312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74588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515340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4654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98240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4546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4312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474588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515340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905120" y="2666880"/>
            <a:ext cx="3278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921400" y="2362320"/>
            <a:ext cx="1332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54" name=""/>
          <p:cNvGrpSpPr/>
          <p:nvPr/>
        </p:nvGrpSpPr>
        <p:grpSpPr>
          <a:xfrm>
            <a:off x="1855800" y="2286000"/>
            <a:ext cx="3452760" cy="304560"/>
            <a:chOff x="1855800" y="2286000"/>
            <a:chExt cx="3452760" cy="304560"/>
          </a:xfrm>
        </p:grpSpPr>
        <p:sp>
          <p:nvSpPr>
            <p:cNvPr id="2555" name=""/>
            <p:cNvSpPr/>
            <p:nvPr/>
          </p:nvSpPr>
          <p:spPr>
            <a:xfrm>
              <a:off x="1905120" y="2328120"/>
              <a:ext cx="3352680" cy="262440"/>
            </a:xfrm>
            <a:custGeom>
              <a:avLst/>
              <a:gdLst/>
              <a:ahLst/>
              <a:rect l="l" t="t" r="r" b="b"/>
              <a:pathLst>
                <a:path w="2112" h="372">
                  <a:moveTo>
                    <a:pt x="0" y="0"/>
                  </a:moveTo>
                  <a:lnTo>
                    <a:pt x="0" y="372"/>
                  </a:lnTo>
                  <a:lnTo>
                    <a:pt x="2112" y="372"/>
                  </a:lnTo>
                  <a:lnTo>
                    <a:pt x="21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855800" y="2286000"/>
              <a:ext cx="100080" cy="442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208480" y="2286000"/>
              <a:ext cx="100080" cy="442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58" name=""/>
          <p:cNvSpPr/>
          <p:nvPr/>
        </p:nvSpPr>
        <p:spPr>
          <a:xfrm>
            <a:off x="3276720" y="2286000"/>
            <a:ext cx="1982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559" name=""/>
          <p:cNvGraphicFramePr/>
          <p:nvPr/>
        </p:nvGraphicFramePr>
        <p:xfrm>
          <a:off x="609480" y="3173400"/>
          <a:ext cx="7689960" cy="18558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bin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rrected Pipeline Control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304560" y="5105520"/>
            <a:ext cx="839628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/use hazard should get prior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 should be held in decode stage for additional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562" name=""/>
          <p:cNvGraphicFramePr/>
          <p:nvPr/>
        </p:nvGraphicFramePr>
        <p:xfrm>
          <a:off x="609480" y="3173400"/>
          <a:ext cx="7689960" cy="18558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bin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3" name=""/>
          <p:cNvSpPr/>
          <p:nvPr/>
        </p:nvSpPr>
        <p:spPr>
          <a:xfrm>
            <a:off x="533520" y="990720"/>
            <a:ext cx="8445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D_bubble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Mispredicted bran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E_icode == IJXX &amp;&amp; !e_Bch) ||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Stalling at fetch while ret passes through pipe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ET in { D_icode, E_icode, M_icode 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660033"/>
                </a:solidFill>
                <a:latin typeface="Courier New"/>
              </a:rPr>
              <a:t># but not condition for a load/use haz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amp;&amp; !(E_icode in { IMRMOVL, IPOPL 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amp;&amp; E_dstM in { d_srcA, d_srcB }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-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9006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e registers hold intermediate values from instruction execu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ward (Upward) Pa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s passed from one stage to n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jump past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valC passes through de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4368600" cy="62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Hazar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handled by forwar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performance penal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/use hazard requires one cycle st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Hazar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cel instructions when detect mispredicted bran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wo clock cycles was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 fetch stage whi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asses through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ee clock cycles was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Combin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analyze careful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version had subtle bu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arises with unusual instruction combin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2 Nop’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62120" y="762120"/>
            <a:ext cx="7468920" cy="5564160"/>
            <a:chOff x="762120" y="762120"/>
            <a:chExt cx="7468920" cy="5564160"/>
          </a:xfrm>
        </p:grpSpPr>
        <p:sp>
          <p:nvSpPr>
            <p:cNvPr id="93" name=""/>
            <p:cNvSpPr/>
            <p:nvPr/>
          </p:nvSpPr>
          <p:spPr>
            <a:xfrm>
              <a:off x="762120" y="11430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5040" y="12049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49520" y="12049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94360" y="12049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6800" y="1204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757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48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329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901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292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473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045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36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617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008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189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580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761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52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333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76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68560" y="1187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48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14600" y="1187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76120" y="1187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292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16400" y="1187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864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62440" y="1187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76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68560" y="1187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148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14600" y="1187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76120" y="1187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292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16400" y="1187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864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2440" y="1187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2120" y="14479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5040" y="15098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49520" y="15098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01280" y="15098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26800" y="15098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148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25760" y="14922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71800" y="14922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33320" y="14922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4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73600" y="14922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14479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19640" y="1492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48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25760" y="14922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71800" y="14922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33320" y="14922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864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73600" y="14922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43600" y="14479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9640" y="1492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2120" y="17524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05040" y="18144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50240" y="1814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2960" y="17971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292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29000" y="17971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864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90520" y="17971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43600" y="17524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30800" y="17971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76840" y="17971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82960" y="17971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292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29000" y="17971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864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90520" y="17971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43600" y="17524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30800" y="17971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08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76840" y="17971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2120" y="20574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05040" y="21193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50240" y="21193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40160" y="21016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864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86200" y="21016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20574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47720" y="21016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88000" y="21016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80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34040" y="21016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92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40160" y="21016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864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86200" y="21016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3600" y="20574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47720" y="21016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008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88000" y="21016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34040" y="21016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2120" y="23623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05040" y="24242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50240" y="24242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82320" y="242424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88520" y="2424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07480" y="242424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20240" y="2424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864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97360" y="2406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3600" y="23623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43400" y="2406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008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04920" y="2406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45200" y="2406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152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91240" y="2406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864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97360" y="2406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23623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43400" y="2406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008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04920" y="2406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45200" y="2406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152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91240" y="2406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20" y="26668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04320" y="272880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0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43600" y="26668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54560" y="2711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008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0600" y="2711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80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62120" y="2711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152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02400" y="2711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24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48440" y="2711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26668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54560" y="2711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008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00600" y="2711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62120" y="2711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152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02400" y="2711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24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48440" y="2711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181120" y="2971800"/>
              <a:ext cx="762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0800" y="297180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724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48800" y="83196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2120" y="8380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04320" y="89208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2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181480" y="3733920"/>
              <a:ext cx="1906560" cy="992160"/>
              <a:chOff x="5181480" y="3733920"/>
              <a:chExt cx="1906560" cy="992160"/>
            </a:xfrm>
          </p:grpSpPr>
          <p:sp>
            <p:nvSpPr>
              <p:cNvPr id="263" name=""/>
              <p:cNvSpPr/>
              <p:nvPr/>
            </p:nvSpPr>
            <p:spPr>
              <a:xfrm>
                <a:off x="5181480" y="37339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81480" y="3798720"/>
                <a:ext cx="1926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81480" y="4114800"/>
                <a:ext cx="1906560" cy="30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17560" y="416232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09800" y="418140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616000" y="418140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20200" y="416232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95880" y="41558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27280" y="416232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181480" y="5334120"/>
              <a:ext cx="1906560" cy="992160"/>
              <a:chOff x="5181480" y="5334120"/>
              <a:chExt cx="1906560" cy="992160"/>
            </a:xfrm>
          </p:grpSpPr>
          <p:sp>
            <p:nvSpPr>
              <p:cNvPr id="273" name=""/>
              <p:cNvSpPr/>
              <p:nvPr/>
            </p:nvSpPr>
            <p:spPr>
              <a:xfrm>
                <a:off x="5181480" y="5334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05240" y="53989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81480" y="5715000"/>
                <a:ext cx="1906560" cy="53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316480" y="5765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88080" y="57592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19480" y="5765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11360" y="5784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17560" y="5784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21760" y="5765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20400" y="5765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73040" y="576576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316480" y="59990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788080" y="5992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19480" y="59990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11360" y="60181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17560" y="60181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21760" y="59990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20400" y="59990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773400" y="59990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019920" y="4724280"/>
              <a:ext cx="2570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56000" y="472608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56000" y="489744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56000" y="506880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81480" y="373392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81480" y="3798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81480" y="411480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01920" y="416232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94160" y="41814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00000" y="4181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04200" y="416232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0240" y="415620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11280" y="416232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81480" y="373392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81480" y="3798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43600" y="4114800"/>
              <a:ext cx="114444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01920" y="416232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94160" y="41814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00000" y="4181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04200" y="416232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80240" y="415620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11280" y="416232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5181480" y="3352680"/>
              <a:ext cx="2713320" cy="2973600"/>
              <a:chOff x="5181480" y="3352680"/>
              <a:chExt cx="2713320" cy="2973600"/>
            </a:xfrm>
          </p:grpSpPr>
          <p:sp>
            <p:nvSpPr>
              <p:cNvPr id="315" name=""/>
              <p:cNvSpPr/>
              <p:nvPr/>
            </p:nvSpPr>
            <p:spPr>
              <a:xfrm>
                <a:off x="5181480" y="5333760"/>
                <a:ext cx="1906560" cy="9925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05240" y="53989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81480" y="5715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316480" y="5765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88080" y="57592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919480" y="5765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11360" y="5784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17560" y="5784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21760" y="5765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620400" y="5765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773040" y="576576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16480" y="59990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88080" y="5992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919480" y="59990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11360" y="60181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17560" y="60181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521760" y="59990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20400" y="59990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3400" y="59990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181480" y="5333760"/>
                <a:ext cx="1906560" cy="9925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05240" y="53989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181480" y="5715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16480" y="5765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88080" y="57592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919480" y="5765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11360" y="5784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217560" y="5784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521760" y="5765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20400" y="5765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773040" y="576576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16480" y="59990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88080" y="5992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19480" y="59990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11360" y="60181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217560" y="60181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21760" y="59990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20400" y="59990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73400" y="59990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19920" y="4724280"/>
                <a:ext cx="257040" cy="6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156000" y="472608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156000" y="489744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156000" y="506880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81480" y="3352680"/>
                <a:ext cx="190656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38480" y="341316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6858000" y="5867280"/>
                <a:ext cx="533520" cy="173160"/>
                <a:chOff x="6858000" y="5867280"/>
                <a:chExt cx="533520" cy="173160"/>
              </a:xfrm>
            </p:grpSpPr>
            <p:sp>
              <p:nvSpPr>
                <p:cNvPr id="360" name=""/>
                <p:cNvSpPr/>
                <p:nvPr/>
              </p:nvSpPr>
              <p:spPr>
                <a:xfrm flipH="1">
                  <a:off x="6950160" y="5867280"/>
                  <a:ext cx="441360" cy="12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858000" y="5945040"/>
                  <a:ext cx="109440" cy="95400"/>
                </a:xfrm>
                <a:custGeom>
                  <a:avLst/>
                  <a:gdLst/>
                  <a:ahLst/>
                  <a:rect l="l" t="t" r="r" b="b"/>
                  <a:pathLst>
                    <a:path w="69" h="60">
                      <a:moveTo>
                        <a:pt x="52" y="0"/>
                      </a:moveTo>
                      <a:lnTo>
                        <a:pt x="0" y="47"/>
                      </a:lnTo>
                      <a:lnTo>
                        <a:pt x="69" y="6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7315200" y="5715000"/>
                <a:ext cx="57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443720" y="577224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No N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281240" y="747720"/>
            <a:ext cx="6554520" cy="5335560"/>
            <a:chOff x="1281240" y="747720"/>
            <a:chExt cx="6554520" cy="5335560"/>
          </a:xfrm>
        </p:grpSpPr>
        <p:sp>
          <p:nvSpPr>
            <p:cNvPr id="366" name=""/>
            <p:cNvSpPr/>
            <p:nvPr/>
          </p:nvSpPr>
          <p:spPr>
            <a:xfrm>
              <a:off x="1281240" y="11286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24880" y="1190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68640" y="1190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14200" y="11905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45920" y="11905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767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948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339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520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911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092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483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664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055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236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627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808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199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380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771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952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767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88400" y="117324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339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34080" y="117324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911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95960" y="11732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48320" y="11286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36240" y="117324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627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39480" y="14778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81240" y="143352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24880" y="14954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68640" y="14954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20760" y="14954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5920" y="14954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339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45600" y="14778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911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91280" y="14778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48320" y="14335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53160" y="14778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055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93440" y="14778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055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82280" y="117324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911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02800" y="17827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48320" y="173844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48480" y="17827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055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10360" y="17827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627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50640" y="17827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199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96680" y="1782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81240" y="173844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24880" y="180036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69360" y="180036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02160" y="180036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07640" y="1800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27320" y="180036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39360" y="1800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48320" y="20430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60000" y="208764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055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05680" y="208764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627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67560" y="2087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199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107840" y="208764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3771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53880" y="208764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81240" y="20430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24160" y="210492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81240" y="82404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23440" y="87804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0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4785840" y="2347920"/>
              <a:ext cx="762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05520" y="23479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86200" y="41004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15000" y="41655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4786200" y="2728800"/>
              <a:ext cx="2745000" cy="3354480"/>
              <a:chOff x="4786200" y="2728800"/>
              <a:chExt cx="2745000" cy="3354480"/>
            </a:xfrm>
          </p:grpSpPr>
          <p:sp>
            <p:nvSpPr>
              <p:cNvPr id="448" name=""/>
              <p:cNvSpPr/>
              <p:nvPr/>
            </p:nvSpPr>
            <p:spPr>
              <a:xfrm>
                <a:off x="4786200" y="5091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10320" y="515628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86200" y="5472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21200" y="5522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393520" y="55166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24560" y="5522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716800" y="5541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22280" y="5541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127200" y="5522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25840" y="5522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378480" y="55227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21200" y="5756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93520" y="5749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524560" y="5756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716800" y="5775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822280" y="5775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127200" y="5756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225840" y="5756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378480" y="575640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86200" y="5091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10320" y="515628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786200" y="5472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21200" y="5522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55166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24560" y="5522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716800" y="5541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822280" y="5541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27200" y="5522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225840" y="5522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378480" y="55227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21200" y="5756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93520" y="5749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524560" y="5756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16800" y="5775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822280" y="5775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127200" y="5756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225840" y="5756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78480" y="575640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86200" y="2728800"/>
                <a:ext cx="19065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43560" y="278928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6462720" y="5548320"/>
                <a:ext cx="533160" cy="236520"/>
                <a:chOff x="6462720" y="5548320"/>
                <a:chExt cx="533160" cy="236520"/>
              </a:xfrm>
            </p:grpSpPr>
            <p:sp>
              <p:nvSpPr>
                <p:cNvPr id="489" name=""/>
                <p:cNvSpPr/>
                <p:nvPr/>
              </p:nvSpPr>
              <p:spPr>
                <a:xfrm flipH="1">
                  <a:off x="6549840" y="5548320"/>
                  <a:ext cx="4460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462720" y="5692680"/>
                  <a:ext cx="111240" cy="9216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46" y="0"/>
                      </a:moveTo>
                      <a:lnTo>
                        <a:pt x="0" y="53"/>
                      </a:lnTo>
                      <a:lnTo>
                        <a:pt x="70" y="58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>
                <a:off x="6951600" y="5319720"/>
                <a:ext cx="57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80840" y="537696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786200" y="311004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98080" y="317484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786200" y="34146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922640" y="347652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167080" y="347652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561640" y="3476520"/>
                <a:ext cx="352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22640" y="369720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167440" y="369720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573160" y="36972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740560" y="37162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46040" y="37162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6462720" y="5472000"/>
                <a:ext cx="533520" cy="111240"/>
                <a:chOff x="6462720" y="5472000"/>
                <a:chExt cx="533520" cy="111240"/>
              </a:xfrm>
            </p:grpSpPr>
            <p:sp>
              <p:nvSpPr>
                <p:cNvPr id="505" name=""/>
                <p:cNvSpPr/>
                <p:nvPr/>
              </p:nvSpPr>
              <p:spPr>
                <a:xfrm flipH="1">
                  <a:off x="6556320" y="5472000"/>
                  <a:ext cx="439920" cy="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462720" y="5484960"/>
                  <a:ext cx="106200" cy="9828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58" y="0"/>
                      </a:moveTo>
                      <a:lnTo>
                        <a:pt x="0" y="40"/>
                      </a:lnTo>
                      <a:lnTo>
                        <a:pt x="67" y="6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"/>
              <p:cNvSpPr/>
              <p:nvPr/>
            </p:nvSpPr>
            <p:spPr>
              <a:xfrm>
                <a:off x="4786200" y="440532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922640" y="446868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117760" y="446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590440" y="446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717520" y="4468680"/>
                <a:ext cx="756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 + 3 = 3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923000" y="4687920"/>
                <a:ext cx="2185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138640" y="468792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544720" y="468792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712120" y="470700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17600" y="470700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lling for Data Dependenc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0160" y="3809520"/>
            <a:ext cx="8294760" cy="26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instruction follows too closely after one that writes register, slow it dow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 instruction in de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ally inject nop into execut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13716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0: irmovl $10,%ed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384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956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528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100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3244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816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3581280" y="1371600"/>
            <a:ext cx="2286000" cy="304920"/>
            <a:chOff x="3581280" y="1371600"/>
            <a:chExt cx="2286000" cy="304920"/>
          </a:xfrm>
        </p:grpSpPr>
        <p:sp>
          <p:nvSpPr>
            <p:cNvPr id="530" name=""/>
            <p:cNvSpPr/>
            <p:nvPr/>
          </p:nvSpPr>
          <p:spPr>
            <a:xfrm>
              <a:off x="35812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384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528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100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685800" y="16765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6: irmovl  $3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956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528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100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19810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c: n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956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528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100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72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" y="25909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410080" y="2590920"/>
            <a:ext cx="2286000" cy="609480"/>
            <a:chOff x="5410080" y="2590920"/>
            <a:chExt cx="2286000" cy="609480"/>
          </a:xfrm>
        </p:grpSpPr>
        <p:sp>
          <p:nvSpPr>
            <p:cNvPr id="549" name=""/>
            <p:cNvSpPr/>
            <p:nvPr/>
          </p:nvSpPr>
          <p:spPr>
            <a:xfrm>
              <a:off x="5410080" y="289584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244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816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388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85800" y="28954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e: addl %edx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8672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3244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816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2388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960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2004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10: ha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3244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816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2388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960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1532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960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0666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demo-h2.y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72200" y="2743200"/>
            <a:ext cx="152280" cy="15228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72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9528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100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8672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244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816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22860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d: n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153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ll Con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9006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urce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rcA and srcB of current instruction in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tination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stE and dstM fiel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s in execute, memory, and write-back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ecial Cas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stall for register ID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dicates absence of register operan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707080" y="2293920"/>
            <a:ext cx="258840" cy="58680"/>
            <a:chOff x="5707080" y="2293920"/>
            <a:chExt cx="258840" cy="58680"/>
          </a:xfrm>
        </p:grpSpPr>
        <p:sp>
          <p:nvSpPr>
            <p:cNvPr id="579" name=""/>
            <p:cNvSpPr/>
            <p:nvPr/>
          </p:nvSpPr>
          <p:spPr>
            <a:xfrm flipH="1">
              <a:off x="5764320" y="2324160"/>
              <a:ext cx="201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707080" y="2293920"/>
              <a:ext cx="60480" cy="5868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6" y="0"/>
                  </a:moveTo>
                  <a:lnTo>
                    <a:pt x="0" y="38"/>
                  </a:lnTo>
                  <a:lnTo>
                    <a:pt x="76" y="75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6772320" y="1271520"/>
            <a:ext cx="65160" cy="595440"/>
            <a:chOff x="6772320" y="1271520"/>
            <a:chExt cx="65160" cy="595440"/>
          </a:xfrm>
        </p:grpSpPr>
        <p:sp>
          <p:nvSpPr>
            <p:cNvPr id="582" name=""/>
            <p:cNvSpPr/>
            <p:nvPr/>
          </p:nvSpPr>
          <p:spPr>
            <a:xfrm>
              <a:off x="6792840" y="1333440"/>
              <a:ext cx="23760" cy="53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772320" y="127152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0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518000" y="3375000"/>
            <a:ext cx="3889440" cy="23004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05480" y="343044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18000" y="1820880"/>
            <a:ext cx="3889440" cy="23004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06560" y="1876320"/>
            <a:ext cx="86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18000" y="493560"/>
            <a:ext cx="3889440" cy="23040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607640" y="549360"/>
            <a:ext cx="96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18000" y="6027840"/>
            <a:ext cx="3889440" cy="23004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05480" y="608328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18000" y="4656240"/>
            <a:ext cx="3889440" cy="23004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06560" y="4711680"/>
            <a:ext cx="73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68680" y="519120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6560" y="531828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987800" y="5126040"/>
            <a:ext cx="1149480" cy="37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975200" y="5113440"/>
            <a:ext cx="1144440" cy="3664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52840" y="517536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00720" y="530388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917040" y="519120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75560" y="531828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680160" y="5126040"/>
            <a:ext cx="554040" cy="37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67560" y="5113440"/>
            <a:ext cx="550800" cy="3664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900840" y="517536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759720" y="530388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30640" y="416232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44400" y="428940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680160" y="4073400"/>
            <a:ext cx="600120" cy="41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667560" y="4062240"/>
            <a:ext cx="595080" cy="4114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16240" y="414648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28560" y="42735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182280" y="228132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5845320" y="2185920"/>
            <a:ext cx="792000" cy="290520"/>
            <a:chOff x="5845320" y="2185920"/>
            <a:chExt cx="792000" cy="290520"/>
          </a:xfrm>
        </p:grpSpPr>
        <p:sp>
          <p:nvSpPr>
            <p:cNvPr id="614" name=""/>
            <p:cNvSpPr/>
            <p:nvPr/>
          </p:nvSpPr>
          <p:spPr>
            <a:xfrm>
              <a:off x="5859360" y="2201760"/>
              <a:ext cx="777960" cy="274680"/>
            </a:xfrm>
            <a:custGeom>
              <a:avLst/>
              <a:gdLst/>
              <a:ahLst/>
              <a:rect l="l" t="t" r="r" b="b"/>
              <a:pathLst>
                <a:path w="980" h="346">
                  <a:moveTo>
                    <a:pt x="0" y="346"/>
                  </a:moveTo>
                  <a:lnTo>
                    <a:pt x="245" y="0"/>
                  </a:lnTo>
                  <a:lnTo>
                    <a:pt x="735" y="0"/>
                  </a:lnTo>
                  <a:lnTo>
                    <a:pt x="980" y="346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45320" y="2185920"/>
              <a:ext cx="776160" cy="274680"/>
            </a:xfrm>
            <a:custGeom>
              <a:avLst/>
              <a:gdLst/>
              <a:ahLst/>
              <a:rect l="l" t="t" r="r" b="b"/>
              <a:pathLst>
                <a:path w="980" h="345">
                  <a:moveTo>
                    <a:pt x="0" y="345"/>
                  </a:moveTo>
                  <a:lnTo>
                    <a:pt x="245" y="0"/>
                  </a:lnTo>
                  <a:lnTo>
                    <a:pt x="735" y="0"/>
                  </a:lnTo>
                  <a:lnTo>
                    <a:pt x="980" y="345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cc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6166440" y="226692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608880" y="96048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37600" y="10875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359400" y="873000"/>
            <a:ext cx="646200" cy="41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348240" y="860400"/>
            <a:ext cx="641520" cy="41292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93040" y="94464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521400" y="10731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24560" y="5616720"/>
            <a:ext cx="549360" cy="320400"/>
          </a:xfrm>
          <a:custGeom>
            <a:avLst/>
            <a:gdLst/>
            <a:ahLst/>
            <a:rect l="l" t="t" r="r" b="b"/>
            <a:pathLst>
              <a:path w="691" h="403">
                <a:moveTo>
                  <a:pt x="67" y="0"/>
                </a:moveTo>
                <a:lnTo>
                  <a:pt x="54" y="1"/>
                </a:lnTo>
                <a:lnTo>
                  <a:pt x="40" y="5"/>
                </a:lnTo>
                <a:lnTo>
                  <a:pt x="30" y="12"/>
                </a:lnTo>
                <a:lnTo>
                  <a:pt x="19" y="19"/>
                </a:lnTo>
                <a:lnTo>
                  <a:pt x="12" y="30"/>
                </a:lnTo>
                <a:lnTo>
                  <a:pt x="4" y="41"/>
                </a:lnTo>
                <a:lnTo>
                  <a:pt x="1" y="54"/>
                </a:lnTo>
                <a:lnTo>
                  <a:pt x="0" y="67"/>
                </a:lnTo>
                <a:lnTo>
                  <a:pt x="0" y="336"/>
                </a:lnTo>
                <a:lnTo>
                  <a:pt x="1" y="349"/>
                </a:lnTo>
                <a:lnTo>
                  <a:pt x="4" y="363"/>
                </a:lnTo>
                <a:lnTo>
                  <a:pt x="12" y="373"/>
                </a:lnTo>
                <a:lnTo>
                  <a:pt x="19" y="384"/>
                </a:lnTo>
                <a:lnTo>
                  <a:pt x="30" y="391"/>
                </a:lnTo>
                <a:lnTo>
                  <a:pt x="40" y="399"/>
                </a:lnTo>
                <a:lnTo>
                  <a:pt x="54" y="402"/>
                </a:lnTo>
                <a:lnTo>
                  <a:pt x="67" y="403"/>
                </a:lnTo>
                <a:lnTo>
                  <a:pt x="624" y="403"/>
                </a:lnTo>
                <a:lnTo>
                  <a:pt x="637" y="402"/>
                </a:lnTo>
                <a:lnTo>
                  <a:pt x="650" y="399"/>
                </a:lnTo>
                <a:lnTo>
                  <a:pt x="661" y="391"/>
                </a:lnTo>
                <a:lnTo>
                  <a:pt x="672" y="384"/>
                </a:lnTo>
                <a:lnTo>
                  <a:pt x="679" y="373"/>
                </a:lnTo>
                <a:lnTo>
                  <a:pt x="686" y="363"/>
                </a:lnTo>
                <a:lnTo>
                  <a:pt x="690" y="349"/>
                </a:lnTo>
                <a:lnTo>
                  <a:pt x="691" y="336"/>
                </a:lnTo>
                <a:lnTo>
                  <a:pt x="691" y="67"/>
                </a:lnTo>
                <a:lnTo>
                  <a:pt x="690" y="54"/>
                </a:lnTo>
                <a:lnTo>
                  <a:pt x="686" y="41"/>
                </a:lnTo>
                <a:lnTo>
                  <a:pt x="679" y="30"/>
                </a:lnTo>
                <a:lnTo>
                  <a:pt x="672" y="19"/>
                </a:lnTo>
                <a:lnTo>
                  <a:pt x="661" y="12"/>
                </a:lnTo>
                <a:lnTo>
                  <a:pt x="650" y="5"/>
                </a:lnTo>
                <a:lnTo>
                  <a:pt x="637" y="1"/>
                </a:lnTo>
                <a:lnTo>
                  <a:pt x="624" y="0"/>
                </a:lnTo>
                <a:lnTo>
                  <a:pt x="6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713920" y="5672160"/>
            <a:ext cx="2462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64680" y="5781600"/>
            <a:ext cx="124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765760" y="5479920"/>
            <a:ext cx="65160" cy="136800"/>
            <a:chOff x="5765760" y="5479920"/>
            <a:chExt cx="65160" cy="136800"/>
          </a:xfrm>
        </p:grpSpPr>
        <p:sp>
          <p:nvSpPr>
            <p:cNvPr id="627" name=""/>
            <p:cNvSpPr/>
            <p:nvPr/>
          </p:nvSpPr>
          <p:spPr>
            <a:xfrm>
              <a:off x="5788080" y="5541840"/>
              <a:ext cx="22320" cy="7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65760" y="5479920"/>
              <a:ext cx="65160" cy="637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0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5229360" y="4884840"/>
            <a:ext cx="41040" cy="228240"/>
            <a:chOff x="5229360" y="4884840"/>
            <a:chExt cx="41040" cy="228240"/>
          </a:xfrm>
        </p:grpSpPr>
        <p:sp>
          <p:nvSpPr>
            <p:cNvPr id="630" name=""/>
            <p:cNvSpPr/>
            <p:nvPr/>
          </p:nvSpPr>
          <p:spPr>
            <a:xfrm flipV="1">
              <a:off x="5249880" y="4924080"/>
              <a:ext cx="144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29360" y="488484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5504040" y="4884840"/>
            <a:ext cx="41040" cy="228240"/>
            <a:chOff x="5504040" y="4884840"/>
            <a:chExt cx="41040" cy="228240"/>
          </a:xfrm>
        </p:grpSpPr>
        <p:sp>
          <p:nvSpPr>
            <p:cNvPr id="633" name=""/>
            <p:cNvSpPr/>
            <p:nvPr/>
          </p:nvSpPr>
          <p:spPr>
            <a:xfrm flipV="1">
              <a:off x="5524560" y="4924080"/>
              <a:ext cx="144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04040" y="488484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776920" y="4884840"/>
            <a:ext cx="42840" cy="228240"/>
            <a:chOff x="5776920" y="4884840"/>
            <a:chExt cx="42840" cy="228240"/>
          </a:xfrm>
        </p:grpSpPr>
        <p:sp>
          <p:nvSpPr>
            <p:cNvPr id="636" name=""/>
            <p:cNvSpPr/>
            <p:nvPr/>
          </p:nvSpPr>
          <p:spPr>
            <a:xfrm flipV="1">
              <a:off x="5799240" y="4924080"/>
              <a:ext cx="144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76920" y="4884840"/>
              <a:ext cx="428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6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6040440" y="4884840"/>
            <a:ext cx="65160" cy="228600"/>
            <a:chOff x="6040440" y="4884840"/>
            <a:chExt cx="65160" cy="228600"/>
          </a:xfrm>
        </p:grpSpPr>
        <p:sp>
          <p:nvSpPr>
            <p:cNvPr id="639" name=""/>
            <p:cNvSpPr/>
            <p:nvPr/>
          </p:nvSpPr>
          <p:spPr>
            <a:xfrm>
              <a:off x="6060960" y="4946760"/>
              <a:ext cx="23760" cy="1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40440" y="488484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6910560" y="4884840"/>
            <a:ext cx="64800" cy="228600"/>
            <a:chOff x="6910560" y="4884840"/>
            <a:chExt cx="64800" cy="228600"/>
          </a:xfrm>
        </p:grpSpPr>
        <p:sp>
          <p:nvSpPr>
            <p:cNvPr id="642" name=""/>
            <p:cNvSpPr/>
            <p:nvPr/>
          </p:nvSpPr>
          <p:spPr>
            <a:xfrm>
              <a:off x="6931080" y="4946760"/>
              <a:ext cx="22320" cy="1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10560" y="4884840"/>
              <a:ext cx="6480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6073920" y="4943520"/>
            <a:ext cx="1279440" cy="65160"/>
            <a:chOff x="6073920" y="4943520"/>
            <a:chExt cx="1279440" cy="65160"/>
          </a:xfrm>
        </p:grpSpPr>
        <p:sp>
          <p:nvSpPr>
            <p:cNvPr id="645" name=""/>
            <p:cNvSpPr/>
            <p:nvPr/>
          </p:nvSpPr>
          <p:spPr>
            <a:xfrm>
              <a:off x="6073920" y="4965840"/>
              <a:ext cx="12175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89640" y="4943520"/>
              <a:ext cx="6372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0" y="81"/>
                  </a:moveTo>
                  <a:lnTo>
                    <a:pt x="82" y="40"/>
                  </a:lnTo>
                  <a:lnTo>
                    <a:pt x="0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942240" y="5035680"/>
            <a:ext cx="411120" cy="64800"/>
            <a:chOff x="6942240" y="5035680"/>
            <a:chExt cx="411120" cy="64800"/>
          </a:xfrm>
        </p:grpSpPr>
        <p:sp>
          <p:nvSpPr>
            <p:cNvPr id="648" name=""/>
            <p:cNvSpPr/>
            <p:nvPr/>
          </p:nvSpPr>
          <p:spPr>
            <a:xfrm>
              <a:off x="6942240" y="5056200"/>
              <a:ext cx="3492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89640" y="5035680"/>
              <a:ext cx="63720" cy="6480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0" y="81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5765760" y="5205240"/>
            <a:ext cx="1874880" cy="1200240"/>
            <a:chOff x="5765760" y="5205240"/>
            <a:chExt cx="1874880" cy="1200240"/>
          </a:xfrm>
        </p:grpSpPr>
        <p:sp>
          <p:nvSpPr>
            <p:cNvPr id="651" name=""/>
            <p:cNvSpPr/>
            <p:nvPr/>
          </p:nvSpPr>
          <p:spPr>
            <a:xfrm>
              <a:off x="5788080" y="5205240"/>
              <a:ext cx="1852560" cy="1200240"/>
            </a:xfrm>
            <a:custGeom>
              <a:avLst/>
              <a:gdLst/>
              <a:ahLst/>
              <a:rect l="l" t="t" r="r" b="b"/>
              <a:pathLst>
                <a:path w="2334" h="1512">
                  <a:moveTo>
                    <a:pt x="2334" y="0"/>
                  </a:moveTo>
                  <a:lnTo>
                    <a:pt x="2305" y="0"/>
                  </a:lnTo>
                  <a:lnTo>
                    <a:pt x="2305" y="1498"/>
                  </a:lnTo>
                  <a:lnTo>
                    <a:pt x="2320" y="1498"/>
                  </a:lnTo>
                  <a:lnTo>
                    <a:pt x="2320" y="1483"/>
                  </a:lnTo>
                  <a:lnTo>
                    <a:pt x="2314" y="1484"/>
                  </a:lnTo>
                  <a:lnTo>
                    <a:pt x="2310" y="1488"/>
                  </a:lnTo>
                  <a:lnTo>
                    <a:pt x="2307" y="1492"/>
                  </a:lnTo>
                  <a:lnTo>
                    <a:pt x="2320" y="1483"/>
                  </a:lnTo>
                  <a:lnTo>
                    <a:pt x="14" y="1483"/>
                  </a:lnTo>
                  <a:lnTo>
                    <a:pt x="14" y="1498"/>
                  </a:lnTo>
                  <a:lnTo>
                    <a:pt x="29" y="1498"/>
                  </a:lnTo>
                  <a:lnTo>
                    <a:pt x="28" y="1492"/>
                  </a:lnTo>
                  <a:lnTo>
                    <a:pt x="24" y="1488"/>
                  </a:lnTo>
                  <a:lnTo>
                    <a:pt x="20" y="1484"/>
                  </a:lnTo>
                  <a:lnTo>
                    <a:pt x="29" y="1498"/>
                  </a:lnTo>
                  <a:lnTo>
                    <a:pt x="29" y="1403"/>
                  </a:lnTo>
                  <a:lnTo>
                    <a:pt x="0" y="1403"/>
                  </a:lnTo>
                  <a:lnTo>
                    <a:pt x="0" y="1498"/>
                  </a:lnTo>
                  <a:lnTo>
                    <a:pt x="0" y="1498"/>
                  </a:lnTo>
                  <a:lnTo>
                    <a:pt x="1" y="1504"/>
                  </a:lnTo>
                  <a:lnTo>
                    <a:pt x="5" y="1507"/>
                  </a:lnTo>
                  <a:lnTo>
                    <a:pt x="8" y="1511"/>
                  </a:lnTo>
                  <a:lnTo>
                    <a:pt x="14" y="1512"/>
                  </a:lnTo>
                  <a:lnTo>
                    <a:pt x="2320" y="1512"/>
                  </a:lnTo>
                  <a:lnTo>
                    <a:pt x="2320" y="1512"/>
                  </a:lnTo>
                  <a:lnTo>
                    <a:pt x="2326" y="1511"/>
                  </a:lnTo>
                  <a:lnTo>
                    <a:pt x="2329" y="1507"/>
                  </a:lnTo>
                  <a:lnTo>
                    <a:pt x="2333" y="1504"/>
                  </a:lnTo>
                  <a:lnTo>
                    <a:pt x="2334" y="1498"/>
                  </a:lnTo>
                  <a:lnTo>
                    <a:pt x="2334" y="1498"/>
                  </a:lnTo>
                  <a:lnTo>
                    <a:pt x="23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65760" y="625644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81"/>
                  </a:moveTo>
                  <a:lnTo>
                    <a:pt x="40" y="0"/>
                  </a:lnTo>
                  <a:lnTo>
                    <a:pt x="0" y="81"/>
                  </a:lnTo>
                  <a:lnTo>
                    <a:pt x="8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000760" y="4884840"/>
            <a:ext cx="41040" cy="228240"/>
            <a:chOff x="5000760" y="4884840"/>
            <a:chExt cx="41040" cy="228240"/>
          </a:xfrm>
        </p:grpSpPr>
        <p:sp>
          <p:nvSpPr>
            <p:cNvPr id="654" name=""/>
            <p:cNvSpPr/>
            <p:nvPr/>
          </p:nvSpPr>
          <p:spPr>
            <a:xfrm flipV="1">
              <a:off x="5021280" y="4924080"/>
              <a:ext cx="144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00760" y="488484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5661000" y="465624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1600" y="4719600"/>
            <a:ext cx="892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424640" y="3603600"/>
            <a:ext cx="41400" cy="229680"/>
            <a:chOff x="7424640" y="3603600"/>
            <a:chExt cx="41400" cy="229680"/>
          </a:xfrm>
        </p:grpSpPr>
        <p:sp>
          <p:nvSpPr>
            <p:cNvPr id="659" name=""/>
            <p:cNvSpPr/>
            <p:nvPr/>
          </p:nvSpPr>
          <p:spPr>
            <a:xfrm flipV="1">
              <a:off x="7445520" y="3642840"/>
              <a:ext cx="1440" cy="190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24640" y="3603600"/>
              <a:ext cx="4140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6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7699320" y="3603600"/>
            <a:ext cx="41400" cy="274320"/>
            <a:chOff x="7699320" y="3603600"/>
            <a:chExt cx="41400" cy="274320"/>
          </a:xfrm>
        </p:grpSpPr>
        <p:sp>
          <p:nvSpPr>
            <p:cNvPr id="662" name=""/>
            <p:cNvSpPr/>
            <p:nvPr/>
          </p:nvSpPr>
          <p:spPr>
            <a:xfrm flipV="1">
              <a:off x="7719840" y="3642840"/>
              <a:ext cx="1800" cy="235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9320" y="3603600"/>
              <a:ext cx="41400" cy="428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52" y="53"/>
                  </a:moveTo>
                  <a:lnTo>
                    <a:pt x="26" y="0"/>
                  </a:lnTo>
                  <a:lnTo>
                    <a:pt x="0" y="53"/>
                  </a:lnTo>
                  <a:lnTo>
                    <a:pt x="5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7308720" y="3741840"/>
            <a:ext cx="274680" cy="18252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39" y="0"/>
                </a:moveTo>
                <a:lnTo>
                  <a:pt x="30" y="1"/>
                </a:lnTo>
                <a:lnTo>
                  <a:pt x="23" y="3"/>
                </a:lnTo>
                <a:lnTo>
                  <a:pt x="17" y="6"/>
                </a:lnTo>
                <a:lnTo>
                  <a:pt x="11" y="11"/>
                </a:lnTo>
                <a:lnTo>
                  <a:pt x="6" y="17"/>
                </a:lnTo>
                <a:lnTo>
                  <a:pt x="4" y="23"/>
                </a:lnTo>
                <a:lnTo>
                  <a:pt x="2" y="30"/>
                </a:lnTo>
                <a:lnTo>
                  <a:pt x="0" y="38"/>
                </a:lnTo>
                <a:lnTo>
                  <a:pt x="0" y="192"/>
                </a:lnTo>
                <a:lnTo>
                  <a:pt x="2" y="200"/>
                </a:lnTo>
                <a:lnTo>
                  <a:pt x="4" y="207"/>
                </a:lnTo>
                <a:lnTo>
                  <a:pt x="6" y="213"/>
                </a:lnTo>
                <a:lnTo>
                  <a:pt x="11" y="219"/>
                </a:lnTo>
                <a:lnTo>
                  <a:pt x="17" y="224"/>
                </a:lnTo>
                <a:lnTo>
                  <a:pt x="23" y="228"/>
                </a:lnTo>
                <a:lnTo>
                  <a:pt x="30" y="229"/>
                </a:lnTo>
                <a:lnTo>
                  <a:pt x="39" y="230"/>
                </a:lnTo>
                <a:lnTo>
                  <a:pt x="308" y="230"/>
                </a:lnTo>
                <a:lnTo>
                  <a:pt x="316" y="229"/>
                </a:lnTo>
                <a:lnTo>
                  <a:pt x="323" y="228"/>
                </a:lnTo>
                <a:lnTo>
                  <a:pt x="329" y="224"/>
                </a:lnTo>
                <a:lnTo>
                  <a:pt x="335" y="219"/>
                </a:lnTo>
                <a:lnTo>
                  <a:pt x="340" y="213"/>
                </a:lnTo>
                <a:lnTo>
                  <a:pt x="344" y="207"/>
                </a:lnTo>
                <a:lnTo>
                  <a:pt x="345" y="200"/>
                </a:lnTo>
                <a:lnTo>
                  <a:pt x="346" y="192"/>
                </a:lnTo>
                <a:lnTo>
                  <a:pt x="346" y="38"/>
                </a:lnTo>
                <a:lnTo>
                  <a:pt x="345" y="30"/>
                </a:lnTo>
                <a:lnTo>
                  <a:pt x="344" y="23"/>
                </a:lnTo>
                <a:lnTo>
                  <a:pt x="340" y="17"/>
                </a:lnTo>
                <a:lnTo>
                  <a:pt x="335" y="11"/>
                </a:lnTo>
                <a:lnTo>
                  <a:pt x="329" y="6"/>
                </a:lnTo>
                <a:lnTo>
                  <a:pt x="323" y="3"/>
                </a:lnTo>
                <a:lnTo>
                  <a:pt x="316" y="1"/>
                </a:lnTo>
                <a:lnTo>
                  <a:pt x="308" y="0"/>
                </a:lnTo>
                <a:lnTo>
                  <a:pt x="39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88280" y="378468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583400" y="3741840"/>
            <a:ext cx="273240" cy="18252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39" y="0"/>
                </a:moveTo>
                <a:lnTo>
                  <a:pt x="30" y="1"/>
                </a:lnTo>
                <a:lnTo>
                  <a:pt x="23" y="3"/>
                </a:lnTo>
                <a:lnTo>
                  <a:pt x="17" y="6"/>
                </a:lnTo>
                <a:lnTo>
                  <a:pt x="11" y="11"/>
                </a:lnTo>
                <a:lnTo>
                  <a:pt x="6" y="17"/>
                </a:lnTo>
                <a:lnTo>
                  <a:pt x="4" y="23"/>
                </a:lnTo>
                <a:lnTo>
                  <a:pt x="1" y="30"/>
                </a:lnTo>
                <a:lnTo>
                  <a:pt x="0" y="38"/>
                </a:lnTo>
                <a:lnTo>
                  <a:pt x="0" y="192"/>
                </a:lnTo>
                <a:lnTo>
                  <a:pt x="1" y="200"/>
                </a:lnTo>
                <a:lnTo>
                  <a:pt x="4" y="207"/>
                </a:lnTo>
                <a:lnTo>
                  <a:pt x="6" y="213"/>
                </a:lnTo>
                <a:lnTo>
                  <a:pt x="11" y="219"/>
                </a:lnTo>
                <a:lnTo>
                  <a:pt x="17" y="224"/>
                </a:lnTo>
                <a:lnTo>
                  <a:pt x="23" y="228"/>
                </a:lnTo>
                <a:lnTo>
                  <a:pt x="30" y="229"/>
                </a:lnTo>
                <a:lnTo>
                  <a:pt x="39" y="230"/>
                </a:lnTo>
                <a:lnTo>
                  <a:pt x="307" y="230"/>
                </a:lnTo>
                <a:lnTo>
                  <a:pt x="316" y="229"/>
                </a:lnTo>
                <a:lnTo>
                  <a:pt x="323" y="228"/>
                </a:lnTo>
                <a:lnTo>
                  <a:pt x="329" y="224"/>
                </a:lnTo>
                <a:lnTo>
                  <a:pt x="335" y="219"/>
                </a:lnTo>
                <a:lnTo>
                  <a:pt x="340" y="213"/>
                </a:lnTo>
                <a:lnTo>
                  <a:pt x="344" y="207"/>
                </a:lnTo>
                <a:lnTo>
                  <a:pt x="345" y="200"/>
                </a:lnTo>
                <a:lnTo>
                  <a:pt x="346" y="192"/>
                </a:lnTo>
                <a:lnTo>
                  <a:pt x="346" y="38"/>
                </a:lnTo>
                <a:lnTo>
                  <a:pt x="345" y="30"/>
                </a:lnTo>
                <a:lnTo>
                  <a:pt x="344" y="23"/>
                </a:lnTo>
                <a:lnTo>
                  <a:pt x="340" y="17"/>
                </a:lnTo>
                <a:lnTo>
                  <a:pt x="335" y="11"/>
                </a:lnTo>
                <a:lnTo>
                  <a:pt x="329" y="6"/>
                </a:lnTo>
                <a:lnTo>
                  <a:pt x="323" y="3"/>
                </a:lnTo>
                <a:lnTo>
                  <a:pt x="316" y="1"/>
                </a:lnTo>
                <a:lnTo>
                  <a:pt x="307" y="0"/>
                </a:lnTo>
                <a:lnTo>
                  <a:pt x="39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59360" y="3784680"/>
            <a:ext cx="1911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302520" y="3741840"/>
            <a:ext cx="411120" cy="274680"/>
          </a:xfrm>
          <a:custGeom>
            <a:avLst/>
            <a:gdLst/>
            <a:ahLst/>
            <a:rect l="l" t="t" r="r" b="b"/>
            <a:pathLst>
              <a:path w="519" h="345">
                <a:moveTo>
                  <a:pt x="58" y="0"/>
                </a:moveTo>
                <a:lnTo>
                  <a:pt x="46" y="1"/>
                </a:lnTo>
                <a:lnTo>
                  <a:pt x="35" y="5"/>
                </a:lnTo>
                <a:lnTo>
                  <a:pt x="26" y="9"/>
                </a:lnTo>
                <a:lnTo>
                  <a:pt x="17" y="17"/>
                </a:lnTo>
                <a:lnTo>
                  <a:pt x="10" y="25"/>
                </a:lnTo>
                <a:lnTo>
                  <a:pt x="5" y="35"/>
                </a:lnTo>
                <a:lnTo>
                  <a:pt x="2" y="45"/>
                </a:lnTo>
                <a:lnTo>
                  <a:pt x="0" y="57"/>
                </a:lnTo>
                <a:lnTo>
                  <a:pt x="0" y="288"/>
                </a:lnTo>
                <a:lnTo>
                  <a:pt x="2" y="300"/>
                </a:lnTo>
                <a:lnTo>
                  <a:pt x="5" y="311"/>
                </a:lnTo>
                <a:lnTo>
                  <a:pt x="10" y="320"/>
                </a:lnTo>
                <a:lnTo>
                  <a:pt x="17" y="329"/>
                </a:lnTo>
                <a:lnTo>
                  <a:pt x="26" y="336"/>
                </a:lnTo>
                <a:lnTo>
                  <a:pt x="35" y="341"/>
                </a:lnTo>
                <a:lnTo>
                  <a:pt x="46" y="344"/>
                </a:lnTo>
                <a:lnTo>
                  <a:pt x="58" y="345"/>
                </a:lnTo>
                <a:lnTo>
                  <a:pt x="461" y="345"/>
                </a:lnTo>
                <a:lnTo>
                  <a:pt x="473" y="344"/>
                </a:lnTo>
                <a:lnTo>
                  <a:pt x="484" y="341"/>
                </a:lnTo>
                <a:lnTo>
                  <a:pt x="494" y="336"/>
                </a:lnTo>
                <a:lnTo>
                  <a:pt x="502" y="329"/>
                </a:lnTo>
                <a:lnTo>
                  <a:pt x="509" y="320"/>
                </a:lnTo>
                <a:lnTo>
                  <a:pt x="514" y="311"/>
                </a:lnTo>
                <a:lnTo>
                  <a:pt x="518" y="300"/>
                </a:lnTo>
                <a:lnTo>
                  <a:pt x="519" y="288"/>
                </a:lnTo>
                <a:lnTo>
                  <a:pt x="519" y="57"/>
                </a:lnTo>
                <a:lnTo>
                  <a:pt x="518" y="45"/>
                </a:lnTo>
                <a:lnTo>
                  <a:pt x="514" y="35"/>
                </a:lnTo>
                <a:lnTo>
                  <a:pt x="509" y="25"/>
                </a:lnTo>
                <a:lnTo>
                  <a:pt x="502" y="17"/>
                </a:lnTo>
                <a:lnTo>
                  <a:pt x="494" y="9"/>
                </a:lnTo>
                <a:lnTo>
                  <a:pt x="484" y="5"/>
                </a:lnTo>
                <a:lnTo>
                  <a:pt x="473" y="1"/>
                </a:lnTo>
                <a:lnTo>
                  <a:pt x="461" y="0"/>
                </a:lnTo>
                <a:lnTo>
                  <a:pt x="58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23480" y="3774960"/>
            <a:ext cx="2462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503400" y="3884760"/>
            <a:ext cx="601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7047000" y="3603600"/>
            <a:ext cx="65160" cy="458640"/>
            <a:chOff x="7047000" y="3603600"/>
            <a:chExt cx="65160" cy="458640"/>
          </a:xfrm>
        </p:grpSpPr>
        <p:sp>
          <p:nvSpPr>
            <p:cNvPr id="672" name=""/>
            <p:cNvSpPr/>
            <p:nvPr/>
          </p:nvSpPr>
          <p:spPr>
            <a:xfrm>
              <a:off x="7067520" y="3665520"/>
              <a:ext cx="23760" cy="39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47000" y="360360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6713640" y="3846600"/>
            <a:ext cx="149040" cy="215640"/>
            <a:chOff x="6713640" y="3846600"/>
            <a:chExt cx="149040" cy="215640"/>
          </a:xfrm>
        </p:grpSpPr>
        <p:sp>
          <p:nvSpPr>
            <p:cNvPr id="675" name=""/>
            <p:cNvSpPr/>
            <p:nvPr/>
          </p:nvSpPr>
          <p:spPr>
            <a:xfrm>
              <a:off x="6775560" y="3867120"/>
              <a:ext cx="87120" cy="195120"/>
            </a:xfrm>
            <a:custGeom>
              <a:avLst/>
              <a:gdLst/>
              <a:ahLst/>
              <a:rect l="l" t="t" r="r" b="b"/>
              <a:pathLst>
                <a:path w="109" h="245">
                  <a:moveTo>
                    <a:pt x="81" y="245"/>
                  </a:moveTo>
                  <a:lnTo>
                    <a:pt x="109" y="245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08" y="9"/>
                  </a:lnTo>
                  <a:lnTo>
                    <a:pt x="105" y="5"/>
                  </a:lnTo>
                  <a:lnTo>
                    <a:pt x="101" y="1"/>
                  </a:lnTo>
                  <a:lnTo>
                    <a:pt x="9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95" y="29"/>
                  </a:lnTo>
                  <a:lnTo>
                    <a:pt x="81" y="15"/>
                  </a:lnTo>
                  <a:lnTo>
                    <a:pt x="82" y="21"/>
                  </a:lnTo>
                  <a:lnTo>
                    <a:pt x="85" y="24"/>
                  </a:lnTo>
                  <a:lnTo>
                    <a:pt x="89" y="28"/>
                  </a:lnTo>
                  <a:lnTo>
                    <a:pt x="95" y="15"/>
                  </a:lnTo>
                  <a:lnTo>
                    <a:pt x="81" y="15"/>
                  </a:lnTo>
                  <a:lnTo>
                    <a:pt x="81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713640" y="384660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0"/>
                  </a:moveTo>
                  <a:lnTo>
                    <a:pt x="0" y="41"/>
                  </a:lnTo>
                  <a:lnTo>
                    <a:pt x="82" y="8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6497640" y="4016520"/>
            <a:ext cx="547560" cy="685800"/>
            <a:chOff x="6497640" y="4016520"/>
            <a:chExt cx="547560" cy="685800"/>
          </a:xfrm>
        </p:grpSpPr>
        <p:sp>
          <p:nvSpPr>
            <p:cNvPr id="678" name=""/>
            <p:cNvSpPr/>
            <p:nvPr/>
          </p:nvSpPr>
          <p:spPr>
            <a:xfrm>
              <a:off x="6519960" y="4078440"/>
              <a:ext cx="525240" cy="623880"/>
            </a:xfrm>
            <a:custGeom>
              <a:avLst/>
              <a:gdLst/>
              <a:ahLst/>
              <a:rect l="l" t="t" r="r" b="b"/>
              <a:pathLst>
                <a:path w="663" h="786">
                  <a:moveTo>
                    <a:pt x="634" y="786"/>
                  </a:moveTo>
                  <a:lnTo>
                    <a:pt x="663" y="786"/>
                  </a:lnTo>
                  <a:lnTo>
                    <a:pt x="663" y="601"/>
                  </a:lnTo>
                  <a:lnTo>
                    <a:pt x="663" y="601"/>
                  </a:lnTo>
                  <a:lnTo>
                    <a:pt x="662" y="595"/>
                  </a:lnTo>
                  <a:lnTo>
                    <a:pt x="658" y="591"/>
                  </a:lnTo>
                  <a:lnTo>
                    <a:pt x="655" y="588"/>
                  </a:lnTo>
                  <a:lnTo>
                    <a:pt x="649" y="586"/>
                  </a:lnTo>
                  <a:lnTo>
                    <a:pt x="15" y="586"/>
                  </a:lnTo>
                  <a:lnTo>
                    <a:pt x="15" y="601"/>
                  </a:lnTo>
                  <a:lnTo>
                    <a:pt x="29" y="601"/>
                  </a:lnTo>
                  <a:lnTo>
                    <a:pt x="28" y="595"/>
                  </a:lnTo>
                  <a:lnTo>
                    <a:pt x="24" y="591"/>
                  </a:lnTo>
                  <a:lnTo>
                    <a:pt x="21" y="588"/>
                  </a:lnTo>
                  <a:lnTo>
                    <a:pt x="29" y="60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601"/>
                  </a:lnTo>
                  <a:lnTo>
                    <a:pt x="0" y="601"/>
                  </a:lnTo>
                  <a:lnTo>
                    <a:pt x="1" y="607"/>
                  </a:lnTo>
                  <a:lnTo>
                    <a:pt x="5" y="610"/>
                  </a:lnTo>
                  <a:lnTo>
                    <a:pt x="9" y="614"/>
                  </a:lnTo>
                  <a:lnTo>
                    <a:pt x="15" y="615"/>
                  </a:lnTo>
                  <a:lnTo>
                    <a:pt x="649" y="615"/>
                  </a:lnTo>
                  <a:lnTo>
                    <a:pt x="634" y="601"/>
                  </a:lnTo>
                  <a:lnTo>
                    <a:pt x="635" y="607"/>
                  </a:lnTo>
                  <a:lnTo>
                    <a:pt x="639" y="610"/>
                  </a:lnTo>
                  <a:lnTo>
                    <a:pt x="643" y="614"/>
                  </a:lnTo>
                  <a:lnTo>
                    <a:pt x="649" y="601"/>
                  </a:lnTo>
                  <a:lnTo>
                    <a:pt x="634" y="601"/>
                  </a:lnTo>
                  <a:lnTo>
                    <a:pt x="634" y="7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97640" y="4016520"/>
              <a:ext cx="65160" cy="6480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6497640" y="3603600"/>
            <a:ext cx="65160" cy="138240"/>
            <a:chOff x="6497640" y="3603600"/>
            <a:chExt cx="65160" cy="138240"/>
          </a:xfrm>
        </p:grpSpPr>
        <p:sp>
          <p:nvSpPr>
            <p:cNvPr id="681" name=""/>
            <p:cNvSpPr/>
            <p:nvPr/>
          </p:nvSpPr>
          <p:spPr>
            <a:xfrm>
              <a:off x="6519960" y="3665520"/>
              <a:ext cx="21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97640" y="360360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5753160" y="2552760"/>
            <a:ext cx="411120" cy="274680"/>
          </a:xfrm>
          <a:custGeom>
            <a:avLst/>
            <a:gdLst/>
            <a:ahLst/>
            <a:rect l="l" t="t" r="r" b="b"/>
            <a:pathLst>
              <a:path w="518" h="345">
                <a:moveTo>
                  <a:pt x="57" y="0"/>
                </a:moveTo>
                <a:lnTo>
                  <a:pt x="45" y="1"/>
                </a:lnTo>
                <a:lnTo>
                  <a:pt x="35" y="5"/>
                </a:lnTo>
                <a:lnTo>
                  <a:pt x="25" y="9"/>
                </a:lnTo>
                <a:lnTo>
                  <a:pt x="17" y="17"/>
                </a:lnTo>
                <a:lnTo>
                  <a:pt x="9" y="25"/>
                </a:lnTo>
                <a:lnTo>
                  <a:pt x="5" y="35"/>
                </a:lnTo>
                <a:lnTo>
                  <a:pt x="1" y="45"/>
                </a:lnTo>
                <a:lnTo>
                  <a:pt x="0" y="57"/>
                </a:lnTo>
                <a:lnTo>
                  <a:pt x="0" y="288"/>
                </a:lnTo>
                <a:lnTo>
                  <a:pt x="1" y="300"/>
                </a:lnTo>
                <a:lnTo>
                  <a:pt x="5" y="311"/>
                </a:lnTo>
                <a:lnTo>
                  <a:pt x="9" y="320"/>
                </a:lnTo>
                <a:lnTo>
                  <a:pt x="17" y="329"/>
                </a:lnTo>
                <a:lnTo>
                  <a:pt x="25" y="336"/>
                </a:lnTo>
                <a:lnTo>
                  <a:pt x="35" y="341"/>
                </a:lnTo>
                <a:lnTo>
                  <a:pt x="45" y="344"/>
                </a:lnTo>
                <a:lnTo>
                  <a:pt x="57" y="345"/>
                </a:lnTo>
                <a:lnTo>
                  <a:pt x="461" y="345"/>
                </a:lnTo>
                <a:lnTo>
                  <a:pt x="473" y="344"/>
                </a:lnTo>
                <a:lnTo>
                  <a:pt x="484" y="341"/>
                </a:lnTo>
                <a:lnTo>
                  <a:pt x="493" y="336"/>
                </a:lnTo>
                <a:lnTo>
                  <a:pt x="502" y="329"/>
                </a:lnTo>
                <a:lnTo>
                  <a:pt x="509" y="320"/>
                </a:lnTo>
                <a:lnTo>
                  <a:pt x="514" y="311"/>
                </a:lnTo>
                <a:lnTo>
                  <a:pt x="517" y="300"/>
                </a:lnTo>
                <a:lnTo>
                  <a:pt x="518" y="288"/>
                </a:lnTo>
                <a:lnTo>
                  <a:pt x="518" y="57"/>
                </a:lnTo>
                <a:lnTo>
                  <a:pt x="517" y="45"/>
                </a:lnTo>
                <a:lnTo>
                  <a:pt x="514" y="35"/>
                </a:lnTo>
                <a:lnTo>
                  <a:pt x="509" y="25"/>
                </a:lnTo>
                <a:lnTo>
                  <a:pt x="502" y="17"/>
                </a:lnTo>
                <a:lnTo>
                  <a:pt x="493" y="9"/>
                </a:lnTo>
                <a:lnTo>
                  <a:pt x="484" y="5"/>
                </a:lnTo>
                <a:lnTo>
                  <a:pt x="473" y="1"/>
                </a:lnTo>
                <a:lnTo>
                  <a:pt x="461" y="0"/>
                </a:lnTo>
                <a:lnTo>
                  <a:pt x="5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05440" y="258444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54040" y="2695680"/>
            <a:ext cx="601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02520" y="2552760"/>
            <a:ext cx="411120" cy="274680"/>
          </a:xfrm>
          <a:custGeom>
            <a:avLst/>
            <a:gdLst/>
            <a:ahLst/>
            <a:rect l="l" t="t" r="r" b="b"/>
            <a:pathLst>
              <a:path w="519" h="345">
                <a:moveTo>
                  <a:pt x="58" y="0"/>
                </a:moveTo>
                <a:lnTo>
                  <a:pt x="46" y="1"/>
                </a:lnTo>
                <a:lnTo>
                  <a:pt x="35" y="5"/>
                </a:lnTo>
                <a:lnTo>
                  <a:pt x="26" y="9"/>
                </a:lnTo>
                <a:lnTo>
                  <a:pt x="17" y="17"/>
                </a:lnTo>
                <a:lnTo>
                  <a:pt x="10" y="25"/>
                </a:lnTo>
                <a:lnTo>
                  <a:pt x="5" y="35"/>
                </a:lnTo>
                <a:lnTo>
                  <a:pt x="2" y="45"/>
                </a:lnTo>
                <a:lnTo>
                  <a:pt x="0" y="57"/>
                </a:lnTo>
                <a:lnTo>
                  <a:pt x="0" y="288"/>
                </a:lnTo>
                <a:lnTo>
                  <a:pt x="2" y="300"/>
                </a:lnTo>
                <a:lnTo>
                  <a:pt x="5" y="311"/>
                </a:lnTo>
                <a:lnTo>
                  <a:pt x="10" y="320"/>
                </a:lnTo>
                <a:lnTo>
                  <a:pt x="17" y="329"/>
                </a:lnTo>
                <a:lnTo>
                  <a:pt x="26" y="336"/>
                </a:lnTo>
                <a:lnTo>
                  <a:pt x="35" y="341"/>
                </a:lnTo>
                <a:lnTo>
                  <a:pt x="46" y="344"/>
                </a:lnTo>
                <a:lnTo>
                  <a:pt x="58" y="345"/>
                </a:lnTo>
                <a:lnTo>
                  <a:pt x="461" y="345"/>
                </a:lnTo>
                <a:lnTo>
                  <a:pt x="473" y="344"/>
                </a:lnTo>
                <a:lnTo>
                  <a:pt x="484" y="341"/>
                </a:lnTo>
                <a:lnTo>
                  <a:pt x="494" y="336"/>
                </a:lnTo>
                <a:lnTo>
                  <a:pt x="502" y="329"/>
                </a:lnTo>
                <a:lnTo>
                  <a:pt x="509" y="320"/>
                </a:lnTo>
                <a:lnTo>
                  <a:pt x="514" y="311"/>
                </a:lnTo>
                <a:lnTo>
                  <a:pt x="518" y="300"/>
                </a:lnTo>
                <a:lnTo>
                  <a:pt x="519" y="288"/>
                </a:lnTo>
                <a:lnTo>
                  <a:pt x="519" y="57"/>
                </a:lnTo>
                <a:lnTo>
                  <a:pt x="518" y="45"/>
                </a:lnTo>
                <a:lnTo>
                  <a:pt x="514" y="35"/>
                </a:lnTo>
                <a:lnTo>
                  <a:pt x="509" y="25"/>
                </a:lnTo>
                <a:lnTo>
                  <a:pt x="502" y="17"/>
                </a:lnTo>
                <a:lnTo>
                  <a:pt x="494" y="9"/>
                </a:lnTo>
                <a:lnTo>
                  <a:pt x="484" y="5"/>
                </a:lnTo>
                <a:lnTo>
                  <a:pt x="473" y="1"/>
                </a:lnTo>
                <a:lnTo>
                  <a:pt x="461" y="0"/>
                </a:lnTo>
                <a:lnTo>
                  <a:pt x="58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54800" y="258444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503400" y="2695680"/>
            <a:ext cx="601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5857920" y="2827440"/>
            <a:ext cx="65160" cy="593640"/>
            <a:chOff x="5857920" y="2827440"/>
            <a:chExt cx="65160" cy="593640"/>
          </a:xfrm>
        </p:grpSpPr>
        <p:sp>
          <p:nvSpPr>
            <p:cNvPr id="690" name=""/>
            <p:cNvSpPr/>
            <p:nvPr/>
          </p:nvSpPr>
          <p:spPr>
            <a:xfrm>
              <a:off x="5878440" y="2889360"/>
              <a:ext cx="23760" cy="53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57920" y="282744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6178680" y="2049480"/>
            <a:ext cx="63360" cy="136440"/>
            <a:chOff x="6178680" y="2049480"/>
            <a:chExt cx="63360" cy="136440"/>
          </a:xfrm>
        </p:grpSpPr>
        <p:sp>
          <p:nvSpPr>
            <p:cNvPr id="693" name=""/>
            <p:cNvSpPr/>
            <p:nvPr/>
          </p:nvSpPr>
          <p:spPr>
            <a:xfrm>
              <a:off x="6199200" y="2111400"/>
              <a:ext cx="22320" cy="7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178680" y="2049480"/>
              <a:ext cx="6336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5924520" y="2460600"/>
            <a:ext cx="22320" cy="9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519960" y="2460600"/>
            <a:ext cx="21960" cy="9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19960" y="2963880"/>
            <a:ext cx="21960" cy="41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002200" y="2049480"/>
            <a:ext cx="38160" cy="1371240"/>
            <a:chOff x="5002200" y="2049480"/>
            <a:chExt cx="38160" cy="1371240"/>
          </a:xfrm>
        </p:grpSpPr>
        <p:sp>
          <p:nvSpPr>
            <p:cNvPr id="699" name=""/>
            <p:cNvSpPr/>
            <p:nvPr/>
          </p:nvSpPr>
          <p:spPr>
            <a:xfrm flipV="1">
              <a:off x="5021280" y="2085480"/>
              <a:ext cx="1440" cy="133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02200" y="2049480"/>
              <a:ext cx="3816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7426440" y="2049480"/>
            <a:ext cx="38160" cy="1371240"/>
            <a:chOff x="7426440" y="2049480"/>
            <a:chExt cx="38160" cy="1371240"/>
          </a:xfrm>
        </p:grpSpPr>
        <p:sp>
          <p:nvSpPr>
            <p:cNvPr id="702" name=""/>
            <p:cNvSpPr/>
            <p:nvPr/>
          </p:nvSpPr>
          <p:spPr>
            <a:xfrm flipV="1">
              <a:off x="7445520" y="2085480"/>
              <a:ext cx="1440" cy="133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26440" y="2049480"/>
              <a:ext cx="3816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701120" y="2049480"/>
            <a:ext cx="37800" cy="1371240"/>
            <a:chOff x="7701120" y="2049480"/>
            <a:chExt cx="37800" cy="1371240"/>
          </a:xfrm>
        </p:grpSpPr>
        <p:sp>
          <p:nvSpPr>
            <p:cNvPr id="705" name=""/>
            <p:cNvSpPr/>
            <p:nvPr/>
          </p:nvSpPr>
          <p:spPr>
            <a:xfrm flipV="1">
              <a:off x="7719840" y="2085480"/>
              <a:ext cx="1800" cy="133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01120" y="2049480"/>
              <a:ext cx="3780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000760" y="3603600"/>
            <a:ext cx="41040" cy="1098720"/>
            <a:chOff x="5000760" y="3603600"/>
            <a:chExt cx="41040" cy="1098720"/>
          </a:xfrm>
        </p:grpSpPr>
        <p:sp>
          <p:nvSpPr>
            <p:cNvPr id="708" name=""/>
            <p:cNvSpPr/>
            <p:nvPr/>
          </p:nvSpPr>
          <p:spPr>
            <a:xfrm flipV="1">
              <a:off x="5021280" y="3643200"/>
              <a:ext cx="1440" cy="105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00760" y="360360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5229360" y="3603600"/>
            <a:ext cx="41040" cy="1098720"/>
            <a:chOff x="5229360" y="3603600"/>
            <a:chExt cx="41040" cy="1098720"/>
          </a:xfrm>
        </p:grpSpPr>
        <p:sp>
          <p:nvSpPr>
            <p:cNvPr id="711" name=""/>
            <p:cNvSpPr/>
            <p:nvPr/>
          </p:nvSpPr>
          <p:spPr>
            <a:xfrm flipV="1">
              <a:off x="5249880" y="3643200"/>
              <a:ext cx="1440" cy="105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229360" y="360360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6502320" y="1271520"/>
            <a:ext cx="55800" cy="138240"/>
            <a:chOff x="6502320" y="1271520"/>
            <a:chExt cx="55800" cy="138240"/>
          </a:xfrm>
        </p:grpSpPr>
        <p:sp>
          <p:nvSpPr>
            <p:cNvPr id="714" name=""/>
            <p:cNvSpPr/>
            <p:nvPr/>
          </p:nvSpPr>
          <p:spPr>
            <a:xfrm>
              <a:off x="6521400" y="1325520"/>
              <a:ext cx="17640" cy="8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02320" y="1271520"/>
              <a:ext cx="55800" cy="572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9" y="71"/>
                  </a:moveTo>
                  <a:lnTo>
                    <a:pt x="35" y="0"/>
                  </a:lnTo>
                  <a:lnTo>
                    <a:pt x="0" y="71"/>
                  </a:lnTo>
                  <a:lnTo>
                    <a:pt x="6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543720" y="1592280"/>
            <a:ext cx="261720" cy="103320"/>
            <a:chOff x="6543720" y="1592280"/>
            <a:chExt cx="261720" cy="103320"/>
          </a:xfrm>
        </p:grpSpPr>
        <p:sp>
          <p:nvSpPr>
            <p:cNvPr id="717" name=""/>
            <p:cNvSpPr/>
            <p:nvPr/>
          </p:nvSpPr>
          <p:spPr>
            <a:xfrm>
              <a:off x="6564240" y="1654200"/>
              <a:ext cx="241200" cy="41400"/>
            </a:xfrm>
            <a:custGeom>
              <a:avLst/>
              <a:gdLst/>
              <a:ahLst/>
              <a:rect l="l" t="t" r="r" b="b"/>
              <a:pathLst>
                <a:path w="302" h="51">
                  <a:moveTo>
                    <a:pt x="302" y="51"/>
                  </a:moveTo>
                  <a:lnTo>
                    <a:pt x="302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29" y="37"/>
                  </a:lnTo>
                  <a:lnTo>
                    <a:pt x="27" y="31"/>
                  </a:lnTo>
                  <a:lnTo>
                    <a:pt x="24" y="27"/>
                  </a:lnTo>
                  <a:lnTo>
                    <a:pt x="20" y="24"/>
                  </a:lnTo>
                  <a:lnTo>
                    <a:pt x="29" y="3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5" y="47"/>
                  </a:lnTo>
                  <a:lnTo>
                    <a:pt x="8" y="50"/>
                  </a:lnTo>
                  <a:lnTo>
                    <a:pt x="14" y="51"/>
                  </a:lnTo>
                  <a:lnTo>
                    <a:pt x="30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543720" y="159228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81"/>
                  </a:moveTo>
                  <a:lnTo>
                    <a:pt x="41" y="0"/>
                  </a:lnTo>
                  <a:lnTo>
                    <a:pt x="0" y="81"/>
                  </a:lnTo>
                  <a:lnTo>
                    <a:pt x="8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5524560" y="906480"/>
            <a:ext cx="411120" cy="318960"/>
          </a:xfrm>
          <a:custGeom>
            <a:avLst/>
            <a:gdLst/>
            <a:ahLst/>
            <a:rect l="l" t="t" r="r" b="b"/>
            <a:pathLst>
              <a:path w="518" h="404">
                <a:moveTo>
                  <a:pt x="67" y="0"/>
                </a:moveTo>
                <a:lnTo>
                  <a:pt x="54" y="2"/>
                </a:lnTo>
                <a:lnTo>
                  <a:pt x="40" y="5"/>
                </a:lnTo>
                <a:lnTo>
                  <a:pt x="30" y="12"/>
                </a:lnTo>
                <a:lnTo>
                  <a:pt x="19" y="20"/>
                </a:lnTo>
                <a:lnTo>
                  <a:pt x="12" y="30"/>
                </a:lnTo>
                <a:lnTo>
                  <a:pt x="4" y="41"/>
                </a:lnTo>
                <a:lnTo>
                  <a:pt x="1" y="55"/>
                </a:lnTo>
                <a:lnTo>
                  <a:pt x="0" y="68"/>
                </a:lnTo>
                <a:lnTo>
                  <a:pt x="0" y="337"/>
                </a:lnTo>
                <a:lnTo>
                  <a:pt x="1" y="350"/>
                </a:lnTo>
                <a:lnTo>
                  <a:pt x="4" y="363"/>
                </a:lnTo>
                <a:lnTo>
                  <a:pt x="12" y="374"/>
                </a:lnTo>
                <a:lnTo>
                  <a:pt x="19" y="385"/>
                </a:lnTo>
                <a:lnTo>
                  <a:pt x="30" y="392"/>
                </a:lnTo>
                <a:lnTo>
                  <a:pt x="40" y="399"/>
                </a:lnTo>
                <a:lnTo>
                  <a:pt x="54" y="403"/>
                </a:lnTo>
                <a:lnTo>
                  <a:pt x="67" y="404"/>
                </a:lnTo>
                <a:lnTo>
                  <a:pt x="451" y="404"/>
                </a:lnTo>
                <a:lnTo>
                  <a:pt x="464" y="403"/>
                </a:lnTo>
                <a:lnTo>
                  <a:pt x="477" y="399"/>
                </a:lnTo>
                <a:lnTo>
                  <a:pt x="488" y="392"/>
                </a:lnTo>
                <a:lnTo>
                  <a:pt x="499" y="385"/>
                </a:lnTo>
                <a:lnTo>
                  <a:pt x="506" y="374"/>
                </a:lnTo>
                <a:lnTo>
                  <a:pt x="514" y="363"/>
                </a:lnTo>
                <a:lnTo>
                  <a:pt x="517" y="350"/>
                </a:lnTo>
                <a:lnTo>
                  <a:pt x="518" y="337"/>
                </a:lnTo>
                <a:lnTo>
                  <a:pt x="518" y="68"/>
                </a:lnTo>
                <a:lnTo>
                  <a:pt x="517" y="55"/>
                </a:lnTo>
                <a:lnTo>
                  <a:pt x="514" y="41"/>
                </a:lnTo>
                <a:lnTo>
                  <a:pt x="506" y="30"/>
                </a:lnTo>
                <a:lnTo>
                  <a:pt x="499" y="20"/>
                </a:lnTo>
                <a:lnTo>
                  <a:pt x="488" y="12"/>
                </a:lnTo>
                <a:lnTo>
                  <a:pt x="477" y="5"/>
                </a:lnTo>
                <a:lnTo>
                  <a:pt x="464" y="2"/>
                </a:lnTo>
                <a:lnTo>
                  <a:pt x="451" y="0"/>
                </a:lnTo>
                <a:lnTo>
                  <a:pt x="6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652720" y="961920"/>
            <a:ext cx="1958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42080" y="961920"/>
            <a:ext cx="25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639040" y="1071720"/>
            <a:ext cx="2642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6726240" y="723960"/>
            <a:ext cx="65160" cy="136440"/>
            <a:chOff x="6726240" y="723960"/>
            <a:chExt cx="65160" cy="136440"/>
          </a:xfrm>
        </p:grpSpPr>
        <p:sp>
          <p:nvSpPr>
            <p:cNvPr id="724" name=""/>
            <p:cNvSpPr/>
            <p:nvPr/>
          </p:nvSpPr>
          <p:spPr>
            <a:xfrm>
              <a:off x="6748560" y="785880"/>
              <a:ext cx="21960" cy="7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6240" y="723960"/>
              <a:ext cx="65160" cy="633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178680" y="723960"/>
            <a:ext cx="63360" cy="1143000"/>
            <a:chOff x="6178680" y="723960"/>
            <a:chExt cx="63360" cy="1143000"/>
          </a:xfrm>
        </p:grpSpPr>
        <p:sp>
          <p:nvSpPr>
            <p:cNvPr id="727" name=""/>
            <p:cNvSpPr/>
            <p:nvPr/>
          </p:nvSpPr>
          <p:spPr>
            <a:xfrm>
              <a:off x="6199200" y="785880"/>
              <a:ext cx="22320" cy="108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178680" y="723960"/>
              <a:ext cx="63360" cy="633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6210360" y="1592280"/>
            <a:ext cx="261720" cy="193680"/>
            <a:chOff x="6210360" y="1592280"/>
            <a:chExt cx="261720" cy="193680"/>
          </a:xfrm>
        </p:grpSpPr>
        <p:sp>
          <p:nvSpPr>
            <p:cNvPr id="730" name=""/>
            <p:cNvSpPr/>
            <p:nvPr/>
          </p:nvSpPr>
          <p:spPr>
            <a:xfrm>
              <a:off x="6210360" y="1654200"/>
              <a:ext cx="239760" cy="131760"/>
            </a:xfrm>
            <a:custGeom>
              <a:avLst/>
              <a:gdLst/>
              <a:ahLst/>
              <a:rect l="l" t="t" r="r" b="b"/>
              <a:pathLst>
                <a:path w="303" h="167">
                  <a:moveTo>
                    <a:pt x="0" y="138"/>
                  </a:moveTo>
                  <a:lnTo>
                    <a:pt x="0" y="167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94" y="165"/>
                  </a:lnTo>
                  <a:lnTo>
                    <a:pt x="298" y="162"/>
                  </a:lnTo>
                  <a:lnTo>
                    <a:pt x="301" y="158"/>
                  </a:lnTo>
                  <a:lnTo>
                    <a:pt x="303" y="152"/>
                  </a:lnTo>
                  <a:lnTo>
                    <a:pt x="303" y="0"/>
                  </a:lnTo>
                  <a:lnTo>
                    <a:pt x="274" y="0"/>
                  </a:lnTo>
                  <a:lnTo>
                    <a:pt x="274" y="152"/>
                  </a:lnTo>
                  <a:lnTo>
                    <a:pt x="288" y="138"/>
                  </a:lnTo>
                  <a:lnTo>
                    <a:pt x="282" y="139"/>
                  </a:lnTo>
                  <a:lnTo>
                    <a:pt x="279" y="143"/>
                  </a:lnTo>
                  <a:lnTo>
                    <a:pt x="275" y="146"/>
                  </a:lnTo>
                  <a:lnTo>
                    <a:pt x="274" y="152"/>
                  </a:lnTo>
                  <a:lnTo>
                    <a:pt x="288" y="152"/>
                  </a:lnTo>
                  <a:lnTo>
                    <a:pt x="28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407280" y="1592280"/>
              <a:ext cx="6480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81"/>
                  </a:moveTo>
                  <a:lnTo>
                    <a:pt x="41" y="0"/>
                  </a:lnTo>
                  <a:lnTo>
                    <a:pt x="0" y="81"/>
                  </a:lnTo>
                  <a:lnTo>
                    <a:pt x="8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426440" y="723960"/>
            <a:ext cx="38160" cy="1143000"/>
            <a:chOff x="7426440" y="723960"/>
            <a:chExt cx="38160" cy="1143000"/>
          </a:xfrm>
        </p:grpSpPr>
        <p:sp>
          <p:nvSpPr>
            <p:cNvPr id="733" name=""/>
            <p:cNvSpPr/>
            <p:nvPr/>
          </p:nvSpPr>
          <p:spPr>
            <a:xfrm flipV="1">
              <a:off x="7445520" y="758880"/>
              <a:ext cx="1440" cy="110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426440" y="723960"/>
              <a:ext cx="38160" cy="381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7701120" y="723960"/>
            <a:ext cx="37800" cy="1143000"/>
            <a:chOff x="7701120" y="723960"/>
            <a:chExt cx="37800" cy="1143000"/>
          </a:xfrm>
        </p:grpSpPr>
        <p:sp>
          <p:nvSpPr>
            <p:cNvPr id="736" name=""/>
            <p:cNvSpPr/>
            <p:nvPr/>
          </p:nvSpPr>
          <p:spPr>
            <a:xfrm flipV="1">
              <a:off x="7719840" y="758880"/>
              <a:ext cx="1800" cy="110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01120" y="723960"/>
              <a:ext cx="37800" cy="381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5945040" y="960480"/>
            <a:ext cx="403200" cy="74520"/>
            <a:chOff x="5945040" y="960480"/>
            <a:chExt cx="403200" cy="74520"/>
          </a:xfrm>
        </p:grpSpPr>
        <p:sp>
          <p:nvSpPr>
            <p:cNvPr id="739" name=""/>
            <p:cNvSpPr/>
            <p:nvPr/>
          </p:nvSpPr>
          <p:spPr>
            <a:xfrm>
              <a:off x="626436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2420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18280" y="99216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9596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736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4988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127920" y="99216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103800" y="99216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818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952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3576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134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989680" y="99216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96736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50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73720" y="960480"/>
              <a:ext cx="74520" cy="7452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0" y="94"/>
                  </a:moveTo>
                  <a:lnTo>
                    <a:pt x="94" y="47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5945040" y="1096920"/>
            <a:ext cx="403200" cy="74520"/>
            <a:chOff x="5945040" y="1096920"/>
            <a:chExt cx="403200" cy="74520"/>
          </a:xfrm>
        </p:grpSpPr>
        <p:sp>
          <p:nvSpPr>
            <p:cNvPr id="756" name=""/>
            <p:cNvSpPr/>
            <p:nvPr/>
          </p:nvSpPr>
          <p:spPr>
            <a:xfrm>
              <a:off x="626436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420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18280" y="11286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19596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1736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4988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127920" y="112860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03800" y="112860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818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5952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3576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0134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89680" y="11286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6736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9450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273720" y="1096920"/>
              <a:ext cx="74520" cy="7452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0" y="93"/>
                  </a:moveTo>
                  <a:lnTo>
                    <a:pt x="94" y="47"/>
                  </a:lnTo>
                  <a:lnTo>
                    <a:pt x="0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348240" y="1363680"/>
            <a:ext cx="319320" cy="228600"/>
          </a:xfrm>
          <a:custGeom>
            <a:avLst/>
            <a:gdLst/>
            <a:ahLst/>
            <a:rect l="l" t="t" r="r" b="b"/>
            <a:pathLst>
              <a:path w="403" h="288">
                <a:moveTo>
                  <a:pt x="48" y="0"/>
                </a:moveTo>
                <a:lnTo>
                  <a:pt x="38" y="1"/>
                </a:lnTo>
                <a:lnTo>
                  <a:pt x="30" y="3"/>
                </a:lnTo>
                <a:lnTo>
                  <a:pt x="22" y="8"/>
                </a:lnTo>
                <a:lnTo>
                  <a:pt x="14" y="14"/>
                </a:lnTo>
                <a:lnTo>
                  <a:pt x="8" y="21"/>
                </a:lnTo>
                <a:lnTo>
                  <a:pt x="4" y="30"/>
                </a:lnTo>
                <a:lnTo>
                  <a:pt x="1" y="38"/>
                </a:lnTo>
                <a:lnTo>
                  <a:pt x="0" y="48"/>
                </a:lnTo>
                <a:lnTo>
                  <a:pt x="0" y="240"/>
                </a:lnTo>
                <a:lnTo>
                  <a:pt x="1" y="249"/>
                </a:lnTo>
                <a:lnTo>
                  <a:pt x="4" y="259"/>
                </a:lnTo>
                <a:lnTo>
                  <a:pt x="8" y="266"/>
                </a:lnTo>
                <a:lnTo>
                  <a:pt x="14" y="273"/>
                </a:lnTo>
                <a:lnTo>
                  <a:pt x="22" y="279"/>
                </a:lnTo>
                <a:lnTo>
                  <a:pt x="30" y="284"/>
                </a:lnTo>
                <a:lnTo>
                  <a:pt x="38" y="287"/>
                </a:lnTo>
                <a:lnTo>
                  <a:pt x="48" y="288"/>
                </a:lnTo>
                <a:lnTo>
                  <a:pt x="355" y="288"/>
                </a:lnTo>
                <a:lnTo>
                  <a:pt x="365" y="287"/>
                </a:lnTo>
                <a:lnTo>
                  <a:pt x="375" y="284"/>
                </a:lnTo>
                <a:lnTo>
                  <a:pt x="382" y="279"/>
                </a:lnTo>
                <a:lnTo>
                  <a:pt x="389" y="273"/>
                </a:lnTo>
                <a:lnTo>
                  <a:pt x="395" y="266"/>
                </a:lnTo>
                <a:lnTo>
                  <a:pt x="400" y="259"/>
                </a:lnTo>
                <a:lnTo>
                  <a:pt x="402" y="249"/>
                </a:lnTo>
                <a:lnTo>
                  <a:pt x="403" y="240"/>
                </a:lnTo>
                <a:lnTo>
                  <a:pt x="403" y="48"/>
                </a:lnTo>
                <a:lnTo>
                  <a:pt x="402" y="38"/>
                </a:lnTo>
                <a:lnTo>
                  <a:pt x="400" y="30"/>
                </a:lnTo>
                <a:lnTo>
                  <a:pt x="395" y="21"/>
                </a:lnTo>
                <a:lnTo>
                  <a:pt x="389" y="14"/>
                </a:lnTo>
                <a:lnTo>
                  <a:pt x="382" y="8"/>
                </a:lnTo>
                <a:lnTo>
                  <a:pt x="375" y="3"/>
                </a:lnTo>
                <a:lnTo>
                  <a:pt x="365" y="1"/>
                </a:lnTo>
                <a:lnTo>
                  <a:pt x="355" y="0"/>
                </a:lnTo>
                <a:lnTo>
                  <a:pt x="48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448680" y="1427040"/>
            <a:ext cx="186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8248680" y="3603600"/>
            <a:ext cx="41400" cy="274320"/>
            <a:chOff x="8248680" y="3603600"/>
            <a:chExt cx="41400" cy="274320"/>
          </a:xfrm>
        </p:grpSpPr>
        <p:sp>
          <p:nvSpPr>
            <p:cNvPr id="775" name=""/>
            <p:cNvSpPr/>
            <p:nvPr/>
          </p:nvSpPr>
          <p:spPr>
            <a:xfrm flipV="1">
              <a:off x="8269200" y="3642840"/>
              <a:ext cx="1800" cy="235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248680" y="3603600"/>
              <a:ext cx="4140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7974000" y="3603600"/>
            <a:ext cx="41400" cy="229680"/>
            <a:chOff x="7974000" y="3603600"/>
            <a:chExt cx="41400" cy="229680"/>
          </a:xfrm>
        </p:grpSpPr>
        <p:sp>
          <p:nvSpPr>
            <p:cNvPr id="778" name=""/>
            <p:cNvSpPr/>
            <p:nvPr/>
          </p:nvSpPr>
          <p:spPr>
            <a:xfrm flipV="1">
              <a:off x="7994520" y="3642840"/>
              <a:ext cx="1800" cy="190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74000" y="3603600"/>
              <a:ext cx="4140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7856640" y="3741840"/>
            <a:ext cx="274680" cy="18252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38" y="0"/>
                </a:moveTo>
                <a:lnTo>
                  <a:pt x="30" y="1"/>
                </a:lnTo>
                <a:lnTo>
                  <a:pt x="23" y="3"/>
                </a:lnTo>
                <a:lnTo>
                  <a:pt x="17" y="6"/>
                </a:lnTo>
                <a:lnTo>
                  <a:pt x="11" y="11"/>
                </a:lnTo>
                <a:lnTo>
                  <a:pt x="6" y="17"/>
                </a:lnTo>
                <a:lnTo>
                  <a:pt x="4" y="23"/>
                </a:lnTo>
                <a:lnTo>
                  <a:pt x="1" y="30"/>
                </a:lnTo>
                <a:lnTo>
                  <a:pt x="0" y="38"/>
                </a:lnTo>
                <a:lnTo>
                  <a:pt x="0" y="192"/>
                </a:lnTo>
                <a:lnTo>
                  <a:pt x="1" y="200"/>
                </a:lnTo>
                <a:lnTo>
                  <a:pt x="4" y="207"/>
                </a:lnTo>
                <a:lnTo>
                  <a:pt x="6" y="213"/>
                </a:lnTo>
                <a:lnTo>
                  <a:pt x="11" y="219"/>
                </a:lnTo>
                <a:lnTo>
                  <a:pt x="17" y="224"/>
                </a:lnTo>
                <a:lnTo>
                  <a:pt x="23" y="228"/>
                </a:lnTo>
                <a:lnTo>
                  <a:pt x="30" y="229"/>
                </a:lnTo>
                <a:lnTo>
                  <a:pt x="38" y="230"/>
                </a:lnTo>
                <a:lnTo>
                  <a:pt x="307" y="230"/>
                </a:lnTo>
                <a:lnTo>
                  <a:pt x="316" y="229"/>
                </a:lnTo>
                <a:lnTo>
                  <a:pt x="323" y="228"/>
                </a:lnTo>
                <a:lnTo>
                  <a:pt x="329" y="224"/>
                </a:lnTo>
                <a:lnTo>
                  <a:pt x="335" y="219"/>
                </a:lnTo>
                <a:lnTo>
                  <a:pt x="340" y="213"/>
                </a:lnTo>
                <a:lnTo>
                  <a:pt x="343" y="207"/>
                </a:lnTo>
                <a:lnTo>
                  <a:pt x="345" y="200"/>
                </a:lnTo>
                <a:lnTo>
                  <a:pt x="346" y="192"/>
                </a:lnTo>
                <a:lnTo>
                  <a:pt x="346" y="38"/>
                </a:lnTo>
                <a:lnTo>
                  <a:pt x="345" y="30"/>
                </a:lnTo>
                <a:lnTo>
                  <a:pt x="343" y="23"/>
                </a:lnTo>
                <a:lnTo>
                  <a:pt x="340" y="17"/>
                </a:lnTo>
                <a:lnTo>
                  <a:pt x="335" y="11"/>
                </a:lnTo>
                <a:lnTo>
                  <a:pt x="329" y="6"/>
                </a:lnTo>
                <a:lnTo>
                  <a:pt x="323" y="3"/>
                </a:lnTo>
                <a:lnTo>
                  <a:pt x="316" y="1"/>
                </a:lnTo>
                <a:lnTo>
                  <a:pt x="307" y="0"/>
                </a:lnTo>
                <a:lnTo>
                  <a:pt x="38" y="0"/>
                </a:lnTo>
                <a:close/>
              </a:path>
            </a:pathLst>
          </a:custGeom>
          <a:solidFill>
            <a:srgbClr val="00cc66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937640" y="3784680"/>
            <a:ext cx="177480" cy="961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131320" y="3741840"/>
            <a:ext cx="274320" cy="18252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38" y="0"/>
                </a:moveTo>
                <a:lnTo>
                  <a:pt x="30" y="1"/>
                </a:lnTo>
                <a:lnTo>
                  <a:pt x="23" y="3"/>
                </a:lnTo>
                <a:lnTo>
                  <a:pt x="17" y="6"/>
                </a:lnTo>
                <a:lnTo>
                  <a:pt x="11" y="11"/>
                </a:lnTo>
                <a:lnTo>
                  <a:pt x="6" y="17"/>
                </a:lnTo>
                <a:lnTo>
                  <a:pt x="3" y="23"/>
                </a:lnTo>
                <a:lnTo>
                  <a:pt x="1" y="30"/>
                </a:lnTo>
                <a:lnTo>
                  <a:pt x="0" y="38"/>
                </a:lnTo>
                <a:lnTo>
                  <a:pt x="0" y="192"/>
                </a:lnTo>
                <a:lnTo>
                  <a:pt x="1" y="200"/>
                </a:lnTo>
                <a:lnTo>
                  <a:pt x="3" y="207"/>
                </a:lnTo>
                <a:lnTo>
                  <a:pt x="6" y="213"/>
                </a:lnTo>
                <a:lnTo>
                  <a:pt x="11" y="219"/>
                </a:lnTo>
                <a:lnTo>
                  <a:pt x="17" y="224"/>
                </a:lnTo>
                <a:lnTo>
                  <a:pt x="23" y="228"/>
                </a:lnTo>
                <a:lnTo>
                  <a:pt x="30" y="229"/>
                </a:lnTo>
                <a:lnTo>
                  <a:pt x="38" y="230"/>
                </a:lnTo>
                <a:lnTo>
                  <a:pt x="307" y="230"/>
                </a:lnTo>
                <a:lnTo>
                  <a:pt x="316" y="229"/>
                </a:lnTo>
                <a:lnTo>
                  <a:pt x="323" y="228"/>
                </a:lnTo>
                <a:lnTo>
                  <a:pt x="329" y="224"/>
                </a:lnTo>
                <a:lnTo>
                  <a:pt x="335" y="219"/>
                </a:lnTo>
                <a:lnTo>
                  <a:pt x="340" y="213"/>
                </a:lnTo>
                <a:lnTo>
                  <a:pt x="343" y="207"/>
                </a:lnTo>
                <a:lnTo>
                  <a:pt x="344" y="200"/>
                </a:lnTo>
                <a:lnTo>
                  <a:pt x="346" y="192"/>
                </a:lnTo>
                <a:lnTo>
                  <a:pt x="346" y="38"/>
                </a:lnTo>
                <a:lnTo>
                  <a:pt x="344" y="30"/>
                </a:lnTo>
                <a:lnTo>
                  <a:pt x="343" y="23"/>
                </a:lnTo>
                <a:lnTo>
                  <a:pt x="340" y="17"/>
                </a:lnTo>
                <a:lnTo>
                  <a:pt x="335" y="11"/>
                </a:lnTo>
                <a:lnTo>
                  <a:pt x="329" y="6"/>
                </a:lnTo>
                <a:lnTo>
                  <a:pt x="323" y="3"/>
                </a:lnTo>
                <a:lnTo>
                  <a:pt x="316" y="1"/>
                </a:lnTo>
                <a:lnTo>
                  <a:pt x="307" y="0"/>
                </a:lnTo>
                <a:lnTo>
                  <a:pt x="38" y="0"/>
                </a:lnTo>
                <a:close/>
              </a:path>
            </a:pathLst>
          </a:custGeom>
          <a:solidFill>
            <a:srgbClr val="00cc66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211960" y="378468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6073920" y="392040"/>
            <a:ext cx="2573280" cy="5440320"/>
            <a:chOff x="6073920" y="392040"/>
            <a:chExt cx="2573280" cy="5440320"/>
          </a:xfrm>
        </p:grpSpPr>
        <p:sp>
          <p:nvSpPr>
            <p:cNvPr id="785" name=""/>
            <p:cNvSpPr/>
            <p:nvPr/>
          </p:nvSpPr>
          <p:spPr>
            <a:xfrm>
              <a:off x="6135840" y="392040"/>
              <a:ext cx="2511360" cy="5418360"/>
            </a:xfrm>
            <a:custGeom>
              <a:avLst/>
              <a:gdLst/>
              <a:ahLst/>
              <a:rect l="l" t="t" r="r" b="b"/>
              <a:pathLst>
                <a:path w="3164" h="6828">
                  <a:moveTo>
                    <a:pt x="772" y="188"/>
                  </a:moveTo>
                  <a:lnTo>
                    <a:pt x="801" y="188"/>
                  </a:lnTo>
                  <a:lnTo>
                    <a:pt x="801" y="15"/>
                  </a:lnTo>
                  <a:lnTo>
                    <a:pt x="787" y="15"/>
                  </a:lnTo>
                  <a:lnTo>
                    <a:pt x="787" y="29"/>
                  </a:lnTo>
                  <a:lnTo>
                    <a:pt x="793" y="28"/>
                  </a:lnTo>
                  <a:lnTo>
                    <a:pt x="796" y="24"/>
                  </a:lnTo>
                  <a:lnTo>
                    <a:pt x="800" y="21"/>
                  </a:lnTo>
                  <a:lnTo>
                    <a:pt x="787" y="29"/>
                  </a:lnTo>
                  <a:lnTo>
                    <a:pt x="3150" y="29"/>
                  </a:lnTo>
                  <a:lnTo>
                    <a:pt x="3150" y="15"/>
                  </a:lnTo>
                  <a:lnTo>
                    <a:pt x="3135" y="15"/>
                  </a:lnTo>
                  <a:lnTo>
                    <a:pt x="3136" y="21"/>
                  </a:lnTo>
                  <a:lnTo>
                    <a:pt x="3140" y="24"/>
                  </a:lnTo>
                  <a:lnTo>
                    <a:pt x="3144" y="28"/>
                  </a:lnTo>
                  <a:lnTo>
                    <a:pt x="3135" y="15"/>
                  </a:lnTo>
                  <a:lnTo>
                    <a:pt x="3135" y="6814"/>
                  </a:lnTo>
                  <a:lnTo>
                    <a:pt x="3150" y="6814"/>
                  </a:lnTo>
                  <a:lnTo>
                    <a:pt x="3150" y="6799"/>
                  </a:lnTo>
                  <a:lnTo>
                    <a:pt x="3144" y="6800"/>
                  </a:lnTo>
                  <a:lnTo>
                    <a:pt x="3140" y="6804"/>
                  </a:lnTo>
                  <a:lnTo>
                    <a:pt x="3136" y="6808"/>
                  </a:lnTo>
                  <a:lnTo>
                    <a:pt x="3150" y="6799"/>
                  </a:lnTo>
                  <a:lnTo>
                    <a:pt x="0" y="6799"/>
                  </a:lnTo>
                  <a:lnTo>
                    <a:pt x="0" y="6828"/>
                  </a:lnTo>
                  <a:lnTo>
                    <a:pt x="3150" y="6828"/>
                  </a:lnTo>
                  <a:lnTo>
                    <a:pt x="3150" y="6828"/>
                  </a:lnTo>
                  <a:lnTo>
                    <a:pt x="3156" y="6827"/>
                  </a:lnTo>
                  <a:lnTo>
                    <a:pt x="3159" y="6823"/>
                  </a:lnTo>
                  <a:lnTo>
                    <a:pt x="3163" y="6820"/>
                  </a:lnTo>
                  <a:lnTo>
                    <a:pt x="3164" y="6814"/>
                  </a:lnTo>
                  <a:lnTo>
                    <a:pt x="3164" y="6814"/>
                  </a:lnTo>
                  <a:lnTo>
                    <a:pt x="3164" y="15"/>
                  </a:lnTo>
                  <a:lnTo>
                    <a:pt x="3164" y="15"/>
                  </a:lnTo>
                  <a:lnTo>
                    <a:pt x="3163" y="9"/>
                  </a:lnTo>
                  <a:lnTo>
                    <a:pt x="3159" y="5"/>
                  </a:lnTo>
                  <a:lnTo>
                    <a:pt x="3156" y="1"/>
                  </a:lnTo>
                  <a:lnTo>
                    <a:pt x="3150" y="0"/>
                  </a:lnTo>
                  <a:lnTo>
                    <a:pt x="787" y="0"/>
                  </a:lnTo>
                  <a:lnTo>
                    <a:pt x="787" y="0"/>
                  </a:lnTo>
                  <a:lnTo>
                    <a:pt x="781" y="1"/>
                  </a:lnTo>
                  <a:lnTo>
                    <a:pt x="777" y="5"/>
                  </a:lnTo>
                  <a:lnTo>
                    <a:pt x="774" y="9"/>
                  </a:lnTo>
                  <a:lnTo>
                    <a:pt x="772" y="15"/>
                  </a:lnTo>
                  <a:lnTo>
                    <a:pt x="772" y="15"/>
                  </a:lnTo>
                  <a:lnTo>
                    <a:pt x="772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73920" y="5767560"/>
              <a:ext cx="63360" cy="6480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0"/>
                  </a:moveTo>
                  <a:lnTo>
                    <a:pt x="0" y="41"/>
                  </a:lnTo>
                  <a:lnTo>
                    <a:pt x="82" y="8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6199200" y="299880"/>
            <a:ext cx="2538360" cy="2984760"/>
          </a:xfrm>
          <a:custGeom>
            <a:avLst/>
            <a:gdLst/>
            <a:ahLst/>
            <a:rect l="l" t="t" r="r" b="b"/>
            <a:pathLst>
              <a:path w="3198" h="3760">
                <a:moveTo>
                  <a:pt x="0" y="303"/>
                </a:moveTo>
                <a:lnTo>
                  <a:pt x="29" y="303"/>
                </a:lnTo>
                <a:lnTo>
                  <a:pt x="29" y="14"/>
                </a:lnTo>
                <a:lnTo>
                  <a:pt x="14" y="14"/>
                </a:lnTo>
                <a:lnTo>
                  <a:pt x="14" y="29"/>
                </a:lnTo>
                <a:lnTo>
                  <a:pt x="20" y="28"/>
                </a:lnTo>
                <a:lnTo>
                  <a:pt x="24" y="24"/>
                </a:lnTo>
                <a:lnTo>
                  <a:pt x="27" y="20"/>
                </a:lnTo>
                <a:lnTo>
                  <a:pt x="14" y="29"/>
                </a:lnTo>
                <a:lnTo>
                  <a:pt x="3184" y="29"/>
                </a:lnTo>
                <a:lnTo>
                  <a:pt x="3184" y="14"/>
                </a:lnTo>
                <a:lnTo>
                  <a:pt x="3170" y="14"/>
                </a:lnTo>
                <a:lnTo>
                  <a:pt x="3171" y="20"/>
                </a:lnTo>
                <a:lnTo>
                  <a:pt x="3174" y="24"/>
                </a:lnTo>
                <a:lnTo>
                  <a:pt x="3178" y="28"/>
                </a:lnTo>
                <a:lnTo>
                  <a:pt x="3170" y="14"/>
                </a:lnTo>
                <a:lnTo>
                  <a:pt x="3170" y="3760"/>
                </a:lnTo>
                <a:lnTo>
                  <a:pt x="3198" y="3760"/>
                </a:lnTo>
                <a:lnTo>
                  <a:pt x="3198" y="14"/>
                </a:lnTo>
                <a:lnTo>
                  <a:pt x="3198" y="14"/>
                </a:lnTo>
                <a:lnTo>
                  <a:pt x="3197" y="8"/>
                </a:lnTo>
                <a:lnTo>
                  <a:pt x="3194" y="5"/>
                </a:lnTo>
                <a:lnTo>
                  <a:pt x="3190" y="1"/>
                </a:lnTo>
                <a:lnTo>
                  <a:pt x="3184" y="0"/>
                </a:lnTo>
                <a:lnTo>
                  <a:pt x="14" y="0"/>
                </a:lnTo>
                <a:lnTo>
                  <a:pt x="14" y="0"/>
                </a:lnTo>
                <a:lnTo>
                  <a:pt x="8" y="1"/>
                </a:lnTo>
                <a:lnTo>
                  <a:pt x="5" y="5"/>
                </a:lnTo>
                <a:lnTo>
                  <a:pt x="1" y="8"/>
                </a:lnTo>
                <a:lnTo>
                  <a:pt x="0" y="14"/>
                </a:lnTo>
                <a:lnTo>
                  <a:pt x="0" y="14"/>
                </a:lnTo>
                <a:lnTo>
                  <a:pt x="0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262640" y="4121280"/>
            <a:ext cx="1371600" cy="64800"/>
            <a:chOff x="7262640" y="4121280"/>
            <a:chExt cx="1371600" cy="64800"/>
          </a:xfrm>
        </p:grpSpPr>
        <p:sp>
          <p:nvSpPr>
            <p:cNvPr id="789" name=""/>
            <p:cNvSpPr/>
            <p:nvPr/>
          </p:nvSpPr>
          <p:spPr>
            <a:xfrm>
              <a:off x="7324560" y="4141800"/>
              <a:ext cx="13096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262640" y="4121280"/>
              <a:ext cx="65160" cy="6480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0"/>
                  </a:moveTo>
                  <a:lnTo>
                    <a:pt x="0" y="40"/>
                  </a:lnTo>
                  <a:lnTo>
                    <a:pt x="81" y="8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781680" y="1660680"/>
            <a:ext cx="47880" cy="4572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59720" y="1638360"/>
            <a:ext cx="91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781680" y="1660680"/>
            <a:ext cx="47880" cy="4572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759720" y="1638360"/>
            <a:ext cx="91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19920" y="5045040"/>
            <a:ext cx="460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96160" y="5022720"/>
            <a:ext cx="93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19920" y="5045040"/>
            <a:ext cx="460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96160" y="5022720"/>
            <a:ext cx="93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507000" y="2941560"/>
            <a:ext cx="478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485040" y="2917800"/>
            <a:ext cx="918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07000" y="2941560"/>
            <a:ext cx="478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485040" y="2917800"/>
            <a:ext cx="918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612280" y="4130640"/>
            <a:ext cx="460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589960" y="4106880"/>
            <a:ext cx="9216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612280" y="4130640"/>
            <a:ext cx="460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589960" y="4106880"/>
            <a:ext cx="9216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35680" y="860400"/>
            <a:ext cx="3668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005880" y="893880"/>
            <a:ext cx="15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935680" y="1135080"/>
            <a:ext cx="3207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06600" y="1168560"/>
            <a:ext cx="162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896160" y="2141640"/>
            <a:ext cx="412560" cy="318960"/>
          </a:xfrm>
          <a:custGeom>
            <a:avLst/>
            <a:gdLst/>
            <a:ahLst/>
            <a:rect l="l" t="t" r="r" b="b"/>
            <a:pathLst>
              <a:path w="518" h="403">
                <a:moveTo>
                  <a:pt x="67" y="0"/>
                </a:moveTo>
                <a:lnTo>
                  <a:pt x="54" y="1"/>
                </a:lnTo>
                <a:lnTo>
                  <a:pt x="40" y="5"/>
                </a:lnTo>
                <a:lnTo>
                  <a:pt x="30" y="12"/>
                </a:lnTo>
                <a:lnTo>
                  <a:pt x="19" y="19"/>
                </a:lnTo>
                <a:lnTo>
                  <a:pt x="12" y="30"/>
                </a:lnTo>
                <a:lnTo>
                  <a:pt x="4" y="41"/>
                </a:lnTo>
                <a:lnTo>
                  <a:pt x="1" y="54"/>
                </a:lnTo>
                <a:lnTo>
                  <a:pt x="0" y="67"/>
                </a:lnTo>
                <a:lnTo>
                  <a:pt x="0" y="336"/>
                </a:lnTo>
                <a:lnTo>
                  <a:pt x="1" y="349"/>
                </a:lnTo>
                <a:lnTo>
                  <a:pt x="4" y="363"/>
                </a:lnTo>
                <a:lnTo>
                  <a:pt x="12" y="373"/>
                </a:lnTo>
                <a:lnTo>
                  <a:pt x="19" y="384"/>
                </a:lnTo>
                <a:lnTo>
                  <a:pt x="30" y="391"/>
                </a:lnTo>
                <a:lnTo>
                  <a:pt x="40" y="399"/>
                </a:lnTo>
                <a:lnTo>
                  <a:pt x="54" y="402"/>
                </a:lnTo>
                <a:lnTo>
                  <a:pt x="67" y="403"/>
                </a:lnTo>
                <a:lnTo>
                  <a:pt x="451" y="403"/>
                </a:lnTo>
                <a:lnTo>
                  <a:pt x="464" y="402"/>
                </a:lnTo>
                <a:lnTo>
                  <a:pt x="477" y="399"/>
                </a:lnTo>
                <a:lnTo>
                  <a:pt x="488" y="391"/>
                </a:lnTo>
                <a:lnTo>
                  <a:pt x="499" y="384"/>
                </a:lnTo>
                <a:lnTo>
                  <a:pt x="506" y="373"/>
                </a:lnTo>
                <a:lnTo>
                  <a:pt x="514" y="363"/>
                </a:lnTo>
                <a:lnTo>
                  <a:pt x="517" y="349"/>
                </a:lnTo>
                <a:lnTo>
                  <a:pt x="518" y="336"/>
                </a:lnTo>
                <a:lnTo>
                  <a:pt x="518" y="67"/>
                </a:lnTo>
                <a:lnTo>
                  <a:pt x="517" y="54"/>
                </a:lnTo>
                <a:lnTo>
                  <a:pt x="514" y="41"/>
                </a:lnTo>
                <a:lnTo>
                  <a:pt x="506" y="30"/>
                </a:lnTo>
                <a:lnTo>
                  <a:pt x="499" y="19"/>
                </a:lnTo>
                <a:lnTo>
                  <a:pt x="488" y="12"/>
                </a:lnTo>
                <a:lnTo>
                  <a:pt x="477" y="5"/>
                </a:lnTo>
                <a:lnTo>
                  <a:pt x="464" y="1"/>
                </a:lnTo>
                <a:lnTo>
                  <a:pt x="451" y="0"/>
                </a:lnTo>
                <a:lnTo>
                  <a:pt x="6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048440" y="219708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059240" y="2306520"/>
            <a:ext cx="1468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un.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485040" y="2247840"/>
            <a:ext cx="411120" cy="60480"/>
            <a:chOff x="6485040" y="2247840"/>
            <a:chExt cx="411120" cy="60480"/>
          </a:xfrm>
        </p:grpSpPr>
        <p:sp>
          <p:nvSpPr>
            <p:cNvPr id="815" name=""/>
            <p:cNvSpPr/>
            <p:nvPr/>
          </p:nvSpPr>
          <p:spPr>
            <a:xfrm flipH="1">
              <a:off x="6541920" y="2278080"/>
              <a:ext cx="354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85040" y="2247840"/>
              <a:ext cx="60120" cy="6048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76" y="0"/>
                  </a:moveTo>
                  <a:lnTo>
                    <a:pt x="0" y="37"/>
                  </a:lnTo>
                  <a:lnTo>
                    <a:pt x="76" y="7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5994360" y="2049480"/>
            <a:ext cx="843120" cy="925560"/>
            <a:chOff x="5994360" y="2049480"/>
            <a:chExt cx="843120" cy="925560"/>
          </a:xfrm>
        </p:grpSpPr>
        <p:sp>
          <p:nvSpPr>
            <p:cNvPr id="818" name=""/>
            <p:cNvSpPr/>
            <p:nvPr/>
          </p:nvSpPr>
          <p:spPr>
            <a:xfrm>
              <a:off x="6016680" y="2111400"/>
              <a:ext cx="799920" cy="863640"/>
            </a:xfrm>
            <a:custGeom>
              <a:avLst/>
              <a:gdLst/>
              <a:ahLst/>
              <a:rect l="l" t="t" r="r" b="b"/>
              <a:pathLst>
                <a:path w="1009" h="1089">
                  <a:moveTo>
                    <a:pt x="29" y="979"/>
                  </a:moveTo>
                  <a:lnTo>
                    <a:pt x="0" y="979"/>
                  </a:lnTo>
                  <a:lnTo>
                    <a:pt x="0" y="1074"/>
                  </a:lnTo>
                  <a:lnTo>
                    <a:pt x="0" y="1074"/>
                  </a:lnTo>
                  <a:lnTo>
                    <a:pt x="1" y="1080"/>
                  </a:lnTo>
                  <a:lnTo>
                    <a:pt x="5" y="1084"/>
                  </a:lnTo>
                  <a:lnTo>
                    <a:pt x="9" y="1087"/>
                  </a:lnTo>
                  <a:lnTo>
                    <a:pt x="15" y="1089"/>
                  </a:lnTo>
                  <a:lnTo>
                    <a:pt x="994" y="1089"/>
                  </a:lnTo>
                  <a:lnTo>
                    <a:pt x="994" y="1089"/>
                  </a:lnTo>
                  <a:lnTo>
                    <a:pt x="1000" y="1087"/>
                  </a:lnTo>
                  <a:lnTo>
                    <a:pt x="1004" y="1084"/>
                  </a:lnTo>
                  <a:lnTo>
                    <a:pt x="1008" y="1080"/>
                  </a:lnTo>
                  <a:lnTo>
                    <a:pt x="1009" y="1074"/>
                  </a:lnTo>
                  <a:lnTo>
                    <a:pt x="1009" y="0"/>
                  </a:lnTo>
                  <a:lnTo>
                    <a:pt x="980" y="0"/>
                  </a:lnTo>
                  <a:lnTo>
                    <a:pt x="980" y="1074"/>
                  </a:lnTo>
                  <a:lnTo>
                    <a:pt x="994" y="1060"/>
                  </a:lnTo>
                  <a:lnTo>
                    <a:pt x="988" y="1061"/>
                  </a:lnTo>
                  <a:lnTo>
                    <a:pt x="985" y="1065"/>
                  </a:lnTo>
                  <a:lnTo>
                    <a:pt x="981" y="1068"/>
                  </a:lnTo>
                  <a:lnTo>
                    <a:pt x="980" y="1074"/>
                  </a:lnTo>
                  <a:lnTo>
                    <a:pt x="994" y="1074"/>
                  </a:lnTo>
                  <a:lnTo>
                    <a:pt x="994" y="1060"/>
                  </a:lnTo>
                  <a:lnTo>
                    <a:pt x="15" y="1060"/>
                  </a:lnTo>
                  <a:lnTo>
                    <a:pt x="29" y="1074"/>
                  </a:lnTo>
                  <a:lnTo>
                    <a:pt x="28" y="1068"/>
                  </a:lnTo>
                  <a:lnTo>
                    <a:pt x="24" y="1065"/>
                  </a:lnTo>
                  <a:lnTo>
                    <a:pt x="21" y="1061"/>
                  </a:lnTo>
                  <a:lnTo>
                    <a:pt x="15" y="1074"/>
                  </a:lnTo>
                  <a:lnTo>
                    <a:pt x="29" y="1074"/>
                  </a:lnTo>
                  <a:lnTo>
                    <a:pt x="29" y="9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994360" y="282744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772320" y="204948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0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765760" y="5937120"/>
            <a:ext cx="65160" cy="136800"/>
            <a:chOff x="5765760" y="5937120"/>
            <a:chExt cx="65160" cy="136800"/>
          </a:xfrm>
        </p:grpSpPr>
        <p:sp>
          <p:nvSpPr>
            <p:cNvPr id="822" name=""/>
            <p:cNvSpPr/>
            <p:nvPr/>
          </p:nvSpPr>
          <p:spPr>
            <a:xfrm>
              <a:off x="5788080" y="5999040"/>
              <a:ext cx="22320" cy="7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765760" y="593712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0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4425840" y="5357880"/>
            <a:ext cx="4366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511160" y="5391000"/>
            <a:ext cx="339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5840" y="4030560"/>
            <a:ext cx="550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512240" y="4064040"/>
            <a:ext cx="4579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25840" y="2705040"/>
            <a:ext cx="5796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512600" y="2738520"/>
            <a:ext cx="4852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25840" y="1195560"/>
            <a:ext cx="5778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11160" y="1228680"/>
            <a:ext cx="4852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25840" y="152280"/>
            <a:ext cx="728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512600" y="185760"/>
            <a:ext cx="6393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838760" y="493560"/>
            <a:ext cx="274680" cy="230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906080" y="558720"/>
            <a:ext cx="2109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002200" y="723960"/>
            <a:ext cx="38160" cy="1143000"/>
            <a:chOff x="5002200" y="723960"/>
            <a:chExt cx="38160" cy="1143000"/>
          </a:xfrm>
        </p:grpSpPr>
        <p:sp>
          <p:nvSpPr>
            <p:cNvPr id="837" name=""/>
            <p:cNvSpPr/>
            <p:nvPr/>
          </p:nvSpPr>
          <p:spPr>
            <a:xfrm flipV="1">
              <a:off x="5021280" y="758880"/>
              <a:ext cx="1440" cy="110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02200" y="723960"/>
              <a:ext cx="38160" cy="381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73920" y="1671480"/>
            <a:ext cx="2481120" cy="4069080"/>
            <a:chOff x="6073920" y="1671480"/>
            <a:chExt cx="2481120" cy="4069080"/>
          </a:xfrm>
        </p:grpSpPr>
        <p:sp>
          <p:nvSpPr>
            <p:cNvPr id="840" name=""/>
            <p:cNvSpPr/>
            <p:nvPr/>
          </p:nvSpPr>
          <p:spPr>
            <a:xfrm>
              <a:off x="6135840" y="1671480"/>
              <a:ext cx="2419200" cy="4048200"/>
            </a:xfrm>
            <a:custGeom>
              <a:avLst/>
              <a:gdLst/>
              <a:ahLst/>
              <a:rect l="l" t="t" r="r" b="b"/>
              <a:pathLst>
                <a:path w="3049" h="5099">
                  <a:moveTo>
                    <a:pt x="844" y="0"/>
                  </a:moveTo>
                  <a:lnTo>
                    <a:pt x="844" y="28"/>
                  </a:lnTo>
                  <a:lnTo>
                    <a:pt x="3034" y="28"/>
                  </a:lnTo>
                  <a:lnTo>
                    <a:pt x="3034" y="14"/>
                  </a:lnTo>
                  <a:lnTo>
                    <a:pt x="3020" y="14"/>
                  </a:lnTo>
                  <a:lnTo>
                    <a:pt x="3021" y="20"/>
                  </a:lnTo>
                  <a:lnTo>
                    <a:pt x="3025" y="24"/>
                  </a:lnTo>
                  <a:lnTo>
                    <a:pt x="3028" y="27"/>
                  </a:lnTo>
                  <a:lnTo>
                    <a:pt x="3020" y="14"/>
                  </a:lnTo>
                  <a:lnTo>
                    <a:pt x="3020" y="5084"/>
                  </a:lnTo>
                  <a:lnTo>
                    <a:pt x="3034" y="5084"/>
                  </a:lnTo>
                  <a:lnTo>
                    <a:pt x="3034" y="5070"/>
                  </a:lnTo>
                  <a:lnTo>
                    <a:pt x="3028" y="5071"/>
                  </a:lnTo>
                  <a:lnTo>
                    <a:pt x="3025" y="5075"/>
                  </a:lnTo>
                  <a:lnTo>
                    <a:pt x="3021" y="5078"/>
                  </a:lnTo>
                  <a:lnTo>
                    <a:pt x="3034" y="5070"/>
                  </a:lnTo>
                  <a:lnTo>
                    <a:pt x="0" y="5070"/>
                  </a:lnTo>
                  <a:lnTo>
                    <a:pt x="0" y="5099"/>
                  </a:lnTo>
                  <a:lnTo>
                    <a:pt x="3034" y="5099"/>
                  </a:lnTo>
                  <a:lnTo>
                    <a:pt x="3034" y="5099"/>
                  </a:lnTo>
                  <a:lnTo>
                    <a:pt x="3040" y="5098"/>
                  </a:lnTo>
                  <a:lnTo>
                    <a:pt x="3044" y="5094"/>
                  </a:lnTo>
                  <a:lnTo>
                    <a:pt x="3048" y="5090"/>
                  </a:lnTo>
                  <a:lnTo>
                    <a:pt x="3049" y="5084"/>
                  </a:lnTo>
                  <a:lnTo>
                    <a:pt x="3049" y="5084"/>
                  </a:lnTo>
                  <a:lnTo>
                    <a:pt x="3049" y="14"/>
                  </a:lnTo>
                  <a:lnTo>
                    <a:pt x="3049" y="14"/>
                  </a:lnTo>
                  <a:lnTo>
                    <a:pt x="3048" y="8"/>
                  </a:lnTo>
                  <a:lnTo>
                    <a:pt x="3044" y="4"/>
                  </a:lnTo>
                  <a:lnTo>
                    <a:pt x="3040" y="1"/>
                  </a:lnTo>
                  <a:lnTo>
                    <a:pt x="3034" y="0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073920" y="5675400"/>
              <a:ext cx="6336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0"/>
                  </a:moveTo>
                  <a:lnTo>
                    <a:pt x="0" y="40"/>
                  </a:lnTo>
                  <a:lnTo>
                    <a:pt x="82" y="8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5799240" y="5479920"/>
            <a:ext cx="1176120" cy="101880"/>
            <a:chOff x="5799240" y="5479920"/>
            <a:chExt cx="1176120" cy="101880"/>
          </a:xfrm>
        </p:grpSpPr>
        <p:sp>
          <p:nvSpPr>
            <p:cNvPr id="843" name=""/>
            <p:cNvSpPr/>
            <p:nvPr/>
          </p:nvSpPr>
          <p:spPr>
            <a:xfrm>
              <a:off x="5799240" y="5541840"/>
              <a:ext cx="1154160" cy="39960"/>
            </a:xfrm>
            <a:custGeom>
              <a:avLst/>
              <a:gdLst/>
              <a:ahLst/>
              <a:rect l="l" t="t" r="r" b="b"/>
              <a:pathLst>
                <a:path w="1456" h="52">
                  <a:moveTo>
                    <a:pt x="0" y="23"/>
                  </a:moveTo>
                  <a:lnTo>
                    <a:pt x="0" y="52"/>
                  </a:lnTo>
                  <a:lnTo>
                    <a:pt x="1441" y="52"/>
                  </a:lnTo>
                  <a:lnTo>
                    <a:pt x="1441" y="52"/>
                  </a:lnTo>
                  <a:lnTo>
                    <a:pt x="1447" y="51"/>
                  </a:lnTo>
                  <a:lnTo>
                    <a:pt x="1451" y="47"/>
                  </a:lnTo>
                  <a:lnTo>
                    <a:pt x="1454" y="43"/>
                  </a:lnTo>
                  <a:lnTo>
                    <a:pt x="1456" y="37"/>
                  </a:lnTo>
                  <a:lnTo>
                    <a:pt x="1456" y="0"/>
                  </a:lnTo>
                  <a:lnTo>
                    <a:pt x="1427" y="0"/>
                  </a:lnTo>
                  <a:lnTo>
                    <a:pt x="1427" y="37"/>
                  </a:lnTo>
                  <a:lnTo>
                    <a:pt x="1441" y="23"/>
                  </a:lnTo>
                  <a:lnTo>
                    <a:pt x="1435" y="24"/>
                  </a:lnTo>
                  <a:lnTo>
                    <a:pt x="1432" y="28"/>
                  </a:lnTo>
                  <a:lnTo>
                    <a:pt x="1428" y="31"/>
                  </a:lnTo>
                  <a:lnTo>
                    <a:pt x="1427" y="37"/>
                  </a:lnTo>
                  <a:lnTo>
                    <a:pt x="1441" y="37"/>
                  </a:lnTo>
                  <a:lnTo>
                    <a:pt x="1441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910560" y="5479920"/>
              <a:ext cx="64800" cy="637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6759720" y="714240"/>
            <a:ext cx="4586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829200" y="747720"/>
            <a:ext cx="2779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ta out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805440" y="1290600"/>
            <a:ext cx="412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874200" y="1324080"/>
            <a:ext cx="2307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ta in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59720" y="4052880"/>
            <a:ext cx="18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841080" y="40863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988320" y="4052880"/>
            <a:ext cx="18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069680" y="40863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124760" y="4106880"/>
            <a:ext cx="18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200720" y="414180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124760" y="4335480"/>
            <a:ext cx="18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207920" y="43704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7262640" y="3238560"/>
            <a:ext cx="1474920" cy="1176120"/>
            <a:chOff x="7262640" y="3238560"/>
            <a:chExt cx="1474920" cy="1176120"/>
          </a:xfrm>
        </p:grpSpPr>
        <p:sp>
          <p:nvSpPr>
            <p:cNvPr id="858" name=""/>
            <p:cNvSpPr/>
            <p:nvPr/>
          </p:nvSpPr>
          <p:spPr>
            <a:xfrm>
              <a:off x="7324560" y="3238560"/>
              <a:ext cx="1413000" cy="1154160"/>
            </a:xfrm>
            <a:custGeom>
              <a:avLst/>
              <a:gdLst/>
              <a:ahLst/>
              <a:rect l="l" t="t" r="r" b="b"/>
              <a:pathLst>
                <a:path w="1780" h="1455">
                  <a:moveTo>
                    <a:pt x="1780" y="0"/>
                  </a:moveTo>
                  <a:lnTo>
                    <a:pt x="1752" y="0"/>
                  </a:lnTo>
                  <a:lnTo>
                    <a:pt x="1752" y="1440"/>
                  </a:lnTo>
                  <a:lnTo>
                    <a:pt x="1766" y="1440"/>
                  </a:lnTo>
                  <a:lnTo>
                    <a:pt x="1766" y="1426"/>
                  </a:lnTo>
                  <a:lnTo>
                    <a:pt x="1760" y="1427"/>
                  </a:lnTo>
                  <a:lnTo>
                    <a:pt x="1756" y="1431"/>
                  </a:lnTo>
                  <a:lnTo>
                    <a:pt x="1753" y="1434"/>
                  </a:lnTo>
                  <a:lnTo>
                    <a:pt x="1766" y="1426"/>
                  </a:lnTo>
                  <a:lnTo>
                    <a:pt x="0" y="1426"/>
                  </a:lnTo>
                  <a:lnTo>
                    <a:pt x="0" y="1455"/>
                  </a:lnTo>
                  <a:lnTo>
                    <a:pt x="1766" y="1455"/>
                  </a:lnTo>
                  <a:lnTo>
                    <a:pt x="1766" y="1455"/>
                  </a:lnTo>
                  <a:lnTo>
                    <a:pt x="1772" y="1454"/>
                  </a:lnTo>
                  <a:lnTo>
                    <a:pt x="1776" y="1450"/>
                  </a:lnTo>
                  <a:lnTo>
                    <a:pt x="1779" y="1446"/>
                  </a:lnTo>
                  <a:lnTo>
                    <a:pt x="1780" y="1440"/>
                  </a:lnTo>
                  <a:lnTo>
                    <a:pt x="1780" y="1440"/>
                  </a:lnTo>
                  <a:lnTo>
                    <a:pt x="1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62640" y="4349880"/>
              <a:ext cx="65160" cy="6480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0"/>
                  </a:moveTo>
                  <a:lnTo>
                    <a:pt x="0" y="40"/>
                  </a:lnTo>
                  <a:lnTo>
                    <a:pt x="81" y="8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5775480" y="5548320"/>
            <a:ext cx="4752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53160" y="5524560"/>
            <a:ext cx="9216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775480" y="5548320"/>
            <a:ext cx="4752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53160" y="5524560"/>
            <a:ext cx="9216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856640" y="153684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928280" y="1569960"/>
            <a:ext cx="1072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034480" y="1569960"/>
            <a:ext cx="1486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856640" y="401652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29720" y="4049640"/>
            <a:ext cx="115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046000" y="4049640"/>
            <a:ext cx="162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856640" y="424512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929720" y="4278240"/>
            <a:ext cx="115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045640" y="4278240"/>
            <a:ext cx="1486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856640" y="556092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28280" y="5594400"/>
            <a:ext cx="1072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034480" y="5594400"/>
            <a:ext cx="1486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856640" y="578952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929720" y="5823000"/>
            <a:ext cx="115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046000" y="5823000"/>
            <a:ext cx="162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13640" y="3732120"/>
            <a:ext cx="5490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84560" y="3765600"/>
            <a:ext cx="860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69160" y="3765600"/>
            <a:ext cx="1746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val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42040" y="5479920"/>
            <a:ext cx="5490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2600" y="5513400"/>
            <a:ext cx="1699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_PC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353360" y="4930920"/>
            <a:ext cx="549360" cy="320400"/>
          </a:xfrm>
          <a:custGeom>
            <a:avLst/>
            <a:gdLst/>
            <a:ahLst/>
            <a:rect l="l" t="t" r="r" b="b"/>
            <a:pathLst>
              <a:path w="692" h="403">
                <a:moveTo>
                  <a:pt x="67" y="0"/>
                </a:moveTo>
                <a:lnTo>
                  <a:pt x="54" y="1"/>
                </a:lnTo>
                <a:lnTo>
                  <a:pt x="41" y="5"/>
                </a:lnTo>
                <a:lnTo>
                  <a:pt x="30" y="12"/>
                </a:lnTo>
                <a:lnTo>
                  <a:pt x="19" y="19"/>
                </a:lnTo>
                <a:lnTo>
                  <a:pt x="12" y="30"/>
                </a:lnTo>
                <a:lnTo>
                  <a:pt x="5" y="41"/>
                </a:lnTo>
                <a:lnTo>
                  <a:pt x="1" y="54"/>
                </a:lnTo>
                <a:lnTo>
                  <a:pt x="0" y="67"/>
                </a:lnTo>
                <a:lnTo>
                  <a:pt x="0" y="336"/>
                </a:lnTo>
                <a:lnTo>
                  <a:pt x="1" y="349"/>
                </a:lnTo>
                <a:lnTo>
                  <a:pt x="5" y="362"/>
                </a:lnTo>
                <a:lnTo>
                  <a:pt x="12" y="373"/>
                </a:lnTo>
                <a:lnTo>
                  <a:pt x="19" y="384"/>
                </a:lnTo>
                <a:lnTo>
                  <a:pt x="30" y="391"/>
                </a:lnTo>
                <a:lnTo>
                  <a:pt x="41" y="398"/>
                </a:lnTo>
                <a:lnTo>
                  <a:pt x="54" y="402"/>
                </a:lnTo>
                <a:lnTo>
                  <a:pt x="67" y="403"/>
                </a:lnTo>
                <a:lnTo>
                  <a:pt x="624" y="403"/>
                </a:lnTo>
                <a:lnTo>
                  <a:pt x="638" y="402"/>
                </a:lnTo>
                <a:lnTo>
                  <a:pt x="651" y="398"/>
                </a:lnTo>
                <a:lnTo>
                  <a:pt x="662" y="391"/>
                </a:lnTo>
                <a:lnTo>
                  <a:pt x="672" y="384"/>
                </a:lnTo>
                <a:lnTo>
                  <a:pt x="680" y="373"/>
                </a:lnTo>
                <a:lnTo>
                  <a:pt x="687" y="362"/>
                </a:lnTo>
                <a:lnTo>
                  <a:pt x="690" y="349"/>
                </a:lnTo>
                <a:lnTo>
                  <a:pt x="692" y="336"/>
                </a:lnTo>
                <a:lnTo>
                  <a:pt x="692" y="67"/>
                </a:lnTo>
                <a:lnTo>
                  <a:pt x="690" y="54"/>
                </a:lnTo>
                <a:lnTo>
                  <a:pt x="687" y="41"/>
                </a:lnTo>
                <a:lnTo>
                  <a:pt x="680" y="30"/>
                </a:lnTo>
                <a:lnTo>
                  <a:pt x="672" y="19"/>
                </a:lnTo>
                <a:lnTo>
                  <a:pt x="662" y="12"/>
                </a:lnTo>
                <a:lnTo>
                  <a:pt x="651" y="5"/>
                </a:lnTo>
                <a:lnTo>
                  <a:pt x="638" y="1"/>
                </a:lnTo>
                <a:lnTo>
                  <a:pt x="624" y="0"/>
                </a:lnTo>
                <a:lnTo>
                  <a:pt x="6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530840" y="4986360"/>
            <a:ext cx="2750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594920" y="5095800"/>
            <a:ext cx="124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049800" y="4952880"/>
            <a:ext cx="47880" cy="478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27840" y="4930920"/>
            <a:ext cx="91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49800" y="4952880"/>
            <a:ext cx="47880" cy="478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027840" y="4930920"/>
            <a:ext cx="91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935680" y="493560"/>
            <a:ext cx="550800" cy="230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155640" y="55872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485040" y="493560"/>
            <a:ext cx="549000" cy="230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701040" y="558720"/>
            <a:ext cx="186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308720" y="493560"/>
            <a:ext cx="274680" cy="23040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88280" y="55872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83400" y="493560"/>
            <a:ext cx="274680" cy="23040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659360" y="558720"/>
            <a:ext cx="1911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86320" y="182088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78840" y="1884240"/>
            <a:ext cx="1530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838760" y="1820880"/>
            <a:ext cx="2746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906080" y="1884240"/>
            <a:ext cx="2109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935680" y="1820880"/>
            <a:ext cx="5508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155640" y="188424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485040" y="1820880"/>
            <a:ext cx="5490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705000" y="188424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308720" y="1820880"/>
            <a:ext cx="274680" cy="23004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388280" y="188424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583400" y="1820880"/>
            <a:ext cx="274680" cy="23004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659360" y="1884240"/>
            <a:ext cx="1911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067520" y="3056040"/>
            <a:ext cx="237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838760" y="3375000"/>
            <a:ext cx="2746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06080" y="3440160"/>
            <a:ext cx="2109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111640" y="3375000"/>
            <a:ext cx="2764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209560" y="3440160"/>
            <a:ext cx="1425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661000" y="3375000"/>
            <a:ext cx="5508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881320" y="344016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210360" y="3375000"/>
            <a:ext cx="54936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430320" y="344016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759720" y="3375000"/>
            <a:ext cx="5490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979680" y="344016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308720" y="3375000"/>
            <a:ext cx="274680" cy="23004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388280" y="3440160"/>
            <a:ext cx="177480" cy="96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583400" y="3375000"/>
            <a:ext cx="274680" cy="23004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59360" y="3440160"/>
            <a:ext cx="191160" cy="96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856640" y="337500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37640" y="3440160"/>
            <a:ext cx="177480" cy="9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131320" y="337500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211960" y="3440160"/>
            <a:ext cx="177480" cy="9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35680" y="4656240"/>
            <a:ext cx="5508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155640" y="471960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59720" y="4656240"/>
            <a:ext cx="5490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79680" y="471960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838760" y="4656240"/>
            <a:ext cx="2746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906080" y="4719600"/>
            <a:ext cx="2109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11640" y="4656240"/>
            <a:ext cx="2764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09560" y="4719600"/>
            <a:ext cx="1425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86320" y="465624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506920" y="4719600"/>
            <a:ext cx="892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524560" y="6027840"/>
            <a:ext cx="54936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89800" y="6093000"/>
            <a:ext cx="2995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d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4421160" y="1592280"/>
            <a:ext cx="4361040" cy="4184640"/>
            <a:chOff x="4421160" y="1592280"/>
            <a:chExt cx="4361040" cy="4184640"/>
          </a:xfrm>
        </p:grpSpPr>
        <p:sp>
          <p:nvSpPr>
            <p:cNvPr id="943" name=""/>
            <p:cNvSpPr/>
            <p:nvPr/>
          </p:nvSpPr>
          <p:spPr>
            <a:xfrm>
              <a:off x="6188040" y="1752480"/>
              <a:ext cx="46080" cy="460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164280" y="1728720"/>
              <a:ext cx="92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188040" y="1752480"/>
              <a:ext cx="46080" cy="460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164280" y="1728720"/>
              <a:ext cx="92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6496200" y="2825640"/>
              <a:ext cx="595080" cy="230400"/>
              <a:chOff x="6496200" y="2825640"/>
              <a:chExt cx="595080" cy="230400"/>
            </a:xfrm>
          </p:grpSpPr>
          <p:sp>
            <p:nvSpPr>
              <p:cNvPr id="948" name=""/>
              <p:cNvSpPr/>
              <p:nvPr/>
            </p:nvSpPr>
            <p:spPr>
              <a:xfrm>
                <a:off x="6516720" y="2887560"/>
                <a:ext cx="574560" cy="168480"/>
              </a:xfrm>
              <a:custGeom>
                <a:avLst/>
                <a:gdLst/>
                <a:ahLst/>
                <a:rect l="l" t="t" r="r" b="b"/>
                <a:pathLst>
                  <a:path w="724" h="213">
                    <a:moveTo>
                      <a:pt x="695" y="213"/>
                    </a:moveTo>
                    <a:lnTo>
                      <a:pt x="724" y="213"/>
                    </a:lnTo>
                    <a:lnTo>
                      <a:pt x="724" y="38"/>
                    </a:lnTo>
                    <a:lnTo>
                      <a:pt x="724" y="38"/>
                    </a:lnTo>
                    <a:lnTo>
                      <a:pt x="722" y="32"/>
                    </a:lnTo>
                    <a:lnTo>
                      <a:pt x="719" y="29"/>
                    </a:lnTo>
                    <a:lnTo>
                      <a:pt x="715" y="25"/>
                    </a:lnTo>
                    <a:lnTo>
                      <a:pt x="709" y="24"/>
                    </a:lnTo>
                    <a:lnTo>
                      <a:pt x="14" y="24"/>
                    </a:lnTo>
                    <a:lnTo>
                      <a:pt x="14" y="38"/>
                    </a:lnTo>
                    <a:lnTo>
                      <a:pt x="28" y="38"/>
                    </a:lnTo>
                    <a:lnTo>
                      <a:pt x="27" y="32"/>
                    </a:lnTo>
                    <a:lnTo>
                      <a:pt x="24" y="29"/>
                    </a:lnTo>
                    <a:lnTo>
                      <a:pt x="20" y="25"/>
                    </a:lnTo>
                    <a:lnTo>
                      <a:pt x="28" y="38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4" y="48"/>
                    </a:lnTo>
                    <a:lnTo>
                      <a:pt x="8" y="52"/>
                    </a:lnTo>
                    <a:lnTo>
                      <a:pt x="14" y="53"/>
                    </a:lnTo>
                    <a:lnTo>
                      <a:pt x="709" y="53"/>
                    </a:lnTo>
                    <a:lnTo>
                      <a:pt x="695" y="38"/>
                    </a:lnTo>
                    <a:lnTo>
                      <a:pt x="696" y="44"/>
                    </a:lnTo>
                    <a:lnTo>
                      <a:pt x="700" y="48"/>
                    </a:lnTo>
                    <a:lnTo>
                      <a:pt x="703" y="52"/>
                    </a:lnTo>
                    <a:lnTo>
                      <a:pt x="709" y="38"/>
                    </a:lnTo>
                    <a:lnTo>
                      <a:pt x="695" y="38"/>
                    </a:lnTo>
                    <a:lnTo>
                      <a:pt x="695" y="2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496200" y="282564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82" y="82"/>
                    </a:moveTo>
                    <a:lnTo>
                      <a:pt x="41" y="0"/>
                    </a:lnTo>
                    <a:lnTo>
                      <a:pt x="0" y="82"/>
                    </a:lnTo>
                    <a:lnTo>
                      <a:pt x="8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8510760" y="2414520"/>
              <a:ext cx="64800" cy="138240"/>
              <a:chOff x="8510760" y="2414520"/>
              <a:chExt cx="64800" cy="138240"/>
            </a:xfrm>
          </p:grpSpPr>
          <p:sp>
            <p:nvSpPr>
              <p:cNvPr id="951" name=""/>
              <p:cNvSpPr/>
              <p:nvPr/>
            </p:nvSpPr>
            <p:spPr>
              <a:xfrm>
                <a:off x="8532720" y="2414520"/>
                <a:ext cx="2232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510760" y="2487600"/>
                <a:ext cx="64800" cy="6516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0" y="0"/>
                    </a:moveTo>
                    <a:lnTo>
                      <a:pt x="40" y="82"/>
                    </a:lnTo>
                    <a:lnTo>
                      <a:pt x="8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8602560" y="2414520"/>
              <a:ext cx="65160" cy="138240"/>
              <a:chOff x="8602560" y="2414520"/>
              <a:chExt cx="65160" cy="138240"/>
            </a:xfrm>
          </p:grpSpPr>
          <p:sp>
            <p:nvSpPr>
              <p:cNvPr id="954" name=""/>
              <p:cNvSpPr/>
              <p:nvPr/>
            </p:nvSpPr>
            <p:spPr>
              <a:xfrm>
                <a:off x="8623440" y="2414520"/>
                <a:ext cx="2376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602560" y="248760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0"/>
                    </a:moveTo>
                    <a:lnTo>
                      <a:pt x="41" y="82"/>
                    </a:lnTo>
                    <a:lnTo>
                      <a:pt x="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8694720" y="2414520"/>
              <a:ext cx="63360" cy="138240"/>
              <a:chOff x="8694720" y="2414520"/>
              <a:chExt cx="63360" cy="138240"/>
            </a:xfrm>
          </p:grpSpPr>
          <p:sp>
            <p:nvSpPr>
              <p:cNvPr id="957" name=""/>
              <p:cNvSpPr/>
              <p:nvPr/>
            </p:nvSpPr>
            <p:spPr>
              <a:xfrm>
                <a:off x="8715240" y="2414520"/>
                <a:ext cx="2232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694720" y="248760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0"/>
                    </a:moveTo>
                    <a:lnTo>
                      <a:pt x="41" y="82"/>
                    </a:lnTo>
                    <a:lnTo>
                      <a:pt x="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5519160" y="2305080"/>
              <a:ext cx="1468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98920" y="2244600"/>
              <a:ext cx="325440" cy="23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86320" y="2232000"/>
              <a:ext cx="322200" cy="23004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505120" y="2289240"/>
              <a:ext cx="1468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5500800" y="2049480"/>
              <a:ext cx="47520" cy="189000"/>
              <a:chOff x="5500800" y="2049480"/>
              <a:chExt cx="47520" cy="189000"/>
            </a:xfrm>
          </p:grpSpPr>
          <p:sp>
            <p:nvSpPr>
              <p:cNvPr id="964" name=""/>
              <p:cNvSpPr/>
              <p:nvPr/>
            </p:nvSpPr>
            <p:spPr>
              <a:xfrm>
                <a:off x="5518080" y="22273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5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518080" y="22035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8"/>
                    </a:moveTo>
                    <a:lnTo>
                      <a:pt x="3" y="12"/>
                    </a:lnTo>
                    <a:lnTo>
                      <a:pt x="5" y="14"/>
                    </a:lnTo>
                    <a:lnTo>
                      <a:pt x="8" y="15"/>
                    </a:lnTo>
                    <a:lnTo>
                      <a:pt x="10" y="14"/>
                    </a:lnTo>
                    <a:lnTo>
                      <a:pt x="12" y="12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518080" y="21812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518080" y="21574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18080" y="2135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518080" y="2112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5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518080" y="2089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8"/>
                    </a:moveTo>
                    <a:lnTo>
                      <a:pt x="3" y="12"/>
                    </a:lnTo>
                    <a:lnTo>
                      <a:pt x="5" y="14"/>
                    </a:lnTo>
                    <a:lnTo>
                      <a:pt x="8" y="15"/>
                    </a:lnTo>
                    <a:lnTo>
                      <a:pt x="10" y="14"/>
                    </a:lnTo>
                    <a:lnTo>
                      <a:pt x="12" y="12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500800" y="204948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30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8231040" y="3603600"/>
              <a:ext cx="551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02320" y="3638520"/>
              <a:ext cx="860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_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386560" y="3638520"/>
              <a:ext cx="153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rcB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959600" y="3603600"/>
              <a:ext cx="551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030880" y="3638520"/>
              <a:ext cx="860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_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15120" y="3638520"/>
              <a:ext cx="153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rcA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524560" y="2049480"/>
              <a:ext cx="5493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595120" y="2082960"/>
              <a:ext cx="21708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_Bch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4421160" y="1724040"/>
              <a:ext cx="1108080" cy="4052880"/>
              <a:chOff x="4421160" y="1724040"/>
              <a:chExt cx="1108080" cy="4052880"/>
            </a:xfrm>
          </p:grpSpPr>
          <p:grpSp>
            <p:nvGrpSpPr>
              <p:cNvPr id="981" name=""/>
              <p:cNvGrpSpPr/>
              <p:nvPr/>
            </p:nvGrpSpPr>
            <p:grpSpPr>
              <a:xfrm>
                <a:off x="4421160" y="1724040"/>
                <a:ext cx="1108080" cy="3378240"/>
                <a:chOff x="4421160" y="1724040"/>
                <a:chExt cx="1108080" cy="337824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5518080" y="18097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518080" y="178596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518080" y="1763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518080" y="17413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51340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4896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4673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44356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212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3989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3751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353200" y="1724040"/>
                  <a:ext cx="10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329080" y="1724040"/>
                  <a:ext cx="129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3071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28480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2610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2387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2149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1926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16888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1465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124600" y="1724040"/>
                  <a:ext cx="10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10048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0785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05476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0324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0101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9863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640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94028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9179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896000" y="1724040"/>
                  <a:ext cx="10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87188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8499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82616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8038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7815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7577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7354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71168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6893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66560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64328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6213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597560" y="1724040"/>
                  <a:ext cx="10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5752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55148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5291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5068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48308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607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700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21160" y="17287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421160" y="1752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421160" y="17748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421160" y="1798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421160" y="18208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421160" y="18432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421160" y="1866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421160" y="188928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421160" y="1913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421160" y="19350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421160" y="19573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421160" y="1981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421160" y="20034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421160" y="2027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421160" y="2049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421160" y="20718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421160" y="2095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421160" y="211788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421160" y="2141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421160" y="2163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421160" y="21859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421160" y="2209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421160" y="22320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421160" y="2255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421160" y="2278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421160" y="23004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421160" y="2324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421160" y="234648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421160" y="2370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421160" y="23922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421160" y="24145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421160" y="24382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421160" y="2460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421160" y="2484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421160" y="2506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421160" y="25290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421160" y="2552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421160" y="257508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421160" y="2598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421160" y="26208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421160" y="26431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421160" y="26668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421160" y="26892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4421160" y="2712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4421160" y="27352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421160" y="27576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421160" y="2781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421160" y="28036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421160" y="2827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421160" y="28494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421160" y="28735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421160" y="2895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421160" y="29178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421160" y="2941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421160" y="29638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421160" y="2987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421160" y="3009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421160" y="30322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421160" y="3056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421160" y="30780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421160" y="31021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421160" y="3124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421160" y="31464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421160" y="3170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421160" y="3192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421160" y="3216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421160" y="3238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421160" y="32608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21160" y="3284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421160" y="3306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421160" y="33307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4421160" y="3352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421160" y="33750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421160" y="3398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421160" y="3421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421160" y="3444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421160" y="3467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421160" y="34894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421160" y="3513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421160" y="35352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421160" y="35593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421160" y="35812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421160" y="36036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421160" y="3627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421160" y="3649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421160" y="3673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421160" y="3695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421160" y="37180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4421160" y="3741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421160" y="37638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4421160" y="37879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4421160" y="38098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4421160" y="3833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421160" y="3855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421160" y="38782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421160" y="3902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421160" y="3924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421160" y="39481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421160" y="3970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421160" y="399240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421160" y="40165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421160" y="4038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21160" y="4062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421160" y="4084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21160" y="41068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421160" y="4130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421160" y="4152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421160" y="41767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421160" y="4199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421160" y="422100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421160" y="42451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421160" y="4267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421160" y="4290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421160" y="4313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421160" y="43354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421160" y="4359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421160" y="4381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421160" y="44053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421160" y="4427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21160" y="444960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421160" y="44737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421160" y="4495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421160" y="4519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421160" y="4541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421160" y="45640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421160" y="4587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421160" y="4610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421160" y="46339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421160" y="4656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421160" y="467820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421160" y="47023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421160" y="47242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421160" y="4748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421160" y="4770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421160" y="47926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421160" y="4816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421160" y="483876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421160" y="48625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421160" y="4884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4421160" y="4908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4421160" y="49309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4421160" y="495288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421160" y="4976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421160" y="4998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421160" y="50227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421160" y="5045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421160" y="506736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421160" y="50911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2" name=""/>
              <p:cNvSpPr/>
              <p:nvPr/>
            </p:nvSpPr>
            <p:spPr>
              <a:xfrm>
                <a:off x="4421160" y="51134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421160" y="51372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421160" y="51595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421160" y="5181480"/>
                <a:ext cx="111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421160" y="5205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421160" y="52275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421160" y="5251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21160" y="5273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421160" y="5295960"/>
                <a:ext cx="11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421160" y="53197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421160" y="5342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421160" y="53658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421160" y="53881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421160" y="5410080"/>
                <a:ext cx="111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421160" y="54338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421160" y="54561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421160" y="54799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421160" y="5502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421160" y="5524560"/>
                <a:ext cx="11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421160" y="5548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421160" y="5570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421160" y="55944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421160" y="56167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421160" y="5638680"/>
                <a:ext cx="111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421160" y="56624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421160" y="56847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421160" y="5708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421160" y="57308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42584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4496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4719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49424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5180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5403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5640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5864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608360" y="5748480"/>
                <a:ext cx="129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632480" y="5748480"/>
                <a:ext cx="10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65444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6782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7005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7242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7466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76892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7926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8150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83876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861080" y="5748480"/>
                <a:ext cx="10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883040" y="5748480"/>
                <a:ext cx="129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9068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9291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9528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9752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99752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0212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0436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6736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089680" y="5748480"/>
                <a:ext cx="10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111640" y="5748480"/>
                <a:ext cx="129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1354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1577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1814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2038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22612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2498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27220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29596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318280" y="5748480"/>
                <a:ext cx="10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34204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3640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38632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4100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324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45616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478480" y="5748480"/>
                <a:ext cx="1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477040" y="572940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5157720" y="1592280"/>
              <a:ext cx="550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229000" y="1625760"/>
              <a:ext cx="23832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_Bch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6040440" y="3603600"/>
              <a:ext cx="65160" cy="1052640"/>
              <a:chOff x="6040440" y="3603600"/>
              <a:chExt cx="65160" cy="1052640"/>
            </a:xfrm>
          </p:grpSpPr>
          <p:sp>
            <p:nvSpPr>
              <p:cNvPr id="1261" name=""/>
              <p:cNvSpPr/>
              <p:nvPr/>
            </p:nvSpPr>
            <p:spPr>
              <a:xfrm>
                <a:off x="6060960" y="3665520"/>
                <a:ext cx="23760" cy="990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040440" y="360360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82" y="82"/>
                    </a:moveTo>
                    <a:lnTo>
                      <a:pt x="41" y="0"/>
                    </a:lnTo>
                    <a:lnTo>
                      <a:pt x="0" y="82"/>
                    </a:lnTo>
                    <a:lnTo>
                      <a:pt x="8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Stall Con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85800" y="13716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0: irmovl $10,%ed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581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0384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4956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9528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4100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867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3244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7816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2388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3581280" y="1371600"/>
            <a:ext cx="2286000" cy="304920"/>
            <a:chOff x="3581280" y="1371600"/>
            <a:chExt cx="2286000" cy="304920"/>
          </a:xfrm>
        </p:grpSpPr>
        <p:sp>
          <p:nvSpPr>
            <p:cNvPr id="1275" name=""/>
            <p:cNvSpPr/>
            <p:nvPr/>
          </p:nvSpPr>
          <p:spPr>
            <a:xfrm>
              <a:off x="35812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0384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4956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28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4100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685800" y="16765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6: irmovl  $3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384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4956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9528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4100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8672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5800" y="19810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c: n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956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528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4100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8672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3244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5800" y="25909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5410080" y="2590920"/>
            <a:ext cx="2286000" cy="609480"/>
            <a:chOff x="5410080" y="2590920"/>
            <a:chExt cx="2286000" cy="609480"/>
          </a:xfrm>
        </p:grpSpPr>
        <p:sp>
          <p:nvSpPr>
            <p:cNvPr id="1294" name=""/>
            <p:cNvSpPr/>
            <p:nvPr/>
          </p:nvSpPr>
          <p:spPr>
            <a:xfrm>
              <a:off x="5410080" y="289584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3244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7816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2388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8" name=""/>
          <p:cNvSpPr/>
          <p:nvPr/>
        </p:nvSpPr>
        <p:spPr>
          <a:xfrm>
            <a:off x="685800" y="28954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e: addl %edx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8672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244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7816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2388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6960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85800" y="32004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10: ha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3244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7816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2388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6960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1532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6960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10666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demo-h2.y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172200" y="2743200"/>
            <a:ext cx="152280" cy="15228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8672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9528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4100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8672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3244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7816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5800" y="22860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d: n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153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5181120" y="3492360"/>
            <a:ext cx="685800" cy="622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324480" y="3492360"/>
            <a:ext cx="685800" cy="622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5181480" y="3733920"/>
            <a:ext cx="1828800" cy="2971800"/>
            <a:chOff x="5181480" y="3733920"/>
            <a:chExt cx="1828800" cy="2971800"/>
          </a:xfrm>
        </p:grpSpPr>
        <p:sp>
          <p:nvSpPr>
            <p:cNvPr id="1324" name=""/>
            <p:cNvSpPr/>
            <p:nvPr/>
          </p:nvSpPr>
          <p:spPr>
            <a:xfrm>
              <a:off x="5181480" y="373392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ycle 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181480" y="4114800"/>
              <a:ext cx="1828800" cy="990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181480" y="5715000"/>
              <a:ext cx="1828800" cy="990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918040" y="5118120"/>
              <a:ext cx="2523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181480" y="4495680"/>
              <a:ext cx="18288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W_dstE = </a:t>
              </a: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W_valE = 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81480" y="6095880"/>
              <a:ext cx="12193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A = 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B = </a:t>
              </a:r>
              <a:r>
                <a:rPr b="1" lang="en-US" sz="1400" spc="-1" strike="noStrike">
                  <a:solidFill>
                    <a:srgbClr val="0080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6-05T21:23:14Z</dcterms:modified>
  <cp:revision>89</cp:revision>
  <dc:subject>SRC Review Slides</dc:subject>
  <dc:title>Formal Processor Verification</dc:title>
</cp:coreProperties>
</file>