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EA3B9601-A667-4073-BD0E-DB15C3E77FD8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Memory Allocation 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 explicit alloca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struct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chanis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lic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1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7124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oals of Good malloc/free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mary go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od time performance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ally should take constant time (not always possibl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ould certainly not take linear time in the number of blo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od space util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 allocated structures should be large fraction of the heap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nt to minimize “fragmentation”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me other go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od locality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uctures allocated close in time should be close in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milar” objects should be allocated close in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bu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check tha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ee(p1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s on a valid allocated objec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check that memory references are to allocated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670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Goals: Throughp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iven some sequence of malloc and free request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 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n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nt to maximize throughput and peak memory utiliza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se goals are often conflic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oughpu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 of completed requests per unit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5,000 malloc calls and 5,000 free calls in 10 seconds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ughput is 1,000 operations/secon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123480"/>
            <a:ext cx="68580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Goals: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ak Memory Utiliz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44600" y="1676160"/>
            <a:ext cx="8470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iven some sequence of malloc and free request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 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n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f: Aggregate payload P</a:t>
            </a:r>
            <a:r>
              <a:rPr b="1" i="1" lang="en-US" sz="2400" spc="-1" strike="noStrike" baseline="-25000">
                <a:solidFill>
                  <a:srgbClr val="0033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(p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sults in a block with a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aylo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.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reques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s completed,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ggregate paylo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e sum of currently allocated paylo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f: Current heap size is denoted by H</a:t>
            </a:r>
            <a:r>
              <a:rPr b="1" i="1" lang="en-US" sz="2400" spc="-1" strike="noStrike" baseline="-25000">
                <a:solidFill>
                  <a:srgbClr val="0033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tha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monotonically nondecre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f: Peak memory utiliza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quests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eak memory utiliza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= ( max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i&lt;k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i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)  /  H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731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nal Fragm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15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oor memory utilization caused by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fragmentation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es in two forms: internal and external fragmen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nternal fragment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some block, internal fragmentation is the difference between the block size and the payload siz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used by overhead of maintaining heap data structures, padding for alignment purposes, or explicit policy decisions (e.g., not to split the block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pends only on the pattern of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reviou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requests, and thus is easy to measur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55960" y="3505320"/>
            <a:ext cx="2819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75480" y="3505320"/>
            <a:ext cx="7617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93840" y="3505320"/>
            <a:ext cx="76212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99480" y="3429000"/>
            <a:ext cx="152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agment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308280" y="3733920"/>
            <a:ext cx="7621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4213080" y="1104480"/>
            <a:ext cx="304920" cy="4343400"/>
          </a:xfrm>
          <a:custGeom>
            <a:avLst/>
            <a:gdLst>
              <a:gd name="textAreaLeft" fmla="*/ 0 w 304920"/>
              <a:gd name="textAreaRight" fmla="*/ 110160 w 3049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25160" y="2863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2840" y="3505320"/>
            <a:ext cx="152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agment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65240" y="3809880"/>
            <a:ext cx="685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74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Fragm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62320" y="2071800"/>
            <a:ext cx="30456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071800"/>
            <a:ext cx="3049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2071800"/>
            <a:ext cx="3049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2071800"/>
            <a:ext cx="30456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055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199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2760" y="1614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 = malloc(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00480" y="29098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05040" y="29098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9960" y="29098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9098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19440" y="290988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24360" y="290988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9280" y="290988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33840" y="290988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38760" y="290988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436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482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5316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580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626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6756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724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770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61080" y="2487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 = malloc(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00480" y="374796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05040" y="374796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9960" y="374796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14880" y="374796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19440" y="374796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24360" y="374796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29280" y="374796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33840" y="374796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38760" y="374796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43680" y="374796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48240" y="374796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3160" y="374796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58080" y="374796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62640" y="374796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67560" y="374796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72480" y="374796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77040" y="374796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0840" y="33256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3 = malloc(6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4510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4510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8120" y="45100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4510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4510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4510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451008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451008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451008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451008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451008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05720" y="451008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1028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94560" y="4129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ee(p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92760" y="49672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4 = malloc(6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31320" y="5272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0680" y="968400"/>
            <a:ext cx="76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ccurs when there is enough aggregate heap memory, but no sing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e block is large enoug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20160" y="5692680"/>
            <a:ext cx="72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ternal fragmentation depends on the pattern of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futur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requests, 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us is difficult to measure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71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ation Iss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know how much memory to free just given a pointe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keep track of the free block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do we do with the extra space when allocating a structure that is smaller than the free block it is placed i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pick a block to use for allocation -- many might fit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reinsert freed block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54244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62320" y="54244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66880" y="54244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54244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54244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54244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54244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05520" y="54244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1008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50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19920" y="54244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2448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294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626256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 = malloc(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86920" y="5121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18600" y="58611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ee(p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19920" y="527220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00600" y="527220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nowing How Much to Fre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54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metho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the length of a block in the word preceding the bloc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s word is often called 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eader fiel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or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ead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s an extra word for every allocated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17280" y="52578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p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94680" y="39625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0 = malloc(4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0020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05120" y="3429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0968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1460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19520" y="3429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33920" y="3429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3429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5288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62720" y="3429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6728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77120" y="3429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340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5791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1460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19520" y="5791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2900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33920" y="57913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3848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48320" y="5791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5780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62720" y="5791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7220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77120" y="57913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50120" y="3962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4572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4572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1460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19520" y="4572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4572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2900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33920" y="4572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3848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48320" y="45720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4572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4572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62720" y="45720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4572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220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441972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77120" y="4572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3800" y="53341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19720" y="4876560"/>
            <a:ext cx="7596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9080" y="53341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4800240" y="4876560"/>
            <a:ext cx="304920" cy="533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181480" y="4876560"/>
            <a:ext cx="53352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105520" y="4876560"/>
            <a:ext cx="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181480" y="4876560"/>
            <a:ext cx="22860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441972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45720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28600" y="1143000"/>
            <a:ext cx="8458200" cy="1447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eeping Track of Free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mplicit li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ing lengths -- links all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licit li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mong the free blocks using pointers within the free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gregated free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fferent free lists for different size cla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Blocks sorted by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765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909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04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242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41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386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436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485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051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096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146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195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240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339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384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483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627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672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722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771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434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57400" y="3479760"/>
            <a:ext cx="2438280" cy="48276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28800" y="190512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52680" y="19051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19051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91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thod 1: Implicit Lis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25516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ed to identify whether each block is free or allocat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extra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 can be put in the same word as the size if block sizes are always multiples of two (mask out low order bit when reading size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44640" y="3975120"/>
            <a:ext cx="1370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9120" y="35179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32560" y="4502160"/>
            <a:ext cx="147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mat o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 a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 bloc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4640" y="4356000"/>
            <a:ext cx="1676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93400" y="3898800"/>
            <a:ext cx="261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1: allocated block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0: fre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: block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: application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allocated blocks only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3975120"/>
            <a:ext cx="304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5638680"/>
            <a:ext cx="167652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Finding a Free B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First fit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arch list from beginning, choose first free block that fi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n take linear time in total number of blocks (allocated and fre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 practice it can cause “splinters” at beginning of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ext fit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ke first-fit, but search list from location of end of previous searc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search suggests that fragmentation is worse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est fit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arch the list, choose the free block with the closest size that fi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Keeps fragments small --- usually helps fragmen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ill typically run slower than first-fi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38640" y="1978200"/>
            <a:ext cx="54234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star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(p &lt; end) ||    \\ not passed 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*p &amp; 1) ||     \\ already 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*p &lt;= len));   \\ too small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05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rsh Re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emory Mat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is not unbound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 must be allocated and manag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applications are memory do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those based on complex, graph algorith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ing bugs especially pernicio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s are distant in both time and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performance is not uni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and virtual memory effects can greatly affect progra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apting program to characteristics of memory system can lead to major speed improv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610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Allocating in Free B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 in a free block -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plitt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ce allocated space might be smaller than free space, we might want to split the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1880" y="3403440"/>
            <a:ext cx="8227440" cy="1797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ddblock(ptr p, int len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ewsize = ((len + 1) &gt;&gt; 1) &lt;&lt; 1;  // add 1 and round u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oldsize = *p &amp; -2;                // mask out low b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p = newsize | 1;                     // set new lengt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newsize &lt; oldsiz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(p+newsize) = oldsize - newsize;   // set length in remain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                                   //   part of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5740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2320" y="25909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66688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7180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76720" y="2590920"/>
            <a:ext cx="30456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81280" y="2590920"/>
            <a:ext cx="3049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86200" y="2590920"/>
            <a:ext cx="3049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91120" y="2590920"/>
            <a:ext cx="30456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0060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25909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1008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1500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19920" y="25909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324480" y="25909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629400" y="25909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9568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29000" y="2362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48320" y="23623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00400" y="614664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05320" y="614664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09880" y="614664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14800" y="614664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24280" y="614664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614664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4120" y="614664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61466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61466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614664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52680" y="59180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498920" y="289512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5200" y="3048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09680" y="2362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24640" y="6140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95680" y="5918040"/>
            <a:ext cx="129564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91320" y="599436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8108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8600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61466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9548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591804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11640" y="5581800"/>
            <a:ext cx="1798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block(p, 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7201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Freeing a B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est implementatio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879480" indent="-380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need to clear allocated fla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5100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void free_block(ptr p) { *p = *p &amp; -2}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879480" indent="-380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can lead to “false fragmentation”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re is enough free space, but the allocator won’t be able to find 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3124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657600" y="3124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1240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267080" y="3124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76920" y="3124080"/>
            <a:ext cx="30456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81480" y="31240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86400" y="31240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91320" y="3124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5880" y="3124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05720" y="3124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31240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289548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76920" y="311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648320" y="2895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43600" y="297180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25120" y="3583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3800" y="3505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724280" y="3428640"/>
            <a:ext cx="0" cy="152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481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52680" y="4114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657600" y="4114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62520" y="41148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4114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057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388620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38862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133720" y="2895480"/>
            <a:ext cx="1371600" cy="533520"/>
            <a:chOff x="2133720" y="2895480"/>
            <a:chExt cx="1371600" cy="533520"/>
          </a:xfrm>
        </p:grpSpPr>
        <p:sp>
          <p:nvSpPr>
            <p:cNvPr id="553" name=""/>
            <p:cNvSpPr/>
            <p:nvPr/>
          </p:nvSpPr>
          <p:spPr>
            <a:xfrm>
              <a:off x="213372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438640" y="312408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4320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812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86000" y="2895480"/>
              <a:ext cx="121932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cubicBezTo>
                    <a:pt x="128" y="72"/>
                    <a:pt x="256" y="0"/>
                    <a:pt x="384" y="0"/>
                  </a:cubicBezTo>
                  <a:cubicBezTo>
                    <a:pt x="512" y="0"/>
                    <a:pt x="640" y="72"/>
                    <a:pt x="768" y="144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48769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864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913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958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776920" y="410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648320" y="388620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96252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41320" y="4572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lloc(5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18960" y="46958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769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Coalesc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Join 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elesce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) with next and/or previous block if they are free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alescing with next block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t how do we coalesce with previous block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52680" y="47242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57600" y="47242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47242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67080" y="47242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724280"/>
            <a:ext cx="30456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181480" y="47242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86400" y="47242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91320" y="47242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5880" y="4724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00800" y="4724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05720" y="47242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47242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05320" y="449568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76920" y="471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48320" y="44956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43600" y="457200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25120" y="51832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73800" y="5105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724280" y="5028840"/>
            <a:ext cx="0" cy="152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133720" y="5715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828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320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8120" y="5715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5715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57600" y="5715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57150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67080" y="5715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00800" y="5715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05720" y="5715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505320" y="548640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54864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133720" y="4495680"/>
            <a:ext cx="1371600" cy="533520"/>
            <a:chOff x="2133720" y="4495680"/>
            <a:chExt cx="1371600" cy="533520"/>
          </a:xfrm>
        </p:grpSpPr>
        <p:sp>
          <p:nvSpPr>
            <p:cNvPr id="603" name=""/>
            <p:cNvSpPr/>
            <p:nvPr/>
          </p:nvSpPr>
          <p:spPr>
            <a:xfrm>
              <a:off x="2133720" y="47242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38640" y="472428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43200" y="47242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048120" y="47242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86000" y="4495680"/>
              <a:ext cx="121932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cubicBezTo>
                    <a:pt x="128" y="72"/>
                    <a:pt x="256" y="0"/>
                    <a:pt x="384" y="0"/>
                  </a:cubicBezTo>
                  <a:cubicBezTo>
                    <a:pt x="512" y="0"/>
                    <a:pt x="640" y="72"/>
                    <a:pt x="768" y="144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4876920" y="5715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8148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8640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91320" y="5715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588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548640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1080" y="2597040"/>
            <a:ext cx="647712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noAutofit/>
          </a:bodyPr>
          <a:p>
            <a:pPr lvl="2" marL="914400">
              <a:lnSpc>
                <a:spcPct val="107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74600" y="2597040"/>
            <a:ext cx="75358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2" marL="914400">
              <a:lnSpc>
                <a:spcPct val="107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54280" y="2514600"/>
            <a:ext cx="7191000" cy="1655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7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void free_block(ptr p) {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*p = *p &amp; -2;          // clear allocated flag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next = p + *p;         // find next block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if ((*next &amp; 1) == 0)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  *p = *p + *next;    // add to this block if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}                         //    not 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76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Bidirectional Coalescing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0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164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undary tag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[Knuth73]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10200" indent="-2016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plicate size/allocated word at bottom of free block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10200" indent="-2016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ws us to traverse the “list” backwards, but requires extra spa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10200" indent="-2016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ortant and general technique!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111480" y="3000240"/>
            <a:ext cx="1370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71920" y="25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7480" y="3533760"/>
            <a:ext cx="147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mat o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 a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 bloc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11480" y="3381480"/>
            <a:ext cx="1676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 a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97960" y="3178080"/>
            <a:ext cx="261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1: allocated block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0: fre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: total block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: application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allocated blocks only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81640" y="3000240"/>
            <a:ext cx="304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10040" y="4676760"/>
            <a:ext cx="1369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479840" y="4676760"/>
            <a:ext cx="304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92520" y="467676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oundary 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foote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14600" y="482904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716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765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810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09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954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5053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8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197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7242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292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341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386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94360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098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43200" y="5575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62520" y="55753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880" y="5575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485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530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38280" y="61088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16" y="72"/>
                  <a:pt x="464" y="144"/>
                  <a:pt x="336" y="144"/>
                </a:cubicBezTo>
                <a:cubicBezTo>
                  <a:pt x="208" y="144"/>
                  <a:pt x="104" y="72"/>
                  <a:pt x="0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57600" y="610884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1152" y="0"/>
                </a:moveTo>
                <a:cubicBezTo>
                  <a:pt x="960" y="72"/>
                  <a:pt x="768" y="144"/>
                  <a:pt x="576" y="144"/>
                </a:cubicBezTo>
                <a:cubicBezTo>
                  <a:pt x="384" y="144"/>
                  <a:pt x="192" y="72"/>
                  <a:pt x="0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86400" y="61088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40" y="72"/>
                  <a:pt x="512" y="144"/>
                  <a:pt x="384" y="144"/>
                </a:cubicBezTo>
                <a:cubicBezTo>
                  <a:pt x="256" y="144"/>
                  <a:pt x="63" y="23"/>
                  <a:pt x="0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78320" y="29242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90920" y="3152880"/>
            <a:ext cx="5331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702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43828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3828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3828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96252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96252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48640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8640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8640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1028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01028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1028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1240" y="274968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be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28800" y="30481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1748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4136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6524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08948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se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 (Case 1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02920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02920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02920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24480" y="22860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029200" y="16765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86728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02920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24480" y="25909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29200" y="2895480"/>
            <a:ext cx="16765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2920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24480" y="32004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029200" y="25909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02920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24480" y="35053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02920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29200" y="35053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 (Case 2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02920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2920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324480" y="22860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029200" y="16765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2920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324480" y="25909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09680" y="16765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0968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09680" y="22860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0532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09680" y="16765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04812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09680" y="25909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0532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09680" y="2895480"/>
            <a:ext cx="16765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20968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209680" y="32004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0532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09680" y="25909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09680" y="35053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0532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20968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0968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9680" y="41148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0532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09680" y="35053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029200" y="2895480"/>
            <a:ext cx="1676520" cy="12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29200" y="2590920"/>
            <a:ext cx="1676520" cy="18288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 (Case 3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1981080"/>
            <a:ext cx="1676520" cy="12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86728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02920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324480" y="32004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02920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324480" y="35053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02920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029200" y="35053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29200" y="1676520"/>
            <a:ext cx="1676520" cy="18288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 (Case 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1+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029200" y="1981080"/>
            <a:ext cx="1676520" cy="21337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1+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029200" y="1676520"/>
            <a:ext cx="1676520" cy="27432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 of Key Allocator Polic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lacement policy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rst fit, next fit, best fit, et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des off lower throughput for less fragmentatio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teresting observation: segregated free lists (next lecture) approximate a best fit placement policy without having the search entire free list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plitting policy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n do we go ahead and split free blocks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w much internal fragmentation are we willing to tolerate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alescing policy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mediate coalescing: coalesce adjacent blocks each time free is called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erred coalescing: try to improve performance of free by deferring coalescing until needed. e.g.,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alesce as you scan the free list for malloc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alesce when the amount of external fragmentation reaches some threshold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Memor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9040" y="3034800"/>
            <a:ext cx="8050320" cy="32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plicit vs. Implicit Memory Allocato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plicit:  application allocates and frees space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,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alloc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fre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in C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icit: application allocates, but does not free spa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 garbage collection in Java, ML or Lisp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lloc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 both cases the memory allocator provides an abstraction of memory as a set of block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les out free memory blocks to applic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ill discuss simple explicit memory allocation tod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1219320"/>
            <a:ext cx="35049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1676520"/>
            <a:ext cx="350496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ynamic Memory Alloc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2133720"/>
            <a:ext cx="35049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p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756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s: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85000"/>
              </a:lnSpc>
              <a:spcBef>
                <a:spcPts val="125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: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ery simpl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25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e: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inear time worst cas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25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ree: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stant time worst case -- even with coalesc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25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usage: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ill depend on placement polic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fit, next fit or best f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 used in practice for malloc/free because of linear time allocate.  Used in many special purpose applica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the concepts of splitting and boundary tag coalescing are general to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l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lloca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53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 Memory Im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57440" y="1233360"/>
            <a:ext cx="3200400" cy="4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 virtual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57440" y="2935440"/>
            <a:ext cx="3200400" cy="66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mapped region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57440" y="3600360"/>
            <a:ext cx="3200400" cy="723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57440" y="4327560"/>
            <a:ext cx="3200400" cy="669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 (via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57440" y="2025720"/>
            <a:ext cx="3200400" cy="9064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57440" y="5743440"/>
            <a:ext cx="3200400" cy="39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text (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7440" y="5362560"/>
            <a:ext cx="3200400" cy="3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itialized data (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7440" y="4981680"/>
            <a:ext cx="3200400" cy="3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nitialized data (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65840" y="3963600"/>
            <a:ext cx="0" cy="352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57440" y="1690560"/>
            <a:ext cx="3200400" cy="33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981680" y="2587320"/>
            <a:ext cx="0" cy="352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97520" y="2025720"/>
            <a:ext cx="0" cy="352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57440" y="6124680"/>
            <a:ext cx="3200400" cy="3967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54320" y="6292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40440" y="181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76560" y="1984320"/>
            <a:ext cx="38088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7560" y="1187280"/>
            <a:ext cx="208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invisible t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81680" y="118728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91920" y="4138560"/>
            <a:ext cx="14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e “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k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” pt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629400" y="4311720"/>
            <a:ext cx="38088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322884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ors reques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itional heap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 the operating system using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br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unction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lloc Pack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15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#include &lt;stdlib.h&gt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void *malloc(size_t size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successful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turns a pointer to a memory block of at least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siz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bytes, (typically) aligned to 8-byte boundary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f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size == 0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, returns NUL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unsuccessful: returns NULL (0) and set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rrn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void free(void *p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s the block pointed at by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to pool of available 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must come from a previous cal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reallo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void *realloc(void *p, size_t size)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anges size of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returns pointer to new block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ents of new block unchanged up to min of old and new siz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lloc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066680"/>
            <a:ext cx="6781680" cy="5635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o(int n, int m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, *p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allocate a block of n ints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(p = (int *) malloc(n * sizeof(int))) == NULL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ror("malloc"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[i] = 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add m bytes to end of p block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(p = (int *) realloc(p, (n+m) * sizeof(int))) == NULL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ror("realloc"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=n; i &lt; n+m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[i] = 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print new array */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=0; i&lt;n+m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%d\n", p[i]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ree(p); /* return p to available memory pool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70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um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umptions made in this le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is word addressed (each word can hold a point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70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16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065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114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209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258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04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353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402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448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497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54640" y="25430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592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641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690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736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785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83440" y="25430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1292040" y="242892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8"/>
                </a:lnTo>
                <a:cubicBezTo>
                  <a:pt x="10800" y="9478"/>
                  <a:pt x="16200" y="10378"/>
                  <a:pt x="21600" y="10378"/>
                </a:cubicBezTo>
                <a:cubicBezTo>
                  <a:pt x="16200" y="10378"/>
                  <a:pt x="10800" y="11278"/>
                  <a:pt x="10800" y="1217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2760" y="3222720"/>
            <a:ext cx="167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4 word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95400" y="322884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3 word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4187520" y="25812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8"/>
                </a:lnTo>
                <a:cubicBezTo>
                  <a:pt x="10800" y="9478"/>
                  <a:pt x="16200" y="10378"/>
                  <a:pt x="21600" y="10378"/>
                </a:cubicBezTo>
                <a:cubicBezTo>
                  <a:pt x="16200" y="10378"/>
                  <a:pt x="10800" y="11278"/>
                  <a:pt x="10800" y="1217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54840" y="307656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54840" y="34574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39320" y="307656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40760" y="3457440"/>
            <a:ext cx="163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46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loca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17082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17082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17082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17082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0480" y="1233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 = malloc(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25956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25956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5956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25956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259560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25956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5956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259560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25956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595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2595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1028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0120" y="2595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0480" y="2120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 = malloc(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483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34830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3483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3483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348300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4830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4830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348300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34830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34830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4830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34830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34830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34830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10280" y="34830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3483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0120" y="3483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0480" y="30081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3 = malloc(6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3440" y="43704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78000" y="43704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82920" y="43704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87840" y="43704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9240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9732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02240" y="43704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1172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6640" y="43704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1200" y="43704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26120" y="43704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31040" y="43704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35600" y="43704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40520" y="43704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45440" y="43704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5000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2280" y="3895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ee(p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28800" y="5257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33720" y="5257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38640" y="52578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43200" y="5257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48120" y="5257800"/>
            <a:ext cx="304920" cy="304920"/>
          </a:xfrm>
          <a:prstGeom prst="rect">
            <a:avLst/>
          </a:prstGeom>
          <a:solidFill>
            <a:srgbClr val="cc99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53040" y="5257800"/>
            <a:ext cx="304560" cy="304920"/>
          </a:xfrm>
          <a:prstGeom prst="rect">
            <a:avLst/>
          </a:prstGeom>
          <a:solidFill>
            <a:srgbClr val="cc99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57600" y="5257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62520" y="5257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67440" y="5257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72000" y="52578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76920" y="52578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81840" y="52578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86400" y="52578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91320" y="52578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96240" y="52578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00800" y="5257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05720" y="5257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0480" y="47829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4 = malloc(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52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rai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3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ica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issue arbitrary sequence of allocation and free reque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ee requests must correspond to an allocated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’t control number or size of allocated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respond immediately to all allocation reque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.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, can’t reorder or buffer reques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allocate blocks from free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.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, can only place allocated blocks in fre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align blocks so they satisfy all alignment requir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 byte alignment for GNU malloc (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ib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alloc) on Linux box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manipulate and modify free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’t move the allocated blocks once they are alloc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.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, compaction is not allow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05T15:43:58Z</dcterms:modified>
  <cp:revision>179</cp:revision>
  <dc:subject/>
  <dc:title>Dynamic Memory Allocation I</dc:title>
</cp:coreProperties>
</file>