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B64604C-376B-45C0-AD63-9F44BEB369E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twork Programm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r’s view of the Internet (review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ckets inte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clients and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/compute cycles (CGI program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retrieves files and runs CGI programs on behalf of the cl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and retrieve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term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proxies a terminal on the serve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email “spool”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mail messages in spool fil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11320"/>
            <a:ext cx="3124080" cy="11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servic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 a comprehensive list of the services available on a Linux machi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the 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1520" y="11426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240" y="11584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981080"/>
            <a:ext cx="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920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606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2925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6035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8098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8672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51814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5825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825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2575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bi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9322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s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6399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cce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566424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3149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9896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634032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98960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6399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nne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1496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6568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8280" y="329256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3600" y="5593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65530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38098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24480" y="38098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3800" y="458532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160020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3000" y="22856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60020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26348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a socke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the kernel, a socket is an endpoint of communi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n application, a socket is a file descriptor that lets the application read/write from/to the networ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member: All Unix I/O devices, including networks, are modeled as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main distinction between regular file I/O and socket I/O is how the application “opens” the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4640" y="13320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 Address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ress argument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cessary only because C did not have generic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id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ointers when the sockets interface was design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-specif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a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_in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to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00" y="2496960"/>
            <a:ext cx="6764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a_family;    /* protocol famil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         sa_data[14];  /* address data.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27600"/>
            <a:ext cx="853452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family;  /* address family (always 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port;    /* port num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 sin_addr;    /* IP addr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char   sin_zero[8]; /* pad to sizeof(struct sockaddr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0760" y="99072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 = Open_clientfd(host, 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760" y="990720"/>
            <a:ext cx="859320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 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12952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20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440" y="3809880"/>
            <a:ext cx="676440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820880"/>
            <a:ext cx="87631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cli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153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gethostbynam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ient then builds the server’s Internet addr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" y="2247840"/>
            <a:ext cx="725220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          /*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IP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7598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connec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ly the client creates a connection with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ent process suspends (blocks) until the connection is creat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suming, the client is ready to begin exchanging messages with the server via Unix I/O calls on descrip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f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4480" y="3429000"/>
            <a:ext cx="84711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  /* server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sockaddr SA;      /* generic sock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5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Client-Server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696760" y="40258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4440" y="3671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0160" y="443304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9360" y="44704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44827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200" y="442332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88200" y="4245120"/>
            <a:ext cx="836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4840" y="3941640"/>
            <a:ext cx="1089000" cy="569880"/>
          </a:xfrm>
          <a:prstGeom prst="flowChartMagneticDisk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0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network application is based on the client-server mode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 and one or m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manages som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provides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manipulating resource for clien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0880" y="55627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e: clients and servers are processes running on host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(can be the same or different host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334440"/>
            <a:ext cx="77853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8920" y="3263760"/>
            <a:ext cx="676440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etsockop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ocket can be given some attribut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y trick that allows us to rerun the server immediately after we kill i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we would have to wait about 15 sec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(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ongly suggest you do this for all your servers to simplify debugg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4840" y="2254320"/>
            <a:ext cx="761796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()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472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initialize socket addres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1592280"/>
            <a:ext cx="86994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, we initialize the socket with the server’s Internet address (IP address and port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P addr and port stored in network (big-endian) byte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ts longs from host byte order to network byt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 shorts from host byte order to network byte ord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240" y="2511360"/>
            <a:ext cx="737388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'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bind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1817640"/>
            <a:ext cx="8307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in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ociates the socket with the socket address we just creat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759040"/>
            <a:ext cx="830592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                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5726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listen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dicates that this socket will accept connection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requests from clien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’re finally ready to enter the main server loop that accepts and processes client connection reques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7680" y="2855880"/>
            <a:ext cx="871524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loops endlessly, waiting for connection requests, then reading input from the client, and echoing the input back to the cli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560" y="2666880"/>
            <a:ext cx="8105400" cy="252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4600" y="990720"/>
            <a:ext cx="8254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locks waiting for a connection reque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tur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ed descriptor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with the same properties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istening descripto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when the connection between client and server is created and ready for I/O transf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/O with the client will be done via the connected socke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so fills in client’s IP addres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82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;   /* connected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mer’s View of the Inter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Hosts are mapped to a set of 32-bi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The set of IP addresses is mapped to a set of identifiers called Interne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 nam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 is mapped to  www.cs.cmu.edu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A process on one Internet host can communicate with a process on another Internet host over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Illustra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00480" y="1635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0360" y="1239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9526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800" y="15764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121896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. Server blocks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, waiting for connection request on listening descriptor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iste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6200" y="2106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9520" y="1563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5035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0360" y="310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8210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800" y="3444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6200" y="3974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9520" y="34322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36840" y="3575160"/>
            <a:ext cx="1752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8280" y="330804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. Client makes connection request by calling and blocking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08240" y="299088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87880" y="5334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7760" y="4938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1280" y="56516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275440"/>
            <a:ext cx="10587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600" y="5805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36920" y="5262480"/>
            <a:ext cx="105876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4859280"/>
            <a:ext cx="40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. Server returns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lient returns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onnection is now established betwee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lient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56642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0080" y="58179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0960" y="572292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nected vs. Listening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stening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for client connection reque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once and exists for lifetime of the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ed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of the connection between client and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new descriptor is created each time the server accepts a connection request from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sts only as long as it takes to service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 the distin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for concurrent servers that can communicate over many client connections simultaneous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ach time we receive a new request, we fork a child to handle the reques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Identifying the Cli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n determine the domain name and IP address of the cli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40" y="2193840"/>
            <a:ext cx="85932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/* pointer to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        /* pointer to dotted decimal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ch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480" y="3305160"/>
            <a:ext cx="72522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uses RIO to read and echo text lines until EOF (end-of-file) is encounter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OF notification caused by client calling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lose(clientfd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EOF is a condition, not a particular data by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5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Servers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elne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is invaluable for testing servers that transmit ASCII strings over Internet conne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simple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l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ag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telnet &lt;host&gt; &lt;portnumber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connection with a server running on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host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 listening on port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portnumber&gt;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2840" y="304920"/>
            <a:ext cx="858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the Echo Server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240" y="990720"/>
            <a:ext cx="8105400" cy="520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5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8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unning the Echo Client and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080" y="1371600"/>
            <a:ext cx="8105400" cy="423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4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7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. Richard Stevens, “Unix Network Programming: Networking APIs: Sockets and XTI”, Volume 1, Second Edition, Prentice Hall, 1998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twork programming bi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te versions of the echo client and server are developed in the tex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should compile and run them for yourselves to see how they work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el free to borrow any of this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. IP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3120" y="1219320"/>
            <a:ext cx="8282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2-bit IP addresses are stored in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 stru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P addresses are always stored in memory in network byte order (big-endian byte ord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in general for any integer transferred in a packet header from one machine to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he port number used to identify an Internet conne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00" y="3541680"/>
            <a:ext cx="77400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ternet address structu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s_addr; /* network byte order (big-endian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592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y network byte-order conversion function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58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2. Domain Naming System (DN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99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maintains a mapping between IP addresses and domain names in a huge worldwide distributed database called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, programmers can view the DNS database as a collection of million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st entry structur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for retrieving host entries from D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query key is a DNS domain na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addr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query key is an IP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121200"/>
            <a:ext cx="89154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NS host entry structu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h_name;       /* official domain name of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liases;   /* null-terminated array of domain nam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addrtype;    /* host address type (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length;      /* length of an address, in byt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ddr_list; /* null-terminated array of in_addr struc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406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70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. Internet Conne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1360" y="4470480"/>
            <a:ext cx="40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816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348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8080" y="4502160"/>
            <a:ext cx="44514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956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948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7800" y="322884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322884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78080" y="3809880"/>
            <a:ext cx="30312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5080" y="3809880"/>
            <a:ext cx="30348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680" y="5133960"/>
            <a:ext cx="205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5160" y="5133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ions are point-to-point, full-duplex (2-way communication), and rel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760" y="5951520"/>
            <a:ext cx="257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phemeral por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y the kerne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5943600"/>
            <a:ext cx="297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 well-known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ssociated with Web serv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browsers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t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l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s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a client find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IP address in the server socket address identifies the hos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(more precisely, an adapter on the hos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(well-known) port in the server socket address identifies the service, and thus implicitly identifies the server process that performs that servi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of well know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968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492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9600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41972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rts to Identify Servi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0440" y="16113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360" y="16002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360" y="114300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128.2.194.24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48292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558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65744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43600" y="2177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440" y="4538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41008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4864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2520" y="460368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48640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54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181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22827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521028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at boot-time (typically) by the init process (process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continuously until the machine is turned of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7: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3: tel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5: mail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80: HTTP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machine that runs a server process is also often  referred to as a “server.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37:01Z</dcterms:modified>
  <cp:revision>456</cp:revision>
  <dc:subject/>
  <dc:title>Network Programming</dc:title>
</cp:coreProperties>
</file>