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87965E6A-CBC2-4679-83E3-E6485A685BD2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al Control Flow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rt II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22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 Hierarch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el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nlocal jum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7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ell Progr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shel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n application program that runs programs on behalf of the us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– Original Unix Bourne Shell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sh –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SD Unix C Shell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csh –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nhanced C Shell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sh –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urne-Again Shel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3276720"/>
            <a:ext cx="4800600" cy="337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cmdline[MAXLINE]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&gt; ");            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gets(cmdline, MAXLINE, stdi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eof(stdin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valuat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val(cmdlin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441972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ion is a sequence of read/evaluate step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75792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Shell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eva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un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143000"/>
            <a:ext cx="8340840" cy="534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eval(char *cmdline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argv[MAXARGS]; /* argv for execve(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bg;              /* should the job run in bg or fg?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_t pid;           /* process i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g = parseline(cmdline, argv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!builtin_command(argv)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pid = Fork()) == 0) {   /* child runs user job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execve(argv[0], argv, environ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%s: Command not found.\n", argv[0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!bg) {   /* parent waits for fg job to terminat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tatu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waitpid(pid, &amp;status, 0) &lt;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_error("waitfg: waitpid error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        /* otherwise, don’t wait for bg job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%d %s", pid, cmdlin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blem with Simple Shell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ell correctly waits for and reaps foreground job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ut what about background job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become zombies when they termin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never be reaped because shell (typically) will not termin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s a memory leak that will eventually crash the kernel when it runs out of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lution: Reaping background jobs requires a mechanism called a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sign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74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sign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 small message that notifies a process that an event of some type has occurred in the system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abstraction for exceptions and interrupt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t from the kernel (sometimes at the request of another process) to a proc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ent signals are identified by small integer ID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only information in a signal is its ID and the fact that it arriv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4038480"/>
          <a:ext cx="8872560" cy="2104920"/>
        </p:xfrm>
        <a:graphic>
          <a:graphicData uri="http://schemas.openxmlformats.org/drawingml/2006/table">
            <a:tbl>
              <a:tblPr/>
              <a:tblGrid>
                <a:gridCol w="838440"/>
                <a:gridCol w="1218960"/>
                <a:gridCol w="2246400"/>
                <a:gridCol w="4568760"/>
              </a:tblGrid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efault Ac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rresponding Even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Courier New"/>
                        </a:rPr>
                        <a:t>SIGIN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erminat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terrupt from keyboard (</a:t>
                      </a: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Courier New"/>
                        </a:rPr>
                        <a:t>ctl-c</a:t>
                      </a: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Courier New"/>
                        </a:rPr>
                        <a:t>SIGKI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erminat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Kill program (cannot override or ignore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Courier New"/>
                        </a:rPr>
                        <a:t>SIGSEGV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erminate &amp; Dump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egmentation viola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Courier New"/>
                        </a:rPr>
                        <a:t>SIGALR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erminat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imer sign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Courier New"/>
                        </a:rPr>
                        <a:t>SIGCHL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gnor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hild stopped or terminate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 Concepts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	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nding a sign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end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delivers) a signal to a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destination proces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updating some state in the context of the destination proc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sends a signal for one of the following reason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rnel has detected a system event such as divide-by-zero (SIGFPE) or the termination of a child process (SIGCHLD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other process has invoked th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kil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ystem call to explicitly request the kernel to send a signal to the destination proces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 Concept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ceiving a sign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destination process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receiv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 signal when it is forced by the kernel to react in some way to the delivery of the signa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e possible ways to react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gnore the signal (do nothing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rminate the proces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atch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e signal by executing a user-level function called 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gnal handl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kin to a hardware exception handler being called in response to an asynchronous interrup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 Concept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5485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signal i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ending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f it has been sent but not yet receive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can be at most one pending signal of any particular typ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: Signals are not queu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a process has a pending signal of type k, then subsequent signals of type k that are sent to that process are discard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process can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block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the receipt of certain signal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locked signals can be delivered, but will not be received until the signal is unblock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pending signal is received at most onc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 Concepts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	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rnel maintain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pending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locke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bit vectors in the context of each proces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end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– represents the set of pending sig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rnel sets bit k i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ending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whenever a signal of type k is deliver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rnel clears bit k i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ending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whenever a signal of type k is received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locke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– represents the set of blocked sig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be set and cleared by the application using th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igprocmask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function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 Grou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5257800" cy="13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ery process belongs to exactly one process 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98640" y="3228840"/>
            <a:ext cx="982800" cy="88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94280" y="3228840"/>
            <a:ext cx="98244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3228840"/>
            <a:ext cx="984240" cy="88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98960" y="190512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9920" y="4414680"/>
            <a:ext cx="984240" cy="77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65280" y="4414680"/>
            <a:ext cx="984240" cy="77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906200" y="4051440"/>
            <a:ext cx="182520" cy="369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85960" y="4048200"/>
            <a:ext cx="163440" cy="36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94320" y="2666880"/>
            <a:ext cx="0" cy="557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68760" y="2575080"/>
            <a:ext cx="1481040" cy="801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68720" y="2535120"/>
            <a:ext cx="1413000" cy="8334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01200" y="20692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3122640"/>
            <a:ext cx="2443320" cy="264780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89240" y="581652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06800" y="3122640"/>
            <a:ext cx="1176480" cy="10857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8720" y="420228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18320" y="420840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45200" y="3122640"/>
            <a:ext cx="1176480" cy="10857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02320" y="33649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64920" y="34156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3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3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76320" y="34426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4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4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02560" y="52207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2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45560" y="5230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2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14880" y="5029200"/>
            <a:ext cx="365760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getpgrp()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– Return process group of current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setpgid() –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Change process group of a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nding Signals with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kil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39006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kill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 sends arbitrary signal to a process or process 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kill –9 2481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end SIGKILL to process 2481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kill –9 –2481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end SIGKILL to every process in process group 24817.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98320" y="1682640"/>
            <a:ext cx="4569840" cy="3987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forks 16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Child1: pid=24818 pgrp=2481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ild2: pid=24819 pgrp=2481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p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788 pts/2    00:00:00 tcsh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18 pts/2    00:00:02 fork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19 pts/2    00:00:02 fork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20 pts/2    00:00:00 p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kill -9 -2481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ps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788 pts/2    00:00:00 tcsh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23 pts/2    00:00:00 p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F Exists at All Levels of a Sys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58816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cep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and operating system kernel soft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urrent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timer and kernel soft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gna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soft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n-local jum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lication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1219320"/>
            <a:ext cx="152280" cy="1676160"/>
          </a:xfrm>
          <a:custGeom>
            <a:avLst/>
            <a:gdLst>
              <a:gd name="textAreaLeft" fmla="*/ 0 w 152280"/>
              <a:gd name="textAreaRight" fmla="*/ 5508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00800" y="29718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66480" y="2098800"/>
            <a:ext cx="1945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vious Lect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2480" y="3733920"/>
            <a:ext cx="1450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s Lect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nding Signals from the Keyboar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29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yping ctrl-c (ctrl-z) sends a SIGTERM (SIGTSTP) to every job in the foreground process group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GTERM – default action is to terminate each proces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GTSTP – default action is to stop (suspend) each proc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3695760"/>
            <a:ext cx="1955880" cy="212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46360" y="3781440"/>
            <a:ext cx="787320" cy="70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e-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roun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jo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05320" y="3781440"/>
            <a:ext cx="785880" cy="69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ack-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roun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job #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29360" y="3781440"/>
            <a:ext cx="787320" cy="70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ack-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roun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job #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08560" y="2720880"/>
            <a:ext cx="787320" cy="62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hel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0320" y="4730760"/>
            <a:ext cx="787320" cy="62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hil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00320" y="4730760"/>
            <a:ext cx="789120" cy="62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hil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654280" y="4440240"/>
            <a:ext cx="146160" cy="295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8160" y="4437000"/>
            <a:ext cx="130320" cy="290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5280" y="3330720"/>
            <a:ext cx="0" cy="446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343320" y="3257640"/>
            <a:ext cx="1185840" cy="6411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3225960"/>
            <a:ext cx="1130040" cy="666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06120" y="280764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52720" y="579600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35480" y="3695760"/>
            <a:ext cx="941400" cy="8697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63400" y="4563360"/>
            <a:ext cx="136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group 3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50720" y="4563360"/>
            <a:ext cx="136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group 4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46920" y="3695760"/>
            <a:ext cx="941400" cy="8697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45360" y="3844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61760" y="38854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3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3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52320" y="39060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4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4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85120" y="533016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2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00960" y="5338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2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of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ctrl-c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and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ctrl-z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57480" y="1450800"/>
            <a:ext cx="6276600" cy="447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forks 1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ild: pid=24868 pgrp=2486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arent: pid=24867 pgrp=2486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typed ctrl-z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spended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ps a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STAT   TIME COMMAND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788 pts/2    S      0:00 -usr/local/bin/tcsh -i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67 pts/2    T      0:01 ./forks 1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68 pts/2    T      0:01 ./forks 1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69 pts/2    R      0:00 ps a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fg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/forks 1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typed ctrl-c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ps a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STAT   TIME COMMAND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788 pts/2    S      0:00 -usr/local/bin/tcsh -i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70 pts/2    R      0:00 ps a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nding Signals with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kil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un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1066680"/>
            <a:ext cx="7696440" cy="520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rk12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id_t pid[N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i, child_status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(pid[i] = fork()) == 0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while(1); /* Child infinite loop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Parent terminates the child processes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Killing process %d\n", pid[i]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kill(pid[i], SIGINT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Parent reaps terminated children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id_t wpid = wait(&amp;child_status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WIFEXITED(child_status)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Child %d terminated with exit status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wpid, WEXITSTATUS(child_status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Child %d terminated abnormally\n", wpid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ceiving Signa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uppose  kernel is returning from exception handler and is ready to pass control to process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rnel computes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pnb = pending &amp; ~block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set of pending nonblocked signals for proces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pnb == 0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ss control to next instruction in the logical flow fo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ls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oose least nonzero bit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nb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 force proces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eceiv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igna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eceipt of the signal triggers some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a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eat for all nonzer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nb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ss control to next instruction in logical flow fo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fault A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signal type has a predefined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default actio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which is one of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process termina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process terminates and dumps cor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process stops until restarted by a SIGCONT signa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process ignores the signa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alling Signal Handl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7012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ign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unction modifies the default action associated with the receipt of signal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ignu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andler_t *signal(int signum, handler_t *handle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fferent values for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handler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_IGN: ignore signals of typ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ign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_DFL: revert to the default action on receipt of signals of typ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ign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wise, handler is the address of a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ignal hand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d when process receives signal of typ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ignu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red to as “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nstalling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” the handle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ing handler is called “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atching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” or “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handling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” the signal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en the handler executes its return statement, control passes back to instruction in the control flow of the process that was interrupted by receipt of the signal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264960"/>
            <a:ext cx="7239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 Handl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1143000"/>
            <a:ext cx="5257800" cy="32907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int_handler(int sig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Process %d received signal %d\n",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, sig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rk13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id_t pid[N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i, child_status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ignal(SIGINT, int_handler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2463840"/>
            <a:ext cx="4724280" cy="371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inux&gt; ./forks 13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Killing process 24973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Killing process 24974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Killing process 24975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Killing process 24976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Killing process 24977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cess 24977 received signal 2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ild 24977 terminated with exit status 0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cess 24976 received signal 2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ild 24976 terminated with exit status 0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cess 24975 received signal 2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ild 24975 terminated with exit status 0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cess 24974 received signal 2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ild 24974 terminated with exit status 0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cess 24973 received signal 2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ild 24973 terminated with exit status 0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048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 Handler Funkin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486400" y="837720"/>
            <a:ext cx="36576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ding signals are not queu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each signal type, just have single bit indicating whether or not signal is pen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 if multiple processes have sent this sig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1352520"/>
            <a:ext cx="5562720" cy="52088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ccount = 0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child_handler(int sig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child_status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id_t pid = wait(&amp;child_status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count--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Received signal %d from process %d\n",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ig, pid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rk14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id_t pid[N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i, child_status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count = N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ignal(SIGCHLD, child_handler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(pid[i] = fork()) == 0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Child: Exit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while (ccount &gt; 0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ause();/* Suspend until signal occurs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407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ving With Nonqueuing Signa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check for all terminated job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ly loop with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1905120"/>
            <a:ext cx="7696080" cy="4231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child_handler2(int sig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hild_statu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_t p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(pid = wait(&amp;child_status)) &g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count--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Received signal %d from process %d\n", sig, pi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fork15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nal(SIGCHLD, child_handler2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123480"/>
            <a:ext cx="838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Program That Reacts to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ly Generated Events (ctrl-c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4720" y="1600200"/>
            <a:ext cx="7495920" cy="471780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lib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ignal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handler(int sig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You think hitting ctrl-c will stop the bomb?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leep(2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Well...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leep(1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OK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(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nal(SIGINT, handler); /* installs ctl-c handl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1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World of Multitask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 Runs Many Processes Concurrent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: executing progra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te consists of memory image + register values + program coun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nually switches from one process to ano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spend process when it needs I/O resource or timer event occu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ume process when I/O available or given scheduling prior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ears to user(s) as if all processes executing simultaneous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en though most systems can only execute one process at a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possibly with lower performance than if running alo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Program That Reacts to Internally Generated Ev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1760" y="1600200"/>
            <a:ext cx="3106800" cy="4231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ignal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beeps = 0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SIGALRM handl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handler(int sig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BEEP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++beeps &lt; 5)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larm(1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BOOM!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56240" y="1606680"/>
            <a:ext cx="3960360" cy="228420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(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nal(SIGALRM, handler)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larm(1); /* send SIGALRM 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secon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handler returns here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37960" y="4200480"/>
            <a:ext cx="1887480" cy="2040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a.out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M!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nlocal Jumps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tjmp/longjm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0520" y="1294920"/>
            <a:ext cx="830736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owerful (but dangerous) user-level mechanism for transferring control to an arbitrary location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trolled to way to break the procedure call/return disciplin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ful for error recovery and signal handl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setjmp(jmp_buf j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be called before longjmp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dentifies a return site for a subsequent longjmp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d once, returns one or more tim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mplementatio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member where you are by storing  the current register context, stack pointer,  and PC value in jmp_buf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 0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341280"/>
            <a:ext cx="664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tjmp/longjm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4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oid longjmp(jmp_buf j, int i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ning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from th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etjm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membered by jump buffe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j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gain...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s time returning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nstead of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d af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etjm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d once, but never retur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ongjmp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mplementatio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ore register context from jump buff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the return value)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o the location indicated by the PC stored in jump bu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669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tjm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/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longjm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60680" y="2432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1523880"/>
            <a:ext cx="6400800" cy="39877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etjmp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mp_buf buf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tjmp(buf) !=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back in main due to an error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first time through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; /* p1 calls p2, which calls p3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3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error checking code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error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ongjmp(buf, 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340920"/>
            <a:ext cx="84582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utting It All Together: A Program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at Restarts Itself When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ctrl-c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’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8440" y="1600200"/>
            <a:ext cx="3594600" cy="471780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ignal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etjmp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jmp_buf buf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handler(int sig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longjmp(buf, 1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(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nal(SIGINT, handler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!sigsetjmp(buf, 1))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tarting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restarting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27640" y="1600200"/>
            <a:ext cx="3960360" cy="13107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1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leep(1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processing...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23320" y="3124080"/>
            <a:ext cx="1765800" cy="325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a.ou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rt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start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start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start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7200" y="4006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rl-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4175280"/>
            <a:ext cx="7617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7200" y="49975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rl-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48520" y="5165640"/>
            <a:ext cx="7617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7200" y="54547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rl-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48520" y="5622840"/>
            <a:ext cx="7617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75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 of Nonlocal Jum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90520" y="1143000"/>
            <a:ext cx="8307360" cy="11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s within stack discipl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long jump to environment of function that has been called but not yet comple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2286000"/>
            <a:ext cx="4114800" cy="447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mp_buf env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tjmp(env)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ong Jump to her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 . . . P2(); . . . P3(); 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3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ongjmp(env, 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9920" y="2057400"/>
            <a:ext cx="1143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19920" y="2743200"/>
            <a:ext cx="1143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3429000"/>
            <a:ext cx="1143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4114800"/>
            <a:ext cx="1143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19920" y="4800600"/>
            <a:ext cx="1143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2362320"/>
            <a:ext cx="5335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83640" y="19810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nv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0120" y="2057400"/>
            <a:ext cx="1143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19680" y="556272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efore longjm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06280" y="281952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 longjm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937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 of Long Jump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0520" y="685800"/>
            <a:ext cx="8307360" cy="11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s within stack discipl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long jump to environment of function that has been called but not yet comple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2057400"/>
            <a:ext cx="4114800" cy="447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mp_buf env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; P3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tjmp(env)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ong Jump to her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3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ongjmp(env, 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183640" y="1676520"/>
            <a:ext cx="1979280" cy="1784880"/>
            <a:chOff x="5183640" y="1676520"/>
            <a:chExt cx="1979280" cy="1784880"/>
          </a:xfrm>
        </p:grpSpPr>
        <p:sp>
          <p:nvSpPr>
            <p:cNvPr id="276" name=""/>
            <p:cNvSpPr/>
            <p:nvPr/>
          </p:nvSpPr>
          <p:spPr>
            <a:xfrm>
              <a:off x="5183640" y="2743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env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5486400" y="1676520"/>
              <a:ext cx="1676520" cy="1784880"/>
              <a:chOff x="5486400" y="1676520"/>
              <a:chExt cx="1676520" cy="1784880"/>
            </a:xfrm>
          </p:grpSpPr>
          <p:sp>
            <p:nvSpPr>
              <p:cNvPr id="278" name=""/>
              <p:cNvSpPr/>
              <p:nvPr/>
            </p:nvSpPr>
            <p:spPr>
              <a:xfrm>
                <a:off x="6019920" y="1676520"/>
                <a:ext cx="1143000" cy="6858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aeaea"/>
                    </a:solidFill>
                    <a:latin typeface="Courier New"/>
                  </a:rPr>
                  <a:t>P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019920" y="2362320"/>
                <a:ext cx="1143000" cy="6858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aeaea"/>
                    </a:solidFill>
                    <a:latin typeface="Courier New"/>
                  </a:rPr>
                  <a:t>P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486400" y="2743200"/>
                <a:ext cx="5335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003360" y="312408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At setjmp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6936480" y="4724280"/>
            <a:ext cx="1988640" cy="1785240"/>
            <a:chOff x="6936480" y="4724280"/>
            <a:chExt cx="1988640" cy="1785240"/>
          </a:xfrm>
        </p:grpSpPr>
        <p:sp>
          <p:nvSpPr>
            <p:cNvPr id="283" name=""/>
            <p:cNvSpPr/>
            <p:nvPr/>
          </p:nvSpPr>
          <p:spPr>
            <a:xfrm>
              <a:off x="7772760" y="4724280"/>
              <a:ext cx="1143000" cy="6858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72760" y="5410080"/>
              <a:ext cx="1143000" cy="6858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9240" y="579132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36480" y="5410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env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88160" y="6172200"/>
              <a:ext cx="123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t longjm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16640" y="5638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336280" y="3505320"/>
            <a:ext cx="1826640" cy="1784880"/>
            <a:chOff x="5336280" y="3505320"/>
            <a:chExt cx="1826640" cy="1784880"/>
          </a:xfrm>
        </p:grpSpPr>
        <p:sp>
          <p:nvSpPr>
            <p:cNvPr id="290" name=""/>
            <p:cNvSpPr/>
            <p:nvPr/>
          </p:nvSpPr>
          <p:spPr>
            <a:xfrm>
              <a:off x="6019920" y="3505320"/>
              <a:ext cx="1143000" cy="68544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19920" y="4190760"/>
              <a:ext cx="1143000" cy="685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86400" y="457164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65200" y="4952880"/>
              <a:ext cx="118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2 return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36280" y="41907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env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63800" y="4419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264960"/>
            <a:ext cx="2210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gnals provide process-level exception handl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generate from user 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define effect by declaring signal hand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me cavea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high overhea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&gt;10,000 clock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use for exceptional condi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have que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Just one bit for each pending signal typ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nlocal jumps provide exceptional  control flow within proc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thin constraints of stack disciplin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280" y="341280"/>
            <a:ext cx="871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grammer’s Model of Multitask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Fun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rk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pawns new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lled once, returns twi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it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erminates own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lled once, never retur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uts it into “zombie” statu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pid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ait for and reap terminated childr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ecl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ecve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un a new program in an existing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lled once, (normally) never retur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ming Challen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standing the nonstandard semantics of the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ing improper use of system resour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 “Fork bombs” can disable a system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Process Hierarch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342900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gin she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441972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il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441972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il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441972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il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556272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randchil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556272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randchil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971800" y="3886200"/>
            <a:ext cx="990720" cy="6094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886200"/>
            <a:ext cx="914400" cy="6094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44792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198108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297180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914400" cy="6098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429000" y="4952880"/>
            <a:ext cx="838080" cy="6098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971800" y="2895480"/>
            <a:ext cx="990720" cy="6098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3429000"/>
            <a:ext cx="2133720" cy="609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em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243828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it 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Startup: Step 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5629320"/>
            <a:ext cx="167616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it 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3648240"/>
            <a:ext cx="167616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191120"/>
            <a:ext cx="0" cy="1438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2960" y="3695760"/>
            <a:ext cx="43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0: handcrafted kernel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8640" y="5715000"/>
            <a:ext cx="40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ild process 1 exec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sbin/in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45800" y="1204920"/>
            <a:ext cx="7278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 Pushing reset button loads 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with the address of a small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otstrap program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. Bootstrap program loads the boot block (disk block 0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. Boot block program loads kernel binary (e.g.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boot/vmlinux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. Boot block program passes control to kernel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. Kernel handcrafts the data structures for process 0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426708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20080" y="4707000"/>
            <a:ext cx="3519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0 forks child process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Startup: Step 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19400" y="258120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it 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19400" y="159084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7480" y="212400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19400" y="357192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t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7480" y="31147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33600" y="3038400"/>
            <a:ext cx="990720" cy="6098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3505320"/>
            <a:ext cx="24336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emo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tpd, http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120" y="2597040"/>
            <a:ext cx="1826640" cy="36828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etc/initta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57360" y="2820960"/>
            <a:ext cx="60984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62440" y="2803680"/>
            <a:ext cx="31766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orks and execs daemons p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etc/inittab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and forks and execs 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t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program for the conso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Startup: Step 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19400" y="258120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it 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19400" y="159084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7480" y="212400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335124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t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process execs 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gi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19400" y="357192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g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57480" y="31147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Startup: Step 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19400" y="258120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it 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19400" y="159084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57480" y="212400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2767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gi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reads login and passwd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OK, it execs a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hell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not OK, it execs anoth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t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19400" y="357192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c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7480" y="31147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5:05Z</dcterms:modified>
  <cp:revision>187</cp:revision>
  <dc:subject/>
  <dc:title>Exceptional Control Flow II</dc:title>
</cp:coreProperties>
</file>