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D23D76F4-D34A-4344-A316-2E856C3D0D55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1836720"/>
            <a:ext cx="77724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-Level Programming IV: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ructured Data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pt. 19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30480" y="3719160"/>
            <a:ext cx="4384800" cy="24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ray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ruc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08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375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sted Array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-360" y="4267080"/>
            <a:ext cx="899172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lvl="1" marL="677160" indent="-223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claration “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zip_dig pgh[4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” equivalent to “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pgh[4][5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42920" indent="-2167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ariabl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gh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denotes  array of 4 elemen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455840" indent="-20772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located contiguousl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042920" indent="-2167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ach element is an array of 5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’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455840" indent="-20772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located contiguousl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77160" indent="-223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w-Major” ordering of all elements guarante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981080" y="838080"/>
            <a:ext cx="492444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define PCOUNT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p_dig pgh[PCOUNT] =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{1, 5, 2, 0, 6}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1, 5, 2, 1, 3 }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1, 5, 2, 1, 7 }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1, 5, 2, 2, 1 }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609120" y="2819520"/>
            <a:ext cx="7916400" cy="1282680"/>
            <a:chOff x="609120" y="2819520"/>
            <a:chExt cx="7916400" cy="1282680"/>
          </a:xfrm>
        </p:grpSpPr>
        <p:sp>
          <p:nvSpPr>
            <p:cNvPr id="340" name=""/>
            <p:cNvSpPr/>
            <p:nvPr/>
          </p:nvSpPr>
          <p:spPr>
            <a:xfrm>
              <a:off x="609120" y="2895480"/>
              <a:ext cx="114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zip_di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gh[4];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1905840" y="2819520"/>
              <a:ext cx="6619680" cy="1282680"/>
              <a:chOff x="1905840" y="2819520"/>
              <a:chExt cx="6619680" cy="1282680"/>
            </a:xfrm>
          </p:grpSpPr>
          <p:sp>
            <p:nvSpPr>
              <p:cNvPr id="342" name=""/>
              <p:cNvSpPr/>
              <p:nvPr/>
            </p:nvSpPr>
            <p:spPr>
              <a:xfrm flipV="1">
                <a:off x="2133360" y="35809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905840" y="373392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7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3657240" y="35809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429720" y="373392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9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5181480" y="35809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885200" y="373392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1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6705360" y="35809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409080" y="373392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3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8229240" y="35809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933320" y="373392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5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352" name=""/>
              <p:cNvGrpSpPr/>
              <p:nvPr/>
            </p:nvGrpSpPr>
            <p:grpSpPr>
              <a:xfrm>
                <a:off x="2057040" y="2819520"/>
                <a:ext cx="6096240" cy="761760"/>
                <a:chOff x="2057040" y="2819520"/>
                <a:chExt cx="6096240" cy="761760"/>
              </a:xfrm>
            </p:grpSpPr>
            <p:grpSp>
              <p:nvGrpSpPr>
                <p:cNvPr id="353" name=""/>
                <p:cNvGrpSpPr/>
                <p:nvPr/>
              </p:nvGrpSpPr>
              <p:grpSpPr>
                <a:xfrm>
                  <a:off x="2057040" y="2819520"/>
                  <a:ext cx="1524240" cy="761760"/>
                  <a:chOff x="2057040" y="2819520"/>
                  <a:chExt cx="1524240" cy="76176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205704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236196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266688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297144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0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327636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6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3581280" y="2819520"/>
                  <a:ext cx="1523520" cy="761760"/>
                  <a:chOff x="3581280" y="2819520"/>
                  <a:chExt cx="1523520" cy="76176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358128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388584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4190760" y="2819520"/>
                    <a:ext cx="30420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449532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480024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3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5105160" y="2819520"/>
                  <a:ext cx="1523520" cy="761760"/>
                  <a:chOff x="5105160" y="2819520"/>
                  <a:chExt cx="1523520" cy="76176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510516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540972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5714640" y="2819520"/>
                    <a:ext cx="30420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601920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632412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7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6629040" y="2819520"/>
                  <a:ext cx="1524240" cy="761760"/>
                  <a:chOff x="6629040" y="2819520"/>
                  <a:chExt cx="1524240" cy="76176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662904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693396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723888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754344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784836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7" name=""/>
                <p:cNvSpPr/>
                <p:nvPr/>
              </p:nvSpPr>
              <p:spPr>
                <a:xfrm>
                  <a:off x="2057040" y="2819520"/>
                  <a:ext cx="1524240" cy="7617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3581280" y="2819520"/>
                  <a:ext cx="1523880" cy="7617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5105160" y="2819520"/>
                  <a:ext cx="1523880" cy="7617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6629040" y="2819520"/>
                  <a:ext cx="1524240" cy="7617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6692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sted Array Alloc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4434120" cy="336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335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clar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47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[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][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47640" indent="-213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ray of data typ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47640" indent="-213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ows,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olum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47640" indent="-213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yp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element requires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5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rray Siz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47640" indent="-213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*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*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K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5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rrange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47640" indent="-213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w-Major Order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4724280" y="990720"/>
            <a:ext cx="4038120" cy="2209680"/>
            <a:chOff x="4724280" y="990720"/>
            <a:chExt cx="4038120" cy="2209680"/>
          </a:xfrm>
        </p:grpSpPr>
        <p:sp>
          <p:nvSpPr>
            <p:cNvPr id="384" name=""/>
            <p:cNvSpPr/>
            <p:nvPr/>
          </p:nvSpPr>
          <p:spPr>
            <a:xfrm>
              <a:off x="4876560" y="1143000"/>
              <a:ext cx="121932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0]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467480" y="1143000"/>
              <a:ext cx="121896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0][C-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76560" y="2666880"/>
              <a:ext cx="121932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R-1]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171840" y="1143000"/>
              <a:ext cx="91440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248160" y="2666880"/>
              <a:ext cx="91440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467480" y="2666880"/>
              <a:ext cx="121896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R-1][C-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333760" y="1752480"/>
              <a:ext cx="4572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696080" y="1752480"/>
              <a:ext cx="4572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724280" y="990720"/>
              <a:ext cx="152280" cy="2209680"/>
            </a:xfrm>
            <a:custGeom>
              <a:avLst/>
              <a:gdLst/>
              <a:ahLst/>
              <a:rect l="l" t="t" r="r" b="b"/>
              <a:pathLst>
                <a:path w="96" h="1392">
                  <a:moveTo>
                    <a:pt x="96" y="0"/>
                  </a:moveTo>
                  <a:lnTo>
                    <a:pt x="0" y="0"/>
                  </a:lnTo>
                  <a:lnTo>
                    <a:pt x="0" y="1392"/>
                  </a:lnTo>
                  <a:lnTo>
                    <a:pt x="96" y="1392"/>
                  </a:lnTo>
                </a:path>
              </a:pathLst>
            </a:custGeom>
            <a:noFill/>
            <a:ln w="255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8609760" y="990720"/>
              <a:ext cx="152280" cy="2209680"/>
            </a:xfrm>
            <a:custGeom>
              <a:avLst/>
              <a:gdLst/>
              <a:ahLst/>
              <a:rect l="l" t="t" r="r" b="b"/>
              <a:pathLst>
                <a:path w="96" h="1392">
                  <a:moveTo>
                    <a:pt x="96" y="0"/>
                  </a:moveTo>
                  <a:lnTo>
                    <a:pt x="0" y="0"/>
                  </a:lnTo>
                  <a:lnTo>
                    <a:pt x="0" y="1392"/>
                  </a:lnTo>
                  <a:lnTo>
                    <a:pt x="96" y="1392"/>
                  </a:lnTo>
                </a:path>
              </a:pathLst>
            </a:custGeom>
            <a:noFill/>
            <a:ln w="255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4188960" y="43434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[R][C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457200" y="5029200"/>
            <a:ext cx="8229240" cy="990720"/>
            <a:chOff x="457200" y="5029200"/>
            <a:chExt cx="8229240" cy="990720"/>
          </a:xfrm>
        </p:grpSpPr>
        <p:grpSp>
          <p:nvGrpSpPr>
            <p:cNvPr id="396" name=""/>
            <p:cNvGrpSpPr/>
            <p:nvPr/>
          </p:nvGrpSpPr>
          <p:grpSpPr>
            <a:xfrm>
              <a:off x="457200" y="5029200"/>
              <a:ext cx="2133360" cy="990360"/>
              <a:chOff x="457200" y="5029200"/>
              <a:chExt cx="2133360" cy="990360"/>
            </a:xfrm>
          </p:grpSpPr>
          <p:sp>
            <p:nvSpPr>
              <p:cNvPr id="397" name=""/>
              <p:cNvSpPr/>
              <p:nvPr/>
            </p:nvSpPr>
            <p:spPr>
              <a:xfrm>
                <a:off x="457200" y="502920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981080" y="502920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57200" y="502920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2590560" y="5029200"/>
              <a:ext cx="2133360" cy="990360"/>
              <a:chOff x="2590560" y="5029200"/>
              <a:chExt cx="2133360" cy="990360"/>
            </a:xfrm>
          </p:grpSpPr>
          <p:sp>
            <p:nvSpPr>
              <p:cNvPr id="401" name=""/>
              <p:cNvSpPr/>
              <p:nvPr/>
            </p:nvSpPr>
            <p:spPr>
              <a:xfrm>
                <a:off x="2590560" y="502920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114440" y="502920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590560" y="502920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6553080" y="5029200"/>
              <a:ext cx="2133360" cy="990360"/>
              <a:chOff x="6553080" y="5029200"/>
              <a:chExt cx="2133360" cy="990360"/>
            </a:xfrm>
          </p:grpSpPr>
          <p:sp>
            <p:nvSpPr>
              <p:cNvPr id="405" name=""/>
              <p:cNvSpPr/>
              <p:nvPr/>
            </p:nvSpPr>
            <p:spPr>
              <a:xfrm>
                <a:off x="6553080" y="502920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076960" y="502920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553080" y="502920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4724280" y="5029200"/>
              <a:ext cx="1828800" cy="990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  •  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457200" y="609588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686800" y="609588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505320" y="6095880"/>
            <a:ext cx="14475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*R*C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Byt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5791320" y="4267080"/>
            <a:ext cx="9903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•  • 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6933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sted Array Row Acc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5043600" cy="145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47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ow Vec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[i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array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el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element of type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rting addres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 +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*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*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3657600" y="3733920"/>
            <a:ext cx="2133720" cy="1523520"/>
            <a:chOff x="3657600" y="3733920"/>
            <a:chExt cx="2133720" cy="1523520"/>
          </a:xfrm>
        </p:grpSpPr>
        <p:grpSp>
          <p:nvGrpSpPr>
            <p:cNvPr id="417" name=""/>
            <p:cNvGrpSpPr/>
            <p:nvPr/>
          </p:nvGrpSpPr>
          <p:grpSpPr>
            <a:xfrm>
              <a:off x="3657600" y="4267080"/>
              <a:ext cx="2133360" cy="990360"/>
              <a:chOff x="3657600" y="4267080"/>
              <a:chExt cx="2133360" cy="990360"/>
            </a:xfrm>
          </p:grpSpPr>
          <p:sp>
            <p:nvSpPr>
              <p:cNvPr id="418" name=""/>
              <p:cNvSpPr/>
              <p:nvPr/>
            </p:nvSpPr>
            <p:spPr>
              <a:xfrm>
                <a:off x="3657600" y="42670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i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181480" y="42670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i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657600" y="426708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3657600" y="38862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657600" y="38862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791320" y="38862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3962520"/>
              <a:ext cx="21337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343400" y="3733920"/>
              <a:ext cx="83844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i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705720" y="3733920"/>
            <a:ext cx="2133360" cy="1523520"/>
            <a:chOff x="6705720" y="3733920"/>
            <a:chExt cx="2133360" cy="1523520"/>
          </a:xfrm>
        </p:grpSpPr>
        <p:grpSp>
          <p:nvGrpSpPr>
            <p:cNvPr id="427" name=""/>
            <p:cNvGrpSpPr/>
            <p:nvPr/>
          </p:nvGrpSpPr>
          <p:grpSpPr>
            <a:xfrm>
              <a:off x="6705720" y="4267080"/>
              <a:ext cx="2133360" cy="990360"/>
              <a:chOff x="6705720" y="4267080"/>
              <a:chExt cx="2133360" cy="990360"/>
            </a:xfrm>
          </p:grpSpPr>
          <p:sp>
            <p:nvSpPr>
              <p:cNvPr id="428" name=""/>
              <p:cNvSpPr/>
              <p:nvPr/>
            </p:nvSpPr>
            <p:spPr>
              <a:xfrm>
                <a:off x="6705720" y="42670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8229600" y="42670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705720" y="426708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6705720" y="38862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839080" y="38862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705720" y="3962520"/>
              <a:ext cx="21333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391160" y="3733920"/>
              <a:ext cx="83772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R-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2666880" y="4267080"/>
            <a:ext cx="9907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•  • 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" y="548640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609480" y="524304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3733920" y="525744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533520" y="3733920"/>
            <a:ext cx="2133360" cy="1523520"/>
            <a:chOff x="533520" y="3733920"/>
            <a:chExt cx="2133360" cy="1523520"/>
          </a:xfrm>
        </p:grpSpPr>
        <p:grpSp>
          <p:nvGrpSpPr>
            <p:cNvPr id="440" name=""/>
            <p:cNvGrpSpPr/>
            <p:nvPr/>
          </p:nvGrpSpPr>
          <p:grpSpPr>
            <a:xfrm>
              <a:off x="533520" y="4267080"/>
              <a:ext cx="2133360" cy="990360"/>
              <a:chOff x="533520" y="4267080"/>
              <a:chExt cx="2133360" cy="990360"/>
            </a:xfrm>
          </p:grpSpPr>
          <p:sp>
            <p:nvSpPr>
              <p:cNvPr id="441" name=""/>
              <p:cNvSpPr/>
              <p:nvPr/>
            </p:nvSpPr>
            <p:spPr>
              <a:xfrm>
                <a:off x="533520" y="42670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057400" y="42670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33520" y="426708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44" name=""/>
            <p:cNvSpPr/>
            <p:nvPr/>
          </p:nvSpPr>
          <p:spPr>
            <a:xfrm>
              <a:off x="533520" y="38862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3520" y="3962520"/>
              <a:ext cx="21333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219320" y="3733920"/>
              <a:ext cx="8380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66880" y="38862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531360" y="32004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[R][C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581280" y="55627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i*C*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553080" y="5562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(R-1)*C*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6781680" y="525744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645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sted Array Row Access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96520" y="2527200"/>
            <a:ext cx="7404120" cy="195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ow Vect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[index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array of 5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’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rting addres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+20*inde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s and returns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a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 + 4*(index+4*index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362320" y="914400"/>
            <a:ext cx="4114800" cy="1186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get_pgh_zip(int inde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pgh[index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066680" y="5334120"/>
            <a:ext cx="6782040" cy="911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ax = inde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ax,%eax,4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5 * inde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pgh(,%eax,4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pgh + (20 * inde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3657600" y="3809880"/>
            <a:ext cx="2133720" cy="99072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• • •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7264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sted Array Element Acc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524480" cy="239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rray Elements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[i][j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element of type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 +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*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+ 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) *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791320" y="3809880"/>
            <a:ext cx="9903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•  • 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19720" y="3809880"/>
            <a:ext cx="609480" cy="9907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[i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[j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95880" y="1295280"/>
            <a:ext cx="609840" cy="9907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[i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[j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657600" y="3809880"/>
            <a:ext cx="2133720" cy="99072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• • 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657600" y="342900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657600" y="342900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791320" y="342900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657600" y="3505320"/>
            <a:ext cx="213372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343400" y="3276720"/>
            <a:ext cx="838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[i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6705720" y="3276720"/>
            <a:ext cx="2133360" cy="1523520"/>
            <a:chOff x="6705720" y="3276720"/>
            <a:chExt cx="2133360" cy="1523520"/>
          </a:xfrm>
        </p:grpSpPr>
        <p:grpSp>
          <p:nvGrpSpPr>
            <p:cNvPr id="469" name=""/>
            <p:cNvGrpSpPr/>
            <p:nvPr/>
          </p:nvGrpSpPr>
          <p:grpSpPr>
            <a:xfrm>
              <a:off x="6705720" y="3809880"/>
              <a:ext cx="2133360" cy="990360"/>
              <a:chOff x="6705720" y="3809880"/>
              <a:chExt cx="2133360" cy="990360"/>
            </a:xfrm>
          </p:grpSpPr>
          <p:sp>
            <p:nvSpPr>
              <p:cNvPr id="470" name=""/>
              <p:cNvSpPr/>
              <p:nvPr/>
            </p:nvSpPr>
            <p:spPr>
              <a:xfrm>
                <a:off x="6705720" y="3809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229600" y="3809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705720" y="380988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>
              <a:off x="6705720" y="34290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839080" y="34290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705720" y="3505320"/>
              <a:ext cx="21333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391160" y="3276720"/>
              <a:ext cx="83772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R-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2666880" y="3809880"/>
            <a:ext cx="9907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•  • 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7200" y="502920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609480" y="478584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3733920" y="480024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533520" y="3276720"/>
            <a:ext cx="2133360" cy="1523520"/>
            <a:chOff x="533520" y="3276720"/>
            <a:chExt cx="2133360" cy="1523520"/>
          </a:xfrm>
        </p:grpSpPr>
        <p:grpSp>
          <p:nvGrpSpPr>
            <p:cNvPr id="482" name=""/>
            <p:cNvGrpSpPr/>
            <p:nvPr/>
          </p:nvGrpSpPr>
          <p:grpSpPr>
            <a:xfrm>
              <a:off x="533520" y="3809880"/>
              <a:ext cx="2133360" cy="990360"/>
              <a:chOff x="533520" y="3809880"/>
              <a:chExt cx="2133360" cy="990360"/>
            </a:xfrm>
          </p:grpSpPr>
          <p:sp>
            <p:nvSpPr>
              <p:cNvPr id="483" name=""/>
              <p:cNvSpPr/>
              <p:nvPr/>
            </p:nvSpPr>
            <p:spPr>
              <a:xfrm>
                <a:off x="533520" y="3809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057400" y="3809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33520" y="380988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533520" y="34290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33520" y="3505320"/>
              <a:ext cx="21333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219320" y="3276720"/>
              <a:ext cx="8380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66880" y="34290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379080" y="26668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[R][C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971800" y="5105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i*C*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553080" y="51055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(R-1)*C*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6781680" y="480024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572000" y="4800240"/>
            <a:ext cx="0" cy="609480"/>
          </a:xfrm>
          <a:prstGeom prst="line">
            <a:avLst/>
          </a:prstGeom>
          <a:ln w="25560">
            <a:solidFill>
              <a:srgbClr val="00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809880" y="54864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(i*C+j)*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34680" y="228600"/>
            <a:ext cx="8280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sted Array Element Access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5751360" cy="24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rray Elements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[index][dig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823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gh + 20*index + 4*di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s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823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gh + 4*dig + 4*(index+4*index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ov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erforms memory refere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823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876920" y="1828800"/>
            <a:ext cx="373356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get_pgh_dig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index, int dig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pgh[index][dig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3520" y="4572000"/>
            <a:ext cx="8001000" cy="1460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cx = di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ax = inde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0(,%ecx,4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4*di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ax,%eax,4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5*inde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pgh(%edx,%eax,4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(pgh + 4*dig + 20*inde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315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range Referencing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90520" y="2743200"/>
            <a:ext cx="8307360" cy="27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1746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ferenc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dres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alu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uaranteed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43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[3][3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76+20*3+4*3 = 148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3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[2][5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76+20*2+4*5 = 136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3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[2][-1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76+20*2+4*-1 = 112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3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[4][-1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76+20*4+4*-1 = 152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3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[0][19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76+20*0+4*19 = 152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3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[0][-1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76+20*0+4*-1 = 72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??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37040" indent="-173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de does not do any bounds check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37040" indent="-173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rdering of elements within array guarante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61760" y="114300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p_di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gh[4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2058480" y="1066680"/>
            <a:ext cx="6619680" cy="1282680"/>
            <a:chOff x="2058480" y="1066680"/>
            <a:chExt cx="6619680" cy="1282680"/>
          </a:xfrm>
        </p:grpSpPr>
        <p:sp>
          <p:nvSpPr>
            <p:cNvPr id="504" name=""/>
            <p:cNvSpPr/>
            <p:nvPr/>
          </p:nvSpPr>
          <p:spPr>
            <a:xfrm flipV="1">
              <a:off x="2286000" y="18280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58480" y="1981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7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809880" y="18280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582360" y="1981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9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5334120" y="18280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037840" y="1981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6858000" y="18280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561720" y="1981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3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8381880" y="18280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085960" y="1981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5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2209680" y="1066680"/>
              <a:ext cx="6096240" cy="761760"/>
              <a:chOff x="2209680" y="1066680"/>
              <a:chExt cx="6096240" cy="761760"/>
            </a:xfrm>
          </p:grpSpPr>
          <p:grpSp>
            <p:nvGrpSpPr>
              <p:cNvPr id="515" name=""/>
              <p:cNvGrpSpPr/>
              <p:nvPr/>
            </p:nvGrpSpPr>
            <p:grpSpPr>
              <a:xfrm>
                <a:off x="2209680" y="1066680"/>
                <a:ext cx="1524240" cy="761760"/>
                <a:chOff x="2209680" y="1066680"/>
                <a:chExt cx="1524240" cy="7617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2209680" y="1066680"/>
                  <a:ext cx="30492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2514600" y="1066680"/>
                  <a:ext cx="30492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281952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124080" y="1066680"/>
                  <a:ext cx="30492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3429000" y="1066680"/>
                  <a:ext cx="30492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3733920" y="1066680"/>
                <a:ext cx="1523520" cy="761760"/>
                <a:chOff x="3733920" y="1066680"/>
                <a:chExt cx="1523520" cy="7617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373392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403848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4343400" y="1066680"/>
                  <a:ext cx="30420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464796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495288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5257800" y="1066680"/>
                <a:ext cx="1523520" cy="761760"/>
                <a:chOff x="5257800" y="1066680"/>
                <a:chExt cx="1523520" cy="76176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525780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556236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5867280" y="1066680"/>
                  <a:ext cx="30420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617184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647676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7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6781680" y="1066680"/>
                <a:ext cx="1524240" cy="761760"/>
                <a:chOff x="6781680" y="1066680"/>
                <a:chExt cx="1524240" cy="76176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6781680" y="1066680"/>
                  <a:ext cx="30492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7086600" y="1066680"/>
                  <a:ext cx="30492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739152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7696080" y="1066680"/>
                  <a:ext cx="30492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8001000" y="1066680"/>
                  <a:ext cx="30492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9" name=""/>
              <p:cNvSpPr/>
              <p:nvPr/>
            </p:nvSpPr>
            <p:spPr>
              <a:xfrm>
                <a:off x="2209680" y="1066680"/>
                <a:ext cx="1524240" cy="7617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733920" y="1066680"/>
                <a:ext cx="1523880" cy="7617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257800" y="1066680"/>
                <a:ext cx="1523880" cy="7617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781680" y="1066680"/>
                <a:ext cx="1524240" cy="7617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3" name=""/>
          <p:cNvSpPr/>
          <p:nvPr/>
        </p:nvSpPr>
        <p:spPr>
          <a:xfrm>
            <a:off x="6858000" y="313704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0" y="353232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58000" y="392760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858000" y="432288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58000" y="471816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913440" y="51134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112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ulti-Level Array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-305280" y="1143000"/>
            <a:ext cx="350532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riabl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niv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denotes array of 3 el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element is a poin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 byt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pointer points to array of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’s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200400" y="1482840"/>
            <a:ext cx="5257800" cy="911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p_dig cmu = { 1, 5, 2, 1, 3 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p_dig mit = { 0, 2, 1, 3, 9 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p_dig ucb = { 9, 4, 7, 2, 0 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00400" y="2549520"/>
            <a:ext cx="5257800" cy="637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define UCOUNT 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univ[UCOUNT] = {mit, cmu, ucb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381600" y="3733920"/>
            <a:ext cx="8303760" cy="2591640"/>
            <a:chOff x="381600" y="3733920"/>
            <a:chExt cx="8303760" cy="2591640"/>
          </a:xfrm>
        </p:grpSpPr>
        <p:grpSp>
          <p:nvGrpSpPr>
            <p:cNvPr id="554" name=""/>
            <p:cNvGrpSpPr/>
            <p:nvPr/>
          </p:nvGrpSpPr>
          <p:grpSpPr>
            <a:xfrm>
              <a:off x="381600" y="4190760"/>
              <a:ext cx="1980360" cy="1523520"/>
              <a:chOff x="381600" y="4190760"/>
              <a:chExt cx="1980360" cy="1523520"/>
            </a:xfrm>
          </p:grpSpPr>
          <p:sp>
            <p:nvSpPr>
              <p:cNvPr id="555" name=""/>
              <p:cNvSpPr/>
              <p:nvPr/>
            </p:nvSpPr>
            <p:spPr>
              <a:xfrm>
                <a:off x="1447560" y="4571640"/>
                <a:ext cx="914400" cy="3805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990360" y="4723920"/>
                <a:ext cx="45720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97440" y="450972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447560" y="4952520"/>
                <a:ext cx="914400" cy="3805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447560" y="5333400"/>
                <a:ext cx="91440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990360" y="5104800"/>
                <a:ext cx="45720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990360" y="5486040"/>
                <a:ext cx="45720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81600" y="487620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81600" y="533340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447920" y="419076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univ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981080" y="4723920"/>
                <a:ext cx="152280" cy="151920"/>
              </a:xfrm>
              <a:prstGeom prst="ellipse">
                <a:avLst/>
              </a:prstGeom>
              <a:solidFill>
                <a:srgbClr val="000066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981080" y="5104800"/>
                <a:ext cx="152280" cy="152280"/>
              </a:xfrm>
              <a:prstGeom prst="ellipse">
                <a:avLst/>
              </a:prstGeom>
              <a:solidFill>
                <a:srgbClr val="000066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981080" y="5486040"/>
                <a:ext cx="152280" cy="151920"/>
              </a:xfrm>
              <a:prstGeom prst="ellipse">
                <a:avLst/>
              </a:prstGeom>
              <a:solidFill>
                <a:srgbClr val="000066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3124800" y="37339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mu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3658320" y="4038480"/>
              <a:ext cx="5027040" cy="748800"/>
              <a:chOff x="3658320" y="4038480"/>
              <a:chExt cx="5027040" cy="748800"/>
            </a:xfrm>
          </p:grpSpPr>
          <p:grpSp>
            <p:nvGrpSpPr>
              <p:cNvPr id="570" name=""/>
              <p:cNvGrpSpPr/>
              <p:nvPr/>
            </p:nvGrpSpPr>
            <p:grpSpPr>
              <a:xfrm>
                <a:off x="3809880" y="4038480"/>
                <a:ext cx="4572000" cy="228240"/>
                <a:chOff x="3809880" y="4038480"/>
                <a:chExt cx="4572000" cy="22824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3809880" y="403848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4724280" y="403848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5638680" y="403848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6553080" y="403848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7467480" y="403848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6" name=""/>
              <p:cNvSpPr/>
              <p:nvPr/>
            </p:nvSpPr>
            <p:spPr>
              <a:xfrm flipV="1">
                <a:off x="3885840" y="426672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658320" y="4419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4800240" y="426672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572720" y="4419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V="1">
                <a:off x="5714640" y="426672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487120" y="4419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6629040" y="426672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401520" y="4419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V="1">
                <a:off x="7543440" y="426672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315920" y="4419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8457840" y="426672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230320" y="4419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88" name=""/>
            <p:cNvSpPr/>
            <p:nvPr/>
          </p:nvSpPr>
          <p:spPr>
            <a:xfrm>
              <a:off x="3200760" y="4572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mi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3642480" y="4814640"/>
              <a:ext cx="5027040" cy="748800"/>
              <a:chOff x="3642480" y="4814640"/>
              <a:chExt cx="5027040" cy="748800"/>
            </a:xfrm>
          </p:grpSpPr>
          <p:grpSp>
            <p:nvGrpSpPr>
              <p:cNvPr id="590" name=""/>
              <p:cNvGrpSpPr/>
              <p:nvPr/>
            </p:nvGrpSpPr>
            <p:grpSpPr>
              <a:xfrm>
                <a:off x="3794040" y="4814640"/>
                <a:ext cx="4572000" cy="228240"/>
                <a:chOff x="3794040" y="4814640"/>
                <a:chExt cx="4572000" cy="22824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3794040" y="481464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4708440" y="481464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5622840" y="481464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6537240" y="481464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7451640" y="481464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9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6" name=""/>
              <p:cNvSpPr/>
              <p:nvPr/>
            </p:nvSpPr>
            <p:spPr>
              <a:xfrm flipV="1">
                <a:off x="3870000" y="504288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642480" y="5195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4784400" y="504288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556880" y="5195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5698800" y="504288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471280" y="5195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6613200" y="504288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385680" y="5195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7527600" y="504288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300080" y="5195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8442000" y="504288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214480" y="5195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08" name=""/>
            <p:cNvSpPr/>
            <p:nvPr/>
          </p:nvSpPr>
          <p:spPr>
            <a:xfrm>
              <a:off x="3124800" y="52718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uc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09" name=""/>
            <p:cNvGrpSpPr/>
            <p:nvPr/>
          </p:nvGrpSpPr>
          <p:grpSpPr>
            <a:xfrm>
              <a:off x="3642480" y="5576760"/>
              <a:ext cx="5027040" cy="748800"/>
              <a:chOff x="3642480" y="5576760"/>
              <a:chExt cx="5027040" cy="748800"/>
            </a:xfrm>
          </p:grpSpPr>
          <p:grpSp>
            <p:nvGrpSpPr>
              <p:cNvPr id="610" name=""/>
              <p:cNvGrpSpPr/>
              <p:nvPr/>
            </p:nvGrpSpPr>
            <p:grpSpPr>
              <a:xfrm>
                <a:off x="3794040" y="5576760"/>
                <a:ext cx="4572000" cy="228240"/>
                <a:chOff x="3794040" y="5576760"/>
                <a:chExt cx="4572000" cy="22824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3794040" y="557676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9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708440" y="557676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622840" y="557676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7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6537240" y="557676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7451640" y="557676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6" name=""/>
              <p:cNvSpPr/>
              <p:nvPr/>
            </p:nvSpPr>
            <p:spPr>
              <a:xfrm flipV="1">
                <a:off x="3870000" y="580500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642480" y="5957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4784400" y="580500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556880" y="5957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V="1">
                <a:off x="5698800" y="580500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471280" y="5957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6613200" y="580500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385680" y="5957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7527600" y="580500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00080" y="5957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7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8442000" y="580500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214480" y="5957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7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cxnSp>
          <p:nvCxnSpPr>
            <p:cNvPr id="628" name=""/>
            <p:cNvCxnSpPr>
              <a:stCxn id="566" idx="0"/>
              <a:endCxn id="571" idx="1"/>
            </p:cNvCxnSpPr>
            <p:nvPr/>
          </p:nvCxnSpPr>
          <p:spPr>
            <a:xfrm flipH="1" flipV="1" rot="5400000">
              <a:off x="2457000" y="3751920"/>
              <a:ext cx="939960" cy="1740600"/>
            </a:xfrm>
            <a:prstGeom prst="curvedConnector2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29" name=""/>
            <p:cNvCxnSpPr>
              <a:stCxn id="565" idx="6"/>
              <a:endCxn id="591" idx="1"/>
            </p:cNvCxnSpPr>
            <p:nvPr/>
          </p:nvCxnSpPr>
          <p:spPr>
            <a:xfrm>
              <a:off x="2145960" y="4800600"/>
              <a:ext cx="1635840" cy="128880"/>
            </a:xfrm>
            <a:prstGeom prst="curvedConnector5">
              <a:avLst>
                <a:gd name="adj1" fmla="val 49988"/>
                <a:gd name="adj2" fmla="val 49859"/>
                <a:gd name="adj3" fmla="val 49988"/>
              </a:avLst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30" name=""/>
            <p:cNvCxnSpPr>
              <a:stCxn id="567" idx="0"/>
              <a:endCxn id="611" idx="1"/>
            </p:cNvCxnSpPr>
            <p:nvPr/>
          </p:nvCxnSpPr>
          <p:spPr>
            <a:xfrm flipH="1" rot="16200000">
              <a:off x="2810160" y="4719960"/>
              <a:ext cx="218160" cy="1724760"/>
            </a:xfrm>
            <a:prstGeom prst="curvedConnector5">
              <a:avLst>
                <a:gd name="adj1" fmla="val -99173"/>
                <a:gd name="adj2" fmla="val 26283"/>
                <a:gd name="adj3" fmla="val -99173"/>
              </a:avLst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</p:cxn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233280" y="228600"/>
            <a:ext cx="8910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lement Access in Multi-Level Arra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290160" y="2220480"/>
            <a:ext cx="5272200" cy="326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lement acces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em[Mem[univ+4*index]+4*dig]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do two memory rea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rst get pointer to row arra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en access element within arra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09480" y="4495680"/>
            <a:ext cx="7239240" cy="1460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cx = inde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ax = di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0(,%ecx,4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4*inde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univ(%edx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Mem[univ+4*index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,%eax,4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Mem[...+4*dig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962520" y="1066680"/>
            <a:ext cx="388620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get_univ_dig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index, int dig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univ[index][dig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ray Element Acces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52280" y="1220760"/>
            <a:ext cx="42148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milar C referenc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Nested Arra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lement a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em[pgh+20*index+4*dig]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343400" y="1220760"/>
            <a:ext cx="45720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fferent address computa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ulti-Level Arra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lement a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em[Mem[univ+4*index]+4*dig]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80880" y="2182680"/>
            <a:ext cx="373392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get_pgh_dig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index, int dig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pgh[index][dig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572000" y="2182680"/>
            <a:ext cx="388620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get_univ_dig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index, int dig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univ[index][dig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4419720" y="4952880"/>
            <a:ext cx="4176720" cy="130680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/>
          <p:cNvPicPr/>
          <p:nvPr/>
        </p:nvPicPr>
        <p:blipFill>
          <a:blip r:embed="rId2"/>
          <a:stretch/>
        </p:blipFill>
        <p:spPr>
          <a:xfrm>
            <a:off x="762120" y="5334120"/>
            <a:ext cx="3344760" cy="6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520560"/>
            <a:ext cx="6167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asic Data Typ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0520" y="1584360"/>
            <a:ext cx="8307360" cy="486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tegra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d &amp; operated on in general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ed vs. unsigned depends on instructions us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te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A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te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t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[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unsigned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]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cha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ord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[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unsigned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]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shor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ouble word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[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unsigned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]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i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loating Poi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d &amp; operated on in floating point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te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A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te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ingl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floa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oubl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dou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tended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0/12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ong dou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range Referencing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90520" y="3614760"/>
            <a:ext cx="8307360" cy="217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1677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943280"/>
                <a:tab algn="l" pos="4229280"/>
                <a:tab algn="l" pos="622944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ferenc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dres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Value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Guaranteed?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4201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943280"/>
                <a:tab algn="l" pos="4229280"/>
                <a:tab algn="l" pos="622944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iv[2][3]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6+4*3  = 68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201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943280"/>
                <a:tab algn="l" pos="4229280"/>
                <a:tab algn="l" pos="622944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iv[1][5]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6+4*5  = 3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201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943280"/>
                <a:tab algn="l" pos="4229280"/>
                <a:tab algn="l" pos="622944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iv[2][-1]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6+4*-1 = 5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201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943280"/>
                <a:tab algn="l" pos="4229280"/>
                <a:tab algn="l" pos="622944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iv[3][-1]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??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??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201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943280"/>
                <a:tab algn="l" pos="4229280"/>
                <a:tab algn="l" pos="622944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iv[1][12]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6+4*12 = 6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7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20120" indent="-1666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4229280"/>
                <a:tab algn="l" pos="622944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de does not do any bounds check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20120" indent="-1666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4229280"/>
                <a:tab algn="l" pos="622944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rdering of elements in different arrays not guarantee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229320" y="838080"/>
            <a:ext cx="8303760" cy="2592360"/>
            <a:chOff x="229320" y="838080"/>
            <a:chExt cx="8303760" cy="2592360"/>
          </a:xfrm>
        </p:grpSpPr>
        <p:grpSp>
          <p:nvGrpSpPr>
            <p:cNvPr id="645" name=""/>
            <p:cNvGrpSpPr/>
            <p:nvPr/>
          </p:nvGrpSpPr>
          <p:grpSpPr>
            <a:xfrm>
              <a:off x="229320" y="1295280"/>
              <a:ext cx="1980360" cy="1524240"/>
              <a:chOff x="229320" y="1295280"/>
              <a:chExt cx="1980360" cy="1524240"/>
            </a:xfrm>
          </p:grpSpPr>
          <p:sp>
            <p:nvSpPr>
              <p:cNvPr id="646" name=""/>
              <p:cNvSpPr/>
              <p:nvPr/>
            </p:nvSpPr>
            <p:spPr>
              <a:xfrm>
                <a:off x="1295280" y="1676520"/>
                <a:ext cx="91440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38080" y="1828800"/>
                <a:ext cx="45720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45160" y="161460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295280" y="2057400"/>
                <a:ext cx="91440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295280" y="2438280"/>
                <a:ext cx="914400" cy="381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38080" y="2209680"/>
                <a:ext cx="45720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38080" y="2590920"/>
                <a:ext cx="45720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29320" y="198108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29320" y="243828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295640" y="129528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univ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828800" y="1828800"/>
                <a:ext cx="152280" cy="152280"/>
              </a:xfrm>
              <a:prstGeom prst="ellipse">
                <a:avLst/>
              </a:prstGeom>
              <a:solidFill>
                <a:srgbClr val="000066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828800" y="2209680"/>
                <a:ext cx="152280" cy="152640"/>
              </a:xfrm>
              <a:prstGeom prst="ellipse">
                <a:avLst/>
              </a:prstGeom>
              <a:solidFill>
                <a:srgbClr val="000066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828800" y="2590920"/>
                <a:ext cx="152280" cy="152280"/>
              </a:xfrm>
              <a:prstGeom prst="ellipse">
                <a:avLst/>
              </a:prstGeom>
              <a:solidFill>
                <a:srgbClr val="000066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59" name=""/>
            <p:cNvSpPr/>
            <p:nvPr/>
          </p:nvSpPr>
          <p:spPr>
            <a:xfrm>
              <a:off x="2972520" y="838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mu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60" name=""/>
            <p:cNvGrpSpPr/>
            <p:nvPr/>
          </p:nvGrpSpPr>
          <p:grpSpPr>
            <a:xfrm>
              <a:off x="3506040" y="1143000"/>
              <a:ext cx="5027040" cy="749160"/>
              <a:chOff x="3506040" y="1143000"/>
              <a:chExt cx="5027040" cy="749160"/>
            </a:xfrm>
          </p:grpSpPr>
          <p:grpSp>
            <p:nvGrpSpPr>
              <p:cNvPr id="661" name=""/>
              <p:cNvGrpSpPr/>
              <p:nvPr/>
            </p:nvGrpSpPr>
            <p:grpSpPr>
              <a:xfrm>
                <a:off x="3657600" y="1143000"/>
                <a:ext cx="4572000" cy="228600"/>
                <a:chOff x="3657600" y="1143000"/>
                <a:chExt cx="4572000" cy="22860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3657600" y="114300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4572000" y="114300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5486400" y="114300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6400800" y="114300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7315200" y="114300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7" name=""/>
              <p:cNvSpPr/>
              <p:nvPr/>
            </p:nvSpPr>
            <p:spPr>
              <a:xfrm flipV="1">
                <a:off x="3733560" y="137124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50604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V="1">
                <a:off x="4647960" y="137124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42044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5562360" y="137124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33484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6476760" y="137124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24924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7391160" y="137124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16364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>
                <a:off x="8305560" y="137124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07804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79" name=""/>
            <p:cNvSpPr/>
            <p:nvPr/>
          </p:nvSpPr>
          <p:spPr>
            <a:xfrm>
              <a:off x="3048480" y="16765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mi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3490200" y="1919160"/>
              <a:ext cx="5027040" cy="749160"/>
              <a:chOff x="3490200" y="1919160"/>
              <a:chExt cx="5027040" cy="749160"/>
            </a:xfrm>
          </p:grpSpPr>
          <p:grpSp>
            <p:nvGrpSpPr>
              <p:cNvPr id="681" name=""/>
              <p:cNvGrpSpPr/>
              <p:nvPr/>
            </p:nvGrpSpPr>
            <p:grpSpPr>
              <a:xfrm>
                <a:off x="3641760" y="1919160"/>
                <a:ext cx="4572000" cy="228600"/>
                <a:chOff x="3641760" y="1919160"/>
                <a:chExt cx="4572000" cy="22860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3641760" y="191916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4556160" y="191916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470560" y="191916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6384960" y="191916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7299360" y="191916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9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7" name=""/>
              <p:cNvSpPr/>
              <p:nvPr/>
            </p:nvSpPr>
            <p:spPr>
              <a:xfrm flipV="1">
                <a:off x="3717720" y="214740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490200" y="230004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4632120" y="214740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404600" y="230004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5546520" y="214740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319000" y="230004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6460920" y="214740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233400" y="230004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7375320" y="214740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147800" y="230004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8289720" y="214740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062200" y="230004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99" name=""/>
            <p:cNvSpPr/>
            <p:nvPr/>
          </p:nvSpPr>
          <p:spPr>
            <a:xfrm>
              <a:off x="2972520" y="23763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uc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00" name=""/>
            <p:cNvGrpSpPr/>
            <p:nvPr/>
          </p:nvGrpSpPr>
          <p:grpSpPr>
            <a:xfrm>
              <a:off x="3490200" y="2681280"/>
              <a:ext cx="5027040" cy="749160"/>
              <a:chOff x="3490200" y="2681280"/>
              <a:chExt cx="5027040" cy="749160"/>
            </a:xfrm>
          </p:grpSpPr>
          <p:grpSp>
            <p:nvGrpSpPr>
              <p:cNvPr id="701" name=""/>
              <p:cNvGrpSpPr/>
              <p:nvPr/>
            </p:nvGrpSpPr>
            <p:grpSpPr>
              <a:xfrm>
                <a:off x="3641760" y="2681280"/>
                <a:ext cx="4572000" cy="228600"/>
                <a:chOff x="3641760" y="2681280"/>
                <a:chExt cx="4572000" cy="22860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3641760" y="268128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9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4556160" y="268128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470560" y="268128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7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6384960" y="268128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7299360" y="268128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7" name=""/>
              <p:cNvSpPr/>
              <p:nvPr/>
            </p:nvSpPr>
            <p:spPr>
              <a:xfrm flipV="1">
                <a:off x="3717720" y="29095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49020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4632120" y="29095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40460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5546520" y="29095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31900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6460920" y="29095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23340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7375320" y="29095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14780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7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8289720" y="29095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06220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7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cxnSp>
          <p:nvCxnSpPr>
            <p:cNvPr id="719" name=""/>
            <p:cNvCxnSpPr>
              <a:stCxn id="657" idx="0"/>
              <a:endCxn id="662" idx="1"/>
            </p:cNvCxnSpPr>
            <p:nvPr/>
          </p:nvCxnSpPr>
          <p:spPr>
            <a:xfrm flipH="1" flipV="1" rot="5400000">
              <a:off x="2304360" y="856800"/>
              <a:ext cx="940320" cy="1740600"/>
            </a:xfrm>
            <a:prstGeom prst="curvedConnector2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720" name=""/>
            <p:cNvCxnSpPr>
              <a:stCxn id="656" idx="6"/>
              <a:endCxn id="682" idx="1"/>
            </p:cNvCxnSpPr>
            <p:nvPr/>
          </p:nvCxnSpPr>
          <p:spPr>
            <a:xfrm>
              <a:off x="1993680" y="1904760"/>
              <a:ext cx="1635840" cy="129240"/>
            </a:xfrm>
            <a:prstGeom prst="curvedConnector5">
              <a:avLst>
                <a:gd name="adj1" fmla="val 49988"/>
                <a:gd name="adj2" fmla="val 50000"/>
                <a:gd name="adj3" fmla="val 49988"/>
              </a:avLst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721" name=""/>
            <p:cNvCxnSpPr>
              <a:stCxn id="658" idx="0"/>
              <a:endCxn id="702" idx="1"/>
            </p:cNvCxnSpPr>
            <p:nvPr/>
          </p:nvCxnSpPr>
          <p:spPr>
            <a:xfrm flipH="1" rot="16200000">
              <a:off x="2657520" y="1823760"/>
              <a:ext cx="218520" cy="1724760"/>
            </a:xfrm>
            <a:prstGeom prst="curvedConnector5">
              <a:avLst>
                <a:gd name="adj1" fmla="val -99174"/>
                <a:gd name="adj2" fmla="val 26283"/>
                <a:gd name="adj3" fmla="val -99174"/>
              </a:avLst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</p:cxnSp>
      </p:grpSp>
      <p:sp>
        <p:nvSpPr>
          <p:cNvPr id="722" name=""/>
          <p:cNvSpPr/>
          <p:nvPr/>
        </p:nvSpPr>
        <p:spPr>
          <a:xfrm>
            <a:off x="7045560" y="4038480"/>
            <a:ext cx="497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095960" y="4384800"/>
            <a:ext cx="397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086600" y="4724280"/>
            <a:ext cx="397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77240" y="5070600"/>
            <a:ext cx="397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067520" y="5410080"/>
            <a:ext cx="397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6350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sing Nested Array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52280" y="1220760"/>
            <a:ext cx="41148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rength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 compiler handles doubly subscripted array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nerates very efficient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voids multiply in index comput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mi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works if have fixed array siz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419720" y="990720"/>
            <a:ext cx="4238640" cy="637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define N 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ypedef int fix_matrix[N][N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419720" y="1828800"/>
            <a:ext cx="4343400" cy="3380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Compute element i,k o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ixed matrix product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fix_prod_e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fix_matrix a, fix_matrix b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, int 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+= a[i][j]*b[j][k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685800" y="4818240"/>
            <a:ext cx="3456360" cy="1658520"/>
            <a:chOff x="685800" y="4818240"/>
            <a:chExt cx="3456360" cy="1658520"/>
          </a:xfrm>
        </p:grpSpPr>
        <p:sp>
          <p:nvSpPr>
            <p:cNvPr id="732" name=""/>
            <p:cNvSpPr/>
            <p:nvPr/>
          </p:nvSpPr>
          <p:spPr>
            <a:xfrm>
              <a:off x="1925640" y="5151600"/>
              <a:ext cx="5968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057400" y="573264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932120" y="5526360"/>
              <a:ext cx="5839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512800" y="5351760"/>
              <a:ext cx="86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(i,*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36" name=""/>
            <p:cNvGrpSpPr/>
            <p:nvPr/>
          </p:nvGrpSpPr>
          <p:grpSpPr>
            <a:xfrm>
              <a:off x="3274920" y="4818240"/>
              <a:ext cx="867240" cy="1277640"/>
              <a:chOff x="3274920" y="4818240"/>
              <a:chExt cx="867240" cy="1277640"/>
            </a:xfrm>
          </p:grpSpPr>
          <p:sp>
            <p:nvSpPr>
              <p:cNvPr id="737" name=""/>
              <p:cNvSpPr/>
              <p:nvPr/>
            </p:nvSpPr>
            <p:spPr>
              <a:xfrm>
                <a:off x="3297240" y="5151600"/>
                <a:ext cx="59688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429000" y="5732640"/>
                <a:ext cx="3337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519360" y="5158080"/>
                <a:ext cx="0" cy="507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274920" y="4818240"/>
                <a:ext cx="867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(*,k)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41" name=""/>
            <p:cNvSpPr/>
            <p:nvPr/>
          </p:nvSpPr>
          <p:spPr>
            <a:xfrm>
              <a:off x="1602000" y="6113520"/>
              <a:ext cx="1498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3200400" y="5732280"/>
              <a:ext cx="304920" cy="6094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85800" y="573264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1371600" y="5503680"/>
              <a:ext cx="39852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6743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ynamic Nested Array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90160" y="914040"/>
            <a:ext cx="421812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rength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create matrix of arbitrary siz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gramm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do index computation explicit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essing single element cost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do multipli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419720" y="990720"/>
            <a:ext cx="419076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 new_var_matrix(int n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(int *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lloc(sizeof(int), n*n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419720" y="2819520"/>
            <a:ext cx="419076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var_e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*a, int i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j, int n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a[i*n+j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990720" y="4952880"/>
            <a:ext cx="6553080" cy="1460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20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n*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16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n*i+j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,%eax,4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Mem[a+4*(i*n+j)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099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ynamic Array Multiplic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90160" y="1220400"/>
            <a:ext cx="3987720" cy="268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ithout Optimiz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88640" indent="-2260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 for subscrip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8640" indent="-2260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 for dat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88640" indent="-2260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 for array index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8640" indent="-2260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 for loop index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8640" indent="-2260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 for dat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86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343400" y="1219320"/>
            <a:ext cx="4238640" cy="36550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Compute element i,k o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ariable matrix product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var_prod_e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*a, int *b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, int k, int n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+=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[i*n+j] * b[j*n+k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610560" y="4572000"/>
            <a:ext cx="3455280" cy="1658520"/>
            <a:chOff x="610560" y="4572000"/>
            <a:chExt cx="3455280" cy="1658520"/>
          </a:xfrm>
        </p:grpSpPr>
        <p:sp>
          <p:nvSpPr>
            <p:cNvPr id="754" name=""/>
            <p:cNvSpPr/>
            <p:nvPr/>
          </p:nvSpPr>
          <p:spPr>
            <a:xfrm>
              <a:off x="1849320" y="4905360"/>
              <a:ext cx="5968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981080" y="548640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855800" y="5280120"/>
              <a:ext cx="5839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436480" y="5105520"/>
              <a:ext cx="86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(i,*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58" name=""/>
            <p:cNvGrpSpPr/>
            <p:nvPr/>
          </p:nvGrpSpPr>
          <p:grpSpPr>
            <a:xfrm>
              <a:off x="3198600" y="4572000"/>
              <a:ext cx="867240" cy="1277640"/>
              <a:chOff x="3198600" y="4572000"/>
              <a:chExt cx="867240" cy="1277640"/>
            </a:xfrm>
          </p:grpSpPr>
          <p:sp>
            <p:nvSpPr>
              <p:cNvPr id="759" name=""/>
              <p:cNvSpPr/>
              <p:nvPr/>
            </p:nvSpPr>
            <p:spPr>
              <a:xfrm>
                <a:off x="3220920" y="4905360"/>
                <a:ext cx="59688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352680" y="5486400"/>
                <a:ext cx="3337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443040" y="4911840"/>
                <a:ext cx="0" cy="507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98600" y="4572000"/>
                <a:ext cx="867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(*,k)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63" name=""/>
            <p:cNvSpPr/>
            <p:nvPr/>
          </p:nvSpPr>
          <p:spPr>
            <a:xfrm>
              <a:off x="1525680" y="5867280"/>
              <a:ext cx="1498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3124080" y="5486040"/>
              <a:ext cx="304920" cy="6094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10560" y="548640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1295280" y="5257440"/>
              <a:ext cx="39852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14120" y="228600"/>
            <a:ext cx="8915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ptimizing Dynamic Array Mult.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51920" y="1220760"/>
            <a:ext cx="43434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miz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formed when set optimization level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O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Mo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ressio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*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an be computed outside loo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rength Redu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rementing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has effect of incrementing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j*n+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r can optimize regular access patter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572000" y="946080"/>
            <a:ext cx="4238640" cy="2283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+=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[i*n+j] * b[j*n+k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572000" y="3232080"/>
            <a:ext cx="4238640" cy="338076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Tn = i*n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jTnPk = k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 = 0; j &lt; n; j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+=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[iTn+j] * b[jTnPk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TnPk += n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685800" y="2639880"/>
            <a:ext cx="297180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rec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[3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648320" y="4648320"/>
            <a:ext cx="33652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962520" y="5181480"/>
            <a:ext cx="4876560" cy="911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ax = v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dx = 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Mem[r] = v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85800" y="4651200"/>
            <a:ext cx="296856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t_i(struct rec *r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val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-&gt;i =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52448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ructu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03120" y="914040"/>
            <a:ext cx="75153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cep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iguously-allocated region of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fer to members within structure by nam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bers may be of different typ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ccessing Structure Memb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648320" y="2666880"/>
            <a:ext cx="33652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Layou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4952520" y="3276720"/>
            <a:ext cx="2741400" cy="779040"/>
            <a:chOff x="4952520" y="3276720"/>
            <a:chExt cx="2741400" cy="779040"/>
          </a:xfrm>
        </p:grpSpPr>
        <p:sp>
          <p:nvSpPr>
            <p:cNvPr id="779" name=""/>
            <p:cNvSpPr/>
            <p:nvPr/>
          </p:nvSpPr>
          <p:spPr>
            <a:xfrm>
              <a:off x="5132520" y="3276720"/>
              <a:ext cx="431640" cy="43164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589720" y="3276720"/>
              <a:ext cx="134604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961320" y="3276720"/>
              <a:ext cx="43164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52520" y="3692520"/>
              <a:ext cx="31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09720" y="3692520"/>
              <a:ext cx="31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780960" y="3692520"/>
              <a:ext cx="455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238160" y="3675240"/>
              <a:ext cx="455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609480" y="1066680"/>
            <a:ext cx="313380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rec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[3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447920" y="5029200"/>
            <a:ext cx="5089320" cy="1186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cx = i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dx = 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0(,%ecx,4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4*i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4(%eax,%ed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+4*idx+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648320" y="2895480"/>
            <a:ext cx="380988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ind_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struct rec *r, int id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&amp;r-&gt;a[idx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91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enerating Pointer to Struct. Memb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290160" y="2889000"/>
            <a:ext cx="3924360" cy="355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enerating Pointer to Array Ele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ffset of each structure member determined at compile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056200" y="1447920"/>
            <a:ext cx="43164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513400" y="1447920"/>
            <a:ext cx="1346040" cy="43164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885000" y="1447920"/>
            <a:ext cx="43164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876560" y="1863720"/>
            <a:ext cx="31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333760" y="1863720"/>
            <a:ext cx="31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705000" y="1863720"/>
            <a:ext cx="455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5943600" y="1905120"/>
            <a:ext cx="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788800" y="22860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 + 4 + 4*i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029200" y="1066680"/>
            <a:ext cx="0" cy="3812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878000" y="685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867280" y="1447920"/>
            <a:ext cx="432000" cy="4316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486400" y="1447920"/>
            <a:ext cx="1346040" cy="43164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304920" y="1755720"/>
            <a:ext cx="297180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rec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[3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581280" y="4114800"/>
            <a:ext cx="5410440" cy="1460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dx = 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-&gt;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0(,%ecx,4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4*(r-&gt;i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4(%edx,%ea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+4+4*(r-&gt;i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16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Update r-&gt;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04920" y="3432240"/>
            <a:ext cx="296856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t_p(struct rec *r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-&gt;p =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r-&gt;a[r-&gt;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7226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ructure Referencing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4571640" y="2057400"/>
            <a:ext cx="2440440" cy="1447920"/>
            <a:chOff x="4571640" y="2057400"/>
            <a:chExt cx="2440440" cy="1447920"/>
          </a:xfrm>
        </p:grpSpPr>
        <p:grpSp>
          <p:nvGrpSpPr>
            <p:cNvPr id="809" name=""/>
            <p:cNvGrpSpPr/>
            <p:nvPr/>
          </p:nvGrpSpPr>
          <p:grpSpPr>
            <a:xfrm>
              <a:off x="4571640" y="2286000"/>
              <a:ext cx="2440440" cy="779040"/>
              <a:chOff x="4571640" y="2286000"/>
              <a:chExt cx="2440440" cy="779040"/>
            </a:xfrm>
          </p:grpSpPr>
          <p:sp>
            <p:nvSpPr>
              <p:cNvPr id="810" name=""/>
              <p:cNvSpPr/>
              <p:nvPr/>
            </p:nvSpPr>
            <p:spPr>
              <a:xfrm>
                <a:off x="4751640" y="2286000"/>
                <a:ext cx="431640" cy="431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i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208840" y="2286000"/>
                <a:ext cx="1346040" cy="431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580440" y="2286000"/>
                <a:ext cx="431640" cy="431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571640" y="2701800"/>
                <a:ext cx="3186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028840" y="2701800"/>
                <a:ext cx="3186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400080" y="2701800"/>
                <a:ext cx="4557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816" name=""/>
            <p:cNvSpPr/>
            <p:nvPr/>
          </p:nvSpPr>
          <p:spPr>
            <a:xfrm>
              <a:off x="6705720" y="2438280"/>
              <a:ext cx="15228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791320" y="2057400"/>
              <a:ext cx="990360" cy="457200"/>
            </a:xfrm>
            <a:custGeom>
              <a:avLst/>
              <a:gdLst/>
              <a:ahLst/>
              <a:rect l="l" t="t" r="r" b="b"/>
              <a:pathLst>
                <a:path w="624" h="288">
                  <a:moveTo>
                    <a:pt x="624" y="288"/>
                  </a:moveTo>
                  <a:lnTo>
                    <a:pt x="576" y="0"/>
                  </a:lnTo>
                  <a:lnTo>
                    <a:pt x="96" y="0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5867280" y="2743200"/>
              <a:ext cx="0" cy="3808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124080"/>
              <a:ext cx="1523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Element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4571640" y="1219320"/>
            <a:ext cx="2440440" cy="779040"/>
            <a:chOff x="4571640" y="1219320"/>
            <a:chExt cx="2440440" cy="779040"/>
          </a:xfrm>
        </p:grpSpPr>
        <p:sp>
          <p:nvSpPr>
            <p:cNvPr id="821" name=""/>
            <p:cNvSpPr/>
            <p:nvPr/>
          </p:nvSpPr>
          <p:spPr>
            <a:xfrm>
              <a:off x="4751640" y="1219320"/>
              <a:ext cx="43164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208840" y="1219320"/>
              <a:ext cx="134604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580440" y="1219320"/>
              <a:ext cx="43164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571640" y="1635120"/>
              <a:ext cx="31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28840" y="1635120"/>
              <a:ext cx="31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400080" y="1635120"/>
              <a:ext cx="455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5170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lignm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igned Dat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imitive data type requires K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must be multiple of 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quired on some machines; advised on IA3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eated differently by Linux and Windows!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tivation for Aligning Dat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ory accessed by (aligned) double or quad-wor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efficient to load or store datum that spans quad word boundari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irtual memory very tricky when datum spans 2 pag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il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erts gaps in structure to ensure correct alignment of fiel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300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pecific Cases of Alignm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83073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1924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ze of Primitive Data Type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1 byt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e.g.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har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52200" indent="-29088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 restrictions on addres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2 byt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e.g.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hor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52200" indent="-29088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west 1 bit of address must be 0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4 byt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e.g.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loa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har 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etc.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52200" indent="-29088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west 2 bits of address must be 00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8 byt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e.g.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52200" indent="-29088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ndows (and most other OS’s &amp; instruction sets):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27240" indent="-16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west 3 bits of address must be 000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952200" indent="-29088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nux: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27240" indent="-16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west 2 bits of address must be 00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227240" indent="-16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.e., treated the same as a 4-byte primitive data typ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12 byt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long 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52200" indent="-29088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nux: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27240" indent="-16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west 2 bits of address must be 00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227240" indent="-16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.e., treated the same as a 4-byte primitive data typ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5943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ray Alloc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0520" y="837720"/>
            <a:ext cx="8307360" cy="16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asic Princi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[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ray of data type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length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iguously allocated region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*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izeof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82560" y="2590920"/>
            <a:ext cx="6099120" cy="839520"/>
            <a:chOff x="682560" y="2590920"/>
            <a:chExt cx="6099120" cy="839520"/>
          </a:xfrm>
        </p:grpSpPr>
        <p:sp>
          <p:nvSpPr>
            <p:cNvPr id="86" name=""/>
            <p:cNvSpPr/>
            <p:nvPr/>
          </p:nvSpPr>
          <p:spPr>
            <a:xfrm>
              <a:off x="682560" y="2590920"/>
              <a:ext cx="23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har string[12];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3048120" y="2666880"/>
              <a:ext cx="3733560" cy="763560"/>
              <a:chOff x="3048120" y="2666880"/>
              <a:chExt cx="3733560" cy="763560"/>
            </a:xfrm>
          </p:grpSpPr>
          <p:grpSp>
            <p:nvGrpSpPr>
              <p:cNvPr id="88" name=""/>
              <p:cNvGrpSpPr/>
              <p:nvPr/>
            </p:nvGrpSpPr>
            <p:grpSpPr>
              <a:xfrm>
                <a:off x="3200400" y="2666880"/>
                <a:ext cx="2743200" cy="228600"/>
                <a:chOff x="3200400" y="2666880"/>
                <a:chExt cx="2743200" cy="22860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32004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4290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6576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8862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1148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3434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5720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8006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0292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2578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54864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7150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3048120" y="3062160"/>
                <a:ext cx="39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791320" y="3062160"/>
                <a:ext cx="99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x 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+ 1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3276720" y="28951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6019920" y="28951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1369800" y="3352680"/>
            <a:ext cx="7240680" cy="839520"/>
            <a:chOff x="1369800" y="3352680"/>
            <a:chExt cx="7240680" cy="839520"/>
          </a:xfrm>
        </p:grpSpPr>
        <p:grpSp>
          <p:nvGrpSpPr>
            <p:cNvPr id="106" name=""/>
            <p:cNvGrpSpPr/>
            <p:nvPr/>
          </p:nvGrpSpPr>
          <p:grpSpPr>
            <a:xfrm>
              <a:off x="3200400" y="3428640"/>
              <a:ext cx="4572000" cy="228600"/>
              <a:chOff x="3200400" y="3428640"/>
              <a:chExt cx="4572000" cy="228600"/>
            </a:xfrm>
          </p:grpSpPr>
          <p:sp>
            <p:nvSpPr>
              <p:cNvPr id="107" name=""/>
              <p:cNvSpPr/>
              <p:nvPr/>
            </p:nvSpPr>
            <p:spPr>
              <a:xfrm>
                <a:off x="3200400" y="342864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114800" y="342864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029200" y="342864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43600" y="342864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858000" y="342864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1369800" y="33526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nt val[5];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48120" y="380988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62520" y="38239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276720" y="364284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4191120" y="36568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76920" y="38239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105520" y="36568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91320" y="38239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1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6019920" y="36568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05720" y="38239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6934320" y="36568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0120" y="38239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7848720" y="36568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76000" y="4038480"/>
            <a:ext cx="8377560" cy="1220760"/>
            <a:chOff x="576000" y="4038480"/>
            <a:chExt cx="8377560" cy="1220760"/>
          </a:xfrm>
        </p:grpSpPr>
        <p:sp>
          <p:nvSpPr>
            <p:cNvPr id="126" name=""/>
            <p:cNvSpPr/>
            <p:nvPr/>
          </p:nvSpPr>
          <p:spPr>
            <a:xfrm>
              <a:off x="576000" y="4038480"/>
              <a:ext cx="182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double a[4];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609480" y="4495680"/>
              <a:ext cx="8344080" cy="763560"/>
              <a:chOff x="609480" y="4495680"/>
              <a:chExt cx="8344080" cy="76356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762120" y="4495680"/>
                <a:ext cx="7315200" cy="228600"/>
                <a:chOff x="762120" y="4495680"/>
                <a:chExt cx="7315200" cy="2286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762120" y="4495680"/>
                  <a:ext cx="18288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590920" y="4495680"/>
                  <a:ext cx="18288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19720" y="4495680"/>
                  <a:ext cx="18288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248520" y="4495680"/>
                  <a:ext cx="18288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" name=""/>
              <p:cNvSpPr/>
              <p:nvPr/>
            </p:nvSpPr>
            <p:spPr>
              <a:xfrm flipV="1">
                <a:off x="6362640" y="470988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962840" y="489096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x 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+ 3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8191440" y="47239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172200" y="48769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x 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+ 2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09480" y="4862520"/>
                <a:ext cx="39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838080" y="469548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438280" y="48769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x 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+ 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2666880" y="470988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267080" y="48769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x 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+ 1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4495680" y="470988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" name=""/>
          <p:cNvSpPr/>
          <p:nvPr/>
        </p:nvSpPr>
        <p:spPr>
          <a:xfrm>
            <a:off x="760320" y="55627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*p[3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666880" y="5638680"/>
            <a:ext cx="2895480" cy="763560"/>
            <a:chOff x="2666880" y="5638680"/>
            <a:chExt cx="2895480" cy="763560"/>
          </a:xfrm>
        </p:grpSpPr>
        <p:grpSp>
          <p:nvGrpSpPr>
            <p:cNvPr id="145" name=""/>
            <p:cNvGrpSpPr/>
            <p:nvPr/>
          </p:nvGrpSpPr>
          <p:grpSpPr>
            <a:xfrm>
              <a:off x="2819160" y="5638680"/>
              <a:ext cx="2743200" cy="228600"/>
              <a:chOff x="2819160" y="5638680"/>
              <a:chExt cx="2743200" cy="228600"/>
            </a:xfrm>
          </p:grpSpPr>
          <p:sp>
            <p:nvSpPr>
              <p:cNvPr id="146" name=""/>
              <p:cNvSpPr/>
              <p:nvPr/>
            </p:nvSpPr>
            <p:spPr>
              <a:xfrm>
                <a:off x="2819160" y="563868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733560" y="563868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647960" y="563868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2666880" y="601956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581280" y="60339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895480" y="585252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809880" y="586692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95680" y="60339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4724280" y="586692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6781680" y="1523880"/>
            <a:ext cx="221472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1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375840" y="228600"/>
            <a:ext cx="8767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atisfying Alignment with Structu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290160" y="914040"/>
            <a:ext cx="64911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ffsets Within Structur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satisfy element’s alignment requir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verall Structure Place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structure has alignment requirement 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argest alignment of any eleme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itial address &amp; structure length must be multiples of 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 (under Windows)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 = 8, due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el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833400" y="4572000"/>
            <a:ext cx="2793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052720" y="457200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[0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271680" y="4572000"/>
            <a:ext cx="119412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[1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710320" y="4572000"/>
            <a:ext cx="24130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138320" y="4572000"/>
            <a:ext cx="888840" cy="27936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491000" y="4572000"/>
            <a:ext cx="1193760" cy="27936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03800" y="486396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+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770480" y="486396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+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989800" y="486396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+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443560" y="486396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+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882200" y="486396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+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2071800" y="5181120"/>
            <a:ext cx="0" cy="3812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928800" y="56386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Multiple of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510080" y="5638680"/>
            <a:ext cx="259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Multiple of 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5729400" y="5181120"/>
            <a:ext cx="0" cy="3812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85800" y="6095880"/>
            <a:ext cx="259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Multiple of 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914400" y="5257800"/>
            <a:ext cx="0" cy="8380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867280" y="6095880"/>
            <a:ext cx="259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Multiple of 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8229600" y="5257800"/>
            <a:ext cx="0" cy="8380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6093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nux vs. Window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indows (including Cygwin)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 = 8, due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el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nux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 = 4;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reated like a 4-byte data typ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019920" y="838080"/>
            <a:ext cx="221436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1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685800" y="2666880"/>
            <a:ext cx="7983360" cy="1460520"/>
            <a:chOff x="685800" y="2666880"/>
            <a:chExt cx="7983360" cy="1460520"/>
          </a:xfrm>
        </p:grpSpPr>
        <p:sp>
          <p:nvSpPr>
            <p:cNvPr id="857" name=""/>
            <p:cNvSpPr/>
            <p:nvPr/>
          </p:nvSpPr>
          <p:spPr>
            <a:xfrm>
              <a:off x="985680" y="2666880"/>
              <a:ext cx="2797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205000" y="26668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424320" y="26668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862600" y="266688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290600" y="2666880"/>
              <a:ext cx="88920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643280" y="2666880"/>
              <a:ext cx="119412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16400" y="297180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904040" y="297180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123000" y="297180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500800" y="29718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939080" y="29718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2209680" y="3276360"/>
              <a:ext cx="1440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219320" y="3505320"/>
              <a:ext cx="2057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ultiple of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572000" y="3505320"/>
              <a:ext cx="2590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ultiple of 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5867280" y="3276360"/>
              <a:ext cx="1440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5800" y="3746520"/>
              <a:ext cx="2590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ultiple of 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1066680" y="3289320"/>
              <a:ext cx="0" cy="3808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867280" y="3657600"/>
              <a:ext cx="2590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ultiple of 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8305920" y="3276720"/>
              <a:ext cx="0" cy="3808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838080" y="5105520"/>
            <a:ext cx="6869160" cy="1447560"/>
            <a:chOff x="838080" y="5105520"/>
            <a:chExt cx="6869160" cy="1447560"/>
          </a:xfrm>
        </p:grpSpPr>
        <p:sp>
          <p:nvSpPr>
            <p:cNvPr id="877" name=""/>
            <p:cNvSpPr/>
            <p:nvPr/>
          </p:nvSpPr>
          <p:spPr>
            <a:xfrm>
              <a:off x="1290600" y="510552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509920" y="510552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728880" y="5105520"/>
              <a:ext cx="11941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595520" y="5105520"/>
              <a:ext cx="88884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989640" y="539748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208600" y="539748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427920" y="539748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2514600" y="5638320"/>
              <a:ext cx="1440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523880" y="5867280"/>
              <a:ext cx="2057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ultiple of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429000" y="5867280"/>
              <a:ext cx="2590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ultiple of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38080" y="6172200"/>
              <a:ext cx="2590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ultiple of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1295280" y="5715000"/>
              <a:ext cx="0" cy="3808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900680" y="510552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538880" y="53974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977160" y="53974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4905360" y="5638320"/>
              <a:ext cx="1440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905360" y="6095880"/>
              <a:ext cx="2590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ultiple of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V="1">
              <a:off x="7343640" y="5715000"/>
              <a:ext cx="0" cy="3808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9247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all Alignment Requirem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914400" y="1066680"/>
            <a:ext cx="221472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2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838080" y="3733920"/>
            <a:ext cx="221472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3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 x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608400" y="2819520"/>
            <a:ext cx="7901640" cy="1018440"/>
            <a:chOff x="608400" y="2819520"/>
            <a:chExt cx="7901640" cy="1018440"/>
          </a:xfrm>
        </p:grpSpPr>
        <p:sp>
          <p:nvSpPr>
            <p:cNvPr id="899" name=""/>
            <p:cNvSpPr/>
            <p:nvPr/>
          </p:nvSpPr>
          <p:spPr>
            <a:xfrm>
              <a:off x="608400" y="320040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148280" y="32004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970720" y="320040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443560" y="32004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499800" y="3200400"/>
              <a:ext cx="2010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Windows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: p+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inux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: p+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715000" y="281952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276720" y="281952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495680" y="281952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38080" y="281952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019920" y="2819520"/>
              <a:ext cx="213336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608400" y="5410080"/>
            <a:ext cx="6749640" cy="744480"/>
            <a:chOff x="608400" y="5410080"/>
            <a:chExt cx="6749640" cy="744480"/>
          </a:xfrm>
        </p:grpSpPr>
        <p:sp>
          <p:nvSpPr>
            <p:cNvPr id="910" name=""/>
            <p:cNvSpPr/>
            <p:nvPr/>
          </p:nvSpPr>
          <p:spPr>
            <a:xfrm>
              <a:off x="5715000" y="541008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276720" y="5410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495680" y="5410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019920" y="5410080"/>
              <a:ext cx="91440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08400" y="579132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148280" y="579132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970720" y="579132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443560" y="579132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627960" y="579132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8080" y="5410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057400" y="5410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[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751400" y="579132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22" name=""/>
          <p:cNvSpPr/>
          <p:nvPr/>
        </p:nvSpPr>
        <p:spPr>
          <a:xfrm>
            <a:off x="3503160" y="1271520"/>
            <a:ext cx="288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must be multiple of: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 for Window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 for Linux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500280" y="4395960"/>
            <a:ext cx="461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must be multiple of 4 (in either OS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61880" y="228600"/>
            <a:ext cx="8221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rdering Elements Within Structu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62120" y="914400"/>
            <a:ext cx="221436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4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2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838080" y="3581280"/>
            <a:ext cx="221472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5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2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532440" y="2819520"/>
            <a:ext cx="7816320" cy="667800"/>
            <a:chOff x="532440" y="2819520"/>
            <a:chExt cx="7816320" cy="667800"/>
          </a:xfrm>
        </p:grpSpPr>
        <p:sp>
          <p:nvSpPr>
            <p:cNvPr id="928" name=""/>
            <p:cNvSpPr/>
            <p:nvPr/>
          </p:nvSpPr>
          <p:spPr>
            <a:xfrm>
              <a:off x="762120" y="281952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781680" y="281952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200400" y="281952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066680" y="2819520"/>
              <a:ext cx="213372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32440" y="312408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475680" y="31240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894400" y="312408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367600" y="31240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618680" y="31240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562720" y="281952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867280" y="2819520"/>
              <a:ext cx="91440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684720" y="5486400"/>
            <a:ext cx="5565240" cy="668160"/>
            <a:chOff x="684720" y="5486400"/>
            <a:chExt cx="5565240" cy="668160"/>
          </a:xfrm>
        </p:grpSpPr>
        <p:sp>
          <p:nvSpPr>
            <p:cNvPr id="940" name=""/>
            <p:cNvSpPr/>
            <p:nvPr/>
          </p:nvSpPr>
          <p:spPr>
            <a:xfrm>
              <a:off x="3886200" y="5486400"/>
              <a:ext cx="60948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352680" y="548640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495680" y="548640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914400" y="548640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84720" y="579132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189680" y="579132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047040" y="579132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519880" y="579132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657600" y="548640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3734640" y="1422360"/>
            <a:ext cx="44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0 bytes wasted space in Window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570920" y="4394160"/>
            <a:ext cx="27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bytes wasted spac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6539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rays of Structu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53038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inci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ocated by repeating allocation for array typ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 general, may nest arrays &amp; structures to arbitrary dept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1295640" y="5257800"/>
            <a:ext cx="6614640" cy="659160"/>
            <a:chOff x="1295640" y="5257800"/>
            <a:chExt cx="6614640" cy="659160"/>
          </a:xfrm>
        </p:grpSpPr>
        <p:sp>
          <p:nvSpPr>
            <p:cNvPr id="954" name=""/>
            <p:cNvSpPr/>
            <p:nvPr/>
          </p:nvSpPr>
          <p:spPr>
            <a:xfrm>
              <a:off x="1596960" y="5292720"/>
              <a:ext cx="18036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295640" y="5584680"/>
              <a:ext cx="547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+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425760" y="5292720"/>
              <a:ext cx="1803600" cy="27936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254560" y="5292720"/>
              <a:ext cx="18036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078360" y="5584680"/>
              <a:ext cx="669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+1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907160" y="5584680"/>
              <a:ext cx="669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+2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735960" y="5584680"/>
              <a:ext cx="669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+3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358400" y="5257800"/>
              <a:ext cx="551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143000" y="4114800"/>
            <a:ext cx="2209680" cy="114300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5257800" y="4114800"/>
            <a:ext cx="3124080" cy="114300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912960" y="419112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1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637240" y="419112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275280" y="419112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999560" y="419112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791320" y="1752480"/>
            <a:ext cx="221436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6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a[10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1066680" y="3809880"/>
            <a:ext cx="7315200" cy="279360"/>
            <a:chOff x="1066680" y="3809880"/>
            <a:chExt cx="7315200" cy="279360"/>
          </a:xfrm>
        </p:grpSpPr>
        <p:sp>
          <p:nvSpPr>
            <p:cNvPr id="970" name=""/>
            <p:cNvSpPr/>
            <p:nvPr/>
          </p:nvSpPr>
          <p:spPr>
            <a:xfrm>
              <a:off x="1066680" y="38098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1].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943600" y="38098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1].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505320" y="3809880"/>
              <a:ext cx="24127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1].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286000" y="3809880"/>
              <a:ext cx="121932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162920" y="3809880"/>
              <a:ext cx="121896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647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ccessing Element within Arra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5442120" cy="218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offset to start of struct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 indent="-23976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ute 12*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as 4*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+2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ess element according to its offset within struct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 indent="-23976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ffset by 8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14400" indent="-23976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ssembler gives displacement as a + 8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52440" indent="-1666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ker must set actual valu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1219320" y="5105520"/>
            <a:ext cx="3581280" cy="6094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 flipV="1">
            <a:off x="6553080" y="5105160"/>
            <a:ext cx="1981440" cy="6094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1066680" y="4800600"/>
            <a:ext cx="7162920" cy="684720"/>
            <a:chOff x="1066680" y="4800600"/>
            <a:chExt cx="7162920" cy="684720"/>
          </a:xfrm>
        </p:grpSpPr>
        <p:sp>
          <p:nvSpPr>
            <p:cNvPr id="980" name=""/>
            <p:cNvSpPr/>
            <p:nvPr/>
          </p:nvSpPr>
          <p:spPr>
            <a:xfrm>
              <a:off x="1371600" y="4800600"/>
              <a:ext cx="180324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066680" y="5153040"/>
              <a:ext cx="547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+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800600" y="4800600"/>
              <a:ext cx="180324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[i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496040" y="5130720"/>
              <a:ext cx="790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+12i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200400" y="4800600"/>
              <a:ext cx="16002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• • 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629400" y="4800600"/>
              <a:ext cx="16002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• • 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457200" y="3276720"/>
            <a:ext cx="3276720" cy="1186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get_j(int id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a[idx].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886200" y="3276720"/>
            <a:ext cx="4648320" cy="911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ax = i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ax,%eax,2),%eax # 3*i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swl a+8(,%eax,4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064880" y="6095880"/>
            <a:ext cx="867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12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560200" y="6095880"/>
            <a:ext cx="1141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12i+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019920" y="1447920"/>
            <a:ext cx="221436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6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a[10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1219320" y="5715000"/>
            <a:ext cx="7315200" cy="279360"/>
            <a:chOff x="1219320" y="5715000"/>
            <a:chExt cx="7315200" cy="279360"/>
          </a:xfrm>
        </p:grpSpPr>
        <p:sp>
          <p:nvSpPr>
            <p:cNvPr id="992" name=""/>
            <p:cNvSpPr/>
            <p:nvPr/>
          </p:nvSpPr>
          <p:spPr>
            <a:xfrm>
              <a:off x="1219320" y="571500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i].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095880" y="5715000"/>
              <a:ext cx="1193760" cy="27936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i].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657600" y="571500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i].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38280" y="5715000"/>
              <a:ext cx="121932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315200" y="5715000"/>
              <a:ext cx="121932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76040" y="228600"/>
            <a:ext cx="8815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atisfying Alignment within Structu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68580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chieving Align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rting address of structure array must be multiple of worst-case alignment for any el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must be multiple of 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ffset of element within structure must be multiple of element’s alignment requir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’s offset of 4 is a multiple of 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all size of structure must be multiple of worst-case alignment for any el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ructure padded with unused space to be 12 byt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477120" y="2057400"/>
            <a:ext cx="221436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6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a[10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1327680" y="4665600"/>
            <a:ext cx="7511400" cy="1658520"/>
            <a:chOff x="1327680" y="4665600"/>
            <a:chExt cx="7511400" cy="1658520"/>
          </a:xfrm>
        </p:grpSpPr>
        <p:sp>
          <p:nvSpPr>
            <p:cNvPr id="1001" name=""/>
            <p:cNvSpPr/>
            <p:nvPr/>
          </p:nvSpPr>
          <p:spPr>
            <a:xfrm flipH="1">
              <a:off x="1523880" y="4970160"/>
              <a:ext cx="3581280" cy="609840"/>
            </a:xfrm>
            <a:prstGeom prst="line">
              <a:avLst/>
            </a:prstGeom>
            <a:ln w="255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 flipV="1">
              <a:off x="6857640" y="4970160"/>
              <a:ext cx="1981080" cy="609840"/>
            </a:xfrm>
            <a:prstGeom prst="line">
              <a:avLst/>
            </a:prstGeom>
            <a:ln w="255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003" name=""/>
            <p:cNvGrpSpPr/>
            <p:nvPr/>
          </p:nvGrpSpPr>
          <p:grpSpPr>
            <a:xfrm>
              <a:off x="1327680" y="4665600"/>
              <a:ext cx="7206480" cy="715680"/>
              <a:chOff x="1327680" y="4665600"/>
              <a:chExt cx="7206480" cy="715680"/>
            </a:xfrm>
          </p:grpSpPr>
          <p:sp>
            <p:nvSpPr>
              <p:cNvPr id="1004" name=""/>
              <p:cNvSpPr/>
              <p:nvPr/>
            </p:nvSpPr>
            <p:spPr>
              <a:xfrm>
                <a:off x="1676160" y="4665600"/>
                <a:ext cx="180360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327680" y="5018040"/>
                <a:ext cx="5929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+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105160" y="4665600"/>
                <a:ext cx="180360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[i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727160" y="4995720"/>
                <a:ext cx="867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+12i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3504960" y="4665600"/>
                <a:ext cx="160020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• • 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933960" y="4665600"/>
                <a:ext cx="160020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• • 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010" name=""/>
            <p:cNvSpPr/>
            <p:nvPr/>
          </p:nvSpPr>
          <p:spPr>
            <a:xfrm>
              <a:off x="1369800" y="5960880"/>
              <a:ext cx="86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+12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731400" y="5960880"/>
              <a:ext cx="1141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+12i+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012" name=""/>
            <p:cNvGrpSpPr/>
            <p:nvPr/>
          </p:nvGrpSpPr>
          <p:grpSpPr>
            <a:xfrm>
              <a:off x="1523880" y="5580000"/>
              <a:ext cx="7315200" cy="279360"/>
              <a:chOff x="1523880" y="5580000"/>
              <a:chExt cx="7315200" cy="279360"/>
            </a:xfrm>
          </p:grpSpPr>
          <p:sp>
            <p:nvSpPr>
              <p:cNvPr id="1013" name=""/>
              <p:cNvSpPr/>
              <p:nvPr/>
            </p:nvSpPr>
            <p:spPr>
              <a:xfrm>
                <a:off x="1523880" y="558000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[1].i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6400800" y="558000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[1].j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3962160" y="5580000"/>
                <a:ext cx="24130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[1].v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2743200" y="5580000"/>
                <a:ext cx="1218960" cy="279360"/>
              </a:xfrm>
              <a:prstGeom prst="rect">
                <a:avLst/>
              </a:prstGeom>
              <a:solidFill>
                <a:srgbClr val="b2b2b2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619760" y="5580000"/>
                <a:ext cx="1219320" cy="279360"/>
              </a:xfrm>
              <a:prstGeom prst="rect">
                <a:avLst/>
              </a:prstGeom>
              <a:solidFill>
                <a:srgbClr val="b2b2b2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8" name=""/>
          <p:cNvSpPr/>
          <p:nvPr/>
        </p:nvSpPr>
        <p:spPr>
          <a:xfrm flipH="1" flipV="1">
            <a:off x="4343040" y="6476760"/>
            <a:ext cx="76212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108040" y="649116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ultiple of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1066680" y="5334120"/>
            <a:ext cx="45720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520" y="579132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ultiple of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rot="16200000">
            <a:off x="4191120" y="5790960"/>
            <a:ext cx="228600" cy="1143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71"/>
                </a:lnTo>
                <a:cubicBezTo>
                  <a:pt x="10800" y="9871"/>
                  <a:pt x="5400" y="10771"/>
                  <a:pt x="0" y="10771"/>
                </a:cubicBezTo>
                <a:cubicBezTo>
                  <a:pt x="5400" y="10771"/>
                  <a:pt x="10800" y="11671"/>
                  <a:pt x="10800" y="1257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37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on Alloc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incipl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lay union el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ocate according to largest el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only use one field at a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2967120" y="2639880"/>
            <a:ext cx="220968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ion U1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*u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5408640" y="2819520"/>
            <a:ext cx="3168720" cy="1242720"/>
            <a:chOff x="5408640" y="2819520"/>
            <a:chExt cx="3168720" cy="1242720"/>
          </a:xfrm>
        </p:grpSpPr>
        <p:sp>
          <p:nvSpPr>
            <p:cNvPr id="1027" name=""/>
            <p:cNvSpPr/>
            <p:nvPr/>
          </p:nvSpPr>
          <p:spPr>
            <a:xfrm>
              <a:off x="5967360" y="281952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967360" y="3124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186680" y="3124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967360" y="342900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408640" y="36990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up+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627960" y="36990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up+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847280" y="36990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up+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34" name=""/>
          <p:cNvSpPr/>
          <p:nvPr/>
        </p:nvSpPr>
        <p:spPr>
          <a:xfrm>
            <a:off x="533520" y="3809880"/>
            <a:ext cx="221436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1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*s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608040" y="5562720"/>
            <a:ext cx="8121960" cy="655200"/>
            <a:chOff x="608040" y="5562720"/>
            <a:chExt cx="8121960" cy="655200"/>
          </a:xfrm>
        </p:grpSpPr>
        <p:sp>
          <p:nvSpPr>
            <p:cNvPr id="1036" name=""/>
            <p:cNvSpPr/>
            <p:nvPr/>
          </p:nvSpPr>
          <p:spPr>
            <a:xfrm>
              <a:off x="1166760" y="556272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386080" y="556272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605040" y="5562720"/>
              <a:ext cx="11941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043680" y="556272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471680" y="5562720"/>
              <a:ext cx="88884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824360" y="5562720"/>
              <a:ext cx="119376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08040" y="58546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p+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827360" y="58546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p+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046680" y="58546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p+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424120" y="5854680"/>
              <a:ext cx="86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p+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862760" y="5854680"/>
              <a:ext cx="86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p+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4056840" y="50706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(Windows alignmen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"/>
          <p:cNvSpPr/>
          <p:nvPr/>
        </p:nvSpPr>
        <p:spPr>
          <a:xfrm>
            <a:off x="528480" y="985680"/>
            <a:ext cx="2519640" cy="1186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ypedef union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 f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u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bit_float_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800600" y="990720"/>
            <a:ext cx="388296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 bit2float(unsigned u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it_float_t arg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rg.u = u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arg.f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231920" y="252720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231920" y="283212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083960" y="3102120"/>
            <a:ext cx="31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302920" y="3102120"/>
            <a:ext cx="31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800600" y="2971800"/>
            <a:ext cx="388296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float2bit(float f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it_float_t arg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rg.f = f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arg.u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06600" y="228600"/>
            <a:ext cx="8308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sing Union to Access Bit Patter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0" y="3581280"/>
            <a:ext cx="488952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t direct access to bit representation of flo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bit2floa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generates float with given bit patter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the same as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float) u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-24336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loat2bi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generates bit pattern from flo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the same as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unsigned) f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6840" y="520560"/>
            <a:ext cx="5722920" cy="555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 Ordering Revisite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90520" y="1655640"/>
            <a:ext cx="8307360" cy="478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de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ort/long/quad words stored in memory as 2/4/8 consecutive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ich is most (least) significant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cause problems when exchanging binary data between machin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ig Endia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st significant byte has lowest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werPC, Spar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ttle Endia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ast significant byte has lowest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l x86, Alph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5562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ray Acc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064360" cy="146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4000"/>
          </a:bodyPr>
          <a:p>
            <a:pPr marL="536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asic Princi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134280" indent="0">
              <a:spcBef>
                <a:spcPts val="624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[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34280" indent="-5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ray of data type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length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34280" indent="-5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dentifi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an be used as a pointer to array element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36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134280" indent="0">
              <a:spcBef>
                <a:spcPts val="624"/>
              </a:spcBef>
              <a:buNone/>
              <a:tabLst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36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ferenc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yp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alu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134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al[4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34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al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*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34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al+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*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+ 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34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amp;val[2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*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+ 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34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al[5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?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34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*(val+1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5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34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al +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*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+ 4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 i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988920" y="2666880"/>
            <a:ext cx="7240680" cy="839880"/>
            <a:chOff x="988920" y="2666880"/>
            <a:chExt cx="7240680" cy="839880"/>
          </a:xfrm>
        </p:grpSpPr>
        <p:grpSp>
          <p:nvGrpSpPr>
            <p:cNvPr id="158" name=""/>
            <p:cNvGrpSpPr/>
            <p:nvPr/>
          </p:nvGrpSpPr>
          <p:grpSpPr>
            <a:xfrm>
              <a:off x="2819520" y="2743200"/>
              <a:ext cx="4572000" cy="228600"/>
              <a:chOff x="2819520" y="2743200"/>
              <a:chExt cx="4572000" cy="228600"/>
            </a:xfrm>
          </p:grpSpPr>
          <p:sp>
            <p:nvSpPr>
              <p:cNvPr id="159" name=""/>
              <p:cNvSpPr/>
              <p:nvPr/>
            </p:nvSpPr>
            <p:spPr>
              <a:xfrm>
                <a:off x="2819520" y="274320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733920" y="274320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648320" y="274320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562720" y="274320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477120" y="274320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988920" y="26668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nt val[5];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66880" y="312408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81280" y="31384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895480" y="295704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3809880" y="297144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495680" y="31384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724280" y="297144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10080" y="31384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1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5638680" y="297144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24480" y="31384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6553080" y="297144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238880" y="31384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7467480" y="297144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33520" y="520560"/>
            <a:ext cx="6649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 Ordering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528480" y="1379520"/>
            <a:ext cx="403560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ion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char c[8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short s[4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int i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long l[1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dw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670200" y="3670200"/>
            <a:ext cx="5842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3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060720" y="397512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[1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841400" y="4280040"/>
            <a:ext cx="24130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[0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060720" y="3670200"/>
            <a:ext cx="5842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2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451240" y="3670200"/>
            <a:ext cx="58392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1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841400" y="397512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[0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841400" y="3670200"/>
            <a:ext cx="5842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0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108840" y="3670200"/>
            <a:ext cx="58392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7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499000" y="397512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[3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280040" y="4280040"/>
            <a:ext cx="241272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[1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499000" y="3670200"/>
            <a:ext cx="5842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6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889520" y="3670200"/>
            <a:ext cx="5842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5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280040" y="397512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[2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280040" y="3670200"/>
            <a:ext cx="58392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4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841400" y="4584600"/>
            <a:ext cx="24256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[0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267080" y="4572000"/>
            <a:ext cx="2425680" cy="27936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315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 Ordering Example (Cont).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1219320" y="990720"/>
            <a:ext cx="6384960" cy="5301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 = 0; j &lt; 8; j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w.c[j] = 0xf0 +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Characters 0-7 ==  [0x%x,0x%x,0x%x,0x%x,0x%x,0x%x,0x%x,0x%x]\n"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w.c[0], dw.c[1], dw.c[2], dw.c[3]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w.c[4], dw.c[5], dw.c[6], dw.c[7]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Shorts 0-3 == [0x%x,0x%x,0x%x,0x%x]\n"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w.s[0], dw.s[1], dw.s[2], dw.s[3]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Ints 0-1 == [0x%x,0x%x]\n"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w.i[0], dw.i[1]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ong 0 == [0x%lx]\n"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w.l[0]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27372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 Ordering on x86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57200" y="114300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ttle Endia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14440" y="5105520"/>
            <a:ext cx="8273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acters 0-7 == [0xf0,0xf1,0xf2,0xf3,0xf4,0xf5,0xf6,0xf7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s     0-3 == [0xf1f0,0xf3f2,0xf5f4,0xf7f6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s       0-1 == [0xf3f2f1f0,0xf7f6f5f4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ng       0   == [f3f2f1f0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57200" y="4640400"/>
            <a:ext cx="3657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utput on Pentium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83" name=""/>
          <p:cNvGrpSpPr/>
          <p:nvPr/>
        </p:nvGrpSpPr>
        <p:grpSpPr>
          <a:xfrm>
            <a:off x="1752480" y="1676520"/>
            <a:ext cx="4851360" cy="2892960"/>
            <a:chOff x="1752480" y="1676520"/>
            <a:chExt cx="4851360" cy="2892960"/>
          </a:xfrm>
        </p:grpSpPr>
        <p:grpSp>
          <p:nvGrpSpPr>
            <p:cNvPr id="1084" name=""/>
            <p:cNvGrpSpPr/>
            <p:nvPr/>
          </p:nvGrpSpPr>
          <p:grpSpPr>
            <a:xfrm>
              <a:off x="1804680" y="1676520"/>
              <a:ext cx="4746600" cy="332280"/>
              <a:chOff x="1804680" y="1676520"/>
              <a:chExt cx="4746600" cy="332280"/>
            </a:xfrm>
          </p:grpSpPr>
          <p:sp>
            <p:nvSpPr>
              <p:cNvPr id="1085" name=""/>
              <p:cNvSpPr/>
              <p:nvPr/>
            </p:nvSpPr>
            <p:spPr>
              <a:xfrm>
                <a:off x="180468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f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41416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f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02400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f2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363348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f3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424296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f4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485280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f5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46228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f6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07176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f7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93" name=""/>
            <p:cNvGrpSpPr/>
            <p:nvPr/>
          </p:nvGrpSpPr>
          <p:grpSpPr>
            <a:xfrm>
              <a:off x="1752480" y="1982880"/>
              <a:ext cx="4851360" cy="2586600"/>
              <a:chOff x="1752480" y="1982880"/>
              <a:chExt cx="4851360" cy="2586600"/>
            </a:xfrm>
          </p:grpSpPr>
          <p:sp>
            <p:nvSpPr>
              <p:cNvPr id="1094" name=""/>
              <p:cNvSpPr/>
              <p:nvPr/>
            </p:nvSpPr>
            <p:spPr>
              <a:xfrm>
                <a:off x="3581280" y="1982880"/>
                <a:ext cx="58392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[3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971440" y="259236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s[1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752480" y="3202200"/>
                <a:ext cx="241272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i[0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779480" y="228600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349360" y="228600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2971440" y="1982880"/>
                <a:ext cx="5842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[2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2361960" y="1982880"/>
                <a:ext cx="5842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[1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1752480" y="259236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s[0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1752480" y="1982880"/>
                <a:ext cx="58392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[0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1779480" y="289584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3568320" y="289584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2998440" y="228600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3568320" y="228600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6019560" y="1982880"/>
                <a:ext cx="5842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[7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410080" y="259236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s[3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4190760" y="3202200"/>
                <a:ext cx="24130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i[1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4217760" y="228600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787640" y="228600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410080" y="1982880"/>
                <a:ext cx="58392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[6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4800240" y="1982880"/>
                <a:ext cx="5842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[5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4190760" y="259236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s[2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4190760" y="1982880"/>
                <a:ext cx="5842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[4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4217760" y="289584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006960" y="289584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437080" y="228600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006960" y="228600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flipH="1">
                <a:off x="3187080" y="4256280"/>
                <a:ext cx="213372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921480" y="4267440"/>
                <a:ext cx="5882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Print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1752480" y="3811680"/>
                <a:ext cx="241272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l[0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1779480" y="350532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3644640" y="350532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2296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 Ordering on Su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457200" y="114300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ig Endia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38480" y="5029200"/>
            <a:ext cx="8273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acters 0-7 == [0xf0,0xf1,0xf2,0xf3,0xf4,0xf5,0xf6,0xf7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s     0-3 == [0xf0f1,0xf2f3,0xf4f5,0xf6f7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s       0-1 == [0xf0f1f2f3,0xf4f5f6f7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ng       0   == [0xf0f1f2f3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57200" y="4495680"/>
            <a:ext cx="3657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utput on Su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129" name=""/>
          <p:cNvGrpSpPr/>
          <p:nvPr/>
        </p:nvGrpSpPr>
        <p:grpSpPr>
          <a:xfrm>
            <a:off x="1778040" y="1676520"/>
            <a:ext cx="4919760" cy="2892960"/>
            <a:chOff x="1778040" y="1676520"/>
            <a:chExt cx="4919760" cy="2892960"/>
          </a:xfrm>
        </p:grpSpPr>
        <p:sp>
          <p:nvSpPr>
            <p:cNvPr id="1130" name=""/>
            <p:cNvSpPr/>
            <p:nvPr/>
          </p:nvSpPr>
          <p:spPr>
            <a:xfrm>
              <a:off x="3619800" y="198288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009960" y="259236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s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791000" y="3202200"/>
              <a:ext cx="24127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i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161400" y="228600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778040" y="228600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009960" y="198288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400480" y="198288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791000" y="259236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s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791000" y="198288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778040" y="289584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646800" y="289584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427480" y="228600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997360" y="228600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058080" y="198288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7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448600" y="259236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s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229280" y="320220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i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646800" y="228600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216680" y="228600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448600" y="198288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6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838760" y="198288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5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229280" y="259236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s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229280" y="198288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4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216680" y="289584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085080" y="289584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865760" y="228600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435640" y="228600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84320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45268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06252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67200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28148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89132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50080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11028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7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3225600" y="4256280"/>
              <a:ext cx="21337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960000" y="4267440"/>
              <a:ext cx="588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Prin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791000" y="3811680"/>
              <a:ext cx="24127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778040" y="350532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722760" y="350532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7676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 Ordering on Alpha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57200" y="106668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ttle Endia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62160" y="5105520"/>
            <a:ext cx="8273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acters 0-7 == [0xf0,0xf1,0xf2,0xf3,0xf4,0xf5,0xf6,0xf7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s     0-3 == [0xf1f0,0xf3f2,0xf5f4,0xf7f6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s       0-1 == [0xf3f2f1f0,0xf7f6f5f4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ng       0   == [0xf7f6f5f4f3f2f1f0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57200" y="4640400"/>
            <a:ext cx="3657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utput on Alpha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1752480" y="1600200"/>
            <a:ext cx="4851360" cy="2892960"/>
            <a:chOff x="1752480" y="1600200"/>
            <a:chExt cx="4851360" cy="2892960"/>
          </a:xfrm>
        </p:grpSpPr>
        <p:sp>
          <p:nvSpPr>
            <p:cNvPr id="1174" name=""/>
            <p:cNvSpPr/>
            <p:nvPr/>
          </p:nvSpPr>
          <p:spPr>
            <a:xfrm>
              <a:off x="3581280" y="189396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971440" y="250344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s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752480" y="3113280"/>
              <a:ext cx="24127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i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766520" y="220968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336400" y="220968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971440" y="189396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361960" y="189396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752480" y="250344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s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752480" y="189396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766520" y="281952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555720" y="281952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985840" y="220968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555720" y="220968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019560" y="189396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7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410080" y="250344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s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190760" y="311328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i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205160" y="220968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775040" y="220968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410080" y="189396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6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800240" y="189396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5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190760" y="250344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s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190760" y="189396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4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205160" y="281952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994000" y="281952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424120" y="220968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994000" y="220968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817280" y="1600200"/>
              <a:ext cx="454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427120" y="1600200"/>
              <a:ext cx="45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036600" y="1600200"/>
              <a:ext cx="45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646080" y="1600200"/>
              <a:ext cx="454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55920" y="1600200"/>
              <a:ext cx="45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865400" y="1600200"/>
              <a:ext cx="45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474880" y="1600200"/>
              <a:ext cx="454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084720" y="1600200"/>
              <a:ext cx="45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7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>
              <a:off x="3187080" y="4167360"/>
              <a:ext cx="21337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934080" y="4191120"/>
              <a:ext cx="588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Prin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752480" y="3722760"/>
              <a:ext cx="4851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766520" y="342900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994000" y="342900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5143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290160" y="837720"/>
            <a:ext cx="8853480" cy="560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rrays in 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iguous allocation of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inter to first el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 bounds check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iler Optimiz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r often turns array code into pointer code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zd2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s addressing modes to scale array indic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ts of tricks to improve array indexing in loop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ructur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ocate bytes in order declar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d in middle and at end to satisfy align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n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lay declar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ay to circumvent type syste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5473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ray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4994280"/>
            <a:ext cx="8381880" cy="137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43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ot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2400" indent="-218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claration “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zip_dig cmu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” equivalent to “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cmu[5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2400" indent="-218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 arrays were allocated in successive 20 byte blo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19880" indent="-2120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guaranteed to happen in genera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838080"/>
            <a:ext cx="492444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ypedef int zip_dig[5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p_dig cmu = { 1, 5, 2, 1, 3 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p_dig mit = { 0, 2, 1, 3, 9 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p_dig ucb = { 9, 4, 7, 2, 0 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369800" y="2666880"/>
            <a:ext cx="6858720" cy="2363760"/>
            <a:chOff x="1369800" y="2666880"/>
            <a:chExt cx="6858720" cy="2363760"/>
          </a:xfrm>
        </p:grpSpPr>
        <p:grpSp>
          <p:nvGrpSpPr>
            <p:cNvPr id="181" name=""/>
            <p:cNvGrpSpPr/>
            <p:nvPr/>
          </p:nvGrpSpPr>
          <p:grpSpPr>
            <a:xfrm>
              <a:off x="1385640" y="2666880"/>
              <a:ext cx="6842880" cy="825480"/>
              <a:chOff x="1385640" y="2666880"/>
              <a:chExt cx="6842880" cy="825480"/>
            </a:xfrm>
          </p:grpSpPr>
          <p:sp>
            <p:nvSpPr>
              <p:cNvPr id="182" name=""/>
              <p:cNvSpPr/>
              <p:nvPr/>
            </p:nvSpPr>
            <p:spPr>
              <a:xfrm>
                <a:off x="1385640" y="266688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zip_dig cmu;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3201480" y="2743200"/>
                <a:ext cx="5027040" cy="749160"/>
                <a:chOff x="3201480" y="2743200"/>
                <a:chExt cx="5027040" cy="749160"/>
              </a:xfrm>
            </p:grpSpPr>
            <p:grpSp>
              <p:nvGrpSpPr>
                <p:cNvPr id="184" name=""/>
                <p:cNvGrpSpPr/>
                <p:nvPr/>
              </p:nvGrpSpPr>
              <p:grpSpPr>
                <a:xfrm>
                  <a:off x="3353040" y="2743200"/>
                  <a:ext cx="4572000" cy="228600"/>
                  <a:chOff x="3353040" y="2743200"/>
                  <a:chExt cx="4572000" cy="22860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3353040" y="274320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4267440" y="274320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5181840" y="274320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6096240" y="274320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7010640" y="274320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3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 flipV="1">
                  <a:off x="3429000" y="29714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1480" y="31240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V="1">
                  <a:off x="4343400" y="29714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115880" y="31240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V="1">
                  <a:off x="5257800" y="29714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030280" y="31240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V="1">
                  <a:off x="6172200" y="29714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944680" y="31240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8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V="1">
                  <a:off x="7086600" y="29714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859080" y="31240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V="1">
                  <a:off x="8001000" y="29714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773480" y="31240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2" name=""/>
            <p:cNvGrpSpPr/>
            <p:nvPr/>
          </p:nvGrpSpPr>
          <p:grpSpPr>
            <a:xfrm>
              <a:off x="1369800" y="3443400"/>
              <a:ext cx="6842880" cy="824760"/>
              <a:chOff x="1369800" y="3443400"/>
              <a:chExt cx="6842880" cy="824760"/>
            </a:xfrm>
          </p:grpSpPr>
          <p:sp>
            <p:nvSpPr>
              <p:cNvPr id="203" name=""/>
              <p:cNvSpPr/>
              <p:nvPr/>
            </p:nvSpPr>
            <p:spPr>
              <a:xfrm>
                <a:off x="1369800" y="344340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zip_dig mit;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3185640" y="3519360"/>
                <a:ext cx="5027040" cy="748800"/>
                <a:chOff x="3185640" y="3519360"/>
                <a:chExt cx="5027040" cy="748800"/>
              </a:xfrm>
            </p:grpSpPr>
            <p:grpSp>
              <p:nvGrpSpPr>
                <p:cNvPr id="205" name=""/>
                <p:cNvGrpSpPr/>
                <p:nvPr/>
              </p:nvGrpSpPr>
              <p:grpSpPr>
                <a:xfrm>
                  <a:off x="3337200" y="3519360"/>
                  <a:ext cx="4572000" cy="228240"/>
                  <a:chOff x="3337200" y="3519360"/>
                  <a:chExt cx="4572000" cy="22824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>
                    <a:off x="3337200" y="351936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0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4251600" y="351936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5166000" y="351936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6080400" y="351936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3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6994800" y="351936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9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1" name=""/>
                <p:cNvSpPr/>
                <p:nvPr/>
              </p:nvSpPr>
              <p:spPr>
                <a:xfrm flipV="1">
                  <a:off x="3413160" y="374760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185640" y="38998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V="1">
                  <a:off x="4327560" y="374760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100040" y="38998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V="1">
                  <a:off x="5241960" y="374760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014440" y="38998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V="1">
                  <a:off x="6156360" y="374760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928840" y="38998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8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V="1">
                  <a:off x="7070760" y="374760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6843240" y="38998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flipV="1">
                  <a:off x="7985160" y="374760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757640" y="38998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1369800" y="4205160"/>
              <a:ext cx="6842880" cy="825480"/>
              <a:chOff x="1369800" y="4205160"/>
              <a:chExt cx="6842880" cy="825480"/>
            </a:xfrm>
          </p:grpSpPr>
          <p:sp>
            <p:nvSpPr>
              <p:cNvPr id="224" name=""/>
              <p:cNvSpPr/>
              <p:nvPr/>
            </p:nvSpPr>
            <p:spPr>
              <a:xfrm>
                <a:off x="1369800" y="420516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zip_dig ucb;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185640" y="4281480"/>
                <a:ext cx="5027040" cy="749160"/>
                <a:chOff x="3185640" y="4281480"/>
                <a:chExt cx="5027040" cy="749160"/>
              </a:xfrm>
            </p:grpSpPr>
            <p:grpSp>
              <p:nvGrpSpPr>
                <p:cNvPr id="226" name=""/>
                <p:cNvGrpSpPr/>
                <p:nvPr/>
              </p:nvGrpSpPr>
              <p:grpSpPr>
                <a:xfrm>
                  <a:off x="3337200" y="4281480"/>
                  <a:ext cx="4572000" cy="228600"/>
                  <a:chOff x="3337200" y="4281480"/>
                  <a:chExt cx="4572000" cy="22860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3337200" y="428148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9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4251600" y="428148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4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5166000" y="428148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7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6080400" y="428148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6994800" y="428148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0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2" name=""/>
                <p:cNvSpPr/>
                <p:nvPr/>
              </p:nvSpPr>
              <p:spPr>
                <a:xfrm flipV="1">
                  <a:off x="3413160" y="45097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185640" y="46623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V="1">
                  <a:off x="4327560" y="45097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100040" y="46623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6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V="1">
                  <a:off x="5241960" y="45097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014440" y="46623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6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V="1">
                  <a:off x="6156360" y="45097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928840" y="46623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68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V="1">
                  <a:off x="7070760" y="45097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843240" y="46623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7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flipV="1">
                  <a:off x="7985160" y="45097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757640" y="46623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7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6680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ray Accessing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14600" y="4122720"/>
            <a:ext cx="452448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Reference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05520" y="1523880"/>
            <a:ext cx="342900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get_dig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zip_dig z, int dig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z[dig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057400" y="4876920"/>
            <a:ext cx="4924440" cy="911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dx = 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ax = di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,%eax,4),%eax # z[dig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2280" y="1066680"/>
            <a:ext cx="4876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d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ontains starting address of arra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a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ontains array index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sired digit a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4*%eax + %edx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memory referenc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(%edx,%eax,4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6248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ferencing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90520" y="3429000"/>
            <a:ext cx="8307360" cy="301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08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Does Not Do Any Bounds Checking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08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ferenc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dres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alu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uaranteed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21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it[3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36 + 4* 3 = 48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21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it[5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36 + 4* 5 = 56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9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21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it[-1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36 + 4*-1 = 32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21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mu[15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6 + 4*15 = 76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??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21280" indent="-206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t of range behavior implementation-depend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780840" indent="-1533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 guaranteed relative allocation of different arrays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217520" y="990720"/>
            <a:ext cx="6858720" cy="2362680"/>
            <a:chOff x="1217520" y="990720"/>
            <a:chExt cx="6858720" cy="2362680"/>
          </a:xfrm>
        </p:grpSpPr>
        <p:grpSp>
          <p:nvGrpSpPr>
            <p:cNvPr id="252" name=""/>
            <p:cNvGrpSpPr/>
            <p:nvPr/>
          </p:nvGrpSpPr>
          <p:grpSpPr>
            <a:xfrm>
              <a:off x="1233360" y="990720"/>
              <a:ext cx="6842880" cy="824760"/>
              <a:chOff x="1233360" y="990720"/>
              <a:chExt cx="6842880" cy="824760"/>
            </a:xfrm>
          </p:grpSpPr>
          <p:sp>
            <p:nvSpPr>
              <p:cNvPr id="253" name=""/>
              <p:cNvSpPr/>
              <p:nvPr/>
            </p:nvSpPr>
            <p:spPr>
              <a:xfrm>
                <a:off x="1233360" y="99072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zip_dig cmu;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54" name=""/>
              <p:cNvGrpSpPr/>
              <p:nvPr/>
            </p:nvGrpSpPr>
            <p:grpSpPr>
              <a:xfrm>
                <a:off x="3049200" y="1066680"/>
                <a:ext cx="5027040" cy="748800"/>
                <a:chOff x="3049200" y="1066680"/>
                <a:chExt cx="5027040" cy="748800"/>
              </a:xfrm>
            </p:grpSpPr>
            <p:grpSp>
              <p:nvGrpSpPr>
                <p:cNvPr id="255" name=""/>
                <p:cNvGrpSpPr/>
                <p:nvPr/>
              </p:nvGrpSpPr>
              <p:grpSpPr>
                <a:xfrm>
                  <a:off x="3200760" y="1066680"/>
                  <a:ext cx="4572000" cy="228240"/>
                  <a:chOff x="3200760" y="1066680"/>
                  <a:chExt cx="4572000" cy="228240"/>
                </a:xfrm>
              </p:grpSpPr>
              <p:sp>
                <p:nvSpPr>
                  <p:cNvPr id="256" name=""/>
                  <p:cNvSpPr/>
                  <p:nvPr/>
                </p:nvSpPr>
                <p:spPr>
                  <a:xfrm>
                    <a:off x="3200760" y="106668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115160" y="106668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5029560" y="106668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5943960" y="106668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6858360" y="106668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3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1" name=""/>
                <p:cNvSpPr/>
                <p:nvPr/>
              </p:nvSpPr>
              <p:spPr>
                <a:xfrm flipV="1">
                  <a:off x="3276720" y="129492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3049200" y="14472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V="1">
                  <a:off x="4191120" y="129492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3963600" y="14472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V="1">
                  <a:off x="5105520" y="129492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878000" y="14472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V="1">
                  <a:off x="6019920" y="129492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792400" y="14472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8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V="1">
                  <a:off x="6934320" y="129492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706800" y="14472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V="1">
                  <a:off x="7848720" y="129492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7621200" y="14472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3" name=""/>
            <p:cNvGrpSpPr/>
            <p:nvPr/>
          </p:nvGrpSpPr>
          <p:grpSpPr>
            <a:xfrm>
              <a:off x="1217520" y="1766880"/>
              <a:ext cx="6842880" cy="824400"/>
              <a:chOff x="1217520" y="1766880"/>
              <a:chExt cx="6842880" cy="824400"/>
            </a:xfrm>
          </p:grpSpPr>
          <p:sp>
            <p:nvSpPr>
              <p:cNvPr id="274" name=""/>
              <p:cNvSpPr/>
              <p:nvPr/>
            </p:nvSpPr>
            <p:spPr>
              <a:xfrm>
                <a:off x="1217520" y="176688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zip_dig mit;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75" name=""/>
              <p:cNvGrpSpPr/>
              <p:nvPr/>
            </p:nvGrpSpPr>
            <p:grpSpPr>
              <a:xfrm>
                <a:off x="3033360" y="1842840"/>
                <a:ext cx="5027040" cy="748440"/>
                <a:chOff x="3033360" y="1842840"/>
                <a:chExt cx="5027040" cy="748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3184920" y="1842840"/>
                  <a:ext cx="4572000" cy="228240"/>
                  <a:chOff x="3184920" y="1842840"/>
                  <a:chExt cx="4572000" cy="2282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3184920" y="184284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0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4099320" y="184284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5013720" y="184284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5928120" y="184284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3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6842520" y="184284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9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2" name=""/>
                <p:cNvSpPr/>
                <p:nvPr/>
              </p:nvSpPr>
              <p:spPr>
                <a:xfrm flipV="1">
                  <a:off x="3260880" y="207108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033360" y="22230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4175280" y="207108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947760" y="22230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V="1">
                  <a:off x="5089680" y="207108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862160" y="22230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V="1">
                  <a:off x="6004080" y="207108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5776560" y="22230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8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V="1">
                  <a:off x="6918480" y="207108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90960" y="22230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V="1">
                  <a:off x="7832880" y="207108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605360" y="22230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1217520" y="2528640"/>
              <a:ext cx="6842880" cy="824760"/>
              <a:chOff x="1217520" y="2528640"/>
              <a:chExt cx="6842880" cy="824760"/>
            </a:xfrm>
          </p:grpSpPr>
          <p:sp>
            <p:nvSpPr>
              <p:cNvPr id="295" name=""/>
              <p:cNvSpPr/>
              <p:nvPr/>
            </p:nvSpPr>
            <p:spPr>
              <a:xfrm>
                <a:off x="1217520" y="252864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zip_dig ucb;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3033360" y="2604600"/>
                <a:ext cx="5027040" cy="748800"/>
                <a:chOff x="3033360" y="2604600"/>
                <a:chExt cx="5027040" cy="748800"/>
              </a:xfrm>
            </p:grpSpPr>
            <p:grpSp>
              <p:nvGrpSpPr>
                <p:cNvPr id="297" name=""/>
                <p:cNvGrpSpPr/>
                <p:nvPr/>
              </p:nvGrpSpPr>
              <p:grpSpPr>
                <a:xfrm>
                  <a:off x="3184920" y="2604600"/>
                  <a:ext cx="4572000" cy="228240"/>
                  <a:chOff x="3184920" y="2604600"/>
                  <a:chExt cx="4572000" cy="22824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>
                    <a:off x="3184920" y="260460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9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4099320" y="260460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4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5013720" y="260460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7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5928120" y="260460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6842520" y="260460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0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3" name=""/>
                <p:cNvSpPr/>
                <p:nvPr/>
              </p:nvSpPr>
              <p:spPr>
                <a:xfrm flipV="1">
                  <a:off x="3260880" y="283284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033360" y="29851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V="1">
                  <a:off x="4175280" y="283284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947760" y="29851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6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V="1">
                  <a:off x="5089680" y="283284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4862160" y="29851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6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V="1">
                  <a:off x="6004080" y="283284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5776560" y="29851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68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V="1">
                  <a:off x="6918480" y="283284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6690960" y="29851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7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V="1">
                  <a:off x="7832880" y="283284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7605360" y="29851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7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15" name=""/>
          <p:cNvSpPr/>
          <p:nvPr/>
        </p:nvSpPr>
        <p:spPr>
          <a:xfrm>
            <a:off x="6477120" y="434340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553080" y="472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53080" y="51195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553080" y="54864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4648320" y="762120"/>
            <a:ext cx="4038480" cy="2557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5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 = 10 * zi + z[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391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ray Loop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038480" cy="21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riginal Sour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648320" y="3429000"/>
            <a:ext cx="4038480" cy="283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zend = z + 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 = 10 * zi + *z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while(z &lt;= zen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2280" y="3200400"/>
            <a:ext cx="4114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formed Ver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 generated by GC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liminate loop variabl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vert array code to pointer cod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ress in do-while form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 need to test at entranc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914400" y="3809880"/>
            <a:ext cx="6705720" cy="2832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cx = 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xorl %ea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i 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16(%ec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end  = z+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9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l (%eax,%eax,4),%ed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5*z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4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l (%eax,%edx,2),%ea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zi = *z + 2*(5*zi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bx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 : ze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e .L5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= 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381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ray Loop Implement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4419720" cy="21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1656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gis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414720" indent="0">
              <a:lnSpc>
                <a:spcPct val="100000"/>
              </a:lnSpc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cx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z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14720" indent="0">
              <a:lnSpc>
                <a:spcPct val="100000"/>
              </a:lnSpc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ax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zi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14720" indent="0">
              <a:lnSpc>
                <a:spcPct val="100000"/>
              </a:lnSpc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bx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zen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656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414720" indent="-164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*zi + *z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implemented as   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*z + 2*(zi+4*zi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14720" indent="-164520"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z++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crements by 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648320" y="961920"/>
            <a:ext cx="4038480" cy="283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int zi =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zend = z + 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 = 10 * zi + *z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while(z &lt;= zen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3809880"/>
            <a:ext cx="6705720" cy="2832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cx = 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%ea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i 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leal 16(%ec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end  = z+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9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l (%eax,%eax,4),%ed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5*z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4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l (%eax,%edx,2),%ea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zi = *z + 2*(5*zi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bx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 : ze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e .L5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= 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48320" y="961920"/>
            <a:ext cx="4038480" cy="283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zend = z + 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 = 10 * zi + *z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while(z &lt;= zen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14400" y="3809880"/>
            <a:ext cx="6705720" cy="2832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cx = 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%ea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i 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16(%ec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end  = z+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9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leal (%eax,%eax,4),%ed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5*z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4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leal (%eax,%edx,2),%ea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zi = *z + 2*(5*zi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bx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 : ze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e .L5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= 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648320" y="961920"/>
            <a:ext cx="4038480" cy="283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zend = z + 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zi = 10 * zi + *z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while(z &lt;= zen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3809880"/>
            <a:ext cx="6705720" cy="2832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cx = 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%ea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i 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16(%ec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end  = z+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9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l (%eax,%eax,4),%ed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5*z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addl $4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l (%eax,%edx,2),%ea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zi = *z + 2*(5*zi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bx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 : ze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e .L5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= 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48320" y="961920"/>
            <a:ext cx="4038480" cy="283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zend = z + 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 = 10 * zi + *z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z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while(z &lt;= zen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14400" y="3809880"/>
            <a:ext cx="6705720" cy="2832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cx = 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%ea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i 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16(%ec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end  = z+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9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l (%eax,%eax,4),%ed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5*z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4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l (%eax,%edx,2),%ea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zi = *z + 2*(5*zi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cmpl %ebx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 : ze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jle .L5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= 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48320" y="961920"/>
            <a:ext cx="4038480" cy="283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zend = z + 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 = 10 * zi + *z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while(z &lt;= zen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0-28T20:28:18Z</dcterms:modified>
  <cp:revision>87</cp:revision>
  <dc:subject/>
  <dc:title>Machine Level Programming IV</dc:title>
</cp:coreProperties>
</file>