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49DDDAE-1DC6-49AB-9B3E-C4249C71754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46600" cy="88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1" lang="en-US" sz="25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162920" cy="33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eric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Two’s comp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Im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promotion ru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negation, multiplication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Im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equences of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shifts to perform power-of-2 multiply/divi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2800" y="65739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7480" y="64976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3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4840" y="1219320"/>
            <a:ext cx="292104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 3, 2002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323640"/>
            <a:ext cx="86868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 Between Signed &amp;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5923080"/>
            <a:ext cx="830736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288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2 * 32768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655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8560" y="966960"/>
          <a:ext cx="5545080" cy="49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966960"/>
                    <a:ext cx="554508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3231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ed vs. Unsigned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default are considered to be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 if have “U” as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U, 4294967259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casting between signed &amp; unsigned same as U2T and T2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tx,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 ux, u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x = (int) ux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y = (unsigned)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icit casting also occurs via assignments and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x = ux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y =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0520" y="3276720"/>
            <a:ext cx="8853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1474836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1474836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unsigned) 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int) 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6524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sting Surpri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ression Evalu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ix unsigned and signed in single expression, signed values implicitly cast to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ing comparison operatio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=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a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14748364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14748364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unsigned) 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8U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int) 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636920" y="1523880"/>
            <a:ext cx="7201800" cy="5016240"/>
            <a:chOff x="1636920" y="1523880"/>
            <a:chExt cx="7201800" cy="5016240"/>
          </a:xfrm>
        </p:grpSpPr>
        <p:sp>
          <p:nvSpPr>
            <p:cNvPr id="226" name=""/>
            <p:cNvSpPr/>
            <p:nvPr/>
          </p:nvSpPr>
          <p:spPr>
            <a:xfrm>
              <a:off x="5675400" y="3124080"/>
              <a:ext cx="457200" cy="182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98880" y="3124080"/>
              <a:ext cx="457200" cy="182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98880" y="4952880"/>
              <a:ext cx="457200" cy="1523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75400" y="1599840"/>
              <a:ext cx="457200" cy="1524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160800" y="1523880"/>
              <a:ext cx="4419000" cy="5016240"/>
              <a:chOff x="3160800" y="1523880"/>
              <a:chExt cx="4419000" cy="501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4074840" y="47242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60800" y="464796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27120" y="4800240"/>
                <a:ext cx="1676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74840" y="32000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38200" y="312408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27120" y="3276360"/>
                <a:ext cx="1676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74840" y="62481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25600" y="61718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i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74840" y="50288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60800" y="49528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4840" y="53337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60800" y="52574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03640" y="47242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3640" y="32000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03640" y="28954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03640" y="16761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3640" y="19810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27120" y="1752480"/>
                <a:ext cx="1676160" cy="335268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7120" y="2057040"/>
                <a:ext cx="1676160" cy="335304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27120" y="2971440"/>
                <a:ext cx="1676160" cy="335304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08560" y="4647960"/>
                <a:ext cx="76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32240" y="1523880"/>
                <a:ext cx="91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U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32240" y="182844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UMa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 – 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10000" y="312408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08920" y="2819160"/>
                <a:ext cx="12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 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636920" y="4343040"/>
              <a:ext cx="132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2’s Comp.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36760" y="3124080"/>
              <a:ext cx="152640" cy="3352680"/>
            </a:xfrm>
            <a:custGeom>
              <a:avLst/>
              <a:gdLst/>
              <a:ahLst/>
              <a:rect l="l" t="t" r="r" b="b"/>
              <a:pathLst>
                <a:path w="144" h="2160">
                  <a:moveTo>
                    <a:pt x="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74880" y="1599840"/>
              <a:ext cx="152280" cy="3353040"/>
            </a:xfrm>
            <a:custGeom>
              <a:avLst/>
              <a:gdLst/>
              <a:ahLst/>
              <a:rect l="l" t="t" r="r" b="b"/>
              <a:pathLst>
                <a:path w="144" h="2160">
                  <a:moveTo>
                    <a:pt x="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80520" y="2895480"/>
              <a:ext cx="12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Unsigned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7945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anation of Casting Surpri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4159080" cy="17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’s Comp.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nsig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In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gative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g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1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 Exten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2760" y="1220760"/>
            <a:ext cx="8294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signed integ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i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integer with same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pies of sign bi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3733920"/>
            <a:ext cx="1297080" cy="77760"/>
          </a:xfrm>
          <a:custGeom>
            <a:avLst/>
            <a:gdLst/>
            <a:ahLst/>
            <a:rect l="l" t="t" r="r" b="b"/>
            <a:pathLst>
              <a:path w="817" h="49">
                <a:moveTo>
                  <a:pt x="0" y="0"/>
                </a:moveTo>
                <a:lnTo>
                  <a:pt x="0" y="48"/>
                </a:lnTo>
                <a:lnTo>
                  <a:pt x="816" y="48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50080" y="3962520"/>
            <a:ext cx="174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copies of M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96840" y="3887640"/>
            <a:ext cx="5189400" cy="2819520"/>
            <a:chOff x="1896840" y="3887640"/>
            <a:chExt cx="5189400" cy="2819520"/>
          </a:xfrm>
        </p:grpSpPr>
        <p:grpSp>
          <p:nvGrpSpPr>
            <p:cNvPr id="267" name=""/>
            <p:cNvGrpSpPr/>
            <p:nvPr/>
          </p:nvGrpSpPr>
          <p:grpSpPr>
            <a:xfrm>
              <a:off x="1896840" y="4281480"/>
              <a:ext cx="5189040" cy="1981080"/>
              <a:chOff x="1896840" y="4281480"/>
              <a:chExt cx="5189040" cy="198108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4343400" y="4357440"/>
                <a:ext cx="2742480" cy="228600"/>
                <a:chOff x="4343400" y="4357440"/>
                <a:chExt cx="2742480" cy="22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343400" y="435744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5716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002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004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6290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576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028840" y="4357440"/>
                  <a:ext cx="1371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• • •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3734640" y="4281480"/>
                <a:ext cx="3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96840" y="5881680"/>
                <a:ext cx="46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267080" y="4662360"/>
                <a:ext cx="22824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2590560" y="6033960"/>
                <a:ext cx="4494960" cy="228600"/>
                <a:chOff x="2590560" y="6033960"/>
                <a:chExt cx="4494960" cy="228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047400" y="6033960"/>
                  <a:ext cx="83808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• • •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11444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8584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81880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9056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4343040" y="6033960"/>
                  <a:ext cx="2742480" cy="228600"/>
                  <a:chOff x="4343040" y="6033960"/>
                  <a:chExt cx="2742480" cy="2286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343040" y="6033960"/>
                    <a:ext cx="228240" cy="228600"/>
                  </a:xfrm>
                  <a:prstGeom prst="rect">
                    <a:avLst/>
                  </a:prstGeom>
                  <a:solidFill>
                    <a:srgbClr val="00ff99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712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7998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4000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6286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8572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028480" y="6033960"/>
                    <a:ext cx="1371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• • •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 flipH="1">
                <a:off x="4038120" y="4662360"/>
                <a:ext cx="45684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971800" y="4662360"/>
                <a:ext cx="152352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742840" y="4662360"/>
                <a:ext cx="175212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242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528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530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16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102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29360" y="550044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343400" y="4052880"/>
              <a:ext cx="2742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4160" y="388764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3400" y="6491160"/>
              <a:ext cx="2742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64160" y="632592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90560" y="6491160"/>
              <a:ext cx="1752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1840" y="6338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70056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 Extens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4803480"/>
            <a:ext cx="8307360" cy="16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ing from smaller to larger integer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utomatically performs sign exten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1143000"/>
            <a:ext cx="41907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     ix = (int) x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y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     iy = (int)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09520" y="2863800"/>
            <a:ext cx="190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82960" y="2863800"/>
            <a:ext cx="172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8600" y="2863800"/>
            <a:ext cx="190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5680" y="2844720"/>
            <a:ext cx="8431200" cy="1427400"/>
            <a:chOff x="355680" y="2844720"/>
            <a:chExt cx="8431200" cy="1427400"/>
          </a:xfrm>
        </p:grpSpPr>
        <p:sp>
          <p:nvSpPr>
            <p:cNvPr id="316" name=""/>
            <p:cNvSpPr/>
            <p:nvPr/>
          </p:nvSpPr>
          <p:spPr>
            <a:xfrm>
              <a:off x="1242360" y="2870280"/>
              <a:ext cx="8236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5520" y="2870280"/>
              <a:ext cx="4060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88960" y="2870280"/>
              <a:ext cx="646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568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568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284472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952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28600" y="284472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82960" y="284472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0240" y="284472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86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57680" y="284472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678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678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568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952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2960" y="2863800"/>
              <a:ext cx="172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3860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6780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1840" y="3164040"/>
              <a:ext cx="137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37480" y="3152880"/>
              <a:ext cx="633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1800" y="3164040"/>
              <a:ext cx="686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3B 6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3164040"/>
              <a:ext cx="2332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111011 0110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568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760" y="3127320"/>
              <a:ext cx="734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0952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28600" y="3127320"/>
              <a:ext cx="954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82960" y="312732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0240" y="3127320"/>
              <a:ext cx="1638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860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57680" y="3127320"/>
              <a:ext cx="501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6780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68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52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82960" y="3146400"/>
              <a:ext cx="172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860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6780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1480" y="3444840"/>
              <a:ext cx="275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37480" y="3435480"/>
              <a:ext cx="633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37760" y="3444840"/>
              <a:ext cx="15094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 00 3B 6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76920" y="3444840"/>
              <a:ext cx="48013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00000 00000000 00111011 0110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568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4760" y="340848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0952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8600" y="340848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2960" y="3408480"/>
              <a:ext cx="17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00240" y="340848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3860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57680" y="340848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6780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568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52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82960" y="3429000"/>
              <a:ext cx="172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860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780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1840" y="3727440"/>
              <a:ext cx="137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61160" y="3716280"/>
              <a:ext cx="709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61800" y="3727440"/>
              <a:ext cx="686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C4 9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5080" y="3727440"/>
              <a:ext cx="2332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1000100 1001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68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760" y="3691080"/>
              <a:ext cx="734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952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28600" y="3691080"/>
              <a:ext cx="954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82960" y="369108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0240" y="3691080"/>
              <a:ext cx="1638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860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57680" y="3691080"/>
              <a:ext cx="501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6780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568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0952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82960" y="3710160"/>
              <a:ext cx="172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860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6780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760" y="4010040"/>
              <a:ext cx="275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61160" y="3998880"/>
              <a:ext cx="709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38480" y="4010040"/>
              <a:ext cx="15094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F FF C4 9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76920" y="4010040"/>
              <a:ext cx="48013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1111111 11111111 11000100 1001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68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4760" y="3973680"/>
              <a:ext cx="734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0952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28600" y="3973680"/>
              <a:ext cx="954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2960" y="397368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0240" y="3973680"/>
              <a:ext cx="1638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860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57680" y="3973680"/>
              <a:ext cx="501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780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68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68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68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760" y="425304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0952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952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28600" y="425304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2960" y="3992400"/>
              <a:ext cx="172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2960" y="425304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00240" y="425304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3860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386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7680" y="425304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78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678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153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stification For Sign Exten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2760" y="1220760"/>
            <a:ext cx="829476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e Correctness by Induction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uction Step: extending by single bit maintains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0">
              <a:spcBef>
                <a:spcPts val="624"/>
              </a:spcBef>
              <a:buNone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y observation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=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weight of upper bit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20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20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+ 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25440" y="2147760"/>
            <a:ext cx="3589560" cy="2806560"/>
            <a:chOff x="2125440" y="2147760"/>
            <a:chExt cx="3589560" cy="2806560"/>
          </a:xfrm>
        </p:grpSpPr>
        <p:sp>
          <p:nvSpPr>
            <p:cNvPr id="421" name=""/>
            <p:cNvSpPr/>
            <p:nvPr/>
          </p:nvSpPr>
          <p:spPr>
            <a:xfrm>
              <a:off x="2971800" y="261756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004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90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57600" y="261756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3400" y="254124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25440" y="4141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240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895120" y="2922480"/>
              <a:ext cx="22860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3200" y="429408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71800" y="429408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292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578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42940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26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100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386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3200" y="4738320"/>
              <a:ext cx="2971800" cy="12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92920" y="4586040"/>
              <a:ext cx="60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71800" y="2312640"/>
              <a:ext cx="2743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92920" y="214776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450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Should I Use Unsign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Just Because Number Non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s on some machines generate less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 i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 (i = 1; i &lt; cnt; i++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[i] += a[i-1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make mistak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 (i = cnt-2; i &gt;= 0; i--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[i] += a[i+1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When Performing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esoteric stu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When Need Extra Bit’s Worth of Ra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ing right up to limit of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7920" y="323640"/>
            <a:ext cx="88660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gating with Complement &amp; Inc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78548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im: Following Holds for 2’s Comp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0">
              <a:spcBef>
                <a:spcPts val="624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1 == -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servation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x == 1111…11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= 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x + (-x + 1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 + (-x +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 Be cautious treat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’s as integ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K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49560" y="3048120"/>
            <a:ext cx="2970360" cy="1602720"/>
            <a:chOff x="3049560" y="3048120"/>
            <a:chExt cx="2970360" cy="1602720"/>
          </a:xfrm>
        </p:grpSpPr>
        <p:grpSp>
          <p:nvGrpSpPr>
            <p:cNvPr id="454" name=""/>
            <p:cNvGrpSpPr/>
            <p:nvPr/>
          </p:nvGrpSpPr>
          <p:grpSpPr>
            <a:xfrm>
              <a:off x="3506760" y="3048120"/>
              <a:ext cx="2436840" cy="459720"/>
              <a:chOff x="3506760" y="3048120"/>
              <a:chExt cx="243684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148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434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720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578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864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150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006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292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06760" y="3048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x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506760" y="3581640"/>
              <a:ext cx="2436840" cy="459720"/>
              <a:chOff x="3506760" y="3581640"/>
              <a:chExt cx="2436840" cy="459720"/>
            </a:xfrm>
          </p:grpSpPr>
          <p:sp>
            <p:nvSpPr>
              <p:cNvPr id="465" name=""/>
              <p:cNvSpPr/>
              <p:nvPr/>
            </p:nvSpPr>
            <p:spPr>
              <a:xfrm>
                <a:off x="41148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434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720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578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4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7150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92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06760" y="35816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~x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3049560" y="3581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24440" y="4115160"/>
              <a:ext cx="2895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506760" y="4191120"/>
              <a:ext cx="2436840" cy="459720"/>
              <a:chOff x="3506760" y="4191120"/>
              <a:chExt cx="2436840" cy="459720"/>
            </a:xfrm>
          </p:grpSpPr>
          <p:sp>
            <p:nvSpPr>
              <p:cNvPr id="477" name=""/>
              <p:cNvSpPr/>
              <p:nvPr/>
            </p:nvSpPr>
            <p:spPr>
              <a:xfrm>
                <a:off x="41148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434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720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578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864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50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06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292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6760" y="4191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 flipV="1">
            <a:off x="182880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5105520"/>
            <a:ext cx="30456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02920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23640"/>
            <a:ext cx="7256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. &amp; Incr.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3880" y="1371600"/>
          <a:ext cx="562608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62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1221480" y="9907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= 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447920" y="3200400"/>
          <a:ext cx="5905440" cy="135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200400"/>
                    <a:ext cx="5905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14480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ken from old ex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machine with 32 bit word size, two’s complement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e that is true for all argument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 example where not tr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48120"/>
            <a:ext cx="5257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191120"/>
            <a:ext cx="2612880" cy="1614960"/>
          </a:xfrm>
          <a:prstGeom prst="rect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fo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 = 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x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y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2600" y="365760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160" y="323640"/>
            <a:ext cx="6381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79320" y="3533760"/>
            <a:ext cx="5150160" cy="16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Addition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gnores carry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1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s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0">
              <a:spcBef>
                <a:spcPts val="624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90920" y="5511960"/>
          <a:ext cx="416556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511960"/>
                    <a:ext cx="4165560" cy="812520"/>
                  </a:xfrm>
                  <a:prstGeom prst="rect">
                    <a:avLst/>
                  </a:prstGeom>
                  <a:ln w="255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4724280" y="1295280"/>
            <a:ext cx="2743200" cy="228600"/>
            <a:chOff x="4724280" y="1295280"/>
            <a:chExt cx="2743200" cy="228600"/>
          </a:xfrm>
        </p:grpSpPr>
        <p:sp>
          <p:nvSpPr>
            <p:cNvPr id="502" name=""/>
            <p:cNvSpPr/>
            <p:nvPr/>
          </p:nvSpPr>
          <p:spPr>
            <a:xfrm>
              <a:off x="4724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814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816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0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8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12952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724280" y="1752480"/>
            <a:ext cx="2743200" cy="228600"/>
            <a:chOff x="4724280" y="1752480"/>
            <a:chExt cx="2743200" cy="228600"/>
          </a:xfrm>
        </p:grpSpPr>
        <p:sp>
          <p:nvSpPr>
            <p:cNvPr id="510" name=""/>
            <p:cNvSpPr/>
            <p:nvPr/>
          </p:nvSpPr>
          <p:spPr>
            <a:xfrm>
              <a:off x="4724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38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0080" y="17524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11624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62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3920" y="20574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350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495680" y="2209680"/>
            <a:ext cx="2971800" cy="228600"/>
            <a:chOff x="4495680" y="2209680"/>
            <a:chExt cx="2971800" cy="228600"/>
          </a:xfrm>
        </p:grpSpPr>
        <p:grpSp>
          <p:nvGrpSpPr>
            <p:cNvPr id="522" name=""/>
            <p:cNvGrpSpPr/>
            <p:nvPr/>
          </p:nvGrpSpPr>
          <p:grpSpPr>
            <a:xfrm>
              <a:off x="4724280" y="2209680"/>
              <a:ext cx="2743200" cy="228600"/>
              <a:chOff x="4724280" y="2209680"/>
              <a:chExt cx="2743200" cy="228600"/>
            </a:xfrm>
          </p:grpSpPr>
          <p:sp>
            <p:nvSpPr>
              <p:cNvPr id="523" name=""/>
              <p:cNvSpPr/>
              <p:nvPr/>
            </p:nvSpPr>
            <p:spPr>
              <a:xfrm>
                <a:off x="4724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52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14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816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10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38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10080" y="2209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495680" y="2209680"/>
              <a:ext cx="228600" cy="2286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733920" y="2133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724280" y="2666880"/>
            <a:ext cx="2743200" cy="228600"/>
            <a:chOff x="4724280" y="2666880"/>
            <a:chExt cx="2743200" cy="228600"/>
          </a:xfrm>
        </p:grpSpPr>
        <p:sp>
          <p:nvSpPr>
            <p:cNvPr id="533" name=""/>
            <p:cNvSpPr/>
            <p:nvPr/>
          </p:nvSpPr>
          <p:spPr>
            <a:xfrm>
              <a:off x="4724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814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816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0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38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0080" y="26668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733920" y="25146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640" y="20574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Sum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1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97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Carry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29400" y="2666880"/>
            <a:ext cx="137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Add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733920" y="1676520"/>
          <a:ext cx="4560840" cy="39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76520"/>
                    <a:ext cx="4560840" cy="39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75405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Integer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290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d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it integer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rue sum Add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increase linearly wit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planar su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62120" y="1219320"/>
            <a:ext cx="13104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040" y="51055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4572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809880" y="1828800"/>
          <a:ext cx="45608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5608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8534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signed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4765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s A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rue sum ≥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most o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71400" y="3330720"/>
            <a:ext cx="1982880" cy="1734840"/>
            <a:chOff x="671400" y="3330720"/>
            <a:chExt cx="1982880" cy="1734840"/>
          </a:xfrm>
        </p:grpSpPr>
        <p:grpSp>
          <p:nvGrpSpPr>
            <p:cNvPr id="557" name=""/>
            <p:cNvGrpSpPr/>
            <p:nvPr/>
          </p:nvGrpSpPr>
          <p:grpSpPr>
            <a:xfrm>
              <a:off x="1231920" y="3505320"/>
              <a:ext cx="127080" cy="1371600"/>
              <a:chOff x="1231920" y="3505320"/>
              <a:chExt cx="127080" cy="1371600"/>
            </a:xfrm>
          </p:grpSpPr>
          <p:sp>
            <p:nvSpPr>
              <p:cNvPr id="558" name=""/>
              <p:cNvSpPr/>
              <p:nvPr/>
            </p:nvSpPr>
            <p:spPr>
              <a:xfrm>
                <a:off x="1295280" y="351792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31920" y="48769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31920" y="41911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31920" y="35053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527200" y="4191120"/>
              <a:ext cx="127080" cy="685800"/>
              <a:chOff x="2527200" y="4191120"/>
              <a:chExt cx="127080" cy="685800"/>
            </a:xfrm>
          </p:grpSpPr>
          <p:sp>
            <p:nvSpPr>
              <p:cNvPr id="563" name=""/>
              <p:cNvSpPr/>
              <p:nvPr/>
            </p:nvSpPr>
            <p:spPr>
              <a:xfrm>
                <a:off x="2590920" y="420372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27200" y="48769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27200" y="41911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460520" y="457200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7920" y="3809880"/>
              <a:ext cx="992160" cy="534960"/>
            </a:xfrm>
            <a:custGeom>
              <a:avLst/>
              <a:gdLst/>
              <a:ahLst/>
              <a:rect l="l" t="t" r="r" b="b"/>
              <a:pathLst>
                <a:path w="625" h="337">
                  <a:moveTo>
                    <a:pt x="0" y="0"/>
                  </a:moveTo>
                  <a:lnTo>
                    <a:pt x="240" y="0"/>
                  </a:lnTo>
                  <a:lnTo>
                    <a:pt x="384" y="336"/>
                  </a:lnTo>
                  <a:lnTo>
                    <a:pt x="624" y="336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1400" y="47023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240" y="4016520"/>
              <a:ext cx="403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9400" y="3330720"/>
              <a:ext cx="55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5414760" y="1905120"/>
            <a:ext cx="147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39720" y="520524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64480" y="45194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2440" y="3025800"/>
            <a:ext cx="123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61040" y="4930920"/>
            <a:ext cx="163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640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240" y="121932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10280" y="1676520"/>
            <a:ext cx="3812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70545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 Addition Forms 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0)  =  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  =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  =  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7473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wo’s Complement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3600" y="3533760"/>
            <a:ext cx="7916760" cy="22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dd and UAdd have Identical Bit-Level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addition in C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s, t, u,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 = (int) ((unsigned) u + (unsigned) v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u + 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ive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s == 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724280" y="1295280"/>
            <a:ext cx="2743200" cy="228600"/>
            <a:chOff x="4724280" y="1295280"/>
            <a:chExt cx="2743200" cy="228600"/>
          </a:xfrm>
        </p:grpSpPr>
        <p:sp>
          <p:nvSpPr>
            <p:cNvPr id="584" name=""/>
            <p:cNvSpPr/>
            <p:nvPr/>
          </p:nvSpPr>
          <p:spPr>
            <a:xfrm>
              <a:off x="4724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52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814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816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10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0080" y="12952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724280" y="1752480"/>
            <a:ext cx="2743200" cy="228600"/>
            <a:chOff x="4724280" y="1752480"/>
            <a:chExt cx="2743200" cy="228600"/>
          </a:xfrm>
        </p:grpSpPr>
        <p:sp>
          <p:nvSpPr>
            <p:cNvPr id="592" name=""/>
            <p:cNvSpPr/>
            <p:nvPr/>
          </p:nvSpPr>
          <p:spPr>
            <a:xfrm>
              <a:off x="4724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814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16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10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38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10080" y="17524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11624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62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20574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350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495680" y="2209680"/>
            <a:ext cx="2971800" cy="228600"/>
            <a:chOff x="4495680" y="2209680"/>
            <a:chExt cx="2971800" cy="228600"/>
          </a:xfrm>
        </p:grpSpPr>
        <p:grpSp>
          <p:nvGrpSpPr>
            <p:cNvPr id="604" name=""/>
            <p:cNvGrpSpPr/>
            <p:nvPr/>
          </p:nvGrpSpPr>
          <p:grpSpPr>
            <a:xfrm>
              <a:off x="4724280" y="2209680"/>
              <a:ext cx="2743200" cy="228600"/>
              <a:chOff x="4724280" y="2209680"/>
              <a:chExt cx="2743200" cy="228600"/>
            </a:xfrm>
          </p:grpSpPr>
          <p:sp>
            <p:nvSpPr>
              <p:cNvPr id="605" name=""/>
              <p:cNvSpPr/>
              <p:nvPr/>
            </p:nvSpPr>
            <p:spPr>
              <a:xfrm>
                <a:off x="4724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52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814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816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010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38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10080" y="2209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4495680" y="2209680"/>
              <a:ext cx="228600" cy="2286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733920" y="2133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724280" y="2666880"/>
            <a:ext cx="2743200" cy="228600"/>
            <a:chOff x="4724280" y="2666880"/>
            <a:chExt cx="2743200" cy="228600"/>
          </a:xfrm>
        </p:grpSpPr>
        <p:sp>
          <p:nvSpPr>
            <p:cNvPr id="615" name=""/>
            <p:cNvSpPr/>
            <p:nvPr/>
          </p:nvSpPr>
          <p:spPr>
            <a:xfrm>
              <a:off x="4724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814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816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10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6668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3733920" y="25146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8640" y="20574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Sum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1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97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Carry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54240" y="2666880"/>
            <a:ext cx="13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Add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759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aracterizing T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33098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a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sum requires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rop off MS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t remaining bits as 2’s comp.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188600" y="1143000"/>
            <a:ext cx="4194360" cy="3411360"/>
            <a:chOff x="4188600" y="1143000"/>
            <a:chExt cx="4194360" cy="3411360"/>
          </a:xfrm>
        </p:grpSpPr>
        <p:sp>
          <p:nvSpPr>
            <p:cNvPr id="630" name=""/>
            <p:cNvSpPr/>
            <p:nvPr/>
          </p:nvSpPr>
          <p:spPr>
            <a:xfrm>
              <a:off x="5063040" y="3581280"/>
              <a:ext cx="71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 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49000" y="4191120"/>
              <a:ext cx="53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125320" y="1523880"/>
              <a:ext cx="2051640" cy="2917800"/>
              <a:chOff x="5125320" y="1523880"/>
              <a:chExt cx="2051640" cy="2917800"/>
            </a:xfrm>
          </p:grpSpPr>
          <p:sp>
            <p:nvSpPr>
              <p:cNvPr id="633" name=""/>
              <p:cNvSpPr/>
              <p:nvPr/>
            </p:nvSpPr>
            <p:spPr>
              <a:xfrm>
                <a:off x="5818320" y="171108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754600" y="30700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754600" y="23842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754600" y="16984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13600" y="239688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50240" y="30700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50240" y="23842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83200" y="2612880"/>
                <a:ext cx="965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70600" y="2079360"/>
                <a:ext cx="992160" cy="1297080"/>
              </a:xfrm>
              <a:custGeom>
                <a:avLst/>
                <a:gdLst/>
                <a:ahLst/>
                <a:rect l="l" t="t" r="r" b="b"/>
                <a:pathLst>
                  <a:path w="625" h="817">
                    <a:moveTo>
                      <a:pt x="0" y="0"/>
                    </a:moveTo>
                    <a:lnTo>
                      <a:pt x="240" y="0"/>
                    </a:lnTo>
                    <a:lnTo>
                      <a:pt x="384" y="816"/>
                    </a:lnTo>
                    <a:lnTo>
                      <a:pt x="624" y="816"/>
                    </a:lnTo>
                  </a:path>
                </a:pathLst>
              </a:custGeom>
              <a:noFill/>
              <a:ln cap="rnd"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94440" y="289548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215320" y="2209680"/>
                <a:ext cx="586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0" i="1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w </a:t>
                </a:r>
                <a:r>
                  <a:rPr b="0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25320" y="1523880"/>
                <a:ext cx="657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0" i="1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18320" y="308268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54600" y="44416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54600" y="37558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54600" y="30700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3600" y="308268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050240" y="37558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50240" y="30700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83200" y="3527280"/>
                <a:ext cx="965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970600" y="2841480"/>
                <a:ext cx="992160" cy="1296720"/>
              </a:xfrm>
              <a:custGeom>
                <a:avLst/>
                <a:gdLst/>
                <a:ahLst/>
                <a:rect l="l" t="t" r="r" b="b"/>
                <a:pathLst>
                  <a:path w="625" h="817">
                    <a:moveTo>
                      <a:pt x="0" y="816"/>
                    </a:moveTo>
                    <a:lnTo>
                      <a:pt x="240" y="816"/>
                    </a:lnTo>
                    <a:lnTo>
                      <a:pt x="384" y="0"/>
                    </a:lnTo>
                    <a:lnTo>
                      <a:pt x="624" y="0"/>
                    </a:lnTo>
                  </a:path>
                </a:pathLst>
              </a:custGeom>
              <a:noFill/>
              <a:ln cap="rnd"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5181120" y="1143000"/>
              <a:ext cx="123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ue 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4400" y="190512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dd Res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88600" y="42372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88600" y="35514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88600" y="28656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88600" y="21798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88600" y="14940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11…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89720" y="36273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89720" y="29415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89720" y="22557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11…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866920" y="17524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osOv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600" y="41911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egOv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352680" y="4952880"/>
          <a:ext cx="547380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952880"/>
                    <a:ext cx="5473800" cy="1201680"/>
                  </a:xfrm>
                  <a:prstGeom prst="rect">
                    <a:avLst/>
                  </a:prstGeom>
                  <a:ln w="255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7770600" y="49514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egOv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46920" y="571356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osOv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5160" y="3581280"/>
            <a:ext cx="2251080" cy="2669400"/>
            <a:chOff x="605160" y="3581280"/>
            <a:chExt cx="2251080" cy="2669400"/>
          </a:xfrm>
        </p:grpSpPr>
        <p:sp>
          <p:nvSpPr>
            <p:cNvPr id="671" name=""/>
            <p:cNvSpPr/>
            <p:nvPr/>
          </p:nvSpPr>
          <p:spPr>
            <a:xfrm>
              <a:off x="1143000" y="4267080"/>
              <a:ext cx="68580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77600" y="5638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0920" y="4651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19320" y="5486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5120" y="5486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4952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480" y="4343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94360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Neg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80720" y="35812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os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28800" y="4267080"/>
              <a:ext cx="68580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43000" y="4876560"/>
              <a:ext cx="68580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4876560"/>
              <a:ext cx="68580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5400000">
              <a:off x="1866240" y="4228560"/>
              <a:ext cx="609480" cy="68580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0" y="0"/>
                  </a:moveTo>
                  <a:lnTo>
                    <a:pt x="432" y="38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99"/>
            </a:solidFill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16200000">
              <a:off x="1179720" y="4838400"/>
              <a:ext cx="609840" cy="68580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0" y="0"/>
                  </a:moveTo>
                  <a:lnTo>
                    <a:pt x="432" y="38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99"/>
            </a:solidFill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066680" y="5257440"/>
              <a:ext cx="22860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86000" y="3962160"/>
              <a:ext cx="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5160" y="3809880"/>
              <a:ext cx="1377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dd(</a:t>
              </a: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u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3886200" y="2057400"/>
          <a:ext cx="45608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45608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98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2’s Comp.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3354480" cy="459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it two’s comp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 from -8 to +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s A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sum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es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mos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sum &lt; –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es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mos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642640" y="2133720"/>
            <a:ext cx="1450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7960" y="55627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15200" y="5029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2240" y="55627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osO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30080" y="1371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gO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38480" y="1752480"/>
            <a:ext cx="838440" cy="17528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7543440" y="4191120"/>
            <a:ext cx="609480" cy="12952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23640"/>
            <a:ext cx="76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2’s Comp.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09040" cy="46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T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e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s, u,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 = u +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i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f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lt;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NegOv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l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PosOv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vf = (u&lt;0 == v&lt;0) &amp;&amp; (u&lt;0 != s&lt;0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265000" y="1371600"/>
            <a:ext cx="2051640" cy="2938680"/>
            <a:chOff x="5265000" y="1371600"/>
            <a:chExt cx="2051640" cy="2938680"/>
          </a:xfrm>
        </p:grpSpPr>
        <p:sp>
          <p:nvSpPr>
            <p:cNvPr id="702" name=""/>
            <p:cNvSpPr/>
            <p:nvPr/>
          </p:nvSpPr>
          <p:spPr>
            <a:xfrm>
              <a:off x="5957640" y="1558800"/>
              <a:ext cx="0" cy="1345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9428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94280" y="22316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94280" y="15458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53280" y="2244600"/>
              <a:ext cx="0" cy="65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956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89560" y="22316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22880" y="246024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10280" y="1927080"/>
              <a:ext cx="992160" cy="1296360"/>
            </a:xfrm>
            <a:custGeom>
              <a:avLst/>
              <a:gdLst/>
              <a:ahLst/>
              <a:rect l="l" t="t" r="r" b="b"/>
              <a:pathLst>
                <a:path w="625" h="817">
                  <a:moveTo>
                    <a:pt x="0" y="0"/>
                  </a:moveTo>
                  <a:lnTo>
                    <a:pt x="240" y="0"/>
                  </a:lnTo>
                  <a:lnTo>
                    <a:pt x="384" y="816"/>
                  </a:lnTo>
                  <a:lnTo>
                    <a:pt x="624" y="816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3760" y="2742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55000" y="2057040"/>
              <a:ext cx="58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 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65000" y="1371600"/>
              <a:ext cx="65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57640" y="2930400"/>
              <a:ext cx="0" cy="1345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4280" y="42890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94280" y="36032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9428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53280" y="2930400"/>
              <a:ext cx="0" cy="65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89560" y="36032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956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22880" y="337464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10280" y="2688840"/>
              <a:ext cx="992160" cy="1296720"/>
            </a:xfrm>
            <a:custGeom>
              <a:avLst/>
              <a:gdLst/>
              <a:ahLst/>
              <a:rect l="l" t="t" r="r" b="b"/>
              <a:pathLst>
                <a:path w="625" h="817">
                  <a:moveTo>
                    <a:pt x="0" y="816"/>
                  </a:moveTo>
                  <a:lnTo>
                    <a:pt x="240" y="816"/>
                  </a:lnTo>
                  <a:lnTo>
                    <a:pt x="384" y="0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81120" y="1645920"/>
              <a:ext cx="876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os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81480" y="4008240"/>
              <a:ext cx="894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Neg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23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T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3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omorphic Algebra to UAd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=  U2T(U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T2U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), T2U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both have identical bit patte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Under TAdd Forms a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, Commutative, Associative, 0 is addi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  =  U2T(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T2U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T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  =  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590920" y="5105520"/>
          <a:ext cx="36068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05520"/>
                    <a:ext cx="3606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5908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Exact Product of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bit numbers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ither signed or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g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≤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≤ (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)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in: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≥ (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*(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)  =  –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–1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ax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≤ (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, but only for 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in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ing Exact Resul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keep expanding word size with each product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e in software by “arbitrary precision” arithmetic pack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6116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362320"/>
            <a:ext cx="3429000" cy="642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y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 bytes lo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 Bi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2’s complement, most significant bit indicates 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 for non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00600" y="1523880"/>
          <a:ext cx="3340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3340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990720" y="1523880"/>
          <a:ext cx="2133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3880"/>
                    <a:ext cx="2133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92520" y="9144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7280" y="9907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’s Compl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629040" y="2057040"/>
            <a:ext cx="10666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7640" y="2590920"/>
            <a:ext cx="678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3657600"/>
          <a:ext cx="5653080" cy="101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657600"/>
                    <a:ext cx="56530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686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Multiplication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07800" y="3384720"/>
            <a:ext cx="5149800" cy="16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ultiplication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gnores high ord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s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·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172200" y="1219320"/>
            <a:ext cx="2743200" cy="228600"/>
            <a:chOff x="6172200" y="1219320"/>
            <a:chExt cx="2743200" cy="228600"/>
          </a:xfrm>
        </p:grpSpPr>
        <p:sp>
          <p:nvSpPr>
            <p:cNvPr id="734" name=""/>
            <p:cNvSpPr/>
            <p:nvPr/>
          </p:nvSpPr>
          <p:spPr>
            <a:xfrm>
              <a:off x="61722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008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296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582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868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0" y="12193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172200" y="1676520"/>
            <a:ext cx="2743200" cy="228600"/>
            <a:chOff x="6172200" y="1676520"/>
            <a:chExt cx="2743200" cy="228600"/>
          </a:xfrm>
        </p:grpSpPr>
        <p:sp>
          <p:nvSpPr>
            <p:cNvPr id="742" name=""/>
            <p:cNvSpPr/>
            <p:nvPr/>
          </p:nvSpPr>
          <p:spPr>
            <a:xfrm>
              <a:off x="61722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294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296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582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868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58000" y="16765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64160" y="114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38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3200" y="1981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182920" y="1600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72200" y="2133720"/>
            <a:ext cx="2743200" cy="228600"/>
            <a:chOff x="6172200" y="2133720"/>
            <a:chExt cx="2743200" cy="228600"/>
          </a:xfrm>
        </p:grpSpPr>
        <p:sp>
          <p:nvSpPr>
            <p:cNvPr id="754" name=""/>
            <p:cNvSpPr/>
            <p:nvPr/>
          </p:nvSpPr>
          <p:spPr>
            <a:xfrm>
              <a:off x="61722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008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294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296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582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868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58000" y="21337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2729520" y="20574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·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72200" y="2590920"/>
            <a:ext cx="2743200" cy="228600"/>
            <a:chOff x="6172200" y="2590920"/>
            <a:chExt cx="2743200" cy="228600"/>
          </a:xfrm>
        </p:grpSpPr>
        <p:sp>
          <p:nvSpPr>
            <p:cNvPr id="763" name=""/>
            <p:cNvSpPr/>
            <p:nvPr/>
          </p:nvSpPr>
          <p:spPr>
            <a:xfrm>
              <a:off x="61722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008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94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296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582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6868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58000" y="25909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743200" y="24382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0760" y="20574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Product: 2*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11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65880" y="2590920"/>
            <a:ext cx="14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3429000" y="2133720"/>
            <a:ext cx="2743200" cy="228600"/>
            <a:chOff x="3429000" y="2133720"/>
            <a:chExt cx="2743200" cy="228600"/>
          </a:xfrm>
        </p:grpSpPr>
        <p:sp>
          <p:nvSpPr>
            <p:cNvPr id="776" name=""/>
            <p:cNvSpPr/>
            <p:nvPr/>
          </p:nvSpPr>
          <p:spPr>
            <a:xfrm>
              <a:off x="34290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862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864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150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14800" y="2133720"/>
              <a:ext cx="1371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477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vs. Signed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x = (unsigned) x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y = (unsigned)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p = ux * u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ncates produc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ular arithmetic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 = x *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exact product of tw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ncate resul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T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477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vs. Signed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x = (unsigned) x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y = (unsigned)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p = ux * u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 = x *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multiplication gives same bit-level result as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p == (unsigned)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73994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wer-of-2 Multiply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oth signed and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5 - u &lt;&lt; 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machines shift and add much faster than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generates this code automat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0">
              <a:spcBef>
                <a:spcPts val="624"/>
              </a:spcBef>
              <a:buNone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913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199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485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487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773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059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757600"/>
            <a:ext cx="1371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913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057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34320" y="32148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1629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773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059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19920" y="32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8292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87600" y="31384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351936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02040" y="31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425040" y="35956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·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397656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9160" y="3595680"/>
            <a:ext cx="25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Product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40600" y="2909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38080" y="42051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08680" y="4129200"/>
            <a:ext cx="149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91520" y="32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9440" y="2376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419720" y="3672000"/>
            <a:ext cx="2743200" cy="228600"/>
            <a:chOff x="4419720" y="3672000"/>
            <a:chExt cx="2743200" cy="228600"/>
          </a:xfrm>
        </p:grpSpPr>
        <p:sp>
          <p:nvSpPr>
            <p:cNvPr id="816" name=""/>
            <p:cNvSpPr/>
            <p:nvPr/>
          </p:nvSpPr>
          <p:spPr>
            <a:xfrm>
              <a:off x="44197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483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9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057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343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05520" y="3672000"/>
              <a:ext cx="1371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71629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0773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3059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91520" y="36720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25600" y="4510080"/>
            <a:ext cx="146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629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0773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059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391520" y="41292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771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057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343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4129200"/>
            <a:ext cx="6858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01400" y="323640"/>
            <a:ext cx="83818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Power-of-2 Divide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Unsigned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gt;&g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/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ses 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762120" y="4724280"/>
          <a:ext cx="768348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76834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39625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769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05520" y="32004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485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9112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5412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8800" y="3124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09680" y="3505320"/>
            <a:ext cx="63248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73240" y="312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53160" y="3581280"/>
            <a:ext cx="6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6040" y="3581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ion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6040" y="2895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56272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30640" y="2362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9720" y="274320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334120" y="2743200"/>
            <a:ext cx="1371600" cy="228600"/>
            <a:chOff x="5334120" y="2743200"/>
            <a:chExt cx="1371600" cy="228600"/>
          </a:xfrm>
        </p:grpSpPr>
        <p:sp>
          <p:nvSpPr>
            <p:cNvPr id="861" name=""/>
            <p:cNvSpPr/>
            <p:nvPr/>
          </p:nvSpPr>
          <p:spPr>
            <a:xfrm>
              <a:off x="53341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771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62720" y="2743200"/>
              <a:ext cx="6858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53341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771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365760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769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05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9112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6781680" y="3657600"/>
            <a:ext cx="1371600" cy="228600"/>
            <a:chOff x="6781680" y="3657600"/>
            <a:chExt cx="1371600" cy="228600"/>
          </a:xfrm>
        </p:grpSpPr>
        <p:sp>
          <p:nvSpPr>
            <p:cNvPr id="874" name=""/>
            <p:cNvSpPr/>
            <p:nvPr/>
          </p:nvSpPr>
          <p:spPr>
            <a:xfrm>
              <a:off x="67816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960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246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3657600"/>
              <a:ext cx="6858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2209680" y="4038480"/>
            <a:ext cx="63248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13840" y="41338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</a:t>
            </a: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41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627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771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91320" y="41911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35680" y="411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308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34680" y="2666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6781320" y="3048120"/>
            <a:ext cx="3049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62520" y="4191120"/>
            <a:ext cx="228600" cy="2286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8769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41911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625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4000" y="323640"/>
            <a:ext cx="83566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ed Power-of-2 Divide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Signed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&gt;&g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/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ses 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ounds wrong direction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535680" y="2581200"/>
            <a:ext cx="7998840" cy="2144880"/>
            <a:chOff x="535680" y="2581200"/>
            <a:chExt cx="7998840" cy="2144880"/>
          </a:xfrm>
        </p:grpSpPr>
        <p:sp>
          <p:nvSpPr>
            <p:cNvPr id="897" name=""/>
            <p:cNvSpPr/>
            <p:nvPr/>
          </p:nvSpPr>
          <p:spPr>
            <a:xfrm>
              <a:off x="3962520" y="29624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91120" y="29624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05520" y="29624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625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769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5520" y="341964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41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485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771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91120" y="3419640"/>
              <a:ext cx="6858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54120" y="2886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58800" y="33433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209680" y="3724200"/>
              <a:ext cx="6324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73240" y="3343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/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5400" y="3800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/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040" y="38005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vision: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040" y="31147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Operands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62720" y="3419640"/>
              <a:ext cx="6858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30640" y="2581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9720" y="296244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334120" y="2962440"/>
              <a:ext cx="1371600" cy="228600"/>
              <a:chOff x="5334120" y="2962440"/>
              <a:chExt cx="1371600" cy="228600"/>
            </a:xfrm>
          </p:grpSpPr>
          <p:sp>
            <p:nvSpPr>
              <p:cNvPr id="918" name=""/>
              <p:cNvSpPr/>
              <p:nvPr/>
            </p:nvSpPr>
            <p:spPr>
              <a:xfrm>
                <a:off x="53341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2485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771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562720" y="2962440"/>
                <a:ext cx="6858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•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53341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62720" y="38768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77120" y="38768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91320" y="387684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62520" y="38768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769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055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91120" y="3876840"/>
              <a:ext cx="6858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781680" y="3876840"/>
              <a:ext cx="1371600" cy="228600"/>
              <a:chOff x="6781680" y="3876840"/>
              <a:chExt cx="1371600" cy="228600"/>
            </a:xfrm>
          </p:grpSpPr>
          <p:sp>
            <p:nvSpPr>
              <p:cNvPr id="931" name=""/>
              <p:cNvSpPr/>
              <p:nvPr/>
            </p:nvSpPr>
            <p:spPr>
              <a:xfrm>
                <a:off x="67816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960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246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10280" y="3876840"/>
                <a:ext cx="6858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•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2209680" y="4257720"/>
              <a:ext cx="6324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43560" y="4357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RoundDown(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/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341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62720" y="441000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77120" y="441000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441000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5680" y="433404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esult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30840" y="3800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34680" y="28861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nary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6781320" y="3267000"/>
              <a:ext cx="30492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625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62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769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05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91120" y="4410000"/>
              <a:ext cx="6858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62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951" name=""/>
          <p:cNvGraphicFramePr/>
          <p:nvPr/>
        </p:nvGraphicFramePr>
        <p:xfrm>
          <a:off x="685800" y="4915080"/>
          <a:ext cx="7683480" cy="163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15080"/>
                    <a:ext cx="768348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0819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Power-of-2 Divi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85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Negative Number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57120" indent="-117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nt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/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Round Toward 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57120" indent="-117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x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)/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50080" indent="-114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C: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x + (1&lt;&lt;k)-1) &gt;&gt; 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50080" indent="-114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ases dividend toward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500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: No roun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40240" y="5029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or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5360" y="3813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den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292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257800" y="510552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4864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008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6294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43400" y="51055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06760" y="381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11080" y="502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2320" y="5410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5520" y="5029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848680" y="5410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51055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82920" y="34434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388944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57800" y="388944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388944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6294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388944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864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715000" y="55627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55627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3600" y="55627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57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5627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783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86960" y="4572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934320" y="4952880"/>
            <a:ext cx="3045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4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0292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57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864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294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42703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79360" y="4194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42703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246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1532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238880" y="55627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14600" y="457200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1148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43400" y="472428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57800" y="472428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472428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864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4008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294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715000" y="47242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0400" y="611028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ing has no effe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882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Power-of-2 Divi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40240" y="3581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or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5360" y="1600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den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6360" y="987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2: Round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0292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36576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864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008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294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34340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064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511080" y="3581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62320" y="396252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25520" y="3581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60920" y="39625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1500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06600" y="1295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114800" y="1676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343400" y="16765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57800" y="16765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16765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864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008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294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15000" y="1676520"/>
            <a:ext cx="6858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411480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29400" y="411480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43600" y="4114800"/>
            <a:ext cx="6858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114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57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41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8312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89120" y="312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6934320" y="3505320"/>
            <a:ext cx="3045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114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14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57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864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0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6294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343400" y="2057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79360" y="1981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15000" y="2057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2359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114800" y="251136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43400" y="251136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57800" y="251136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0" y="2511360"/>
            <a:ext cx="6858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864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008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15000" y="2511360"/>
            <a:ext cx="6858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28800" y="464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ing adds 1 to final res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102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9246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1532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238880" y="4114800"/>
            <a:ext cx="6858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4800600" y="2361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65040" y="3124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mented by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6200000">
            <a:off x="6172200" y="40381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336640" y="480060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mented by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3934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Unsigned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 with Addition Forms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commutative gro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=  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1)  =  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7552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Two’s Comp.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omorphic Algebr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 multiplication and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ing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ultiplication and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ing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th Form Rin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omorphic to ring of integers mod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are r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s obey ordering properties, e.g.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·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properties are not obeyed by two’s comp.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==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5213 * 30426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==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-1003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16-bit word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23640"/>
            <a:ext cx="6510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990720"/>
            <a:ext cx="5410440" cy="642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     15213: 00111011 0110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 =     -15213: 11000100 1001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22400" y="1779480"/>
          <a:ext cx="5545080" cy="49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1779480"/>
                    <a:ext cx="55450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6143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uzzle Answ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7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machine with 32 bit word size, two’s comp.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akes a good counterexample in many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21337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 =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U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304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&l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2133720"/>
            <a:ext cx="80010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230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umeric Ran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40784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signed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00…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9080" y="1220760"/>
            <a:ext cx="40784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wo’s Complement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…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ther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u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71600" y="4419720"/>
          <a:ext cx="5905440" cy="193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419720"/>
                    <a:ext cx="5905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369800" y="39625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s for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= 1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25000" y="323640"/>
            <a:ext cx="730908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for Different Word Siz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9120" y="3124080"/>
            <a:ext cx="4146480" cy="23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ymmetric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024360"/>
            <a:ext cx="4724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312480" indent="-3124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m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 &lt;limits.h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&amp;R App. B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es constants, e.g.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LONG_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_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_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latform-speci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2800" y="1219320"/>
          <a:ext cx="8396280" cy="171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219320"/>
                    <a:ext cx="83962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560" y="323640"/>
            <a:ext cx="830592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&amp; Signed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45932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quival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s for nonnegativ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quen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bit pattern represents unique integer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epresentable integer has unique bit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Invert Mappin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2B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 =  B2U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t pattern for unsigned integ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2B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 =  B2T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t pattern for two’s comp integ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066680"/>
            <a:ext cx="3111480" cy="5168880"/>
            <a:chOff x="533520" y="1066680"/>
            <a:chExt cx="3111480" cy="5168880"/>
          </a:xfrm>
        </p:grpSpPr>
        <p:sp>
          <p:nvSpPr>
            <p:cNvPr id="118" name=""/>
            <p:cNvSpPr/>
            <p:nvPr/>
          </p:nvSpPr>
          <p:spPr>
            <a:xfrm>
              <a:off x="533520" y="10666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10666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T(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10666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U(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13712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13712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16761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16761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19810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98108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20" y="22856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22856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25905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25905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520" y="28954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289548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520" y="32000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32000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35049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35049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38098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38098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6880" y="41144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41144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441936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441936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6880" y="47242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7242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50288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50288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533376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533376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6386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56386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6880" y="59432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59432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38098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41144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44193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7242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50288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53337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56386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59432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13712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16761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198108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520" y="22856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25905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289548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32000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520" y="35049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9640" y="1072800"/>
              <a:ext cx="3098880" cy="27936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9640" y="1377720"/>
              <a:ext cx="3098880" cy="485136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1971720"/>
            <a:ext cx="68580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         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int ux = (unsigned short)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          y 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int uy = (unsigned short)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71704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sting Signed to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llows Conversions from Signed to Unsig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change in bit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negative values unchan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521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gative values change into (large) positiv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5032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08760" y="1730520"/>
            <a:ext cx="6315120" cy="1582200"/>
            <a:chOff x="608760" y="1730520"/>
            <a:chExt cx="6315120" cy="1582200"/>
          </a:xfrm>
        </p:grpSpPr>
        <p:sp>
          <p:nvSpPr>
            <p:cNvPr id="175" name=""/>
            <p:cNvSpPr/>
            <p:nvPr/>
          </p:nvSpPr>
          <p:spPr>
            <a:xfrm>
              <a:off x="3213000" y="1841400"/>
              <a:ext cx="2336760" cy="10414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2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17920" y="222264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2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60920" y="222264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27200" y="236232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0" y="236232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7400" y="236232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760" y="1752480"/>
              <a:ext cx="227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wo’s Comp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99880" y="1730520"/>
              <a:ext cx="122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sig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1080" y="2949480"/>
              <a:ext cx="3000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aintain Same Bit Patte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2640" y="2187720"/>
              <a:ext cx="283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10080" y="218772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6360" y="249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62120" y="3429000"/>
            <a:ext cx="4343400" cy="1587600"/>
            <a:chOff x="762120" y="3429000"/>
            <a:chExt cx="4343400" cy="1587600"/>
          </a:xfrm>
        </p:grpSpPr>
        <p:grpSp>
          <p:nvGrpSpPr>
            <p:cNvPr id="188" name=""/>
            <p:cNvGrpSpPr/>
            <p:nvPr/>
          </p:nvGrpSpPr>
          <p:grpSpPr>
            <a:xfrm>
              <a:off x="1752840" y="3809880"/>
              <a:ext cx="2743200" cy="228600"/>
              <a:chOff x="1752840" y="3809880"/>
              <a:chExt cx="2743200" cy="228600"/>
            </a:xfrm>
          </p:grpSpPr>
          <p:sp>
            <p:nvSpPr>
              <p:cNvPr id="189" name=""/>
              <p:cNvSpPr/>
              <p:nvPr/>
            </p:nvSpPr>
            <p:spPr>
              <a:xfrm>
                <a:off x="17528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14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100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02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388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674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38640" y="38098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752840" y="4267080"/>
              <a:ext cx="2743200" cy="228600"/>
              <a:chOff x="1752840" y="4267080"/>
              <a:chExt cx="2743200" cy="228600"/>
            </a:xfrm>
          </p:grpSpPr>
          <p:sp>
            <p:nvSpPr>
              <p:cNvPr id="197" name=""/>
              <p:cNvSpPr/>
              <p:nvPr/>
            </p:nvSpPr>
            <p:spPr>
              <a:xfrm>
                <a:off x="17528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-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814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100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102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388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674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38640" y="42670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297080" y="37339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7080" y="4191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4572000"/>
              <a:ext cx="3886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5840" y="4191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2360" y="3429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8880" y="34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560" y="46483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–  –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 =  2*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 = 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05520" y="4495680"/>
            <a:ext cx="3352680" cy="1218960"/>
            <a:chOff x="5105520" y="4495680"/>
            <a:chExt cx="3352680" cy="1218960"/>
          </a:xfrm>
        </p:grpSpPr>
        <p:sp>
          <p:nvSpPr>
            <p:cNvPr id="212" name=""/>
            <p:cNvSpPr/>
            <p:nvPr/>
          </p:nvSpPr>
          <p:spPr>
            <a:xfrm>
              <a:off x="5105520" y="4495680"/>
              <a:ext cx="3352680" cy="1218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5562720" y="4724280"/>
            <a:ext cx="2209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4724280"/>
                      <a:ext cx="2209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 between Signed &amp;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3:35Z</dcterms:modified>
  <cp:revision>55</cp:revision>
  <dc:subject/>
  <dc:title>Integer Arithmetic</dc:title>
</cp:coreProperties>
</file>