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2BFE571-EAFA-42A6-A6CE-9D76E4DBFB4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0800" y="1836720"/>
            <a:ext cx="714852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embly Programmer’s Execution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8680" y="259092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8680" y="38098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87692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94360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89520" y="3054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95880" y="3171960"/>
            <a:ext cx="25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0040" y="4314960"/>
            <a:ext cx="304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emb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410080"/>
            <a:ext cx="26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7280" y="2579760"/>
            <a:ext cx="326412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 p2.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43160" y="3657600"/>
            <a:ext cx="349236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m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s p2.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8680" y="4800600"/>
            <a:ext cx="3721320" cy="3632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ct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 p2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943600"/>
            <a:ext cx="3747960" cy="36324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89520" y="4197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89520" y="5340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800600"/>
            <a:ext cx="2044440" cy="63756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brarie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57800" y="5029200"/>
            <a:ext cx="99072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urning C into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file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1.c p2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 with comman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-O p1.c p2.c -o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optimization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O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t resulting binary in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8450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ing Into 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143000"/>
            <a:ext cx="162252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38829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1111320"/>
            <a:ext cx="35942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ed 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1592280"/>
            <a:ext cx="419580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u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038480"/>
            <a:ext cx="350208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tain with comm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 -S code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s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ode.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97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haracterist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5485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nimal 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” data of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es (untyped pointer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data of 4, 8, or 10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aggregate types such as arrays or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ust contiguously allocated bytes 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mitive 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arithmetic function on register or memory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data between memory and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ad data from memory into regis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register data into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conditional jumps to/from proced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3080" y="91440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for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1447920"/>
            <a:ext cx="251136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52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05320" y="83808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lat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encoding of each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ly-complete image of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sing linkages between code in differen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lves references between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s with static run-time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code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libraries ar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ynamically lin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king occurs when program begins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905120"/>
            <a:ext cx="236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of 1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instruction 1, 2, or 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rts at addres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stru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0" y="8380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two signed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2 4-byte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” words in GCC parl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instruction whether signed or unsig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+8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064520" indent="-1580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function value i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-byt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40104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143000"/>
            <a:ext cx="388296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2860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54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4864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8195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to expressio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x +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40080" y="1035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447920"/>
            <a:ext cx="6781680" cy="255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401040 &lt;_sum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45 0c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d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d 76 00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820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assembling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4114440"/>
            <a:ext cx="8140680" cy="224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bjdump -d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tool for examining objec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alyzes bit pattern of series of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s approximate rendition of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run on eith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omplete executable)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91120" y="9144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447920"/>
            <a:ext cx="6019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1 &lt;sum+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3 &lt;sum+3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 &lt;sum+6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9 &lt;sum+9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b &lt;sum+1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c &lt;sum+12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40104d &lt;sum+13&gt;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Dis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97160" y="4195800"/>
            <a:ext cx="6300720" cy="22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in gdb Debugg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db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isassemble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/13b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e the 13 bytes starting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066680"/>
            <a:ext cx="1308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523880"/>
            <a:ext cx="15242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952880" y="3733920"/>
            <a:ext cx="144792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828800" y="5028840"/>
            <a:ext cx="83808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Can be Disassembled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0520" y="5138280"/>
            <a:ext cx="83073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thing that can be interpreted as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r examines bytes and reconstructs assembly sour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19320"/>
            <a:ext cx="815328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 objdump -d WINWORD.EX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INWORD.EXE:     file format pei-i38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 symbols in "WINWORD.EXE"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sassembly of section .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 &lt;.text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a ff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fffffff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0 10 00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0010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1 dc 4c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4cdc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ing 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7786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v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4-byte (“long”)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hese in typical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: Constant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C constant, but prefixed with ‘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4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-5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d with 1, 2, or 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: One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served for special u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s have special uses for particular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: 4 consecutive bytes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“address modes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400800" y="380880"/>
            <a:ext cx="2514600" cy="3581280"/>
            <a:chOff x="6400800" y="380880"/>
            <a:chExt cx="2514600" cy="3581280"/>
          </a:xfrm>
        </p:grpSpPr>
        <p:sp>
          <p:nvSpPr>
            <p:cNvPr id="166" name=""/>
            <p:cNvSpPr/>
            <p:nvPr/>
          </p:nvSpPr>
          <p:spPr>
            <a:xfrm>
              <a:off x="6400800" y="380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0800" y="8380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00800" y="12952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0800" y="17524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0800" y="22096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2666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1240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800" y="35812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ov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Operand Combin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3240" y="5284440"/>
            <a:ext cx="760428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do memory-memory transfers with singl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968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1280" y="2209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m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2720" y="32767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56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22040" y="1981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880" y="243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2040" y="312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880" y="358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2204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0440" y="1219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0600" y="1219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1400" y="19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0x4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0320" y="2438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47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736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6640" y="3581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6640" y="43434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ax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213372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2057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3200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9800" y="12193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Analo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9900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0x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9360" y="243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-14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7460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2 = temp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5680" y="358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te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5680" y="43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9691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Process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tally Dominate Computer Mar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olutionary Desig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in 1978 with 808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more features as time goes 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support old features, although obsole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x Instruction Set Computer (CISC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different instructions with many different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, only small subset encountered with Linux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tch performance of Reduced Instruction Set Computers (RIS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Intel has done just tha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035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memory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placem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start of memory reg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displacement D specifies off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5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29528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528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114800"/>
            <a:ext cx="2438280" cy="1676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40480" y="914400"/>
            <a:ext cx="3303000" cy="3352320"/>
            <a:chOff x="5640480" y="914400"/>
            <a:chExt cx="3303000" cy="3352320"/>
          </a:xfrm>
        </p:grpSpPr>
        <p:sp>
          <p:nvSpPr>
            <p:cNvPr id="218" name=""/>
            <p:cNvSpPr/>
            <p:nvPr/>
          </p:nvSpPr>
          <p:spPr>
            <a:xfrm>
              <a:off x="6553080" y="2361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2742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312408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53080" y="3504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620120" y="365724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14120" y="3485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20640" y="3504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20640" y="3124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20640" y="2742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20640" y="2361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0480" y="19047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914400"/>
              <a:ext cx="10670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3885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0640" y="3885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266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275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17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26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68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77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19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28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70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79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21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30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yp = 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72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81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78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9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-bit processor.  Basis for IBM PC &amp; D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ed to 1MB address space.  DOS only gives you 640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2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34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elaborate, but not very useful, addressing sc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IBM PC-AT and Wind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75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to 32 bits.  Added “flat address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pable of running Un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/gcc uses no instructions introduced in later mode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dexed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Gener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+ 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“displacement”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 register: Any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register: Any, except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ikely you’d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ei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le: 1, 2, 4, or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al 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98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956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066680" y="3124080"/>
          <a:ext cx="6934320" cy="2540160"/>
        </p:xfrm>
        <a:graphic>
          <a:graphicData uri="http://schemas.openxmlformats.org/drawingml/2006/table">
            <a:tbl>
              <a:tblPr/>
              <a:tblGrid>
                <a:gridCol w="2671920"/>
                <a:gridCol w="2741400"/>
                <a:gridCol w="1521000"/>
              </a:tblGrid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putat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8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(%ed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,4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4*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4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0(,%edx,2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2*0xf000 + 0x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1e0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6240" y="304920"/>
            <a:ext cx="788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Instru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ddress mode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address denoted by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ddress without doing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ranslation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 = &amp;x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rithmetic expressions of the form x + k*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 = 1, 2, 4, or 8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b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l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lt;&l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all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o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^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n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rl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|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188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e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e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g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ot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~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75760" y="304920"/>
            <a:ext cx="886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lea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or Arithmetic Expres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2280" y="17524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1143000"/>
            <a:ext cx="4114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ith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620120" y="2362320"/>
            <a:ext cx="304560" cy="2133360"/>
          </a:xfrm>
          <a:custGeom>
            <a:avLst/>
            <a:gdLst>
              <a:gd name="textAreaLeft" fmla="*/ 0 w 304560"/>
              <a:gd name="textAreaRight" fmla="*/ 10980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0120" y="48006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925400" y="4952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10666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38080" y="4267080"/>
            <a:ext cx="6782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411880" y="1066680"/>
            <a:ext cx="3356280" cy="2971800"/>
            <a:chOff x="5411880" y="1066680"/>
            <a:chExt cx="3356280" cy="2971800"/>
          </a:xfrm>
        </p:grpSpPr>
        <p:sp>
          <p:nvSpPr>
            <p:cNvPr id="616" name=""/>
            <p:cNvSpPr/>
            <p:nvPr/>
          </p:nvSpPr>
          <p:spPr>
            <a:xfrm>
              <a:off x="6324480" y="2514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24480" y="28954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24480" y="3276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24480" y="3657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39152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8552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9204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9204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9204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92040" y="2514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1880" y="167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75280" y="1371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24480" y="1066680"/>
              <a:ext cx="106704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24480" y="2133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92040" y="2133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160020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990720"/>
            <a:ext cx="44193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666880" y="2514600"/>
            <a:ext cx="1752840" cy="76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895480" y="3123720"/>
            <a:ext cx="1752840" cy="457560"/>
            <a:chOff x="2895480" y="3123720"/>
            <a:chExt cx="1752840" cy="457560"/>
          </a:xfrm>
        </p:grpSpPr>
        <p:sp>
          <p:nvSpPr>
            <p:cNvPr id="636" name=""/>
            <p:cNvSpPr/>
            <p:nvPr/>
          </p:nvSpPr>
          <p:spPr>
            <a:xfrm flipV="1">
              <a:off x="2895480" y="3123720"/>
              <a:ext cx="167652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95480" y="3429000"/>
              <a:ext cx="1752840" cy="152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819520" y="2895480"/>
            <a:ext cx="175248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514600" y="3124080"/>
            <a:ext cx="1981080" cy="1600200"/>
            <a:chOff x="2514600" y="3124080"/>
            <a:chExt cx="1981080" cy="1600200"/>
          </a:xfrm>
        </p:grpSpPr>
        <p:sp>
          <p:nvSpPr>
            <p:cNvPr id="640" name=""/>
            <p:cNvSpPr/>
            <p:nvPr/>
          </p:nvSpPr>
          <p:spPr>
            <a:xfrm>
              <a:off x="2971800" y="3733920"/>
              <a:ext cx="1523880" cy="99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14600" y="3124080"/>
              <a:ext cx="1981080" cy="16002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3276720" y="4038480"/>
            <a:ext cx="121896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590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1447920"/>
            <a:ext cx="3733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ogical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^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t1 &gt;&gt; 1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(1&lt;&lt;13) - 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&amp; mas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43400" y="1143000"/>
            <a:ext cx="4114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cal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0120" y="2362320"/>
            <a:ext cx="304560" cy="1066680"/>
          </a:xfrm>
          <a:custGeom>
            <a:avLst/>
            <a:gdLst>
              <a:gd name="textAreaLeft" fmla="*/ 0 w 304560"/>
              <a:gd name="textAreaRight" fmla="*/ 10980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002800" y="1371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20120" y="37339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78040" y="3962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000" y="4952880"/>
            <a:ext cx="6477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^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1&gt;&gt;1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2 &amp;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8840" y="4267080"/>
            <a:ext cx="277128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8192,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7 =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994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Proper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can reference different 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, register,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ithmetic operations can read/write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an involve complex 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 + S*Ri + 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for arithmetic expressions, to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s can have varying l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instructions can range from 1 to 15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9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/MM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7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special collection of instructions for operating on 64-bit vectors of 1, 2, or 4 byte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Pr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conditional move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change in underlying micro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239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Abstract Machi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55240" y="2187720"/>
            <a:ext cx="17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lo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conditional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Proc.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roc. 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89640" y="1600200"/>
            <a:ext cx="253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92560" y="16239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800" y="16239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ro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16600" y="219708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396440" y="2673360"/>
            <a:ext cx="1913400" cy="368280"/>
            <a:chOff x="1396440" y="2673360"/>
            <a:chExt cx="1913400" cy="368280"/>
          </a:xfrm>
        </p:grpSpPr>
        <p:sp>
          <p:nvSpPr>
            <p:cNvPr id="663" name=""/>
            <p:cNvSpPr/>
            <p:nvPr/>
          </p:nvSpPr>
          <p:spPr>
            <a:xfrm>
              <a:off x="1396440" y="2673360"/>
              <a:ext cx="71244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33760" y="2673360"/>
              <a:ext cx="67608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39840" y="2895480"/>
              <a:ext cx="444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2183400" y="212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4960" y="4267080"/>
            <a:ext cx="162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15880" y="4549680"/>
            <a:ext cx="33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2-byte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4-byte long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contiguous byte al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address of initial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55600" y="457344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branch/ju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09480" y="4876920"/>
            <a:ext cx="3338640" cy="1365120"/>
            <a:chOff x="609480" y="4876920"/>
            <a:chExt cx="3338640" cy="1365120"/>
          </a:xfrm>
        </p:grpSpPr>
        <p:sp>
          <p:nvSpPr>
            <p:cNvPr id="671" name=""/>
            <p:cNvSpPr/>
            <p:nvPr/>
          </p:nvSpPr>
          <p:spPr>
            <a:xfrm>
              <a:off x="609480" y="5029200"/>
              <a:ext cx="746280" cy="11368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20880" y="5029200"/>
              <a:ext cx="76176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69800" y="5251680"/>
              <a:ext cx="298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39840" y="5029200"/>
              <a:ext cx="65268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74720" y="4876920"/>
              <a:ext cx="2273400" cy="13651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83000" y="5632560"/>
              <a:ext cx="1284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7880" y="5480280"/>
              <a:ext cx="60948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820880" y="5480280"/>
              <a:ext cx="761760" cy="6858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d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d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520560"/>
            <a:ext cx="543096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Pro (P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nounced in Feb. ‘9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Pentium II, Pentium III, and Celeron process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4 similar idea, but different detai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ally translates instructions to more regular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ery wide, but simpl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es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5 a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deep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2–18 cycle lat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2993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7024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438280" y="1117440"/>
            <a:ext cx="408960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740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8 bits 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s operation, two sources, an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op executed w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unit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controlled by “Reservation Station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s track of data dependencies between u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s resourc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equenc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lationship between IA32 code &amp; what actually gets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icky to predict / optimize performance at assembly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070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ose Assembler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90520" y="2971800"/>
            <a:ext cx="8701200" cy="347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l/Microsoft Differs from GA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 listed in opposite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st, Sr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rc, 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s not preceded by ‘$’, Denote hex with ‘h’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0h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 size indicated by operands rather than operator suff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ing format shows effective address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eax*4+100h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(,%eax,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1676520"/>
            <a:ext cx="45720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[ecx+ecx*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sp,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ord ptr [ebp-8],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dword ptr [eax*4+100h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81480" y="1676520"/>
            <a:ext cx="36576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%ecx,%ecx,2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8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x100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760" y="1143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l/Microsof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81480" y="1143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AS/Gnu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I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.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“streaming SIMD” instructions for operating on 128-bit vectors of 1, 2, or 4 byte integer or floating point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fish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8-byte formats and 144 new instructions for streaming SIMD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67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stor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D has followed just behind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little bit slower, a lot cheap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ruited top circuit designers from Digital Equipment Corp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oited fact that Intel distracted by IA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w are close competitors to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ing own extension to 64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514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me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 start-u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ployer of Linus Torval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different approach to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es x86 code into “Very Long Instruction Word” (VLIW)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 degree of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oting for low-power mark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045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w Species: IA6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0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s to IA64, a 64-bit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new instruction set designed for high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be able to run existing IA32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-board “x86 engin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oint project with Hewlett-Pack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2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performance bo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3760920"/>
            <a:ext cx="4357800" cy="268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mer-Visible 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ddress of next instruc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eavily used program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ore status information about most recent arithmetic oper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sed for conditional branch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380880" cy="14479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447920"/>
            <a:ext cx="1371600" cy="76176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990720"/>
            <a:ext cx="3200400" cy="22096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2286000" cy="3809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1676520"/>
            <a:ext cx="228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bject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gra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S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75248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228600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281952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4604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43828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297180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2362320"/>
            <a:ext cx="1371600" cy="6858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43400" y="4876920"/>
            <a:ext cx="4076640" cy="156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yte addressable arra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user data, (some) OS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cludes stack used to support procedur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9:54Z</dcterms:modified>
  <cp:revision>67</cp:revision>
  <dc:subject/>
  <dc:title>Machine Level Programming I</dc:title>
</cp:coreProperties>
</file>