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52C96062-F5F1-4C16-A37D-A4623B025423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4381560"/>
            <a:ext cx="552132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ff, text, and poli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cture topics and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rationa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68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b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vid O’Hallar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s and Data (8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operations, arithmetic, assembly language programs, representation of C control and data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 of architecture and compiler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1: Manipulating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2: Defusing a binary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3: Hacking a buffer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processor models, code optimization (control and data), measuring time on a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, compilers,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Hierarchy (2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technology, memory hierarchy, caches, disks,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 and Exceptional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, static and dynamic linking, libraries, 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xceptions, processes, process control, Unix signals, nonlocal jum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compilers, OS, and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5: Writing your own shell with job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 (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, address translation, dynamic storage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6: Writing your own malloc pack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, Networking,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cy (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and low-level I/O, network programming, Internet services, 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cy, concurrent server design, threads, I/O multiplexing with selec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networking, OS, and architectur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7: Writing your own Web prox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b Rationale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ach lab should have a well-defined goal such as solving a puzzle or winning a contest.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using a binary bomb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nning a performance contes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ing a lab should result in new skills and concep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 Lab: computer arithmetic, digital logi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mb Labs: assembly language, using a debugger, understanding the stack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f Lab: profiling, measurement, performance debugg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ell Lab: understanding Unix process control and sign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lloc Lab: understanding pointers and nasty memory bug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 Lab: network programming, server desig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e try to use competition in a fun and healthy way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a threshhold for full credi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st intermediate results (anonymized) on Web page for glory!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4880" y="2647800"/>
            <a:ext cx="2871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ood Luck!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aching staff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Randy Bryant (Wed 10:00-11:00, WeH 422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David O’Hallaron (Tue 10:30-11:30, WeH 812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jesh Balan (TBD, WeH 820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imin Chen (TBD, WeH 8019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rew Faulring (TBD,  NSH 250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ubhav Gupta (TBD, WeH 8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nie Luo (TBD, WeH 8402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rse Adm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semary Battenfelder (WeH 4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2880" y="5991120"/>
            <a:ext cx="6801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are the nominal office hours. Come talk to us anytime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Or phone or send emai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xtboo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 and David R. O’Hallaron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Systems: A Programmer’s Perspective”, Prentice Hall 200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ian Kernighan and Dennis Ritchie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 Programming Language, Second Edition”, Prentice Hall, 198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Compon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evel conce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ied concepts, important tools and skills for labs, clarification of lectures, exam cove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heart of the cou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or 2 wee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in-depth understanding of an aspect of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and measu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tting Hel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ww.cs.cmu.edu/afs/cs/academic/class/15213-f02/ww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of lectures, assignments, exams, solu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s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mu.cs.class.cs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, general discussion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sonal hel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essors: door open means come on in (no appt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: please mail or zephyr fir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Assignm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ork group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ou must work alone on all labs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except for Lab 7: Web Proxy, with work groups of two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andi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 due at 11:59pm on specified due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11:59pm Thursday evening (to avoid 212 conflict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ctronic handins onl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keup exams and assignmen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, but must make PRIOR arrangements with either Prof.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ppealing grad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in 7 days of due date or exam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: Talk to the lead person on the assignment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s: Talk to either Prof. 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ea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code: either by copying, retyping, looking at, or supplying a copy of a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NOT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use systems or to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with high-level design issu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debug their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alty for cheat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moval from course with failing gra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Gra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s (4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in class exams (10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al (20%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exams are open book/open not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 (6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abs (8-12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rading Character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scores tend to be hi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ous handicap if you don’t hand a lab 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offer generous redemption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sts typically have a wider range of sc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cili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ssignments will use Intel Computer Systems Cluster (aka “the fish machines”)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 Pentium III Xeon servers donated by Intel for CS 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50 MHz with 256 MB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k mounted in the 3rd floor Wean machine roo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be setting up your accounts this wee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etting help with the cluster machines: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course Web page for inf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lease direct questions to your T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2001-08-27T05:38:07Z</cp:lastPrinted>
  <dcterms:modified xsi:type="dcterms:W3CDTF">2002-10-28T20:23:45Z</dcterms:modified>
  <cp:revision>160</cp:revision>
  <dc:subject/>
  <dc:title>Course Overview</dc:title>
</cp:coreProperties>
</file>