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9023A93-CE54-47E4-87F3-82F59BDA0B6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3478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s and Byt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ug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86040" y="2862000"/>
            <a:ext cx="5140080" cy="25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y bit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ing information as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/Hexadecim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 represen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racters and strin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-level manipul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algeb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ressing in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5400" y="65865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high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4-byte represent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123456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232" name=""/>
            <p:cNvSpPr/>
            <p:nvPr/>
          </p:nvSpPr>
          <p:spPr>
            <a:xfrm>
              <a:off x="31240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2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8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67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3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45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Byte-Reversed List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83199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representation of binary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by program that reads the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Frag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360" y="3048120"/>
            <a:ext cx="8153280" cy="11912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ddres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struction Code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ssembly Re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1 c3 ab 12 00 00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$0x12ab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bb 28 00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$0x0,0x28(%eb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867280" y="3886200"/>
            <a:ext cx="609840" cy="91440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71800" y="3886200"/>
            <a:ext cx="1600200" cy="2133360"/>
            <a:chOff x="2971800" y="3886200"/>
            <a:chExt cx="1600200" cy="2133360"/>
          </a:xfrm>
        </p:grpSpPr>
        <p:sp>
          <p:nvSpPr>
            <p:cNvPr id="272" name=""/>
            <p:cNvSpPr/>
            <p:nvPr/>
          </p:nvSpPr>
          <p:spPr>
            <a:xfrm rot="16200000">
              <a:off x="3733560" y="312408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09880" y="3962160"/>
              <a:ext cx="533520" cy="20574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03120" y="4343400"/>
            <a:ext cx="8307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246960" indent="-24696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iphering Numb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to 4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000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 00 12 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vers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b 12 00 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ining 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reates byte arr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how_byte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ecu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358452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 (Linux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mal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2560" y="2436840"/>
            <a:ext cx="1692360" cy="1677600"/>
            <a:chOff x="682560" y="2436840"/>
            <a:chExt cx="1692360" cy="1677600"/>
          </a:xfrm>
        </p:grpSpPr>
        <p:grpSp>
          <p:nvGrpSpPr>
            <p:cNvPr id="287" name=""/>
            <p:cNvGrpSpPr/>
            <p:nvPr/>
          </p:nvGrpSpPr>
          <p:grpSpPr>
            <a:xfrm>
              <a:off x="914400" y="2895840"/>
              <a:ext cx="609480" cy="1218600"/>
              <a:chOff x="914400" y="2895840"/>
              <a:chExt cx="609480" cy="121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91440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32004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35049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4400" y="38098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2560" y="24368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02360" y="2436840"/>
            <a:ext cx="814680" cy="1677960"/>
            <a:chOff x="2502360" y="2436840"/>
            <a:chExt cx="814680" cy="1677960"/>
          </a:xfrm>
        </p:grpSpPr>
        <p:grpSp>
          <p:nvGrpSpPr>
            <p:cNvPr id="294" name=""/>
            <p:cNvGrpSpPr/>
            <p:nvPr/>
          </p:nvGrpSpPr>
          <p:grpSpPr>
            <a:xfrm>
              <a:off x="2590920" y="2895840"/>
              <a:ext cx="609480" cy="1218960"/>
              <a:chOff x="2590920" y="2895840"/>
              <a:chExt cx="609480" cy="1218960"/>
            </a:xfrm>
          </p:grpSpPr>
          <p:sp>
            <p:nvSpPr>
              <p:cNvPr id="295" name=""/>
              <p:cNvSpPr/>
              <p:nvPr/>
            </p:nvSpPr>
            <p:spPr>
              <a:xfrm>
                <a:off x="2590920" y="3505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90920" y="3810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90920" y="3200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502360" y="24368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23880" y="3048120"/>
            <a:ext cx="1067040" cy="914400"/>
            <a:chOff x="1523880" y="3048120"/>
            <a:chExt cx="1067040" cy="914400"/>
          </a:xfrm>
        </p:grpSpPr>
        <p:sp>
          <p:nvSpPr>
            <p:cNvPr id="301" name=""/>
            <p:cNvSpPr/>
            <p:nvPr/>
          </p:nvSpPr>
          <p:spPr>
            <a:xfrm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33526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23880" y="33523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2560" y="4494240"/>
            <a:ext cx="1692360" cy="1677600"/>
            <a:chOff x="682560" y="4494240"/>
            <a:chExt cx="1692360" cy="1677600"/>
          </a:xfrm>
        </p:grpSpPr>
        <p:grpSp>
          <p:nvGrpSpPr>
            <p:cNvPr id="306" name=""/>
            <p:cNvGrpSpPr/>
            <p:nvPr/>
          </p:nvGrpSpPr>
          <p:grpSpPr>
            <a:xfrm>
              <a:off x="914400" y="4953240"/>
              <a:ext cx="609480" cy="1218600"/>
              <a:chOff x="914400" y="4953240"/>
              <a:chExt cx="609480" cy="121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91440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4400" y="52578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14400" y="55623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4400" y="5867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2560" y="44942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02360" y="4494240"/>
            <a:ext cx="814680" cy="1677960"/>
            <a:chOff x="2502360" y="4494240"/>
            <a:chExt cx="814680" cy="1677960"/>
          </a:xfrm>
        </p:grpSpPr>
        <p:grpSp>
          <p:nvGrpSpPr>
            <p:cNvPr id="313" name=""/>
            <p:cNvGrpSpPr/>
            <p:nvPr/>
          </p:nvGrpSpPr>
          <p:grpSpPr>
            <a:xfrm>
              <a:off x="2590920" y="4953240"/>
              <a:ext cx="609480" cy="1218960"/>
              <a:chOff x="2590920" y="4953240"/>
              <a:chExt cx="609480" cy="1218960"/>
            </a:xfrm>
          </p:grpSpPr>
          <p:sp>
            <p:nvSpPr>
              <p:cNvPr id="314" name=""/>
              <p:cNvSpPr/>
              <p:nvPr/>
            </p:nvSpPr>
            <p:spPr>
              <a:xfrm>
                <a:off x="2590920" y="5562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0920" y="58676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9092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59092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502360" y="4494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5105520"/>
            <a:ext cx="1067040" cy="914400"/>
            <a:chOff x="1523880" y="5105520"/>
            <a:chExt cx="1067040" cy="914400"/>
          </a:xfrm>
        </p:grpSpPr>
        <p:sp>
          <p:nvSpPr>
            <p:cNvPr id="320" name=""/>
            <p:cNvSpPr/>
            <p:nvPr/>
          </p:nvSpPr>
          <p:spPr>
            <a:xfrm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23880" y="54100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23880" y="54097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347000" y="586584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24480" y="4191120"/>
            <a:ext cx="609840" cy="1218600"/>
            <a:chOff x="6324480" y="4191120"/>
            <a:chExt cx="609840" cy="1218600"/>
          </a:xfrm>
        </p:grpSpPr>
        <p:sp>
          <p:nvSpPr>
            <p:cNvPr id="327" name=""/>
            <p:cNvSpPr/>
            <p:nvPr/>
          </p:nvSpPr>
          <p:spPr>
            <a:xfrm>
              <a:off x="6324480" y="419112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4480" y="449568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4480" y="4800600"/>
              <a:ext cx="609840" cy="30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510516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093720" y="2513160"/>
            <a:ext cx="1017360" cy="1677600"/>
            <a:chOff x="6093720" y="2513160"/>
            <a:chExt cx="1017360" cy="1677600"/>
          </a:xfrm>
        </p:grpSpPr>
        <p:grpSp>
          <p:nvGrpSpPr>
            <p:cNvPr id="332" name=""/>
            <p:cNvGrpSpPr/>
            <p:nvPr/>
          </p:nvGrpSpPr>
          <p:grpSpPr>
            <a:xfrm>
              <a:off x="6324480" y="2972160"/>
              <a:ext cx="609480" cy="1218600"/>
              <a:chOff x="6324480" y="2972160"/>
              <a:chExt cx="609480" cy="1218600"/>
            </a:xfrm>
          </p:grpSpPr>
          <p:sp>
            <p:nvSpPr>
              <p:cNvPr id="333" name=""/>
              <p:cNvSpPr/>
              <p:nvPr/>
            </p:nvSpPr>
            <p:spPr>
              <a:xfrm>
                <a:off x="632448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2448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2448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3720" y="2513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912440" y="2513160"/>
            <a:ext cx="814680" cy="1677960"/>
            <a:chOff x="7912440" y="2513160"/>
            <a:chExt cx="814680" cy="1677960"/>
          </a:xfrm>
        </p:grpSpPr>
        <p:grpSp>
          <p:nvGrpSpPr>
            <p:cNvPr id="339" name=""/>
            <p:cNvGrpSpPr/>
            <p:nvPr/>
          </p:nvGrpSpPr>
          <p:grpSpPr>
            <a:xfrm>
              <a:off x="8001000" y="2972160"/>
              <a:ext cx="609480" cy="1218960"/>
              <a:chOff x="8001000" y="2972160"/>
              <a:chExt cx="609480" cy="1218960"/>
            </a:xfrm>
          </p:grpSpPr>
          <p:sp>
            <p:nvSpPr>
              <p:cNvPr id="340" name=""/>
              <p:cNvSpPr/>
              <p:nvPr/>
            </p:nvSpPr>
            <p:spPr>
              <a:xfrm>
                <a:off x="80010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0010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010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7912440" y="25131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34320" y="3124080"/>
            <a:ext cx="1066680" cy="914400"/>
            <a:chOff x="6934320" y="3124080"/>
            <a:chExt cx="1066680" cy="914400"/>
          </a:xfrm>
        </p:grpSpPr>
        <p:sp>
          <p:nvSpPr>
            <p:cNvPr id="346" name=""/>
            <p:cNvSpPr/>
            <p:nvPr/>
          </p:nvSpPr>
          <p:spPr>
            <a:xfrm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342900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34320" y="342864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20080" y="2513160"/>
            <a:ext cx="992880" cy="1677600"/>
            <a:chOff x="4420080" y="2513160"/>
            <a:chExt cx="992880" cy="1677600"/>
          </a:xfrm>
        </p:grpSpPr>
        <p:grpSp>
          <p:nvGrpSpPr>
            <p:cNvPr id="351" name=""/>
            <p:cNvGrpSpPr/>
            <p:nvPr/>
          </p:nvGrpSpPr>
          <p:grpSpPr>
            <a:xfrm>
              <a:off x="4648320" y="2972160"/>
              <a:ext cx="609480" cy="1218600"/>
              <a:chOff x="4648320" y="2972160"/>
              <a:chExt cx="609480" cy="121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464832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832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483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4832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420080" y="2513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57800" y="3124080"/>
            <a:ext cx="1066680" cy="914400"/>
            <a:chOff x="5257800" y="3124080"/>
            <a:chExt cx="1066680" cy="914400"/>
          </a:xfrm>
        </p:grpSpPr>
        <p:sp>
          <p:nvSpPr>
            <p:cNvPr id="358" name=""/>
            <p:cNvSpPr/>
            <p:nvPr/>
          </p:nvSpPr>
          <p:spPr>
            <a:xfrm>
              <a:off x="5257800" y="40384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42900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57800" y="373392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31240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077320" y="1905120"/>
            <a:ext cx="609480" cy="1218600"/>
            <a:chOff x="8077320" y="1905120"/>
            <a:chExt cx="609480" cy="1218600"/>
          </a:xfrm>
        </p:grpSpPr>
        <p:sp>
          <p:nvSpPr>
            <p:cNvPr id="366" name=""/>
            <p:cNvSpPr/>
            <p:nvPr/>
          </p:nvSpPr>
          <p:spPr>
            <a:xfrm>
              <a:off x="8077320" y="19051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20968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2514600"/>
              <a:ext cx="609480" cy="304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77320" y="281916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685800"/>
            <a:ext cx="609480" cy="1219320"/>
            <a:chOff x="8077320" y="685800"/>
            <a:chExt cx="609480" cy="1219320"/>
          </a:xfrm>
        </p:grpSpPr>
        <p:sp>
          <p:nvSpPr>
            <p:cNvPr id="371" name=""/>
            <p:cNvSpPr/>
            <p:nvPr/>
          </p:nvSpPr>
          <p:spPr>
            <a:xfrm>
              <a:off x="8077320" y="6858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9907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7320" y="129528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7320" y="16002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846560" y="228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7520" y="3581280"/>
            <a:ext cx="609480" cy="1218960"/>
            <a:chOff x="317520" y="3581280"/>
            <a:chExt cx="609480" cy="1218960"/>
          </a:xfrm>
        </p:grpSpPr>
        <p:sp>
          <p:nvSpPr>
            <p:cNvPr id="379" name=""/>
            <p:cNvSpPr/>
            <p:nvPr/>
          </p:nvSpPr>
          <p:spPr>
            <a:xfrm>
              <a:off x="317520" y="419076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" y="44956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7520" y="35812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7520" y="388584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2932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251920" y="4495680"/>
            <a:ext cx="609480" cy="1218960"/>
            <a:chOff x="8251920" y="4495680"/>
            <a:chExt cx="609480" cy="1218960"/>
          </a:xfrm>
        </p:grpSpPr>
        <p:sp>
          <p:nvSpPr>
            <p:cNvPr id="385" name=""/>
            <p:cNvSpPr/>
            <p:nvPr/>
          </p:nvSpPr>
          <p:spPr>
            <a:xfrm>
              <a:off x="8251920" y="510516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1920" y="54100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51920" y="44956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51920" y="480024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0744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Floa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4640" y="571500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5080" y="1446120"/>
            <a:ext cx="1692360" cy="1677600"/>
            <a:chOff x="4645080" y="1446120"/>
            <a:chExt cx="1692360" cy="1677600"/>
          </a:xfrm>
        </p:grpSpPr>
        <p:grpSp>
          <p:nvGrpSpPr>
            <p:cNvPr id="396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7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645080" y="144612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64520" y="1446120"/>
            <a:ext cx="814680" cy="1677960"/>
            <a:chOff x="6464520" y="1446120"/>
            <a:chExt cx="814680" cy="1677960"/>
          </a:xfrm>
        </p:grpSpPr>
        <p:grpSp>
          <p:nvGrpSpPr>
            <p:cNvPr id="403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4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464520" y="1446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486400" y="2057400"/>
            <a:ext cx="1066680" cy="914400"/>
            <a:chOff x="5486400" y="2057400"/>
            <a:chExt cx="1066680" cy="914400"/>
          </a:xfrm>
        </p:grpSpPr>
        <p:sp>
          <p:nvSpPr>
            <p:cNvPr id="410" name=""/>
            <p:cNvSpPr/>
            <p:nvPr/>
          </p:nvSpPr>
          <p:spPr>
            <a:xfrm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61040" y="6095880"/>
            <a:ext cx="72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an see some relation to integer representation, but not obvio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120" y="3733920"/>
            <a:ext cx="6781680" cy="1828800"/>
            <a:chOff x="762120" y="3733920"/>
            <a:chExt cx="6781680" cy="1828800"/>
          </a:xfrm>
        </p:grpSpPr>
        <p:sp>
          <p:nvSpPr>
            <p:cNvPr id="417" name=""/>
            <p:cNvSpPr/>
            <p:nvPr/>
          </p:nvSpPr>
          <p:spPr>
            <a:xfrm>
              <a:off x="342900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3868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541008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733920"/>
              <a:ext cx="6781680" cy="17514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EEE Single Precision Floating Point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4    6    6    D    B    4    0    0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00 0110 0</a:t>
              </a: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10 1101 1011 01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 0000 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213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    1110 1101 1011 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Str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ed by array of charac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haracter encoded in ASCII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ing should be null-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 not an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files generally platform in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different conventions of line termination character(s)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80200" y="19033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/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1400" y="1903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035920" y="2362320"/>
            <a:ext cx="609480" cy="1828800"/>
            <a:chOff x="8035920" y="2362320"/>
            <a:chExt cx="609480" cy="1828800"/>
          </a:xfrm>
        </p:grpSpPr>
        <p:sp>
          <p:nvSpPr>
            <p:cNvPr id="427" name=""/>
            <p:cNvSpPr/>
            <p:nvPr/>
          </p:nvSpPr>
          <p:spPr>
            <a:xfrm>
              <a:off x="803592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592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3592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592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3592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3592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2040" y="2362320"/>
            <a:ext cx="609480" cy="1828800"/>
            <a:chOff x="6512040" y="2362320"/>
            <a:chExt cx="609480" cy="1828800"/>
          </a:xfrm>
        </p:grpSpPr>
        <p:sp>
          <p:nvSpPr>
            <p:cNvPr id="434" name=""/>
            <p:cNvSpPr/>
            <p:nvPr/>
          </p:nvSpPr>
          <p:spPr>
            <a:xfrm>
              <a:off x="651204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204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204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204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204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1204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121520" y="2514600"/>
            <a:ext cx="914400" cy="1523880"/>
            <a:chOff x="7121520" y="2514600"/>
            <a:chExt cx="914400" cy="1523880"/>
          </a:xfrm>
        </p:grpSpPr>
        <p:sp>
          <p:nvSpPr>
            <p:cNvPr id="441" name=""/>
            <p:cNvSpPr/>
            <p:nvPr/>
          </p:nvSpPr>
          <p:spPr>
            <a:xfrm>
              <a:off x="7121520" y="25146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28195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1520" y="31240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21520" y="34290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21520" y="37339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1520" y="40384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Code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impl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encoded as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instruction types and encodings for differen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3672000" cy="25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um(int x, int 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return x+y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45440" y="1446120"/>
            <a:ext cx="1291680" cy="2897280"/>
            <a:chOff x="4645440" y="1446120"/>
            <a:chExt cx="1291680" cy="289728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45440" y="144612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60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6327720" y="1446120"/>
            <a:ext cx="1089000" cy="2897280"/>
            <a:chOff x="6327720" y="1446120"/>
            <a:chExt cx="1089000" cy="2897280"/>
          </a:xfrm>
        </p:grpSpPr>
        <p:grpSp>
          <p:nvGrpSpPr>
            <p:cNvPr id="465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327720" y="14461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0" y="25909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is example, Alpha &amp; Sun use two 4-byte instru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uses 7 instructions with lengths 1, 2, and 3 by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78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79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85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90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Don’t Computers Use Base 10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why fingers are known as “digit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tural representation for financial transa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carries through in scientific no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trans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y to implement digital log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760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gebraic representation of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8600" y="2133720"/>
            <a:ext cx="4432320" cy="2214360"/>
            <a:chOff x="228600" y="2133720"/>
            <a:chExt cx="4432320" cy="2214360"/>
          </a:xfrm>
        </p:grpSpPr>
        <p:sp>
          <p:nvSpPr>
            <p:cNvPr id="498" name=""/>
            <p:cNvSpPr/>
            <p:nvPr/>
          </p:nvSpPr>
          <p:spPr>
            <a:xfrm>
              <a:off x="22860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5000"/>
            </a:bodyPr>
            <a:p>
              <a:pPr marL="327960" indent="-3279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32520" indent="-2088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&amp;B = 1 when both A=1 and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752480" y="2971800"/>
            <a:ext cx="1397160" cy="1376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7180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1" name=""/>
          <p:cNvGrpSpPr/>
          <p:nvPr/>
        </p:nvGrpSpPr>
        <p:grpSpPr>
          <a:xfrm>
            <a:off x="228600" y="4038480"/>
            <a:ext cx="4432320" cy="2291040"/>
            <a:chOff x="228600" y="4038480"/>
            <a:chExt cx="4432320" cy="2291040"/>
          </a:xfrm>
        </p:grpSpPr>
        <p:graphicFrame>
          <p:nvGraphicFramePr>
            <p:cNvPr id="502" name=""/>
            <p:cNvGraphicFramePr/>
            <p:nvPr/>
          </p:nvGraphicFramePr>
          <p:xfrm>
            <a:off x="1752480" y="4952880"/>
            <a:ext cx="1397160" cy="1376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9528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"/>
            <p:cNvSpPr/>
            <p:nvPr/>
          </p:nvSpPr>
          <p:spPr>
            <a:xfrm>
              <a:off x="228600" y="4038480"/>
              <a:ext cx="4432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No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744480" indent="-24588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~A = 1 when A=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19720" y="2133720"/>
            <a:ext cx="4432320" cy="2209680"/>
            <a:chOff x="4419720" y="2133720"/>
            <a:chExt cx="4432320" cy="2209680"/>
          </a:xfrm>
        </p:grpSpPr>
        <p:sp>
          <p:nvSpPr>
            <p:cNvPr id="506" name=""/>
            <p:cNvSpPr/>
            <p:nvPr/>
          </p:nvSpPr>
          <p:spPr>
            <a:xfrm>
              <a:off x="441972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3000"/>
            </a:bodyPr>
            <a:p>
              <a:pPr marL="358560" indent="-358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92280" indent="-2286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|B = 1 when either A=1 or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5918040" y="2967120"/>
            <a:ext cx="1397160" cy="13762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040" y="296712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9" name=""/>
          <p:cNvGrpSpPr/>
          <p:nvPr/>
        </p:nvGrpSpPr>
        <p:grpSpPr>
          <a:xfrm>
            <a:off x="4419720" y="4191120"/>
            <a:ext cx="4432320" cy="2514600"/>
            <a:chOff x="4419720" y="4191120"/>
            <a:chExt cx="4432320" cy="2514600"/>
          </a:xfrm>
        </p:grpSpPr>
        <p:graphicFrame>
          <p:nvGraphicFramePr>
            <p:cNvPr id="510" name=""/>
            <p:cNvGraphicFramePr/>
            <p:nvPr/>
          </p:nvGraphicFramePr>
          <p:xfrm>
            <a:off x="5638680" y="5329080"/>
            <a:ext cx="1397160" cy="13766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53290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2" name=""/>
            <p:cNvSpPr/>
            <p:nvPr/>
          </p:nvSpPr>
          <p:spPr>
            <a:xfrm>
              <a:off x="4419720" y="41911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2000"/>
            </a:bodyPr>
            <a:p>
              <a:pPr marL="277560" indent="-277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Exclusive-Or (Xor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535680" indent="-17676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^B = 1 when either A=1 or B=1, but not bo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514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956480" y="2895480"/>
            <a:ext cx="271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nection w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&amp;~B | ~A&amp;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pplication of 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37 MIT Master’s The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son about networks of relay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76520" y="2743200"/>
            <a:ext cx="2819160" cy="838080"/>
            <a:chOff x="1676520" y="2743200"/>
            <a:chExt cx="2819160" cy="838080"/>
          </a:xfrm>
        </p:grpSpPr>
        <p:sp>
          <p:nvSpPr>
            <p:cNvPr id="530" name=""/>
            <p:cNvSpPr/>
            <p:nvPr/>
          </p:nvSpPr>
          <p:spPr>
            <a:xfrm>
              <a:off x="1676520" y="3124080"/>
              <a:ext cx="281916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16640" y="27432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&amp;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00200" y="4038480"/>
            <a:ext cx="2819520" cy="874080"/>
            <a:chOff x="1600200" y="4038480"/>
            <a:chExt cx="2819520" cy="874080"/>
          </a:xfrm>
        </p:grpSpPr>
        <p:sp>
          <p:nvSpPr>
            <p:cNvPr id="533" name=""/>
            <p:cNvSpPr/>
            <p:nvPr/>
          </p:nvSpPr>
          <p:spPr>
            <a:xfrm flipV="1">
              <a:off x="1600200" y="4038480"/>
              <a:ext cx="281952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6640" y="45720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~A&amp;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105520" y="4495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= A^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, +, *, –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ms a “r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1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1}, |, &amp;, ~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a “Boolean algebra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is “complement” operation (not additive invers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960" y="871560"/>
            <a:ext cx="88390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ut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B    =  B |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B  =  B +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  =  B &amp;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B  =  B *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ssoci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|  B)  | C    =  A | (B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+ B) + C  =  A +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  =  A &amp; (B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* B) * C  =  A * (B *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oduct distributes ove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| C)  =  (A &amp; B) | (A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B + C)  =  A * B + B *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and product ident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0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1  = A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Zero is product annihi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 = 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0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ncellation of neg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(~ A)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(– A)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7627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distributes ov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B &amp; C)  =  (A | B) &amp; (A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B * C)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A + B) *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dempo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*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A &amp;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A *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A |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A +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aws of Comp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 =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–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ng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–A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9520" y="457200"/>
            <a:ext cx="66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&amp; and ^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{0,1}, ^, &amp;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0, 1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integers mod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dentity operation: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) =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2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B  =  B ^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=  B &amp;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^ B) ^ C  =  A ^ (B ^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=  A &amp;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. over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^ C)  =  (A &amp; B) ^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sum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prod.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product annihilat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A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s Between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&amp; in terms of |, and vice-vers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0563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Boolean Algebra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applied bit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of the Properties of Boolean Algebra App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35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923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68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11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^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298680"/>
            <a:ext cx="1523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2592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329868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560" y="33526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72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60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084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001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&amp; Manipulating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d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 vector represents subsets of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 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5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2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s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0000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111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2, 3, 4, 5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^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mmetric differe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11110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2, 3, 4, 5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me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0101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1, 3, 5, 7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nary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5213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2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.0011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5213 X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s 1.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tore with bistabl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iably transmitted on noisy and inaccurate wir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ightforward implementation of arithmet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920" y="4114800"/>
            <a:ext cx="6856200" cy="2197080"/>
            <a:chOff x="763920" y="4114800"/>
            <a:chExt cx="6856200" cy="2197080"/>
          </a:xfrm>
        </p:grpSpPr>
        <p:sp>
          <p:nvSpPr>
            <p:cNvPr id="87" name=""/>
            <p:cNvSpPr/>
            <p:nvPr/>
          </p:nvSpPr>
          <p:spPr>
            <a:xfrm>
              <a:off x="1676520" y="5715000"/>
              <a:ext cx="5943600" cy="381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4724640"/>
              <a:ext cx="594360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883400"/>
              <a:ext cx="5924520" cy="113652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447560" y="60962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447560" y="47246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920" y="594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920" y="5562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920" y="4953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26744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267440"/>
              <a:ext cx="2286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426744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4191120"/>
              <a:ext cx="0" cy="1600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1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4191120"/>
              <a:ext cx="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11480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7560" y="51055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6777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to any “integral”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ew arguments as bit ve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applied bit-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41 --&gt;  0xB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00 --&gt;  0x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 0x55  --&gt;  0x4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 0x55  --&gt;  0x7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653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Logic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894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41  --&gt;  0x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00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!0x41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&amp;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|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 &amp;&amp; *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null pointer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053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if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967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100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100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0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755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ol Stuff with 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wise Xor is form of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extra property that every value is its own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34340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43200" y="434340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4343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743200" y="4724280"/>
            <a:ext cx="4419720" cy="381240"/>
            <a:chOff x="2743200" y="4724280"/>
            <a:chExt cx="4419720" cy="381240"/>
          </a:xfrm>
        </p:grpSpPr>
        <p:sp>
          <p:nvSpPr>
            <p:cNvPr id="607" name=""/>
            <p:cNvSpPr/>
            <p:nvPr/>
          </p:nvSpPr>
          <p:spPr>
            <a:xfrm>
              <a:off x="4952880" y="4724280"/>
              <a:ext cx="2210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43200" y="4724280"/>
              <a:ext cx="220968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828800" y="4724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743200" y="5105520"/>
            <a:ext cx="4419720" cy="380880"/>
            <a:chOff x="2743200" y="5105520"/>
            <a:chExt cx="4419720" cy="380880"/>
          </a:xfrm>
        </p:grpSpPr>
        <p:sp>
          <p:nvSpPr>
            <p:cNvPr id="611" name=""/>
            <p:cNvSpPr/>
            <p:nvPr/>
          </p:nvSpPr>
          <p:spPr>
            <a:xfrm>
              <a:off x="4952880" y="510552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B = 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510552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828800" y="510552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743200" y="5486400"/>
            <a:ext cx="4419720" cy="380880"/>
            <a:chOff x="2743200" y="5486400"/>
            <a:chExt cx="4419720" cy="380880"/>
          </a:xfrm>
        </p:grpSpPr>
        <p:sp>
          <p:nvSpPr>
            <p:cNvPr id="615" name=""/>
            <p:cNvSpPr/>
            <p:nvPr/>
          </p:nvSpPr>
          <p:spPr>
            <a:xfrm>
              <a:off x="4952880" y="548640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43200" y="548640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A =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828800" y="5486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743200" y="5867280"/>
            <a:ext cx="4419720" cy="381240"/>
            <a:chOff x="2743200" y="5867280"/>
            <a:chExt cx="4419720" cy="381240"/>
          </a:xfrm>
        </p:grpSpPr>
        <p:sp>
          <p:nvSpPr>
            <p:cNvPr id="619" name=""/>
            <p:cNvSpPr/>
            <p:nvPr/>
          </p:nvSpPr>
          <p:spPr>
            <a:xfrm>
              <a:off x="4952880" y="5867280"/>
              <a:ext cx="221004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43200" y="5867280"/>
              <a:ext cx="220968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828800" y="5867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396252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96252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Po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’s All About Bits &amp; By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Machines Follow Different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 is Mathematical Ba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form encodes “false” as 0, “true” a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 form like bit-level operations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for representing &amp; manipulating se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 very large array of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ly implemented with hierarchy of different memory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Unix and Windows NT, address space private to particular “proces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different program objects should be sto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mechanisms: static, stack, and hea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any case, all allocation within singl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Byte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0000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imal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5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xadecima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F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720" y="1064880"/>
            <a:ext cx="1866600" cy="4551840"/>
            <a:chOff x="6705720" y="1064880"/>
            <a:chExt cx="1866600" cy="4551840"/>
          </a:xfrm>
        </p:grpSpPr>
        <p:grpSp>
          <p:nvGrpSpPr>
            <p:cNvPr id="113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114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9282200">
              <a:off x="6781320" y="1496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82200">
              <a:off x="7189560" y="1353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282200">
              <a:off x="7663680" y="1405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Wo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minal size of integer-valued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urrent machines are 32 bits (4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-end systems are 64 bits (8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8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s support multiple data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first byte in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of successive words differ by 4 (32-bit) or 8 (64-bi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94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97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096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8672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8195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1814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Data 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q Alph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32-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 *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bytes within multi-byte word be ordered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n’s, Mac’s are “Big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phas, PC’s are “Little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 and David R. O'Hallaron</dc:creator>
  <dc:description/>
  <dc:language>en-US</dc:language>
  <cp:lastModifiedBy>droh</cp:lastModifiedBy>
  <cp:lastPrinted>1998-08-27T18:17:18Z</cp:lastPrinted>
  <dcterms:modified xsi:type="dcterms:W3CDTF">2002-10-28T20:23:39Z</dcterms:modified>
  <cp:revision>57</cp:revision>
  <dc:subject/>
  <dc:title>Bits and Bytes</dc:title>
</cp:coreProperties>
</file>