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A0237424-5E4E-4075-8AD0-672EBD5DB241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 I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Dependent Optimization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240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-Dependent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inter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roll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abling instruction level parallelis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ing Processor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lation of instructions into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t-of-order execution of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ranches and Branch Predi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vi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1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334800"/>
            <a:ext cx="5977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3120" y="1066320"/>
            <a:ext cx="8282160" cy="8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ersion of Combine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86120" indent="-612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data, multiply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 of First Ite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1981080"/>
            <a:ext cx="6477120" cy="1460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t *= dat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168800"/>
            <a:ext cx="3886200" cy="20091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168800"/>
            <a:ext cx="4419720" cy="1734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0760" y="334800"/>
            <a:ext cx="8234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3120" y="1828440"/>
            <a:ext cx="8282160" cy="2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"/>
          </a:bodyPr>
          <a:p>
            <a:pPr lvl="1" marL="59400" indent="-19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lit into two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a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ads from memory to generate temporary resul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.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ply operation just operates on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400" indent="-19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oes not change in loop.  Values will be retrieved from register file during deco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hanges on every iteration.  Uniquely identify different versions 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7800" indent="-180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enam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7800" indent="-180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s passed directly from producer to consum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14300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43000"/>
            <a:ext cx="4419720" cy="6375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0760" y="334800"/>
            <a:ext cx="8234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3120" y="1828440"/>
            <a:ext cx="8282160" cy="2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hanges on each iteration.  Rename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12248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112248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 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34800"/>
            <a:ext cx="8564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3120" y="1297080"/>
            <a:ext cx="8282160" cy="83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250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83840" indent="-159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 codes are treated similar to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3840" indent="-159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ign tag to define connection between producer and consum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21932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121932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34800"/>
            <a:ext cx="8564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3120" y="1752120"/>
            <a:ext cx="8282160" cy="3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1000"/>
          </a:bodyPr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control unit determines destination of jum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s whether will be taken and targ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s fetching instruction at predicted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ion unit simply checks whether or not prediction was O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, it signals instruction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6000" indent="-25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control then “invalidates” any operations generated from misfetched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26000" indent="-25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gins fetching and decoding instructions at correct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14300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114300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357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30760" y="3032280"/>
            <a:ext cx="4767120" cy="273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12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tical position denotes time at which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not begin operation until operands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ight denotes lat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2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cs shown only for operands that are passed within execution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14680" y="990720"/>
            <a:ext cx="3015360" cy="3504960"/>
            <a:chOff x="814680" y="990720"/>
            <a:chExt cx="3015360" cy="3504960"/>
          </a:xfrm>
        </p:grpSpPr>
        <p:sp>
          <p:nvSpPr>
            <p:cNvPr id="196" name=""/>
            <p:cNvSpPr/>
            <p:nvPr/>
          </p:nvSpPr>
          <p:spPr>
            <a:xfrm>
              <a:off x="2700000" y="20844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80640" y="251136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6880" y="137160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62600" y="41911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8120" y="4343400"/>
              <a:ext cx="1295280" cy="7632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78120" y="25146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35320" y="1371600"/>
              <a:ext cx="76176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5320" y="182880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35320" y="228600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16200" y="16002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16200" y="20574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5200" y="9907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00680" y="1401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4680" y="23623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20920" y="1219320"/>
              <a:ext cx="1295280" cy="15228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78120" y="1219320"/>
              <a:ext cx="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16200" y="1676520"/>
              <a:ext cx="4572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73400" y="1676520"/>
              <a:ext cx="2286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73400" y="4419720"/>
              <a:ext cx="2286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20920" y="259092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191960" y="259092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96880" y="2743200"/>
              <a:ext cx="755640" cy="16002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600200"/>
                <a:gd name="textAreaBottom" fmla="*/ 1560240 h 1600200"/>
              </a:gdLst>
              <a:ahLst/>
              <a:rect l="textAreaLeft" t="textAreaTop" r="textAreaRight" b="textAreaBottom"/>
              <a:pathLst>
                <a:path w="21600" h="45730">
                  <a:moveTo>
                    <a:pt x="3927" y="0"/>
                  </a:moveTo>
                  <a:arcTo wR="3927" hR="3927" stAng="16200000" swAng="-5400000"/>
                  <a:lnTo>
                    <a:pt x="0" y="41803"/>
                  </a:lnTo>
                  <a:arcTo wR="3927" hR="3927" stAng="10800000" swAng="-5400000"/>
                  <a:lnTo>
                    <a:pt x="17673" y="45730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mul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572000" y="1143000"/>
            <a:ext cx="4191120" cy="14605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14300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6440" y="293220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02840" y="334800"/>
            <a:ext cx="7078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Operation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44920" y="3716280"/>
            <a:ext cx="4152960" cy="27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as before, except that add has latency of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523880"/>
            <a:ext cx="0" cy="3124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6440" y="331308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89400" y="1752480"/>
            <a:ext cx="2988360" cy="2287800"/>
            <a:chOff x="689400" y="1752480"/>
            <a:chExt cx="2988360" cy="2287800"/>
          </a:xfrm>
        </p:grpSpPr>
        <p:sp>
          <p:nvSpPr>
            <p:cNvPr id="226" name=""/>
            <p:cNvSpPr/>
            <p:nvPr/>
          </p:nvSpPr>
          <p:spPr>
            <a:xfrm>
              <a:off x="2547720" y="2846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8000" y="327348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09600" y="2590920"/>
              <a:ext cx="8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</a:t>
              </a:r>
              <a:r>
                <a:rPr b="1" i="1" lang="en-US" sz="1200" spc="-1" strike="noStrike">
                  <a:solidFill>
                    <a:srgbClr val="000066"/>
                  </a:solidFill>
                  <a:latin typeface="Times New Roman"/>
                </a:rPr>
                <a:t>i </a:t>
              </a: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5480" y="3733920"/>
              <a:ext cx="1295640" cy="7596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25480" y="32767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82680" y="2133720"/>
              <a:ext cx="76212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82680" y="25909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82680" y="30481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3920" y="23623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63920" y="28195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44600" y="21337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22920" y="17524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48400" y="21636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9400" y="3124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68280" y="1981080"/>
              <a:ext cx="1295640" cy="15264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25480" y="1981080"/>
              <a:ext cx="0" cy="152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63920" y="2438280"/>
              <a:ext cx="4572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21120" y="24382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211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68280" y="33526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44600" y="35053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dd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1039320" y="335268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98880" y="37638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4600" y="213372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572000" y="1447920"/>
            <a:ext cx="4191120" cy="14605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, %ecx.0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5073480" cy="5632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916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3 Iterations of Combining Produc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86040" y="990720"/>
            <a:ext cx="34290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operation can start as soon as operands avail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ons for multiple iterations overlap in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ing factor becomes latency of integer multipli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s CPE of 4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51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4 Iterations of Combining Su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4190760"/>
            <a:ext cx="8140680" cy="22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gin a new iteration on each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give CPE of 1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require executing 4 integer operations in parall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6810480" cy="2949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19320" y="2540160"/>
            <a:ext cx="7619760" cy="304560"/>
          </a:xfrm>
          <a:prstGeom prst="roundRect">
            <a:avLst>
              <a:gd name="adj" fmla="val 16667"/>
            </a:avLst>
          </a:prstGeom>
          <a:solidFill>
            <a:srgbClr val="33cccc">
              <a:alpha val="50000"/>
            </a:srgbClr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 integer op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bining Sum: Resource Constrai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7304040" cy="4761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4038480"/>
            <a:ext cx="5715000" cy="107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have two integer functional un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operations delayed even though operands avail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priority based on program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stain CPE of 2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2760" y="334800"/>
            <a:ext cx="7421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evious Best Combining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in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ctor represented by C-style abstract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hieved CPE of 2.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ycles per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34800"/>
            <a:ext cx="544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516640" y="1749600"/>
            <a:ext cx="3627360" cy="42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 multiple iterations into single loop bod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mortizes loop overhead across multiple it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ish extras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CPE = 1.3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5440" y="1177920"/>
            <a:ext cx="5256360" cy="502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5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3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 + data[i+2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Unrolled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351792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s can pipeline, since don’t have depend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one set of loop control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3581280"/>
            <a:ext cx="4572000" cy="25578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a, %ecx.0c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b, %ecx.1a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8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c, %ecx.1b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$3,%edx.0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763120" y="99072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66040" y="27795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61560" y="838080"/>
            <a:ext cx="4986720" cy="3048120"/>
            <a:chOff x="3661560" y="838080"/>
            <a:chExt cx="4986720" cy="3048120"/>
          </a:xfrm>
        </p:grpSpPr>
        <p:sp>
          <p:nvSpPr>
            <p:cNvPr id="270" name=""/>
            <p:cNvSpPr/>
            <p:nvPr/>
          </p:nvSpPr>
          <p:spPr>
            <a:xfrm>
              <a:off x="4337640" y="838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18920" y="1249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61560" y="228600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15320" y="1523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153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486320" y="1066680"/>
              <a:ext cx="3578400" cy="2791080"/>
              <a:chOff x="4486320" y="1066680"/>
              <a:chExt cx="3578400" cy="2791080"/>
            </a:xfrm>
          </p:grpSpPr>
          <p:sp>
            <p:nvSpPr>
              <p:cNvPr id="276" name=""/>
              <p:cNvSpPr/>
              <p:nvPr/>
            </p:nvSpPr>
            <p:spPr>
              <a:xfrm>
                <a:off x="7518240" y="19321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927320" y="23623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03800" y="1676520"/>
                <a:ext cx="88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</a:t>
                </a:r>
                <a:r>
                  <a:rPr b="1" i="1" lang="en-US" sz="1200" spc="-1" strike="noStrike">
                    <a:solidFill>
                      <a:srgbClr val="000066"/>
                    </a:solidFill>
                    <a:latin typeface="Times New Roman"/>
                  </a:rPr>
                  <a:t>i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</a:rPr>
                  <a:t>+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620040" y="3733920"/>
                <a:ext cx="1295280" cy="7596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943520" y="23623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077240" y="121932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77240" y="16765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77240" y="21337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58120" y="14479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58120" y="19051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486320" y="1066680"/>
                <a:ext cx="2971800" cy="15264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58120" y="152388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86320" y="25909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04880" y="358128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00720" y="30481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38800" y="35053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67200" y="2819520"/>
                <a:ext cx="76212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43520" y="1066680"/>
                <a:ext cx="0" cy="1526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86320" y="2438280"/>
                <a:ext cx="228600" cy="152640"/>
              </a:xfrm>
              <a:custGeom>
                <a:avLst/>
                <a:gdLst/>
                <a:ahLst/>
                <a:rect l="l" t="t" r="r" b="b"/>
                <a:pathLst>
                  <a:path w="912" h="96">
                    <a:moveTo>
                      <a:pt x="0" y="0"/>
                    </a:moveTo>
                    <a:lnTo>
                      <a:pt x="912" y="0"/>
                    </a:lnTo>
                    <a:lnTo>
                      <a:pt x="912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65400" y="28195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622920" y="32767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42560" y="28494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90360" y="33066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62640" y="12193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7200" y="16765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45280" y="21337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81600" y="28195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20040" y="32767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781600" y="32767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81600" y="1066680"/>
                <a:ext cx="0" cy="6098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20040" y="1066680"/>
                <a:ext cx="0" cy="10670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with 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6618240" cy="43228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541008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lvl="1" marL="372240" indent="-122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complete iteration in 3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ould give CPE of 1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72240" indent="-122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PE of 1.3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iteration every 4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334800"/>
            <a:ext cx="587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ffect of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90520" y="4244760"/>
            <a:ext cx="8307360" cy="21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helps integer sum for our examp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cases constrained by functional unit latenc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 is nonlinear with degree of unroll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ny subtle effects determine exact scheduling of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33520" y="1600200"/>
          <a:ext cx="8076960" cy="2133720"/>
        </p:xfrm>
        <a:graphic>
          <a:graphicData uri="http://schemas.openxmlformats.org/drawingml/2006/table">
            <a:tbl>
              <a:tblPr/>
              <a:tblGrid>
                <a:gridCol w="1009440"/>
                <a:gridCol w="1200240"/>
                <a:gridCol w="914400"/>
                <a:gridCol w="762120"/>
                <a:gridCol w="1162080"/>
                <a:gridCol w="1009440"/>
                <a:gridCol w="1104840"/>
                <a:gridCol w="914400"/>
              </a:tblGrid>
              <a:tr h="426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Unrolling Degre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0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79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ial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9880" y="837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52280" y="-76320"/>
            <a:ext cx="7129440" cy="6934320"/>
            <a:chOff x="152280" y="-76320"/>
            <a:chExt cx="7129440" cy="6934320"/>
          </a:xfrm>
        </p:grpSpPr>
        <p:sp>
          <p:nvSpPr>
            <p:cNvPr id="316" name=""/>
            <p:cNvSpPr/>
            <p:nvPr/>
          </p:nvSpPr>
          <p:spPr>
            <a:xfrm>
              <a:off x="152280" y="457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560" y="228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160" y="228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1760" y="9907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14400" y="838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43000" y="762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200" y="762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8000" y="-76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7000" y="-76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96480" y="4572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5760" y="15238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08040" y="1371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36640" y="12952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50840" y="12952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0120" y="9907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49400" y="20574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01680" y="19051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30280" y="18288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44480" y="18288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84120" y="15238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43040" y="25909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95320" y="24382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23920" y="23623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8120" y="23623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77760" y="20574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36680" y="31240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89320" y="29718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17920" y="28954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2120" y="28954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71400" y="25909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0680" y="36576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2960" y="35053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11560" y="34290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5760" y="34290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65040" y="31240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24320" y="41911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76600" y="40384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05200" y="39625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19400" y="39625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59040" y="36576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17960" y="47242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70240" y="45720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98840" y="44956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13040" y="44956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41911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11600" y="52578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64240" y="51055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92840" y="50292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07040" y="50292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6320" y="47242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05240" y="57913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57880" y="56386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86480" y="55627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00680" y="55627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00360" y="52578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99240" y="63244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51520" y="61722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80120" y="6095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94320" y="60958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94000" y="579132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0280" y="6629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16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allel 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562720" y="1066320"/>
            <a:ext cx="3581280" cy="39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Vers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umulate in two different 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64280" indent="-150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performed simultaneous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X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35440" y="990720"/>
            <a:ext cx="5256360" cy="5301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6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0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1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1 *=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x0 * x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ual Product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971440" y="7621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N/2+1)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2X performance improveme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362320"/>
            <a:ext cx="3567240" cy="3504960"/>
            <a:chOff x="1828800" y="2362320"/>
            <a:chExt cx="3567240" cy="3504960"/>
          </a:xfrm>
        </p:grpSpPr>
        <p:sp>
          <p:nvSpPr>
            <p:cNvPr id="383" name=""/>
            <p:cNvSpPr/>
            <p:nvPr/>
          </p:nvSpPr>
          <p:spPr>
            <a:xfrm>
              <a:off x="182880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8108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38280" y="34290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9092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19520" y="3200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3372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7452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63520" y="2362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73000" y="28954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32280" y="39625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8456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13160" y="37339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2736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66640" y="34290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25920" y="44956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7820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06800" y="42670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2100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60640" y="39625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1956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7184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00440" y="4800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1464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54280" y="44956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13200" y="55627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6584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94440" y="5334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0864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08320" y="50292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572000" y="5867280"/>
            <a:ext cx="457200" cy="228600"/>
            <a:chOff x="4572000" y="5867280"/>
            <a:chExt cx="457200" cy="228600"/>
          </a:xfrm>
        </p:grpSpPr>
        <p:sp>
          <p:nvSpPr>
            <p:cNvPr id="414" name=""/>
            <p:cNvSpPr/>
            <p:nvPr/>
          </p:nvSpPr>
          <p:spPr>
            <a:xfrm>
              <a:off x="4572000" y="5943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572000" y="58672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4191120" y="6095880"/>
            <a:ext cx="533160" cy="304920"/>
          </a:xfrm>
          <a:prstGeom prst="roundRect">
            <a:avLst>
              <a:gd name="adj" fmla="val 19644"/>
            </a:avLst>
          </a:prstGeom>
          <a:solidFill>
            <a:srgbClr val="99ff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02160" y="640080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80880" y="2362320"/>
            <a:ext cx="3962520" cy="3733560"/>
            <a:chOff x="380880" y="2362320"/>
            <a:chExt cx="3962520" cy="3733560"/>
          </a:xfrm>
        </p:grpSpPr>
        <p:sp>
          <p:nvSpPr>
            <p:cNvPr id="419" name=""/>
            <p:cNvSpPr/>
            <p:nvPr/>
          </p:nvSpPr>
          <p:spPr>
            <a:xfrm>
              <a:off x="38088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35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21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90720" y="34290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4300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71600" y="3200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660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5600" y="2362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25080" y="28954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84360" y="39625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3664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65240" y="37339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7944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19080" y="34290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78000" y="44956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3028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58880" y="42670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308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12720" y="39625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7164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2428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52880" y="4800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6708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06360" y="44956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65640" y="55627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1792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46520" y="5334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6072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60400" y="50292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43400" y="5943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54360" y="5867280"/>
              <a:ext cx="68904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320" y="247680"/>
            <a:ext cx="904536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quirements for Parallel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thematic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ing operation must be associative &amp; commut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K for integer multiplic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strictly true for floating po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K for most applic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rdwa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d functional un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ility to dynamically extract parallelism from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642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Parallel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65760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multiplies within loop no longer have data dep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them to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4191120"/>
            <a:ext cx="4572000" cy="200916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a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b, %eb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b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$2,%edx.0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05920" y="144792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908840" y="32367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4347000" y="914400"/>
            <a:ext cx="3853440" cy="3962520"/>
            <a:chOff x="4347000" y="914400"/>
            <a:chExt cx="3853440" cy="3962520"/>
          </a:xfrm>
        </p:grpSpPr>
        <p:sp>
          <p:nvSpPr>
            <p:cNvPr id="459" name=""/>
            <p:cNvSpPr/>
            <p:nvPr/>
          </p:nvSpPr>
          <p:spPr>
            <a:xfrm>
              <a:off x="7471080" y="13255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47000" y="22860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16002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47000" y="2743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b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43800" y="48006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3800" y="43434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4723920" y="914400"/>
              <a:ext cx="2892960" cy="3934080"/>
              <a:chOff x="4723920" y="914400"/>
              <a:chExt cx="2892960" cy="3934080"/>
            </a:xfrm>
          </p:grpSpPr>
          <p:sp>
            <p:nvSpPr>
              <p:cNvPr id="466" name=""/>
              <p:cNvSpPr/>
              <p:nvPr/>
            </p:nvSpPr>
            <p:spPr>
              <a:xfrm>
                <a:off x="4952880" y="2971800"/>
                <a:ext cx="106704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070400" y="200808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412960" y="24354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666880"/>
                <a:ext cx="755640" cy="16002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30">
                    <a:moveTo>
                      <a:pt x="3927" y="0"/>
                    </a:moveTo>
                    <a:arcTo wR="3927" hR="3927" stAng="16200000" swAng="-5400000"/>
                    <a:lnTo>
                      <a:pt x="0" y="41803"/>
                    </a:lnTo>
                    <a:arcTo wR="3927" hR="3927" stAng="10800000" swAng="-5400000"/>
                    <a:lnTo>
                      <a:pt x="17673" y="45730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09320" y="41148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10080" y="4267080"/>
                <a:ext cx="2133720" cy="7632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410080" y="24382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5720" y="129528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75248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5720" y="220968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86600" y="15238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086600" y="19810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07520" y="9144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dx.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952880" y="1143000"/>
                <a:ext cx="2133720" cy="15228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10080" y="114300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086600" y="160020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952880" y="251460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4723920" y="2514600"/>
                <a:ext cx="228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67280" y="3124080"/>
                <a:ext cx="755640" cy="16002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30">
                    <a:moveTo>
                      <a:pt x="3927" y="0"/>
                    </a:moveTo>
                    <a:arcTo wR="3927" hR="3927" stAng="16200000" swAng="-5400000"/>
                    <a:lnTo>
                      <a:pt x="0" y="41803"/>
                    </a:lnTo>
                    <a:arcTo wR="3927" hR="3927" stAng="10800000" swAng="-5400000"/>
                    <a:lnTo>
                      <a:pt x="17673" y="45730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9320" y="45720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bx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248520" y="4724280"/>
                <a:ext cx="1295280" cy="7632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48520" y="28954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48520" y="1143000"/>
                <a:ext cx="0" cy="6094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028840" y="2971800"/>
                <a:ext cx="7621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4723920" y="2971800"/>
                <a:ext cx="228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5866920" y="4343400"/>
                <a:ext cx="7621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51400" y="2892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29200" y="129528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3760" y="175248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441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with Parallel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828800" y="649440"/>
            <a:ext cx="7075440" cy="59799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2280" y="4724280"/>
            <a:ext cx="426744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keep 4-cycle multiplier busy performing two simultaneous multipli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ives CPE of 2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9160" y="334800"/>
            <a:ext cx="700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Forms of Combin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4240" y="4114800"/>
            <a:ext cx="4051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different declaration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ata_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9240" y="990720"/>
            <a:ext cx="6627960" cy="283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abstract_combine4(vec_ptr v, data_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_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_t t = IDEN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t OP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1240" y="4244760"/>
            <a:ext cx="4076640" cy="21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different definitions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+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28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Results for Combin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04920" y="1219320"/>
          <a:ext cx="8229600" cy="450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22960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allel Unrolling: Method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562720" y="1066320"/>
            <a:ext cx="3581280" cy="39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Vers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y pairs of elements toge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then update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ee height reduction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5440" y="990720"/>
            <a:ext cx="5256360" cy="475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6aa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*= (data[i] * data[i+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thod #2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971440" y="7621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73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3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be (N/2+1)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PE = 2.0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asured CPE wor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80880" y="1870200"/>
            <a:ext cx="4114800" cy="4225680"/>
            <a:chOff x="380880" y="1870200"/>
            <a:chExt cx="4114800" cy="4225680"/>
          </a:xfrm>
        </p:grpSpPr>
        <p:sp>
          <p:nvSpPr>
            <p:cNvPr id="507" name=""/>
            <p:cNvSpPr/>
            <p:nvPr/>
          </p:nvSpPr>
          <p:spPr>
            <a:xfrm>
              <a:off x="3657600" y="58672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088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35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90720" y="34290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4300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580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660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84360" y="39625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3664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7944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78000" y="44956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3028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7308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7164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2428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6708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65640" y="55627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1792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6072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615600" y="1870200"/>
              <a:ext cx="695520" cy="1025280"/>
              <a:chOff x="615600" y="1870200"/>
              <a:chExt cx="695520" cy="1025280"/>
            </a:xfrm>
          </p:grpSpPr>
          <p:sp>
            <p:nvSpPr>
              <p:cNvPr id="527" name=""/>
              <p:cNvSpPr/>
              <p:nvPr/>
            </p:nvSpPr>
            <p:spPr>
              <a:xfrm>
                <a:off x="685800" y="236232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990720" y="187020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62120" y="21337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15600" y="187020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2120" y="266688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43000" y="21337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225440" y="2403360"/>
              <a:ext cx="695520" cy="1025280"/>
              <a:chOff x="1225440" y="2403360"/>
              <a:chExt cx="695520" cy="1025280"/>
            </a:xfrm>
          </p:grpSpPr>
          <p:sp>
            <p:nvSpPr>
              <p:cNvPr id="534" name=""/>
              <p:cNvSpPr/>
              <p:nvPr/>
            </p:nvSpPr>
            <p:spPr>
              <a:xfrm>
                <a:off x="1295640" y="289548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600560" y="240336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960" y="26668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225440" y="240336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960" y="320004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752840" y="26668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1834920" y="2936880"/>
              <a:ext cx="695520" cy="1025280"/>
              <a:chOff x="1834920" y="2936880"/>
              <a:chExt cx="695520" cy="1025280"/>
            </a:xfrm>
          </p:grpSpPr>
          <p:sp>
            <p:nvSpPr>
              <p:cNvPr id="541" name=""/>
              <p:cNvSpPr/>
              <p:nvPr/>
            </p:nvSpPr>
            <p:spPr>
              <a:xfrm>
                <a:off x="1905120" y="342900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10040" y="293688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981440" y="32004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34920" y="293688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981440" y="373356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362320" y="32004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444400" y="3470400"/>
              <a:ext cx="695520" cy="1025280"/>
              <a:chOff x="2444400" y="3470400"/>
              <a:chExt cx="695520" cy="1025280"/>
            </a:xfrm>
          </p:grpSpPr>
          <p:sp>
            <p:nvSpPr>
              <p:cNvPr id="548" name=""/>
              <p:cNvSpPr/>
              <p:nvPr/>
            </p:nvSpPr>
            <p:spPr>
              <a:xfrm>
                <a:off x="2514600" y="396252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19520" y="347040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590920" y="37339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444400" y="347040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90920" y="426708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71800" y="37339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054240" y="4003560"/>
              <a:ext cx="695520" cy="1025280"/>
              <a:chOff x="3054240" y="4003560"/>
              <a:chExt cx="695520" cy="1025280"/>
            </a:xfrm>
          </p:grpSpPr>
          <p:sp>
            <p:nvSpPr>
              <p:cNvPr id="555" name=""/>
              <p:cNvSpPr/>
              <p:nvPr/>
            </p:nvSpPr>
            <p:spPr>
              <a:xfrm>
                <a:off x="3124440" y="449568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429360" y="400356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200760" y="42670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054240" y="400356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200760" y="480024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581640" y="42670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3624120" y="4537080"/>
              <a:ext cx="871560" cy="1025640"/>
              <a:chOff x="3624120" y="4537080"/>
              <a:chExt cx="871560" cy="1025640"/>
            </a:xfrm>
          </p:grpSpPr>
          <p:sp>
            <p:nvSpPr>
              <p:cNvPr id="562" name=""/>
              <p:cNvSpPr/>
              <p:nvPr/>
            </p:nvSpPr>
            <p:spPr>
              <a:xfrm>
                <a:off x="3733920" y="5029200"/>
                <a:ext cx="533160" cy="30492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962520" y="4537080"/>
                <a:ext cx="53316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809880" y="48006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624120" y="4537080"/>
                <a:ext cx="3877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809880" y="5334120"/>
                <a:ext cx="15264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191120" y="48006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68" name=""/>
          <p:cNvGraphicFramePr/>
          <p:nvPr/>
        </p:nvGraphicFramePr>
        <p:xfrm>
          <a:off x="4419720" y="3809880"/>
          <a:ext cx="4267080" cy="21718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Unrolling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PE (measured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PE (theoretical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87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6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7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533412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Paralleli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4.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multiplies perfomed in sequ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11920" y="3962520"/>
            <a:ext cx="511920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= x * (data[i] * data[i+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4400" y="1371600"/>
            <a:ext cx="511920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= (x * data[i]) *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3520" y="5257800"/>
            <a:ext cx="349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5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es overla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5334120" y="168120"/>
            <a:ext cx="3592440" cy="34894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5791320" y="4267080"/>
            <a:ext cx="2074680" cy="21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Parallel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ed Lots of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hold sums/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6 usable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so needed for pointers, loop condi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FP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not enough registers, must spill temporaries onto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pes out any performance gai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helped by renam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not reference more operands than instruction set allow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jor drawback of IA32 instruction s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765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Spill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6320" y="1220760"/>
            <a:ext cx="4419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X 8 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 local variables share 1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that are storing locals on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8(%ebp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18120" y="990720"/>
            <a:ext cx="3473280" cy="5301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165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4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4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4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8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8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8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12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12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12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16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16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16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32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8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-3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16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: Results for Pentium II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90520" y="537840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gest gain doing basic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last little bit hel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sults for Alpha Process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90520" y="537840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trends very similar to those for Pentium III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though very different architecture and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sults for Pentium 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0880" y="518148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lvl="1" marL="240840" indent="-954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er latencies (int * = 14, fp + = 5.0, fp * = 7.0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61080" indent="-709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ck runs at 2.0 GHz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61080" indent="-709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an improvement over 1.0 GHz P3 for integer *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240840" indent="-954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FP multiplication anoma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421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About Branches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624880" cy="514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llen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Control Unit must work well ahead of Exec.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 generate enough operations to keep EU bus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ncounters conditional branch, cannot reliably determine where to continue fetc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30120" y="2873520"/>
            <a:ext cx="5045400" cy="1734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30960" y="294012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330960" y="354960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97440" y="30528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88880" y="362592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etching &am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2280" y="334800"/>
            <a:ext cx="8132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dependent Opt. Resul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66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0000"/>
          </a:bodyPr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 function calls and memory references within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Anoma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FP product of all elements exceptionally slow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large speedup when accumulate in tempora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used by quirk of IA32 floating po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800" indent="-71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uses 64-bit format, register use 8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43800" indent="-71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nchmark data caused overflow of 64 bits, but not 8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223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057400"/>
          <a:ext cx="8229600" cy="23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2296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7467480" y="28195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74920"/>
            <a:ext cx="3800520" cy="1195560"/>
          </a:xfrm>
          <a:custGeom>
            <a:avLst/>
            <a:gdLst/>
            <a:ahLst/>
            <a:rect l="l" t="t" r="r" b="b"/>
            <a:pathLst>
              <a:path w="2394" h="753">
                <a:moveTo>
                  <a:pt x="0" y="753"/>
                </a:moveTo>
                <a:cubicBezTo>
                  <a:pt x="243" y="749"/>
                  <a:pt x="1109" y="744"/>
                  <a:pt x="1456" y="729"/>
                </a:cubicBezTo>
                <a:cubicBezTo>
                  <a:pt x="1803" y="714"/>
                  <a:pt x="1956" y="747"/>
                  <a:pt x="2082" y="661"/>
                </a:cubicBezTo>
                <a:cubicBezTo>
                  <a:pt x="2208" y="575"/>
                  <a:pt x="2184" y="316"/>
                  <a:pt x="2214" y="211"/>
                </a:cubicBezTo>
                <a:cubicBezTo>
                  <a:pt x="2244" y="106"/>
                  <a:pt x="2232" y="62"/>
                  <a:pt x="2262" y="31"/>
                </a:cubicBezTo>
                <a:cubicBezTo>
                  <a:pt x="2292" y="0"/>
                  <a:pt x="2367" y="26"/>
                  <a:pt x="2394" y="25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5938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Outco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ncounter conditional branch, cannot determine where to continue fetc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ranch Taken: Transfer control to branch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ranch Not-Taken: Continue with next instruction in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resolve until outcome determined by branch/integer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320" y="2819520"/>
            <a:ext cx="5045400" cy="1734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86240" y="4800600"/>
            <a:ext cx="545688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02960" y="41911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267080" y="3809880"/>
            <a:ext cx="393840" cy="228600"/>
          </a:xfrm>
          <a:custGeom>
            <a:avLst/>
            <a:gdLst/>
            <a:ahLst/>
            <a:rect l="l" t="t" r="r" b="b"/>
            <a:pathLst>
              <a:path w="248" h="144">
                <a:moveTo>
                  <a:pt x="0" y="0"/>
                </a:moveTo>
                <a:cubicBezTo>
                  <a:pt x="116" y="12"/>
                  <a:pt x="232" y="24"/>
                  <a:pt x="240" y="48"/>
                </a:cubicBezTo>
                <a:cubicBezTo>
                  <a:pt x="248" y="72"/>
                  <a:pt x="148" y="108"/>
                  <a:pt x="4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21880" y="3443400"/>
            <a:ext cx="21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 Not-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41880" y="3898800"/>
            <a:ext cx="2189160" cy="1054080"/>
          </a:xfrm>
          <a:custGeom>
            <a:avLst/>
            <a:gdLst/>
            <a:ahLst/>
            <a:rect l="l" t="t" r="r" b="b"/>
            <a:pathLst>
              <a:path w="1379" h="664">
                <a:moveTo>
                  <a:pt x="0" y="0"/>
                </a:moveTo>
                <a:cubicBezTo>
                  <a:pt x="195" y="37"/>
                  <a:pt x="957" y="149"/>
                  <a:pt x="1168" y="216"/>
                </a:cubicBezTo>
                <a:cubicBezTo>
                  <a:pt x="1379" y="283"/>
                  <a:pt x="1320" y="325"/>
                  <a:pt x="1264" y="400"/>
                </a:cubicBezTo>
                <a:cubicBezTo>
                  <a:pt x="1208" y="475"/>
                  <a:pt x="922" y="609"/>
                  <a:pt x="832" y="66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63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20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ess which way branch will g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gin executing instructions at predicted pos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don’t actually modify register or memory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70880" y="2666880"/>
            <a:ext cx="381096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9760" y="4495680"/>
            <a:ext cx="545688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3800" y="32004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51440" y="3668760"/>
            <a:ext cx="2639880" cy="992160"/>
          </a:xfrm>
          <a:custGeom>
            <a:avLst/>
            <a:gdLst/>
            <a:ahLst/>
            <a:rect l="l" t="t" r="r" b="b"/>
            <a:pathLst>
              <a:path w="1663" h="625">
                <a:moveTo>
                  <a:pt x="0" y="1"/>
                </a:moveTo>
                <a:cubicBezTo>
                  <a:pt x="232" y="13"/>
                  <a:pt x="1121" y="0"/>
                  <a:pt x="1392" y="73"/>
                </a:cubicBezTo>
                <a:cubicBezTo>
                  <a:pt x="1663" y="146"/>
                  <a:pt x="1644" y="349"/>
                  <a:pt x="1624" y="441"/>
                </a:cubicBezTo>
                <a:cubicBezTo>
                  <a:pt x="1604" y="533"/>
                  <a:pt x="1345" y="587"/>
                  <a:pt x="1272" y="625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711920" y="453564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79480" y="46483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856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Prediction Through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40840" y="33526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Oop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200" y="505152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68520" y="5737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638680" y="40384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invalid 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4571640" y="3962160"/>
            <a:ext cx="106668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943760" y="4495680"/>
            <a:ext cx="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943760" y="3276720"/>
            <a:ext cx="0" cy="1218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336440" y="3595680"/>
            <a:ext cx="119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18520" y="4800600"/>
            <a:ext cx="105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etch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791480" y="327672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91480" y="449568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791480" y="571500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4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Invalid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639760" y="33526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op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6200" y="5051520"/>
            <a:ext cx="4664520" cy="819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68520" y="541008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45040" y="44956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valid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" y="380988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41148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43434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5720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8006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5800" y="52578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" y="54864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57150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62720" y="3733920"/>
            <a:ext cx="304560" cy="2057400"/>
          </a:xfrm>
          <a:custGeom>
            <a:avLst/>
            <a:gdLst>
              <a:gd name="textAreaLeft" fmla="*/ 0 w 304560"/>
              <a:gd name="textAreaRight" fmla="*/ 10980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5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Recove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90520" y="5076360"/>
            <a:ext cx="830736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Co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prediction on Pentium III wastes ~14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’s a lot of time on a high performance process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3520" y="2286000"/>
            <a:ext cx="5076720" cy="22791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b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e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f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s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c0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d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27400" y="3429000"/>
            <a:ext cx="196848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325560" y="33526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tely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16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 Modern Processor, Branches Very Expensiv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less prediction can be reli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possible, best to avoid altoge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6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maximum of two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39600" indent="-195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4 cycles when prediction corre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39600" indent="-195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9 cycles when incorre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3080" y="4549680"/>
            <a:ext cx="361044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x &lt; y) ? y :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4092480"/>
            <a:ext cx="5181480" cy="1734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: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e L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kip when &gt;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 with Bit Tri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style of Lab #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masking rather than conditio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still uses conditio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67880" indent="-1594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6 cycles when predict correc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67880" indent="-1594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2 cycles when mispredi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455840" y="1981080"/>
            <a:ext cx="4844880" cy="1460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b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-(x&gt;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mask &amp; x) | (~mask &amp; 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371600" y="4648320"/>
            <a:ext cx="5181480" cy="2009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dx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ask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L1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kip if x&lt;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-1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ask = 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3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 with Bit Tri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ce compiler to generate desired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olat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claration forces value to be written to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 must therefore generate code to comput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mplest way i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et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zb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ombin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very elegan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hack to get control over compi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2 clock cycles on all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ter than mispredi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7320" y="1684440"/>
            <a:ext cx="3884760" cy="2009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bv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latile int t = (x&gt;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-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mask &amp; x) |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~mask &amp; 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38480" y="1676520"/>
            <a:ext cx="4953240" cy="2009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g %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(x&gt;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zbl %al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ro ext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as 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rieve 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al Mov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7000"/>
          </a:bodyPr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with P6 microarchitecture (PentiumPro onwar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ov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X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 %edx, 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condition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X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holds, copy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n’t involve any branch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ndled as operation within Execution U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urrent version of GCC won’t use this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nks it’s compiling for a 38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4 cycles on all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523880" y="3048120"/>
            <a:ext cx="5181840" cy="1186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: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ovl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, rval=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072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Dependent Opt.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k carefully at generated code to see whether helpfu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op Unroll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compilers do this automatica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lly not as clever as what can achieve by ha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osing Instruction-Level Parallelis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machine 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nefits depend heavily on particular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st if performed by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GCC on IA32/Linux is not very goo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 only for performance-critical parts of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34800"/>
            <a:ext cx="5087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inter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pointers rather than array referen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3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ops!  We’re not making progress her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arn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ome compilers do better job optimizing arra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93200" y="914400"/>
            <a:ext cx="5119200" cy="3380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p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end = data+length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data &lt; dend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*data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1675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le of Programm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83908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ow should I write my programs, given that I have a good, optimizing compiler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n’t: Smash Code into Obliv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read, maintain, &amp; assure correctn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best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code that’s readable &amp; maintain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s, recursion, without built-in constant lim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en though these factors can slow down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 optimization block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ws compiler to do its jo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cus on Inner Loo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 detailed optimizations where code will be executed repeated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get most performance gain he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inter vs. Array Code Inner Loo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Code: 4 instructions in 2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inter Code: Almost same 4 instructions in 3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523880"/>
            <a:ext cx="6476760" cy="1460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,%edx,4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um += dat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581280"/>
            <a:ext cx="6553080" cy="1460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3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sum += *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data 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data:d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b .L3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34800"/>
            <a:ext cx="5862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dern CPU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5560" y="3276720"/>
            <a:ext cx="5029200" cy="30477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2760" y="3657600"/>
            <a:ext cx="4495680" cy="8380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unctiona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95560" y="1066680"/>
            <a:ext cx="4952880" cy="18288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380988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/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ranch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4804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57880" y="380988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lt/Div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6736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a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7684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1523880"/>
            <a:ext cx="83808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67360" y="5334120"/>
            <a:ext cx="114300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29280" y="1447920"/>
            <a:ext cx="914400" cy="533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29280" y="2057400"/>
            <a:ext cx="9144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43680" y="167652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43680" y="228600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2590920"/>
            <a:ext cx="0" cy="990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705040" y="1523880"/>
            <a:ext cx="1524240" cy="228600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28440">
            <a:solidFill>
              <a:srgbClr val="000066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4267080"/>
            <a:ext cx="0" cy="1067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48240" y="42670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29480" y="4267080"/>
            <a:ext cx="0" cy="1067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58080" y="42670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91840" y="13478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79680" y="19731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str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7600" y="25430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04320" y="28479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edic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K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83200" y="493704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80200" y="49291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11760" y="4724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50040" y="47084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3364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5296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6244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228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8176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33640" y="3581280"/>
            <a:ext cx="30481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3856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4348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4648320"/>
            <a:ext cx="39625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57680" y="4267080"/>
            <a:ext cx="3047760" cy="380880"/>
            <a:chOff x="2857680" y="4267080"/>
            <a:chExt cx="3047760" cy="380880"/>
          </a:xfrm>
        </p:grpSpPr>
        <p:sp>
          <p:nvSpPr>
            <p:cNvPr id="140" name=""/>
            <p:cNvSpPr/>
            <p:nvPr/>
          </p:nvSpPr>
          <p:spPr>
            <a:xfrm>
              <a:off x="285768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7664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8648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9596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0544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6716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87360" y="46483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Operation Results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86280" y="1600200"/>
            <a:ext cx="914400" cy="99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38560" y="20574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05040" y="1981080"/>
            <a:ext cx="3812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400480" y="2438280"/>
            <a:ext cx="838080" cy="221004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2560" y="283212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48040" y="228600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25909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334800"/>
            <a:ext cx="737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U Capabilities of Pentium II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Instructions Can Execute in Parall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lo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sto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integer (one may be bran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FP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FP Multiplication or Div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me Instructions Take &gt; 1 Cycle, but Can be Pipeli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tenc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ycles/Iss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 / Stor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Multipl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Divid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Multipl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Ad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Divid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568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3035160"/>
            <a:ext cx="885348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rabs Instruction Bytes From 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sed on current PC + predicted targets for predicted branch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 dynamically guesses whether branches taken/not taken and (possibly) branch targe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ranslates Instruction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mitive steps required to perform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 instruction requires 1–3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verts Register Reference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Tag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bstract identifier linking destination of one operation with sources of later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838080"/>
            <a:ext cx="4952880" cy="18288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1295280"/>
            <a:ext cx="83808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1219320"/>
            <a:ext cx="914400" cy="533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1828800"/>
            <a:ext cx="9144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144792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105520" y="205740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2362320"/>
            <a:ext cx="0" cy="533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53680" y="11192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41520" y="17445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str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3560" y="274320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371600"/>
            <a:ext cx="914400" cy="99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18288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205740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3623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1:29Z</dcterms:modified>
  <cp:revision>108</cp:revision>
  <dc:subject/>
  <dc:title>Code Optimization II</dc:title>
</cp:coreProperties>
</file>