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C5A-C8A9-4D28-B131-E504FD91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EC6-4C5E-4802-8549-DAB40F3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21E-36F9-4509-BCD1-850418A1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50F-6672-442F-8208-62A4177E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B9B-9210-4673-8635-AD76E88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D43-E307-4BF5-8946-B5DAC1D9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399-98F0-44C5-B747-9033BE10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CED-F3A2-4CF0-A729-F005B390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577-47B4-49BB-BA5E-04685631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6A2-995C-4BAB-BA98-9362A8D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3BE-6C70-4CB6-A01E-E1B0AE5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6B3-7035-4865-B477-BAEBB81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8A4-780E-44C3-9CF9-FC5BE8CD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879560"/>
            <a:ext cx="863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2006640"/>
            <a:ext cx="8632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80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45000" y="254160"/>
            <a:ext cx="1859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2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231920"/>
            <a:ext cx="8632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2184480"/>
            <a:ext cx="8632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1816200"/>
            <a:ext cx="8632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108160"/>
            <a:ext cx="8632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134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5548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533520"/>
            <a:ext cx="8632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1600200"/>
            <a:ext cx="8632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2222640"/>
            <a:ext cx="86328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1840" y="254160"/>
            <a:ext cx="50961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2425680"/>
            <a:ext cx="8632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38160"/>
            <a:ext cx="86328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117440"/>
            <a:ext cx="86328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33200"/>
            <a:ext cx="73152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5:08Z</dcterms:modified>
  <cp:revision>3</cp:revision>
  <dc:subject/>
  <dc:title>Slide 1</dc:title>
</cp:coreProperties>
</file>