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6C8-29EA-4BAB-A87F-9C1687A9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2CF-FD9A-4198-A14D-3F09515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F24-5AC7-43ED-97A0-CE449BBC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EDA-05D5-4340-9107-B95A13D6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CC2-E358-48FA-9317-981D56D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DA1-7C15-43D3-A60A-2D6B1C75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C1F-407B-46A7-8B60-0C17D2D3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2F7-6A3F-4399-B3CE-F052E4ED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FA3-2852-402E-B52A-0EF1C762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661-D8D7-4A95-908E-75902DC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175-DEA6-4215-8260-5FEA8CB8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F4B-942C-49D0-A038-7419D829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80BB-DBEF-4BB0-AC8B-017A5C5B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828800"/>
            <a:ext cx="8632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4160" y="1003320"/>
            <a:ext cx="86328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143000"/>
            <a:ext cx="86328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977760"/>
            <a:ext cx="863280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6328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343080"/>
            <a:ext cx="8632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0640" y="254160"/>
            <a:ext cx="55609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7844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511280"/>
            <a:ext cx="8632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041480"/>
            <a:ext cx="86328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24672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495360"/>
            <a:ext cx="86328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2413080"/>
            <a:ext cx="86328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86328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804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927000"/>
            <a:ext cx="863280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838080"/>
            <a:ext cx="86328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2540160"/>
            <a:ext cx="86328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160" y="127080"/>
            <a:ext cx="86328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1955880"/>
            <a:ext cx="86328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1955880"/>
            <a:ext cx="86328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2:56Z</dcterms:modified>
  <cp:revision>3</cp:revision>
  <dc:subject/>
  <dc:title>Slide 1</dc:title>
</cp:coreProperties>
</file>