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D0E-4FDC-41B0-A39A-5AE34491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C09-D322-43D5-846C-8346E041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A75-FC3B-4343-9E58-C3B511BA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036-83DC-4C44-84AD-5BD05A43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E8F-BA1B-4A73-8AD0-9278BAC7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011-6FFA-4B2A-9B9D-4EE340AC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31D-D08E-49F3-A8B7-C95F1DD0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32F-2986-485E-B4AE-197B9388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7A3-C1B2-40CD-958A-E327A22A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D8F-6D9C-41BF-BD85-1C2F6557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F7C-8F98-484E-8060-24EE4E9A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ECF-A211-4180-B325-2B2F42CE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367B-7D01-4A47-90DA-AD4697CE1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1359000"/>
            <a:ext cx="8632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160" y="1320840"/>
            <a:ext cx="8632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673200"/>
            <a:ext cx="86328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083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24080" y="152280"/>
            <a:ext cx="675324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160" y="254160"/>
            <a:ext cx="86328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03240" y="254160"/>
            <a:ext cx="5545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81000"/>
            <a:ext cx="7413480" cy="67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68480" y="254160"/>
            <a:ext cx="52196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324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355680"/>
            <a:ext cx="86328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47:15Z</dcterms:modified>
  <cp:revision>4</cp:revision>
  <dc:subject/>
  <dc:title>Slide 1</dc:title>
</cp:coreProperties>
</file>