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40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31374-1427-43FF-855E-B3DE22DBC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E2342-C5E3-41D4-8688-7F0E0C356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F574A-D4E0-43F0-96C3-4B50E2B01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36CDD-5979-4F7C-B247-D46FD5FB6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EE19D-C8E3-4CD0-9579-046C53A7C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3F94F-A8DA-443E-90C8-16271BB43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37468-2AB9-47CB-8DF6-28FBE058C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38559-D229-4D18-9534-A28F2DC97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B9797-53FA-46F5-BDBF-BE4097AB2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EE4DB-0341-447C-B64B-936E4E513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5D361-0613-4518-B13F-3C08F6413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0C6F7-E9E2-40A4-BFAE-EFA62259E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4C929-1AAF-4391-8CE3-6BD61EC089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54160" y="1041480"/>
            <a:ext cx="8632800" cy="47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54160" y="800280"/>
            <a:ext cx="8632800" cy="52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600200" y="152280"/>
            <a:ext cx="6039000" cy="662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33520" y="228600"/>
            <a:ext cx="8099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54160" y="291960"/>
            <a:ext cx="8632800" cy="62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082960" y="254160"/>
            <a:ext cx="4971960" cy="63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54160" y="2082960"/>
            <a:ext cx="8632800" cy="268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300320" y="76320"/>
            <a:ext cx="6624360" cy="66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739800" y="339840"/>
            <a:ext cx="7718400" cy="628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87520" y="166680"/>
            <a:ext cx="8022960" cy="65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600200" y="85680"/>
            <a:ext cx="6124680" cy="66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54160" y="622440"/>
            <a:ext cx="8632800" cy="56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54160" y="419040"/>
            <a:ext cx="8632800" cy="60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574640" y="50760"/>
            <a:ext cx="6007320" cy="676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803240" y="254160"/>
            <a:ext cx="5537520" cy="63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54160" y="1346040"/>
            <a:ext cx="863280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54160" y="139680"/>
            <a:ext cx="8632800" cy="658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54160" y="139680"/>
            <a:ext cx="8632800" cy="658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54160" y="139680"/>
            <a:ext cx="8632800" cy="658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54160" y="291960"/>
            <a:ext cx="8632800" cy="627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54160" y="368280"/>
            <a:ext cx="8632800" cy="611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609480" y="76320"/>
            <a:ext cx="7947000" cy="671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54160" y="2273400"/>
            <a:ext cx="8632800" cy="23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254160" y="546120"/>
            <a:ext cx="8632800" cy="57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254160" y="1384200"/>
            <a:ext cx="8632800" cy="41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371600" y="152280"/>
            <a:ext cx="6550200" cy="662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9480" y="76320"/>
            <a:ext cx="7896240" cy="674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685800" y="76320"/>
            <a:ext cx="7718400" cy="67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254160" y="1181160"/>
            <a:ext cx="8632800" cy="45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54160" y="609480"/>
            <a:ext cx="8632800" cy="564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146240" y="76320"/>
            <a:ext cx="7007040" cy="669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54160" y="1384200"/>
            <a:ext cx="8632800" cy="41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1828800" y="254160"/>
            <a:ext cx="5483160" cy="63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54160" y="1282680"/>
            <a:ext cx="8632800" cy="43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254160" y="825480"/>
            <a:ext cx="8632800" cy="522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254160" y="584280"/>
            <a:ext cx="8632800" cy="56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54160" y="1117440"/>
            <a:ext cx="8632800" cy="46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54160" y="457200"/>
            <a:ext cx="8632800" cy="594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54160" y="1104840"/>
            <a:ext cx="8632800" cy="46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790640" y="254160"/>
            <a:ext cx="5568840" cy="63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54160" y="457200"/>
            <a:ext cx="8632800" cy="594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3T10:17:48Z</dcterms:created>
  <dc:creator>ramkumar</dc:creator>
  <dc:description/>
  <dc:language>en-US</dc:language>
  <cp:lastModifiedBy>kiran</cp:lastModifiedBy>
  <dcterms:modified xsi:type="dcterms:W3CDTF">2006-09-25T11:31:37Z</dcterms:modified>
  <cp:revision>3</cp:revision>
  <dc:subject/>
  <dc:title>Slide 1</dc:title>
</cp:coreProperties>
</file>