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ED8-D49F-4981-A12F-5AC58857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248-9830-4BF1-B01F-C662E780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8C1-02C1-4214-BB82-4A67D126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3DC-9432-4AAA-9CB4-8330D7A8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E77-CC98-48E4-9E68-EE4E9274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5FD-3C33-45FB-8386-B0AAD3B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34C-8EA9-46C1-9895-F1AD41A2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823-4BD7-4244-8B2F-B713B456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325-07C6-47C3-9BFC-70E24599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D7E-9B22-4590-BCF7-F9A503A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EB2-E19A-4FD8-A85A-BE43E0E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FE1-D157-46FB-B371-AA6A6E5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3F0C-6A9F-401F-8C71-8A20BD351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160" y="228600"/>
            <a:ext cx="8632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85680"/>
            <a:ext cx="61070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741384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160" y="888840"/>
            <a:ext cx="86328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6328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160" y="838080"/>
            <a:ext cx="8632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4160" y="1511280"/>
            <a:ext cx="8632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4160" y="863640"/>
            <a:ext cx="8632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4160" y="838080"/>
            <a:ext cx="86328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4160" y="851040"/>
            <a:ext cx="86328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" y="546120"/>
            <a:ext cx="86328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736560"/>
            <a:ext cx="8632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9680" y="76320"/>
            <a:ext cx="83534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4160" y="380880"/>
            <a:ext cx="86328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4160" y="457200"/>
            <a:ext cx="86328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4160" y="393840"/>
            <a:ext cx="86328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76320"/>
            <a:ext cx="62960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68480" y="254160"/>
            <a:ext cx="52038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257480"/>
            <a:ext cx="863280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92504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44360"/>
            <a:ext cx="623232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160" y="304920"/>
            <a:ext cx="8632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0:17:48Z</dcterms:created>
  <dc:creator>ramkumar</dc:creator>
  <dc:description/>
  <dc:language>en-US</dc:language>
  <cp:lastModifiedBy>kiran</cp:lastModifiedBy>
  <dcterms:modified xsi:type="dcterms:W3CDTF">2006-09-25T10:41:08Z</dcterms:modified>
  <cp:revision>3</cp:revision>
  <dc:subject/>
  <dc:title>Slide 1</dc:title>
</cp:coreProperties>
</file>