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768-B8DE-4AFA-8AEB-F3802C75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840-AD2C-4E8E-92E8-FF2740E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77C-746B-411A-8022-DABD3257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E0C-EFE4-4F74-8999-6090AC13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DF1-D267-4C02-A001-4DDDCF4A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E50-4372-4C7A-B0DA-E560C8CD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0C6-CDD1-47AC-98E7-7D1BD399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E60-80D8-4241-A28B-5F9143F5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D95-2248-497D-A5B5-46967081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6C7-4208-4151-96E5-62D03EB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27C-9D3C-436E-B088-0B1BEBF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8CC-471F-447C-84EB-4EBBEA4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F36F-42C1-4106-A57D-9A6311F8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2298600"/>
            <a:ext cx="86328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14480"/>
            <a:ext cx="8632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0560" y="76320"/>
            <a:ext cx="766764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231920"/>
            <a:ext cx="8632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2743200"/>
            <a:ext cx="86328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1981080"/>
            <a:ext cx="86328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762120"/>
            <a:ext cx="8632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765440"/>
            <a:ext cx="8632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825480"/>
            <a:ext cx="863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1778040"/>
            <a:ext cx="8632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09440"/>
            <a:ext cx="741348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01680"/>
            <a:ext cx="79470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4240" y="250920"/>
            <a:ext cx="774396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107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25680" y="254160"/>
            <a:ext cx="42991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01520"/>
            <a:ext cx="863280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160" y="2793960"/>
            <a:ext cx="863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625760"/>
            <a:ext cx="863280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723960"/>
            <a:ext cx="8632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160" y="406440"/>
            <a:ext cx="86328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98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0760" y="254160"/>
            <a:ext cx="4918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4990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50232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75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54360" y="254160"/>
            <a:ext cx="54370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88920"/>
            <a:ext cx="86328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57320"/>
            <a:ext cx="82296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434960"/>
            <a:ext cx="86328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533520"/>
            <a:ext cx="86328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41:21Z</dcterms:modified>
  <cp:revision>3</cp:revision>
  <dc:subject/>
  <dc:title>Slide 1</dc:title>
</cp:coreProperties>
</file>