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0BE-88C0-4710-8B7A-C0C6CD75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7586-070F-409C-9FDC-57C2A2D6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C7D-1AA9-41BB-B06B-1C35E0A8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33D-ABE2-483F-BC7E-55B7CD38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A09A-3037-4C2A-864D-B4B7B348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ABA-9FD0-4DDE-87A3-7A0D541C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198F-D19F-4168-ADAA-3FBD908C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59C-6404-43E1-B9F6-6F61F23A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E3E6-0936-458B-81EA-70E4CA30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3A0-2081-4DBF-BB0F-B84F9C67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DC7-968A-4482-9C39-CEAD67CA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397-07F0-4827-BE3E-2D449F17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B375-D517-4170-8AF0-7178BAA5B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812880"/>
            <a:ext cx="86328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901800"/>
            <a:ext cx="86328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1333440"/>
            <a:ext cx="86328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67086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152280"/>
            <a:ext cx="8632800" cy="65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136440"/>
            <a:ext cx="777240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12920" y="76320"/>
            <a:ext cx="6535800" cy="66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76320"/>
            <a:ext cx="629892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" y="1117440"/>
            <a:ext cx="86328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254160"/>
            <a:ext cx="863280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36:16Z</dcterms:modified>
  <cp:revision>5</cp:revision>
  <dc:subject/>
  <dc:title>Slide 1</dc:title>
</cp:coreProperties>
</file>