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420-C9A0-45C6-B410-72CCFD67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2AA-C03D-4108-9CF1-31C60F90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139-CCCD-4FF1-8387-C2909CF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5C0-406C-4573-961F-44BBC971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8A3-B11A-470B-B560-4B627FC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9B8-1208-4CB6-89CD-DD3BCEC6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C3E-8F75-424C-89FC-3F9F9A9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11F-D4B3-4A6A-9B55-18ACD61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B91-1CD0-49F8-BC7D-7FB332F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61C-0B23-468A-A35E-CEA215C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358-1BB6-4D33-B3F6-083A629F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321-0F7D-47B8-99B3-FD0777A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420-2ACB-4732-A05D-19EA6959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409760"/>
            <a:ext cx="86328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7640" y="152280"/>
            <a:ext cx="73882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793960"/>
            <a:ext cx="863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015920"/>
            <a:ext cx="8632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587600"/>
            <a:ext cx="86328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3816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86328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90920"/>
            <a:ext cx="8632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6:17Z</dcterms:modified>
  <cp:revision>4</cp:revision>
  <dc:subject/>
  <dc:title>Slide 1</dc:title>
</cp:coreProperties>
</file>