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F9B2-7607-4AB2-BFD5-0FD21121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4D7E-0EC2-4D89-B792-D863FA0C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7D64-0843-4CFE-A71F-69550527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BAC7-965B-48C5-A398-21D33DC7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DAF9-EEF0-4065-B540-2449D396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1D57-B1BC-4C57-9270-D8DE02B3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60F6-64F6-4EDA-984D-63F9C218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6699-A3B4-418E-A56A-95BFAD9B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F69F-9F02-4FE2-A28F-13E7EBA6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51E9-1C8D-4356-B0FA-A9CE48BF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069D-E225-4972-8EEB-AC338C30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9D32-CE1D-479A-830C-7A75C95C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277F-4FD4-4A7B-96D0-AC907397E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46748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0600" y="98280"/>
            <a:ext cx="663408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4160" y="457200"/>
            <a:ext cx="86328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4160" y="749160"/>
            <a:ext cx="86328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629604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5080" y="152280"/>
            <a:ext cx="6443640" cy="66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698400"/>
            <a:ext cx="863280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59000" y="111240"/>
            <a:ext cx="6565680" cy="66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7010280" cy="659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11200" y="152280"/>
            <a:ext cx="6513480" cy="66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76320"/>
            <a:ext cx="701064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76320"/>
            <a:ext cx="705816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1:37:34Z</dcterms:modified>
  <cp:revision>3</cp:revision>
  <dc:subject/>
  <dc:title>Slide 1</dc:title>
</cp:coreProperties>
</file>