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F83-6AAA-43E9-84C3-44BDDAA9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1D8-BDAA-4B7F-8D18-B3C99769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43E-3073-4F7B-A836-B964D306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0FE-FF6C-4D3F-8AE2-E5FF2BE3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640-3072-4973-A2B3-7D3CED9E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054-8523-4FA8-92D1-0A6C33FA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0A6-7E4A-4443-B11F-4637A18D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ACA-5D9C-4020-92C8-5EB1783A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72B-99F3-4179-A280-BF0BD113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823-979D-45F7-A17F-36313B1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F41-EAD0-476C-A4D2-D3C6BEF8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394-B492-46A0-B95E-F96A53A9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93BF-6333-40D2-9F8D-E1151A565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82960" y="254160"/>
            <a:ext cx="49719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67728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876240"/>
            <a:ext cx="86328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0440" y="254160"/>
            <a:ext cx="46166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507960"/>
            <a:ext cx="8632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571680"/>
            <a:ext cx="8632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444600"/>
            <a:ext cx="8632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10092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28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254160"/>
            <a:ext cx="32148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5040" y="254160"/>
            <a:ext cx="37400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42:33Z</dcterms:modified>
  <cp:revision>3</cp:revision>
  <dc:subject/>
  <dc:title>Slide 1</dc:title>
</cp:coreProperties>
</file>