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36F0-8661-4352-9E8F-7142D1871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B3DF-6446-49AD-95DE-DC56598A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A23A-AB28-4416-B61C-3DAA7EC92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B767-D145-48D5-9485-D1379DBD8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C81D-CEBE-445E-BC2A-0B8CA611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3C13-B03D-476B-876C-3E7ADD07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6DD3-4D48-4109-81DC-62DAC240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655D-B953-4EBC-8177-DC9AF3B7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7A3E-780C-404A-B347-978B688F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9279-9E1F-43D4-84C7-0EF6B10D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A65F-CA9B-4B0E-8F53-456C6F2E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4BAB-FEAA-4BFF-9CD8-59613620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5ACB-4870-417A-904D-31B35C105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146160"/>
            <a:ext cx="8251920" cy="65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4160" y="2082960"/>
            <a:ext cx="863280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4160" y="1028880"/>
            <a:ext cx="863280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4160" y="1359000"/>
            <a:ext cx="863280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85680"/>
            <a:ext cx="769608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4160" y="101520"/>
            <a:ext cx="86328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6328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4160" y="2870280"/>
            <a:ext cx="8632800" cy="112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76320"/>
            <a:ext cx="7108920" cy="66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22640" y="254160"/>
            <a:ext cx="470052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4160" y="1206360"/>
            <a:ext cx="863280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160" y="939960"/>
            <a:ext cx="863280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4160" y="279360"/>
            <a:ext cx="8632800" cy="631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141120"/>
            <a:ext cx="8048520" cy="66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4160" y="254160"/>
            <a:ext cx="8632800" cy="63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0:17:48Z</dcterms:created>
  <dc:creator>ramkumar</dc:creator>
  <dc:description/>
  <dc:language>en-US</dc:language>
  <cp:lastModifiedBy>kiran</cp:lastModifiedBy>
  <dcterms:modified xsi:type="dcterms:W3CDTF">2006-09-25T11:24:32Z</dcterms:modified>
  <cp:revision>3</cp:revision>
  <dc:subject/>
  <dc:title>Slide 1</dc:title>
</cp:coreProperties>
</file>