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75A-9E92-4BCE-894E-431AEC98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C1D-894E-495C-81A3-D8348EB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FCA-8AAD-4266-B8CA-C6F4848F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E6D-26D6-4ABC-901F-29929D45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18D-7DB8-4D32-8379-22ED3D0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CE9-CC0B-4DD6-814C-2600CCC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A4C-71E6-4D9F-A563-CA17DFE9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1D3-6975-42D1-85BB-D545473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514-7507-4367-9BC9-6E32427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376-8FED-41D7-9F28-61F4557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BB9-6478-44B1-8B5F-5CD96DF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F1F-98C4-47A7-AA73-65FE4D64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AF2A-6A74-4D08-A441-31971053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15960" y="166680"/>
            <a:ext cx="618012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298600"/>
            <a:ext cx="8632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863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128520"/>
            <a:ext cx="6562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282680"/>
            <a:ext cx="8632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3:17Z</dcterms:modified>
  <cp:revision>3</cp:revision>
  <dc:subject/>
  <dc:title>Slide 1</dc:title>
</cp:coreProperties>
</file>