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AD8-410B-47FB-8E26-86169318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76F-6778-4470-B348-7E156069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456-AE01-4A9F-A5D9-FFACF75F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EC2-39E1-4A13-B6D2-5B8BE8ED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153-0746-4054-9CBF-FADD46F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62D-5841-4993-9F6C-5EE687F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564-0E28-49F2-9D5E-37A0435C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711-A967-4C0E-A08D-E75481F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5EA-0B4F-4822-9A07-5DAF4A00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117-B261-420A-9B9A-4A4BA59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F96-5D72-49F1-B53A-2D032EC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F96-5C79-408D-9733-FF23E59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7D3-869D-4D4A-B981-D6A27945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698400"/>
            <a:ext cx="8632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216000"/>
            <a:ext cx="86328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444600"/>
            <a:ext cx="8632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2160" y="254160"/>
            <a:ext cx="53755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914400"/>
            <a:ext cx="8632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74720"/>
            <a:ext cx="86328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727280"/>
            <a:ext cx="86328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346040"/>
            <a:ext cx="863280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739880"/>
            <a:ext cx="86328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55Z</dcterms:modified>
  <cp:revision>3</cp:revision>
  <dc:subject/>
  <dc:title>Slide 1</dc:title>
</cp:coreProperties>
</file>