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4219-2E96-4DD7-B158-2E683CC4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8E03-5E5F-4F78-9931-0F4E46B5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A417-36F8-49E4-BDAD-601E20D3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938-3B5A-4AC9-AFD8-DD4EF1F1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D1F-3E7E-4CF6-96DD-D8699EEA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551-B119-42CB-BC2D-AA0F19D5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A2A6-CE6C-434D-ABB2-510B2C2E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5C04-1BC0-4AE9-9243-B1BBB0A6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3F4E-717A-4892-A92F-62CBD618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311E-C18A-4E79-9FD8-FFE4754B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57ED-5DA6-4606-B22D-9A41ED92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7E85-9CD4-4CB5-B9C8-CB3A1AFD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AC0E-830B-4DE6-8136-448919A22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952560"/>
            <a:ext cx="8632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774720"/>
            <a:ext cx="863280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03240" y="254160"/>
            <a:ext cx="55375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70280" y="254160"/>
            <a:ext cx="340020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607068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28880"/>
            <a:ext cx="86328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1:34:22Z</dcterms:modified>
  <cp:revision>3</cp:revision>
  <dc:subject/>
  <dc:title>Slide 1</dc:title>
</cp:coreProperties>
</file>