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9B0-54E0-4720-93B0-C3CCBAE3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77A-EC08-420A-A1C5-BFCB2E3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BEC-2265-455B-B162-A269D220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578-428E-498F-BD63-C14046AB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D1A-1C9D-45F1-99A0-534C2F7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326-48AA-4834-B117-C20B203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713-7C53-4F9F-8256-C56E18CF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372-AE1C-4815-BA3D-8F8A47E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F9A-576A-4999-89D9-005423F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590-7167-4DE7-8ECD-98C0A36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ED1-7C3C-4891-8A98-D4A05E8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DB2-E406-4D89-B8D5-5334E71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7B2-0B1F-4638-96EE-23BFACBEC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3:23Z</dcterms:modified>
  <cp:revision>3</cp:revision>
  <dc:subject/>
  <dc:title>Slide 1</dc:title>
</cp:coreProperties>
</file>