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1FE-D5CF-4456-8D80-6494D64E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A37-FCB7-44EB-ACF6-585E1728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236-2D76-4DF2-9B1B-7D5EF23F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418-0AE7-4A03-877A-57F5EFC5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2DC-1F67-44F3-993A-7E4D93B2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BE6-9CAB-4849-9858-B3A33DFB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007-5C2F-48BC-98D6-6AC849B0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BA58-3B60-4EDB-82BF-D6E367BA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A3B-DD6D-4CB7-812D-73D241CA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9E8-D1DB-4C2E-BF12-E5BF268B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AAC-7E34-4EA1-8B16-FCFF26A1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78A-CC87-4A2A-B4B5-B5EA2C1D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E517-D856-460F-8553-9EFBB0D84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14480"/>
            <a:ext cx="86328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62040" y="50760"/>
            <a:ext cx="60246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536840"/>
            <a:ext cx="8632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1295280"/>
            <a:ext cx="86328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380880"/>
            <a:ext cx="863280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888840"/>
            <a:ext cx="8632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25600" y="76320"/>
            <a:ext cx="63468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074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62040" y="50760"/>
            <a:ext cx="601668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965160"/>
            <a:ext cx="8632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1333440"/>
            <a:ext cx="86328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1155600"/>
            <a:ext cx="86328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4160" y="1257480"/>
            <a:ext cx="86328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291960"/>
            <a:ext cx="863280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177840"/>
            <a:ext cx="863280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160" y="1244520"/>
            <a:ext cx="8632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4160" y="1104840"/>
            <a:ext cx="86328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4160" y="469800"/>
            <a:ext cx="86328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160" y="507960"/>
            <a:ext cx="8632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18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1562040"/>
            <a:ext cx="86328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3600" y="123840"/>
            <a:ext cx="7236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1054080"/>
            <a:ext cx="86328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87440" y="160200"/>
            <a:ext cx="646128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160" y="762120"/>
            <a:ext cx="863280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65240"/>
            <a:ext cx="86328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8280" y="304920"/>
            <a:ext cx="789624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30320" y="254160"/>
            <a:ext cx="52815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43280" y="254160"/>
            <a:ext cx="5251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50:24Z</dcterms:modified>
  <cp:revision>5</cp:revision>
  <dc:subject/>
  <dc:title>Slide 1</dc:title>
</cp:coreProperties>
</file>