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D2A-695C-4959-976A-2B28E81E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BEAF-E1A9-4C85-8318-E94ACC29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991-0514-467F-B015-29C11863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9A4-E6E9-4A0D-BC99-A11D0C03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355A-564C-4EFE-BCD9-C0271846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CDA-C319-423D-8BAE-AE99D0BB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5B37-57F4-48B3-B2D4-AF72C64D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2F7-BA06-41BF-8812-020A9A80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734-5BBC-433D-8B35-76A6E4DF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C6DF-702A-4924-BA95-F81BEC09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047F-B1B1-42DE-A774-15FC0395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F71-5686-4D06-836B-1EBD9BF2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8FA6-8577-4B48-9154-8729D3E2D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507960"/>
            <a:ext cx="86328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1104840"/>
            <a:ext cx="863280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76320"/>
            <a:ext cx="81248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965160"/>
            <a:ext cx="86328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76320"/>
            <a:ext cx="7540920" cy="67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1092240"/>
            <a:ext cx="86328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" y="76320"/>
            <a:ext cx="80740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4160" y="291960"/>
            <a:ext cx="8632800" cy="62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4160" y="2489040"/>
            <a:ext cx="86328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4160" y="1397160"/>
            <a:ext cx="86328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4160" y="1155600"/>
            <a:ext cx="86328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66880" y="76320"/>
            <a:ext cx="7515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09680" y="88920"/>
            <a:ext cx="835344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76320"/>
            <a:ext cx="677880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317520"/>
            <a:ext cx="863280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190440"/>
            <a:ext cx="863280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190440"/>
            <a:ext cx="86328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8632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86328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7520" y="139680"/>
            <a:ext cx="809928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622440"/>
            <a:ext cx="863280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59:01Z</dcterms:modified>
  <cp:revision>3</cp:revision>
  <dc:subject/>
  <dc:title>Slide 1</dc:title>
</cp:coreProperties>
</file>