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376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6232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376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16232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1F83AD13-296C-4E02-8DB6-EEA744949E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9147240"/>
            <a:ext cx="136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664877-A254-4B56-8178-1379616CD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527120" y="921960"/>
            <a:ext cx="4262400" cy="319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06B-EA2A-43DE-99EF-B3872782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76E-9115-4419-8C9B-6E14E911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235-57A2-4AD3-BD9C-9538F700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26D-C9A7-468E-9440-F8A4B836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316-BE3B-40C3-B94D-FEAFE9C9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D5B-3C1F-4108-8968-B2D4C849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7A5-2D62-4C89-BAA9-0E1E1D4D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83E-9F32-458D-BB94-593C166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B0A-9F5F-441F-A3E1-945A9B36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D05-9107-48D8-90F4-0FF18A3E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B6E-1A09-4C15-B99F-082D1063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A76-9803-4F47-95CC-211AA4D5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A26C-7758-4072-81AB-01A86622A60B}" type="datetime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9A15-63AD-47D5-9234-B8190AEDD2F4}" type="slidenum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077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8 – Storag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quared Coefficient of Variance (C</a:t>
            </a:r>
            <a:r>
              <a:rPr b="1" lang="en-US" sz="3200" spc="-1" strike="noStrike" baseline="30000">
                <a:solidFill>
                  <a:srgbClr val="0332b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ariance / WA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sqrt(Variance)/WAM = StDev/W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less 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ing to characterize random events, but need distribution of random events with tractable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popular such distribution i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onential distribu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C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using constant to characterize variability about the 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riance of C over tim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story of events has no impact on probability of an event occurring n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emoryl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important assumption to predict behavi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pose not; then have to worry about the exact arrival times of requests relative to each othe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 math not tractabl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A9A-6E9D-4D0F-9EE3-B5CE2F8097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73834-3984-4D55-81E2-830755DAFE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isson Distrib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idely used exponential distribution is Pois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d by probability mass fun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(k) =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k!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= Rate of events x Elapse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terarrival times exponentially distributed &amp; use arrival rate from above for rate of events, number of arrivals in time interv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Poiss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0D9-CC65-49F5-9288-BFF592B0B8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340FC-946B-4F8B-92CE-438ED80099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new task must wait for server to complete a task assuming server bu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it’s a Poiss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residual service tim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x Arithmetic mean x (1 +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not random &amp; all values = averag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deviation is 0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alf average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random &amp; Poiss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weighted arithmetic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551-FB48-470E-8C3A-22082B8224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E689D-ED8A-4C2B-8C1B-1AC0A350AF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asks in queue (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head of new task must be completed before task can be servi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sk takes on average Tim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at server takes average residual service time to comple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ce server is bus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time for service is 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erver utilization x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ng definitions for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residual service time, &amp; rearrang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7E5-D3EF-4D75-A35F-33F96E4402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FD499-F548-49E3-A68E-0265E7B3E0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rrival rate x Tim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’s La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to the components of the black box since they must also be in equilibr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000"/>
            </a:b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r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(1-Server utilization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no. requests in queue slide 6? (5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0.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(1-0.5) = 0.25/0.5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 requests on average in 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8E3-5868-4115-8438-AFFAB1AB74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A9FF4-90FA-4C5A-AF46-1666054BBA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/M/1 Queuing Mode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s in equilib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between 2 successive requests arriving,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interarrival time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exponential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sources of requests is unlimited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infinite population mode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can start next job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queue, no limit to length of queue, and FIFO discipline, so all tasks in line must be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on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M/M/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book also derives M/M/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request arrival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service time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ing for Markov, mathematician who defined and analyzed the memoryless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B39-0439-4964-A539-002ED837D9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3F528-60D3-4D24-9B31-DC520C9000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talking during Pizza last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pdate Meeting Wednesday 4/19, 10 to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5 Soda. Meeting signup on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4/24 Quiz 2 5-8 PM in ro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inly Ch 4 to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4/26 Bad Career Advice / Bad Talk Advice ? / Goodbye to Computer Architecture / Your Cal Cultural 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esentations Monday 5/1 (all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osters 5/3 Wednesday (11-1 in S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apers due Friday 5/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rchana, who will post papers on class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0FB-2DD3-4B71-A160-107C92EE8B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B6681-7BC6-49F6-B2CA-DB332D6E3C66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disk I/Os / sec, requests are exponentially distributed, and average service time is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2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2 = 0.8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0 ms x 0.8/(1-0.8) = 20 x 4 = 8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0+20 ms = 10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5FF-D6FF-4782-AABF-AC6BCBC2D0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E77AD-C75A-41EC-8231-48229F7538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much better with 2X faster disk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service time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1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1 = 0.4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 x 0.4/(1-0.4) = 10 x 2/3 = 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.7+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 = 1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X faster response time with 2X faster dis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EDB-94F7-4170-ADB8-4188CF241F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CFC82-7900-43DA-8165-F5B1B1A545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of Queueing Theory in practi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quickly do not try to utilize resource 100% but how far should back of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designers to decide impact of faster hardware on utilization and hence on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surprisingly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F00-E0EC-402F-91C7-AB1A2CC9E3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4E759-3734-4EC3-BF9B-127A240D51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s: Arial Density now 30%/yr vs. 100%/yr in 200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C: price performance as normalizing configuration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ting to ensure no foul 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with restricted response time is normal 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nt errors in syste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ure in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ten fail slow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ystems: problems in maintenance, operation as well as hardware,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381-D5F9-4BE7-A5A1-54536A5071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C0FE0-A0E5-4C30-B28B-FD47068D5605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 cutting Issues: </a:t>
            </a:r>
            <a:br>
              <a:rPr sz="2800"/>
            </a:b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Buses </a:t>
            </a:r>
            <a:r>
              <a:rPr b="1" lang="en-US" sz="2800" spc="-1" strike="noStrike">
                <a:solidFill>
                  <a:srgbClr val="0332b7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 point-to-point links and switche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762120"/>
          <a:ext cx="8458200" cy="3165480"/>
        </p:xfrm>
        <a:graphic>
          <a:graphicData uri="http://schemas.openxmlformats.org/drawingml/2006/table">
            <a:tbl>
              <a:tblPr/>
              <a:tblGrid>
                <a:gridCol w="2716200"/>
                <a:gridCol w="854280"/>
                <a:gridCol w="1001520"/>
                <a:gridCol w="1897200"/>
                <a:gridCol w="893880"/>
                <a:gridCol w="1095120"/>
              </a:tblGrid>
              <a:tr h="103284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ck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Hz (D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tach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 Exp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434340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bits and BW is per direc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X for both directions (not show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use fewer wires, commonly increase BW  via versions with 2X-12X the number of wires and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AEA-B0C2-45C3-A2FE-CA63AAC4A7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5B737-CB2B-4BB1-B880-51F2C4C5DD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torage Example: Internet Arch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of making a historical record of the Intern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rchive began in 19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back Machine interface perform time travel to see what the website at a URL looked lik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over a petabyte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, and is growing by 20 terabyte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 of new data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storing the historical record, the same hardware is used to crawl the Web every few months to get snapshots of the Inter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B92-0260-4C82-89C1-B9A0081414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D74F1-72CE-41B1-9A4D-B14A630A4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Internet Archive Clu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476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U storage node PetaBox GB2000 from Capricorn Technolog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4 500 GB Parallel ATA (PATA) disk drives, 512 MB of DDR266 DRAM, one 10/100/1000 Ethernet interface, and a 1 GHz C3 Processor from VIA (80x86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dissipate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wat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GB2000s in a standard VME rack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TB of raw storage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nodes are connected with a 48-port 10/100 or 10/100/1000 Ethernet swit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ck dissipates about 3 K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etaByte = 12 r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1523880"/>
            <a:ext cx="122220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A65-CD70-4622-A6FD-1C3D0BCB02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4ABBF-5106-4383-9AD0-EF266F5CF8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Cos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 processor, 512 MB of DDR266 DRAM, ATA disk controller, power supply, fans, and enclosure =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 RPM Parallel ATA drives holds 500 GB = $37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-port 10/100/1000 Ethernet switch and all cables for a rack = $30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84,500 for a 80-TB rack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 Disk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0% of th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01B-40F7-48EC-B91A-B86AB9ECD8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8018F-F09E-43FA-B2F1-C56DFE640F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0 RPM Parallel ATA drives holds 500 GB, has an average time seek of 8.5 ms, transfers at 50 MB/second from the disk. The PATA link speed is 133 MB/seco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of the VIA processor is 1000 MIP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uses 50,000 CPU instructions for a disk I/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protocol stacks uses 100,000 CPU instructions to transmit a data block between the cluster and the external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 controller overhead is  0.1 ms to perform a disk I/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I/O size is 16 KB for accesses to the historical record via the Wayback interface, and 50 KB when collecting a new snaps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 are limit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75 I/Os/s per disk, 300/s per node, 12000/s per rack, or about 200 to 600 Mbytes / sec Bandwidth per 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needs to support 1.6 to 3.8 Gbits/second over 40 Gbit/sec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BE0-0453-41F9-B231-64FA2F814C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257F7-64DF-4A09-A8F4-C8325A4338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/memory/enclosur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Disk MTTF is 125,000 hours (x 1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ontroller MTTF is 5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Switch MTTF is 500,000 hours (x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upply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abl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TF for the system is 531 hours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week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of time failures ar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ime failures are fans or power sup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97C-49F4-46BB-A05C-C60B91EB16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4C3DE-BDE9-4610-8674-8A5F6CD2CB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main motivation for RAID in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prediction of processor performance and disk capacity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performance figures of merit to compare RAID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AID groups sizes were in the paper? Are they realistic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RAID 2 (ECC) have lower predicted MTTF than RAID 3 (Parit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2D1-7C23-4D66-8E31-146E943AB3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BFF83-0E7C-4857-B12E-8A1E495B9877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ropose balance performance and capacity of RAID 1 to RAID 5? What do you think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some of the open issues?  Which were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, what do you think were important contrib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authors ge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D in Hardware vs. RAID in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MTTF vs. in th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ation of disks in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 ($10B sales in 2005) and R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nvented RAI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5DC-3E87-44C3-9DDB-22BCB71C2C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1E2FC-092C-4A29-BD43-BA680A96843A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ciation for relationship of latency and utiliz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s for storage as well as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paper: Its reliability, not performance, that matters for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1219320"/>
            <a:ext cx="4559400" cy="1285920"/>
            <a:chOff x="2057400" y="1219320"/>
            <a:chExt cx="4559400" cy="1285920"/>
          </a:xfrm>
        </p:grpSpPr>
        <p:sp>
          <p:nvSpPr>
            <p:cNvPr id="140" name=""/>
            <p:cNvSpPr/>
            <p:nvPr/>
          </p:nvSpPr>
          <p:spPr>
            <a:xfrm>
              <a:off x="3270240" y="145728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18255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9840" y="207324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782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0868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5604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5840" y="12351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19018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2680" y="207324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4800" y="207324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22003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19782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89040" y="161928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7000" y="156852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23600" y="121932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616-1632-4AF8-ADD5-58E5F51C23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B80DA-76F7-476C-A7FC-71CE2B217554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roduction to Queueing Theo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320" indent="-18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as long as black box not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1400" y="201600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3560" y="201600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AC2-91F9-4A18-A348-7018B7C15E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56E53-4027-4C6C-BB0C-01C94728AABE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riving Little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apsed time that observe 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(overlapping) tasks during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 of elapsed times for each tas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RHS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get Little’s La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124080"/>
            <a:ext cx="533520" cy="1447920"/>
          </a:xfrm>
          <a:custGeom>
            <a:avLst/>
            <a:gdLst/>
            <a:ahLst/>
            <a:rect l="l" t="t" r="r" b="b"/>
            <a:pathLst>
              <a:path w="1632" h="896">
                <a:moveTo>
                  <a:pt x="1632" y="896"/>
                </a:moveTo>
                <a:cubicBezTo>
                  <a:pt x="1576" y="576"/>
                  <a:pt x="1520" y="256"/>
                  <a:pt x="1248" y="128"/>
                </a:cubicBezTo>
                <a:cubicBezTo>
                  <a:pt x="976" y="0"/>
                  <a:pt x="488" y="64"/>
                  <a:pt x="0" y="12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038480"/>
            <a:ext cx="16761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888" y="708"/>
                  <a:pt x="1568" y="696"/>
                  <a:pt x="1200" y="576"/>
                </a:cubicBezTo>
                <a:cubicBezTo>
                  <a:pt x="832" y="456"/>
                  <a:pt x="416" y="228"/>
                  <a:pt x="0" y="0"/>
                </a:cubicBezTo>
              </a:path>
            </a:pathLst>
          </a:custGeom>
          <a:noFill/>
          <a:ln w="38160">
            <a:solidFill>
              <a:srgbClr val="0332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3276720"/>
            <a:ext cx="4267080" cy="1295280"/>
          </a:xfrm>
          <a:custGeom>
            <a:avLst/>
            <a:gdLst/>
            <a:ahLst/>
            <a:rect l="l" t="t" r="r" b="b"/>
            <a:pathLst>
              <a:path w="2688" h="816">
                <a:moveTo>
                  <a:pt x="0" y="816"/>
                </a:moveTo>
                <a:cubicBezTo>
                  <a:pt x="760" y="740"/>
                  <a:pt x="1520" y="664"/>
                  <a:pt x="1968" y="528"/>
                </a:cubicBezTo>
                <a:cubicBezTo>
                  <a:pt x="2416" y="392"/>
                  <a:pt x="2552" y="196"/>
                  <a:pt x="26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038-CF22-4602-99B4-EAB71828D1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07E79-7B40-4190-8433-5412B17F01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Little Queuing Theory: No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222840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br>
              <a:rPr sz="2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to service a task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verage service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1 /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raditional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µ)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system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rrival 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g no. of arriving tasks/sec (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length of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Arrival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 number tasks = arrival rate x mean servic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46320" y="1228680"/>
            <a:ext cx="4559400" cy="1285920"/>
            <a:chOff x="2146320" y="1228680"/>
            <a:chExt cx="4559400" cy="1285920"/>
          </a:xfrm>
        </p:grpSpPr>
        <p:sp>
          <p:nvSpPr>
            <p:cNvPr id="70" name=""/>
            <p:cNvSpPr/>
            <p:nvPr/>
          </p:nvSpPr>
          <p:spPr>
            <a:xfrm>
              <a:off x="3359160" y="14666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6320" y="18349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8760" y="208260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4240" y="19875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19760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4496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4760" y="12445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65840" y="19112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71600" y="208260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560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3720" y="208260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5320" y="2209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03920" y="19875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162864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55920" y="157788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2520" y="122868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EB1-DCC5-4049-8943-B955099D4B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FF1D7-BB57-4D5D-A91A-BCAE943A5032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er Utiliz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single server, service rat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ween 0 and 1, since system is in equilibrium (arrivals = departures); often calle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affic int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mean number tasks in service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Arrival rate x Time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disk utilization if get 50 I/O requests per second for disk and average disk service time is 10 ms (0.01 sec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50/sec x 0.01 sec =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server is busy on average 50% of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50A-8184-4EED-9A46-3BC106FDEF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41E48-2FDD-484A-930A-27B19C5583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 First In First Out (FIFO)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of time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mean number of tasks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“Mean time to complete service of task when new task arrives if server is bus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ask can arrive at any instant; how predict last p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dict performance, need to know sometime about distribution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01E-CBBA-4F1A-87A1-BB11DF7AF9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F5CC9-E916-41A9-BBD7-E3DE41140E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istribution of Random Variabl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is random if it takes one of a specified set of values with a specified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know exactly next value, but may know probability of all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Requests can be modeled by a random variable because OS normally switching between several processes generating independent I/O 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given probabilistic nature of disks in seek and rotational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racterize distribution of values of a random variable with discrete values using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range between the min &amp; max values into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u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s then plot the number in each bucket as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for discrete values e.g., number of I/O requ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if not discrete? Very fine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796-7E23-404A-B9E5-516AA567C1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A4B69-9190-4DCC-B05D-D9720E3068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haracterizing distribution of a random vari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mean time and a measure of 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ean, us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(WA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requency of task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 = time for task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ariance, instead of standard deviation, use Variance (square of standard deviation) for W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– W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ime is miliseconds, Variance units are square millisecon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 a unitless measure of vari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915-C72D-4120-A5BF-3C56001A45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C28D0-7D74-428C-A9EE-D1EA6C3043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00:18:59Z</dcterms:created>
  <dc:creator>David E. Culler</dc:creator>
  <dc:description/>
  <cp:keywords/>
  <dc:language>en-US</dc:language>
  <cp:lastModifiedBy>EECS</cp:lastModifiedBy>
  <cp:lastPrinted>1999-02-05T18:32:54Z</cp:lastPrinted>
  <dcterms:modified xsi:type="dcterms:W3CDTF">2006-04-16T15:33:09Z</dcterms:modified>
  <cp:revision>162</cp:revision>
  <dc:subject/>
  <dc:title>Perspective on Parallel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cs.berkeley.edu/~culler/cs258-s99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David E. Culler UC Berkeley
CS258 Parallel Computer Architecture
Lecture 5</vt:lpwstr>
  </property>
  <property fmtid="{D5CDD505-2E9C-101B-9397-08002B2CF9AE}" pid="13" name="OutputDir">
    <vt:lpwstr>U:\public_html\cs258-s99\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