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DADD52F-D413-4177-9DBE-950AE187C9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27520" y="9148680"/>
            <a:ext cx="14634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D34DAD-666F-439C-A2B0-04122365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actutally didn’t interlecok: MPU without Interlocked Pipelined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5478A7F-D110-4E8C-9D75-B253AF845F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1273320" y="619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n delayed-branch scheduling come from 1) restrictions on the instructions that can be moved/copied into the delay slot and 2) limited ability to predict at compile time whether a branch is likely to be taken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and C, the use of $1 prevents the add instruction from being moved to the delay s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the sub may need to be copied because it could be reached by another path.  B is preferred when the branch is taken with high probability (such as loop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242-176B-4962-90E8-C9229D0D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2B9-3570-42F7-A94D-01A2EEB4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EF9-09DB-4C9E-94C8-51C77F2B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637-34B4-4025-8988-6230BD9C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D3E-D2F8-453D-A764-9FAC4B14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CAB-86C8-4CDE-B45D-A50F1F16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14B-7BA3-42F5-BB2A-9B440851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A4C-2112-447D-8BB4-47E0A2F6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AAE-4AA0-4362-B7FE-4498A607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5EA-E3F2-4993-A1A9-5472F3E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F0B-7670-4659-9D01-AB34E1C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C22-2EAA-496E-A15C-957C439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AE7-34BD-4FAA-AD6A-67161BC613D9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A301-AFBA-44E1-A08A-094253424563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3 – Performance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+ Pipeline Review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D6A-769A-4AC7-AEC9-B7054B778E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2CF33-E8C5-44DB-B4CC-46E84F9B6A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48040" y="2362320"/>
            <a:ext cx="2755800" cy="3013560"/>
            <a:chOff x="3848040" y="2362320"/>
            <a:chExt cx="2755800" cy="3013560"/>
          </a:xfrm>
        </p:grpSpPr>
        <p:sp>
          <p:nvSpPr>
            <p:cNvPr id="93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48040" y="2362320"/>
              <a:ext cx="2755800" cy="2857320"/>
              <a:chOff x="3848040" y="2362320"/>
              <a:chExt cx="2755800" cy="28573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848040" y="3568680"/>
                <a:ext cx="2755800" cy="1650960"/>
                <a:chOff x="3848040" y="3568680"/>
                <a:chExt cx="2755800" cy="1650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848040" y="5105520"/>
                  <a:ext cx="177840" cy="7596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5626080" y="5130720"/>
                  <a:ext cx="977760" cy="8892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127400" y="3568680"/>
                  <a:ext cx="152640" cy="154944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444920" y="2362320"/>
                <a:ext cx="76320" cy="276840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23D-A811-4EB8-B3C7-CF6C34676F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1072A-AF9D-44AE-B1FF-601B90408E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95480" y="1484280"/>
          <a:ext cx="80611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484280"/>
                    <a:ext cx="8061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293920" y="4597560"/>
            <a:ext cx="3941280" cy="778320"/>
            <a:chOff x="2293920" y="4597560"/>
            <a:chExt cx="3941280" cy="778320"/>
          </a:xfrm>
        </p:grpSpPr>
        <p:sp>
          <p:nvSpPr>
            <p:cNvPr id="105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27400" y="4597560"/>
              <a:ext cx="228600" cy="5079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625720" y="5207040"/>
              <a:ext cx="609480" cy="12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4673520"/>
              <a:ext cx="1681200" cy="577800"/>
            </a:xfrm>
            <a:custGeom>
              <a:avLst/>
              <a:gdLst/>
              <a:ahLst/>
              <a:rect l="l" t="t" r="r" b="b"/>
              <a:pathLst>
                <a:path w="1083" h="364">
                  <a:moveTo>
                    <a:pt x="1083" y="312"/>
                  </a:moveTo>
                  <a:cubicBezTo>
                    <a:pt x="696" y="338"/>
                    <a:pt x="310" y="364"/>
                    <a:pt x="155" y="312"/>
                  </a:cubicBezTo>
                  <a:cubicBezTo>
                    <a:pt x="0" y="260"/>
                    <a:pt x="77" y="130"/>
                    <a:pt x="155" y="0"/>
                  </a:cubicBezTo>
                </a:path>
              </a:pathLst>
            </a:custGeom>
            <a:noFill/>
            <a:ln w="12600">
              <a:solidFill>
                <a:srgbClr val="fc0128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F8C-0186-4649-95D6-66B59EE4E8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D2A59-96D2-4C56-B773-C14872C2BF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8631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Ratios 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results are quite compatible with a lognormal distribution (expect 68% for 1 StDe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F12-5029-4450-B745-FEEF429644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34A15-C9B0-436F-A2E8-4F507B0BFF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ommonly held miscon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discussing a fallacy, we try to give a counterexamp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asily made mistak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generalizations of principles true in limited con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 Fallacies and Pitfalls to help you avoid these err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: Benchmarks remain vali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 benchmark becomes popular, tremendous pressure to improve performance by targeted optimizations or by aggressive interpretation of the rules for running the benchmark: “benchmarksmanship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benchmarks from the 5 SPEC releases. 70% were dropped from the next release since no longer u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: A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of thumb for fault tolerant systems: make sure that every component was redundant so that no single component failure could bring down the whole system (e.g, power supp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042-729B-469F-9124-8DADAC3869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98F0D-C44D-45BA-9B8C-D85F3FD8E8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91440" cy="53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 - Rated MTTF of disks is 1,200,000 hours or</a:t>
            </a:r>
            <a:br>
              <a:rPr sz="2400"/>
            </a:b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332b7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140 years, so disks practically never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isk lifetime is 5 year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lace a disk every 5 years; on average, 28 replacements wouldn't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nit: % that fail (1.2M MTTF = 833 FI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 over lifetime: if had 1000 disks for 5 yea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000*(5*365*24)*833 /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6,485,000 /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.7% (37/1000) fail over 5 yr lifetime (1.2M hr MTT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is is under pristine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vibration, narrow temperature rang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 power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world: 3% to 6% of SCSI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6800 FIT or 150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% to 7% of ATA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8000 FIT or 125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BFB-3645-4073-9DDF-4395BFBD22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23204-1321-4F81-87CF-1418B9E898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28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Memory Hierarchy Basics Appendix C (handout) for Mon 1/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Wed 2/1: Great ISA debate (3 papers) + Prerequisite Qui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23F-DCAA-492A-AB92-53A0C146D1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CA237-A788-4CE8-96DA-D19434D15AF5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012-882E-417D-9002-A13481E760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AC5BE-08B8-4D9C-A455-B6698CBC42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"Typical" RISC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146700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fixed format instruction (3 forma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32-bit GPR (R0 contains zero, DP take pai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address, reg-reg arithmetic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address mode for load/store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ranch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1400" y="5207040"/>
            <a:ext cx="6398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e: SPARC, MIPS, HP PA-Risc, DEC Alpha, IBM PowerP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DC 6600, CDC 7600, Cray-1, Cray-2, Cra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147-A455-462C-973C-DB6A7CD7BE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1395C-BCCE-4542-85BE-50FAE2BD846D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 (­ MIP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08240" y="3060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9640" y="3149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7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57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749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93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03720" y="3060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1720" y="2806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09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45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47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6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80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240" y="3149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15760" y="3149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2240" y="307332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8240" y="538488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9640" y="547380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7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7576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4920" y="5384880"/>
            <a:ext cx="48513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1720" y="513072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80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1917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9640" y="2006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7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757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93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03720" y="1917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01720" y="1663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9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45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947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6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0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24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296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38320" y="5397480"/>
            <a:ext cx="78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37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81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3840" y="2006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61120" y="2006640"/>
            <a:ext cx="56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6000" y="1244520"/>
            <a:ext cx="2108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50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64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235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949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0800" y="2495520"/>
            <a:ext cx="241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08240" y="416556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25448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7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57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49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893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03720" y="416556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01720" y="39117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09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45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947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6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0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240" y="425448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34600" y="4254480"/>
            <a:ext cx="103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/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2240" y="417816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7920" y="3591000"/>
            <a:ext cx="9428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2280" y="4753080"/>
            <a:ext cx="13618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ump /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0C1-68C5-4B91-B4B3-A70B590589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733B4-790C-4F92-A341-5C3E453AB0E0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400"/>
            <a:ext cx="801216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Cost (vs. Pr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(Are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+ Learning curve, volume, commodity, mar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 vs. FIT), Availability (MTTF/(MTTF+MT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23C-FE5C-4423-BD7F-07A686BB8F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FB4D6-82B1-4B78-82FA-D1DE01CCF8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5600" y="1515960"/>
            <a:ext cx="1952640" cy="31464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path vs Contro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3880" y="5037120"/>
            <a:ext cx="76676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path: Storage, FU, interconnect sufficient to perform the desir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s are Control P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s are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: State machine to orchestrate operation on the data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desired function and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3240" y="116208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Data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66880" y="1887480"/>
            <a:ext cx="1085760" cy="10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664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936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68320" y="3808440"/>
            <a:ext cx="976320" cy="496800"/>
          </a:xfrm>
          <a:custGeom>
            <a:avLst/>
            <a:gdLst>
              <a:gd name="textAreaLeft" fmla="*/ 214560 w 976320"/>
              <a:gd name="textAreaRight" fmla="*/ 761760 w 976320"/>
              <a:gd name="textAreaTop" fmla="*/ 109080 h 496800"/>
              <a:gd name="textAreaBottom" fmla="*/ 3877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23920" y="1731960"/>
            <a:ext cx="1090800" cy="2743200"/>
            <a:chOff x="2023920" y="1731960"/>
            <a:chExt cx="1090800" cy="2743200"/>
          </a:xfrm>
        </p:grpSpPr>
        <p:sp>
          <p:nvSpPr>
            <p:cNvPr id="199" name=""/>
            <p:cNvSpPr/>
            <p:nvPr/>
          </p:nvSpPr>
          <p:spPr>
            <a:xfrm>
              <a:off x="2030400" y="292572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5600" y="293508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3920" y="345924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89120" y="346860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0320" y="1731960"/>
              <a:ext cx="914400" cy="2743200"/>
            </a:xfrm>
            <a:custGeom>
              <a:avLst/>
              <a:gdLst/>
              <a:ahLst/>
              <a:rect l="l" t="t" r="r" b="b"/>
              <a:pathLst>
                <a:path w="576" h="1728">
                  <a:moveTo>
                    <a:pt x="30" y="1621"/>
                  </a:moveTo>
                  <a:lnTo>
                    <a:pt x="39" y="1728"/>
                  </a:lnTo>
                  <a:lnTo>
                    <a:pt x="576" y="1728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20" y="73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361120" y="1519200"/>
            <a:ext cx="1890720" cy="3270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99440" y="1165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836800" y="2681280"/>
            <a:ext cx="299088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898720" y="3363840"/>
            <a:ext cx="291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11360" y="4106880"/>
            <a:ext cx="330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5760" y="1743120"/>
            <a:ext cx="1100160" cy="2695680"/>
            <a:chOff x="5765760" y="1743120"/>
            <a:chExt cx="1100160" cy="2695680"/>
          </a:xfrm>
        </p:grpSpPr>
        <p:sp>
          <p:nvSpPr>
            <p:cNvPr id="210" name=""/>
            <p:cNvSpPr/>
            <p:nvPr/>
          </p:nvSpPr>
          <p:spPr>
            <a:xfrm>
              <a:off x="5765760" y="2441520"/>
              <a:ext cx="91440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6000" y="1743120"/>
              <a:ext cx="836640" cy="49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08600" y="2793960"/>
              <a:ext cx="836640" cy="1644840"/>
            </a:xfrm>
            <a:custGeom>
              <a:avLst/>
              <a:gdLst>
                <a:gd name="textAreaLeft" fmla="*/ 40680 w 836640"/>
                <a:gd name="textAreaRight" fmla="*/ 795960 w 836640"/>
                <a:gd name="textAreaTop" fmla="*/ 40680 h 1644840"/>
                <a:gd name="textAreaBottom" fmla="*/ 1604160 h 1644840"/>
              </a:gdLst>
              <a:ahLst/>
              <a:rect l="textAreaLeft" t="textAreaTop" r="textAreaRight" b="textAreaBottom"/>
              <a:pathLst>
                <a:path w="21600" h="42457">
                  <a:moveTo>
                    <a:pt x="3600" y="0"/>
                  </a:moveTo>
                  <a:arcTo wR="3600" hR="3600" stAng="16200000" swAng="-5400000"/>
                  <a:lnTo>
                    <a:pt x="0" y="38857"/>
                  </a:lnTo>
                  <a:arcTo wR="3600" hR="3600" stAng="10800000" swAng="-5400000"/>
                  <a:lnTo>
                    <a:pt x="18000" y="424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183360" y="2216160"/>
              <a:ext cx="1584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9200" y="260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3360" y="1968480"/>
              <a:ext cx="682560" cy="696960"/>
            </a:xfrm>
            <a:custGeom>
              <a:avLst/>
              <a:gdLst/>
              <a:ahLst/>
              <a:rect l="l" t="t" r="r" b="b"/>
              <a:pathLst>
                <a:path w="430" h="439">
                  <a:moveTo>
                    <a:pt x="0" y="439"/>
                  </a:moveTo>
                  <a:lnTo>
                    <a:pt x="430" y="439"/>
                  </a:lnTo>
                  <a:lnTo>
                    <a:pt x="430" y="0"/>
                  </a:lnTo>
                  <a:lnTo>
                    <a:pt x="2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01440" y="41418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97120" y="2076480"/>
            <a:ext cx="3130560" cy="1844640"/>
            <a:chOff x="2697120" y="2076480"/>
            <a:chExt cx="3130560" cy="1844640"/>
          </a:xfrm>
        </p:grpSpPr>
        <p:sp>
          <p:nvSpPr>
            <p:cNvPr id="218" name=""/>
            <p:cNvSpPr/>
            <p:nvPr/>
          </p:nvSpPr>
          <p:spPr>
            <a:xfrm flipV="1">
              <a:off x="2697120" y="2076480"/>
              <a:ext cx="3130560" cy="1844640"/>
            </a:xfrm>
            <a:prstGeom prst="line">
              <a:avLst/>
            </a:prstGeom>
            <a:ln w="3816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5240" y="21891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A80-5716-4303-96BC-2ACEF9C260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482FE-B7ED-41D6-922A-CB200D3CFE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pproaching an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40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s set of operations, instruction format, hardware supported data types, named storage, addressing modes, sequen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ing of each instruction is described by RTL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ed regi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technology constraints assemble adequate data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hitected storage mapped to actual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units to do all the required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additional storage (eg. MAR, MBR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onnect to move information among regs and F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each instruction to sequence of RT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te sequences into symbolic controller state transition diagram (ST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symbolic STD to control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961-D56B-433A-ADD3-913C73241E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082D9-17AC-42A5-AA5D-C2FE9208F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012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800" y="18540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6600" y="1136520"/>
            <a:ext cx="205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9528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7880" y="1290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74000" y="132228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92600" y="1290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1080" y="129060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0520" y="1290600"/>
            <a:ext cx="14270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45400" y="3808440"/>
            <a:ext cx="203040" cy="92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4640" y="3352320"/>
            <a:ext cx="449640" cy="1095480"/>
            <a:chOff x="5714640" y="3352320"/>
            <a:chExt cx="449640" cy="1095480"/>
          </a:xfrm>
        </p:grpSpPr>
        <p:grpSp>
          <p:nvGrpSpPr>
            <p:cNvPr id="233" name=""/>
            <p:cNvGrpSpPr/>
            <p:nvPr/>
          </p:nvGrpSpPr>
          <p:grpSpPr>
            <a:xfrm>
              <a:off x="5714640" y="3352320"/>
              <a:ext cx="449640" cy="1095480"/>
              <a:chOff x="5714640" y="3352320"/>
              <a:chExt cx="449640" cy="10954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5403600" y="3687120"/>
                <a:ext cx="1095480" cy="425520"/>
              </a:xfrm>
              <a:custGeom>
                <a:avLst/>
                <a:gdLst>
                  <a:gd name="textAreaLeft" fmla="*/ 240840 w 1095480"/>
                  <a:gd name="textAreaRight" fmla="*/ 854640 w 109548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5651280" y="3748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5400000">
                <a:off x="5647320" y="3732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5400000">
              <a:off x="5660640" y="3758760"/>
              <a:ext cx="32868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0280" y="2081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33764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89840" y="2630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22560" y="3100320"/>
            <a:ext cx="59076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5440" y="330048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5440" y="3909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971800"/>
            <a:ext cx="674640" cy="68580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04240" y="3681360"/>
            <a:ext cx="53316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191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49560" y="4660920"/>
            <a:ext cx="447840" cy="67608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12920" y="2309760"/>
            <a:ext cx="914400" cy="992160"/>
            <a:chOff x="1312920" y="2309760"/>
            <a:chExt cx="914400" cy="992160"/>
          </a:xfrm>
        </p:grpSpPr>
        <p:sp>
          <p:nvSpPr>
            <p:cNvPr id="249" name=""/>
            <p:cNvSpPr/>
            <p:nvPr/>
          </p:nvSpPr>
          <p:spPr>
            <a:xfrm>
              <a:off x="1312920" y="2842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531080" y="2527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699200" y="2610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608840" y="2607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1708560" y="2621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97180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219320"/>
            <a:ext cx="0" cy="5333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32480" y="1236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748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743200"/>
            <a:ext cx="3048120" cy="685800"/>
          </a:xfrm>
          <a:custGeom>
            <a:avLst/>
            <a:gdLst/>
            <a:ahLst/>
            <a:rect l="l" t="t" r="r" b="b"/>
            <a:pathLst>
              <a:path w="1920" h="432">
                <a:moveTo>
                  <a:pt x="0" y="0"/>
                </a:moveTo>
                <a:lnTo>
                  <a:pt x="1584" y="0"/>
                </a:lnTo>
                <a:lnTo>
                  <a:pt x="1584" y="432"/>
                </a:lnTo>
                <a:lnTo>
                  <a:pt x="1920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63840" y="380196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3271680"/>
            <a:ext cx="758520" cy="16732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4103280"/>
            <a:ext cx="7048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819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981080"/>
            <a:ext cx="7086600" cy="181296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886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97800" y="2498760"/>
            <a:ext cx="30456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2198520"/>
            <a:ext cx="2276640" cy="54468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0" y="3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4114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302000"/>
            <a:ext cx="838080" cy="6508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52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3809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53316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88620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341960"/>
            <a:ext cx="5486400" cy="1220760"/>
          </a:xfrm>
          <a:custGeom>
            <a:avLst/>
            <a:gdLst/>
            <a:ahLst/>
            <a:rect l="l" t="t" r="r" b="b"/>
            <a:pathLst>
              <a:path w="3456" h="769">
                <a:moveTo>
                  <a:pt x="3306" y="97"/>
                </a:moveTo>
                <a:lnTo>
                  <a:pt x="3456" y="97"/>
                </a:lnTo>
                <a:lnTo>
                  <a:pt x="3456" y="769"/>
                </a:lnTo>
                <a:lnTo>
                  <a:pt x="0" y="769"/>
                </a:lnTo>
                <a:lnTo>
                  <a:pt x="0" y="1"/>
                </a:lnTo>
                <a:lnTo>
                  <a:pt x="3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114800"/>
            <a:ext cx="213372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0" y="0"/>
                </a:moveTo>
                <a:lnTo>
                  <a:pt x="0" y="288"/>
                </a:lnTo>
                <a:lnTo>
                  <a:pt x="134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8800" y="2437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43040" y="3228840"/>
            <a:ext cx="304560" cy="1228680"/>
            <a:chOff x="743040" y="3228840"/>
            <a:chExt cx="304560" cy="1228680"/>
          </a:xfrm>
        </p:grpSpPr>
        <p:sp>
          <p:nvSpPr>
            <p:cNvPr id="283" name=""/>
            <p:cNvSpPr/>
            <p:nvPr/>
          </p:nvSpPr>
          <p:spPr>
            <a:xfrm>
              <a:off x="743040" y="3228840"/>
              <a:ext cx="30456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280" y="4228920"/>
              <a:ext cx="27756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71840" y="19800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34760" y="55616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76760" y="270972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15080" y="407844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69000" y="3844800"/>
            <a:ext cx="7488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60800" y="352728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8720" y="407340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1680" y="3460680"/>
            <a:ext cx="276480" cy="685800"/>
            <a:chOff x="2641680" y="3460680"/>
            <a:chExt cx="276480" cy="685800"/>
          </a:xfrm>
        </p:grpSpPr>
        <p:grpSp>
          <p:nvGrpSpPr>
            <p:cNvPr id="293" name=""/>
            <p:cNvGrpSpPr/>
            <p:nvPr/>
          </p:nvGrpSpPr>
          <p:grpSpPr>
            <a:xfrm>
              <a:off x="2679840" y="3460680"/>
              <a:ext cx="203040" cy="685800"/>
              <a:chOff x="2679840" y="3460680"/>
              <a:chExt cx="203040" cy="68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2679840" y="3460680"/>
                <a:ext cx="203040" cy="685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2520" y="3994200"/>
                <a:ext cx="165960" cy="1522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rot="5400000">
              <a:off x="2533680" y="366516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392280" y="388548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67080" y="30474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67800" y="33552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360" y="4923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6720" y="4878360"/>
            <a:ext cx="1887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080" y="5716440"/>
            <a:ext cx="441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DBD-11C4-430F-8D3F-5EDC646944C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B8CC2-8616-4F60-A821-BE9C1156DA04}" type="datetime1">
              <a:rPr lang="en-US"/>
              <a:t>07/29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31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31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35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35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36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37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396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560" y="4495680"/>
            <a:ext cx="200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6600" y="5257800"/>
            <a:ext cx="2027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40" y="5867280"/>
            <a:ext cx="216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slt &lt;= A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2560" y="6521400"/>
            <a:ext cx="190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160" y="6172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WB &lt;= r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1F0-6938-4A01-ADCD-C8CFF1C3E0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2927B-FD30-42C4-BFF7-2E06B15ABAEE}" type="datetime1">
              <a:rPr lang="en-US"/>
              <a:t>07/29/26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. Set Processor Controll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6248160"/>
            <a:ext cx="7683480" cy="33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4600" y="1473120"/>
            <a:ext cx="178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4040" y="2692440"/>
            <a:ext cx="179928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8480" y="3835440"/>
            <a:ext cx="155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 &lt;= A o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IRop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5800" y="54864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3400" y="4648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WB &lt;=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1447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22480" y="161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e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99880" y="267804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Fetch-D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2590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733920"/>
            <a:ext cx="17524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648320"/>
            <a:ext cx="1295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5410080"/>
            <a:ext cx="1752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37720" y="3429000"/>
            <a:ext cx="3505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666520" y="3429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3260880"/>
            <a:ext cx="2895480" cy="1235160"/>
            <a:chOff x="0" y="3260880"/>
            <a:chExt cx="2895480" cy="1235160"/>
          </a:xfrm>
        </p:grpSpPr>
        <p:grpSp>
          <p:nvGrpSpPr>
            <p:cNvPr id="428" name=""/>
            <p:cNvGrpSpPr/>
            <p:nvPr/>
          </p:nvGrpSpPr>
          <p:grpSpPr>
            <a:xfrm>
              <a:off x="1523880" y="3733920"/>
              <a:ext cx="1371600" cy="533160"/>
              <a:chOff x="1523880" y="3733920"/>
              <a:chExt cx="1371600" cy="533160"/>
            </a:xfrm>
          </p:grpSpPr>
          <p:sp>
            <p:nvSpPr>
              <p:cNvPr id="429" name=""/>
              <p:cNvSpPr/>
              <p:nvPr/>
            </p:nvSpPr>
            <p:spPr>
              <a:xfrm>
                <a:off x="1538640" y="3835440"/>
                <a:ext cx="13467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PC &lt;=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jad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3880" y="3733920"/>
                <a:ext cx="137160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60" y="3835440"/>
              <a:ext cx="147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if bop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PC &lt;= PC+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3733920"/>
              <a:ext cx="137160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8240" y="3336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3560" y="32608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795480" y="3489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67080" y="3429000"/>
            <a:ext cx="2667240" cy="2438280"/>
            <a:chOff x="4267080" y="3429000"/>
            <a:chExt cx="2667240" cy="2438280"/>
          </a:xfrm>
        </p:grpSpPr>
        <p:grpSp>
          <p:nvGrpSpPr>
            <p:cNvPr id="437" name=""/>
            <p:cNvGrpSpPr/>
            <p:nvPr/>
          </p:nvGrpSpPr>
          <p:grpSpPr>
            <a:xfrm>
              <a:off x="4893840" y="3708360"/>
              <a:ext cx="1887840" cy="533520"/>
              <a:chOff x="4893840" y="3708360"/>
              <a:chExt cx="1887840" cy="533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893840" y="3809880"/>
                <a:ext cx="18356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op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Rop</a:t>
                </a: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52880" y="3708360"/>
                <a:ext cx="182880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18688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34480" y="464832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4648320"/>
              <a:ext cx="12956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410080"/>
              <a:ext cx="1752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429000"/>
              <a:ext cx="1447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7280" y="4267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7280" y="510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429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419720" y="3336840"/>
            <a:ext cx="4495680" cy="2530440"/>
            <a:chOff x="4419720" y="3336840"/>
            <a:chExt cx="4495680" cy="2530440"/>
          </a:xfrm>
        </p:grpSpPr>
        <p:grpSp>
          <p:nvGrpSpPr>
            <p:cNvPr id="449" name=""/>
            <p:cNvGrpSpPr/>
            <p:nvPr/>
          </p:nvGrpSpPr>
          <p:grpSpPr>
            <a:xfrm>
              <a:off x="6934320" y="3657600"/>
              <a:ext cx="1752480" cy="533520"/>
              <a:chOff x="6934320" y="3657600"/>
              <a:chExt cx="1752480" cy="533520"/>
            </a:xfrm>
          </p:grpSpPr>
          <p:sp>
            <p:nvSpPr>
              <p:cNvPr id="450" name=""/>
              <p:cNvSpPr/>
              <p:nvPr/>
            </p:nvSpPr>
            <p:spPr>
              <a:xfrm>
                <a:off x="7016040" y="3759120"/>
                <a:ext cx="1479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+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34320" y="3657600"/>
                <a:ext cx="175248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010280" y="464832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Mem[r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6600" y="45720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6832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62920" y="5410080"/>
              <a:ext cx="17524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3429000"/>
              <a:ext cx="3504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2400" y="4191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240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34680" y="33368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520120" y="2955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000" y="2743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8600" y="2879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35D-3ED5-4E1F-8F6D-9B689D754C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17C23-46E3-492D-8BCD-64B0418845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47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47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51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51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51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51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53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8520" y="5921280"/>
            <a:ext cx="7486560" cy="75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station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cal decode for each instruction phase / pipelin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557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958-2200-4D4C-BACC-5FE6CDECBE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47126-36CE-46C3-BA3F-52A1A9E2B847}" type="datetime1">
              <a:rPr lang="en-US"/>
              <a:t>07/29/26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128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ualizing Pipelin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8920" y="2209680"/>
            <a:ext cx="3492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228600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4600" y="1279440"/>
            <a:ext cx="23749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57480" y="1314360"/>
            <a:ext cx="14475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676520"/>
            <a:ext cx="6850800" cy="4572000"/>
            <a:chOff x="1295280" y="1676520"/>
            <a:chExt cx="6850800" cy="4572000"/>
          </a:xfrm>
        </p:grpSpPr>
        <p:sp>
          <p:nvSpPr>
            <p:cNvPr id="569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579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613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3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681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509-5C8A-417A-A078-EE209E1A2C9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FE21B-88EE-4AC4-9B87-F45EB4BEED9A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ing is not quite that easy!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pipelining: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W cannot support this combination of instructions (single person to fold and put clothes aw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 (missing s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31B-D007-4049-8853-87D40730B3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8D8FA-1565-481D-82D8-9733D0814B0E}" type="datetime1">
              <a:rPr lang="en-US"/>
              <a:t>07/29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4, Page A-14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280" y="259092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2096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18520" y="152388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080" y="259092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720" y="33368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5480" y="41306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4840" y="488160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3000" y="56624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19320" y="19810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10000" y="2603520"/>
            <a:ext cx="447480" cy="369720"/>
            <a:chOff x="2610000" y="2603520"/>
            <a:chExt cx="447480" cy="369720"/>
          </a:xfrm>
        </p:grpSpPr>
        <p:grpSp>
          <p:nvGrpSpPr>
            <p:cNvPr id="734" name=""/>
            <p:cNvGrpSpPr/>
            <p:nvPr/>
          </p:nvGrpSpPr>
          <p:grpSpPr>
            <a:xfrm>
              <a:off x="2610000" y="2603520"/>
              <a:ext cx="447480" cy="369720"/>
              <a:chOff x="2610000" y="2603520"/>
              <a:chExt cx="447480" cy="369720"/>
            </a:xfrm>
          </p:grpSpPr>
          <p:sp>
            <p:nvSpPr>
              <p:cNvPr id="735" name=""/>
              <p:cNvSpPr/>
              <p:nvPr/>
            </p:nvSpPr>
            <p:spPr>
              <a:xfrm>
                <a:off x="2833920" y="2603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10000" y="2603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625480" y="2642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060720" y="2678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60720" y="2898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466800" y="2494080"/>
            <a:ext cx="403200" cy="588960"/>
            <a:chOff x="3466800" y="2494080"/>
            <a:chExt cx="403200" cy="588960"/>
          </a:xfrm>
        </p:grpSpPr>
        <p:sp>
          <p:nvSpPr>
            <p:cNvPr id="741" name=""/>
            <p:cNvSpPr/>
            <p:nvPr/>
          </p:nvSpPr>
          <p:spPr>
            <a:xfrm rot="16200000">
              <a:off x="3386160" y="2599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3472560" y="2687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3485520" y="2710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3517560" y="2631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3875040" y="2789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34000" y="278928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53040" y="2604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77440" y="264420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91120" y="2789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41640" y="2900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2678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676520" y="2604960"/>
            <a:ext cx="557280" cy="368280"/>
            <a:chOff x="1676520" y="2604960"/>
            <a:chExt cx="557280" cy="368280"/>
          </a:xfrm>
        </p:grpSpPr>
        <p:sp>
          <p:nvSpPr>
            <p:cNvPr id="753" name=""/>
            <p:cNvSpPr/>
            <p:nvPr/>
          </p:nvSpPr>
          <p:spPr>
            <a:xfrm>
              <a:off x="1730160" y="2604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76520" y="264348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322360" y="2438280"/>
            <a:ext cx="2635200" cy="700200"/>
            <a:chOff x="2322360" y="2438280"/>
            <a:chExt cx="2635200" cy="700200"/>
          </a:xfrm>
        </p:grpSpPr>
        <p:sp>
          <p:nvSpPr>
            <p:cNvPr id="756" name=""/>
            <p:cNvSpPr/>
            <p:nvPr/>
          </p:nvSpPr>
          <p:spPr>
            <a:xfrm>
              <a:off x="317052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684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2236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8680" y="2442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5087520" y="2590920"/>
            <a:ext cx="452520" cy="369720"/>
            <a:chOff x="5087520" y="2590920"/>
            <a:chExt cx="452520" cy="369720"/>
          </a:xfrm>
        </p:grpSpPr>
        <p:grpSp>
          <p:nvGrpSpPr>
            <p:cNvPr id="761" name=""/>
            <p:cNvGrpSpPr/>
            <p:nvPr/>
          </p:nvGrpSpPr>
          <p:grpSpPr>
            <a:xfrm>
              <a:off x="5087520" y="2590920"/>
              <a:ext cx="452520" cy="369720"/>
              <a:chOff x="5087520" y="2590920"/>
              <a:chExt cx="452520" cy="36972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087520" y="2590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087160" y="2590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flipH="1">
              <a:off x="5107320" y="2629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530440" y="3200400"/>
            <a:ext cx="3862800" cy="699840"/>
            <a:chOff x="2530440" y="3200400"/>
            <a:chExt cx="3862800" cy="699840"/>
          </a:xfrm>
        </p:grpSpPr>
        <p:grpSp>
          <p:nvGrpSpPr>
            <p:cNvPr id="766" name=""/>
            <p:cNvGrpSpPr/>
            <p:nvPr/>
          </p:nvGrpSpPr>
          <p:grpSpPr>
            <a:xfrm>
              <a:off x="3462840" y="3365280"/>
              <a:ext cx="448920" cy="370080"/>
              <a:chOff x="3462840" y="3365280"/>
              <a:chExt cx="448920" cy="3700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3462840" y="3365280"/>
                <a:ext cx="448920" cy="370080"/>
                <a:chOff x="3462840" y="3365280"/>
                <a:chExt cx="448920" cy="3700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687480" y="33652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62840" y="33652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3479040" y="3403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3913920" y="34401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13920" y="36604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319640" y="3255840"/>
              <a:ext cx="404280" cy="588960"/>
              <a:chOff x="4319640" y="3255840"/>
              <a:chExt cx="404280" cy="588960"/>
            </a:xfrm>
          </p:grpSpPr>
          <p:sp>
            <p:nvSpPr>
              <p:cNvPr id="774" name=""/>
              <p:cNvSpPr/>
              <p:nvPr/>
            </p:nvSpPr>
            <p:spPr>
              <a:xfrm rot="16200000">
                <a:off x="4239720" y="33606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4325760" y="34488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5400000">
                <a:off x="4339080" y="34722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4371480" y="33930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4728240" y="35510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87920" y="35510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030640" y="3367080"/>
              <a:ext cx="592200" cy="368280"/>
              <a:chOff x="5030640" y="3367080"/>
              <a:chExt cx="592200" cy="368280"/>
            </a:xfrm>
          </p:grpSpPr>
          <p:sp>
            <p:nvSpPr>
              <p:cNvPr id="781" name=""/>
              <p:cNvSpPr/>
              <p:nvPr/>
            </p:nvSpPr>
            <p:spPr>
              <a:xfrm>
                <a:off x="5105520" y="33670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0640" y="3405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5045400" y="35510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5920" y="36622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35080" y="34401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30440" y="3367080"/>
              <a:ext cx="557280" cy="368280"/>
              <a:chOff x="2530440" y="3367080"/>
              <a:chExt cx="557280" cy="368280"/>
            </a:xfrm>
          </p:grpSpPr>
          <p:sp>
            <p:nvSpPr>
              <p:cNvPr id="787" name=""/>
              <p:cNvSpPr/>
              <p:nvPr/>
            </p:nvSpPr>
            <p:spPr>
              <a:xfrm>
                <a:off x="2584080" y="33670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30440" y="3405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176280" y="3200400"/>
              <a:ext cx="2634480" cy="699840"/>
              <a:chOff x="3176280" y="3200400"/>
              <a:chExt cx="2634480" cy="699840"/>
            </a:xfrm>
          </p:grpSpPr>
          <p:sp>
            <p:nvSpPr>
              <p:cNvPr id="790" name=""/>
              <p:cNvSpPr/>
              <p:nvPr/>
            </p:nvSpPr>
            <p:spPr>
              <a:xfrm>
                <a:off x="4024440" y="32004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2004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7628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872240" y="32043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940720" y="3352680"/>
              <a:ext cx="452520" cy="369720"/>
              <a:chOff x="5940720" y="3352680"/>
              <a:chExt cx="452520" cy="36972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5940720" y="3352680"/>
                <a:ext cx="452520" cy="369720"/>
                <a:chOff x="5940720" y="3352680"/>
                <a:chExt cx="452520" cy="369720"/>
              </a:xfrm>
            </p:grpSpPr>
            <p:sp>
              <p:nvSpPr>
                <p:cNvPr id="796" name=""/>
                <p:cNvSpPr/>
                <p:nvPr/>
              </p:nvSpPr>
              <p:spPr>
                <a:xfrm flipH="1">
                  <a:off x="5940720" y="33526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5940360" y="33526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H="1">
                <a:off x="5960520" y="3391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3368520" y="3962520"/>
            <a:ext cx="3863160" cy="699840"/>
            <a:chOff x="3368520" y="3962520"/>
            <a:chExt cx="3863160" cy="699840"/>
          </a:xfrm>
        </p:grpSpPr>
        <p:grpSp>
          <p:nvGrpSpPr>
            <p:cNvPr id="800" name=""/>
            <p:cNvGrpSpPr/>
            <p:nvPr/>
          </p:nvGrpSpPr>
          <p:grpSpPr>
            <a:xfrm>
              <a:off x="4300920" y="4127400"/>
              <a:ext cx="448920" cy="370080"/>
              <a:chOff x="4300920" y="4127400"/>
              <a:chExt cx="448920" cy="37008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4300920" y="4127400"/>
                <a:ext cx="448920" cy="370080"/>
                <a:chOff x="4300920" y="4127400"/>
                <a:chExt cx="448920" cy="37008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4525560" y="4127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300920" y="4127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4317120" y="4165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752000" y="4202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52000" y="4422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158080" y="4017960"/>
              <a:ext cx="404280" cy="588960"/>
              <a:chOff x="5158080" y="4017960"/>
              <a:chExt cx="404280" cy="588960"/>
            </a:xfrm>
          </p:grpSpPr>
          <p:sp>
            <p:nvSpPr>
              <p:cNvPr id="808" name=""/>
              <p:cNvSpPr/>
              <p:nvPr/>
            </p:nvSpPr>
            <p:spPr>
              <a:xfrm rot="16200000">
                <a:off x="5078160" y="4122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400000">
                <a:off x="5164200" y="4210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400000">
                <a:off x="5177520" y="4234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200000">
                <a:off x="5209920" y="4155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566680" y="4313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26360" y="431316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869080" y="4129200"/>
              <a:ext cx="592200" cy="368280"/>
              <a:chOff x="5869080" y="4129200"/>
              <a:chExt cx="592200" cy="368280"/>
            </a:xfrm>
          </p:grpSpPr>
          <p:sp>
            <p:nvSpPr>
              <p:cNvPr id="815" name=""/>
              <p:cNvSpPr/>
              <p:nvPr/>
            </p:nvSpPr>
            <p:spPr>
              <a:xfrm>
                <a:off x="59439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69080" y="4167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883480" y="4313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4000" y="4424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73160" y="4202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68520" y="4129200"/>
              <a:ext cx="557280" cy="368280"/>
              <a:chOff x="3368520" y="4129200"/>
              <a:chExt cx="557280" cy="36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4221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368520" y="4167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014360" y="3962520"/>
              <a:ext cx="2634480" cy="699840"/>
              <a:chOff x="4014360" y="3962520"/>
              <a:chExt cx="2634480" cy="699840"/>
            </a:xfrm>
          </p:grpSpPr>
          <p:sp>
            <p:nvSpPr>
              <p:cNvPr id="824" name=""/>
              <p:cNvSpPr/>
              <p:nvPr/>
            </p:nvSpPr>
            <p:spPr>
              <a:xfrm>
                <a:off x="4862520" y="3962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812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436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10320" y="3966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779160" y="4114800"/>
              <a:ext cx="452520" cy="369720"/>
              <a:chOff x="6779160" y="4114800"/>
              <a:chExt cx="452520" cy="3697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779160" y="4114800"/>
                <a:ext cx="452520" cy="369720"/>
                <a:chOff x="6779160" y="4114800"/>
                <a:chExt cx="452520" cy="369720"/>
              </a:xfrm>
            </p:grpSpPr>
            <p:sp>
              <p:nvSpPr>
                <p:cNvPr id="830" name=""/>
                <p:cNvSpPr/>
                <p:nvPr/>
              </p:nvSpPr>
              <p:spPr>
                <a:xfrm flipH="1">
                  <a:off x="6779160" y="4114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6778800" y="4114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 flipH="1">
                <a:off x="6798960" y="4153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140440" y="4889520"/>
            <a:ext cx="447480" cy="369720"/>
            <a:chOff x="5140440" y="4889520"/>
            <a:chExt cx="447480" cy="369720"/>
          </a:xfrm>
        </p:grpSpPr>
        <p:grpSp>
          <p:nvGrpSpPr>
            <p:cNvPr id="834" name=""/>
            <p:cNvGrpSpPr/>
            <p:nvPr/>
          </p:nvGrpSpPr>
          <p:grpSpPr>
            <a:xfrm>
              <a:off x="5140440" y="4889520"/>
              <a:ext cx="447480" cy="369720"/>
              <a:chOff x="5140440" y="4889520"/>
              <a:chExt cx="447480" cy="369720"/>
            </a:xfrm>
          </p:grpSpPr>
          <p:sp>
            <p:nvSpPr>
              <p:cNvPr id="835" name=""/>
              <p:cNvSpPr/>
              <p:nvPr/>
            </p:nvSpPr>
            <p:spPr>
              <a:xfrm>
                <a:off x="5364360" y="4889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140440" y="4889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155920" y="4928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5591160" y="4964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91160" y="5184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997240" y="4780080"/>
            <a:ext cx="403200" cy="588960"/>
            <a:chOff x="5997240" y="4780080"/>
            <a:chExt cx="403200" cy="588960"/>
          </a:xfrm>
        </p:grpSpPr>
        <p:sp>
          <p:nvSpPr>
            <p:cNvPr id="841" name=""/>
            <p:cNvSpPr/>
            <p:nvPr/>
          </p:nvSpPr>
          <p:spPr>
            <a:xfrm rot="16200000">
              <a:off x="5916600" y="4885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6003000" y="4973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5400000">
              <a:off x="6015960" y="4996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6048000" y="4917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405480" y="5075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64440" y="50752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708240" y="4890960"/>
            <a:ext cx="592200" cy="368280"/>
            <a:chOff x="6708240" y="4890960"/>
            <a:chExt cx="592200" cy="368280"/>
          </a:xfrm>
        </p:grpSpPr>
        <p:sp>
          <p:nvSpPr>
            <p:cNvPr id="848" name=""/>
            <p:cNvSpPr/>
            <p:nvPr/>
          </p:nvSpPr>
          <p:spPr>
            <a:xfrm>
              <a:off x="6782760" y="4890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08240" y="4929480"/>
              <a:ext cx="59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DM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721560" y="5075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72080" y="5186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11600" y="4964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0960" y="4890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06960" y="4930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4853160" y="4724280"/>
            <a:ext cx="2634840" cy="700200"/>
            <a:chOff x="4853160" y="4724280"/>
            <a:chExt cx="2634840" cy="700200"/>
          </a:xfrm>
        </p:grpSpPr>
        <p:sp>
          <p:nvSpPr>
            <p:cNvPr id="856" name=""/>
            <p:cNvSpPr/>
            <p:nvPr/>
          </p:nvSpPr>
          <p:spPr>
            <a:xfrm>
              <a:off x="570132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728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5316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49120" y="4728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617960" y="4876920"/>
            <a:ext cx="452520" cy="369720"/>
            <a:chOff x="7617960" y="4876920"/>
            <a:chExt cx="452520" cy="369720"/>
          </a:xfrm>
        </p:grpSpPr>
        <p:grpSp>
          <p:nvGrpSpPr>
            <p:cNvPr id="861" name=""/>
            <p:cNvGrpSpPr/>
            <p:nvPr/>
          </p:nvGrpSpPr>
          <p:grpSpPr>
            <a:xfrm>
              <a:off x="7617960" y="4876920"/>
              <a:ext cx="452520" cy="369720"/>
              <a:chOff x="7617960" y="4876920"/>
              <a:chExt cx="452520" cy="369720"/>
            </a:xfrm>
          </p:grpSpPr>
          <p:sp>
            <p:nvSpPr>
              <p:cNvPr id="862" name=""/>
              <p:cNvSpPr/>
              <p:nvPr/>
            </p:nvSpPr>
            <p:spPr>
              <a:xfrm flipH="1">
                <a:off x="7617960" y="4876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617600" y="4876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H="1">
              <a:off x="7637760" y="4915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150480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2056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85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35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68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0672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54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056200" y="5504040"/>
            <a:ext cx="3862800" cy="699840"/>
            <a:chOff x="5056200" y="5504040"/>
            <a:chExt cx="3862800" cy="699840"/>
          </a:xfrm>
        </p:grpSpPr>
        <p:grpSp>
          <p:nvGrpSpPr>
            <p:cNvPr id="873" name=""/>
            <p:cNvGrpSpPr/>
            <p:nvPr/>
          </p:nvGrpSpPr>
          <p:grpSpPr>
            <a:xfrm>
              <a:off x="5988600" y="5668920"/>
              <a:ext cx="448920" cy="370080"/>
              <a:chOff x="5988600" y="5668920"/>
              <a:chExt cx="448920" cy="37008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5988600" y="5668920"/>
                <a:ext cx="448920" cy="370080"/>
                <a:chOff x="5988600" y="5668920"/>
                <a:chExt cx="448920" cy="37008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13240" y="566892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988600" y="566892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004800" y="5707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439680" y="57438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39680" y="596412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845400" y="5559480"/>
              <a:ext cx="404280" cy="588960"/>
              <a:chOff x="6845400" y="5559480"/>
              <a:chExt cx="404280" cy="588960"/>
            </a:xfrm>
          </p:grpSpPr>
          <p:sp>
            <p:nvSpPr>
              <p:cNvPr id="881" name=""/>
              <p:cNvSpPr/>
              <p:nvPr/>
            </p:nvSpPr>
            <p:spPr>
              <a:xfrm rot="16200000">
                <a:off x="6765480" y="566424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400000">
                <a:off x="6851520" y="575244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5400000">
                <a:off x="6864840" y="577584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200000">
                <a:off x="6897240" y="569664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7254000" y="585468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113680" y="58546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7556400" y="5670720"/>
              <a:ext cx="592200" cy="368280"/>
              <a:chOff x="7556400" y="5670720"/>
              <a:chExt cx="592200" cy="36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7631280" y="567072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556400" y="5709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7571160" y="585468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21680" y="596592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60840" y="574380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056200" y="5670720"/>
              <a:ext cx="557280" cy="368280"/>
              <a:chOff x="5056200" y="5670720"/>
              <a:chExt cx="557280" cy="368280"/>
            </a:xfrm>
          </p:grpSpPr>
          <p:sp>
            <p:nvSpPr>
              <p:cNvPr id="894" name=""/>
              <p:cNvSpPr/>
              <p:nvPr/>
            </p:nvSpPr>
            <p:spPr>
              <a:xfrm>
                <a:off x="5109840" y="567072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56200" y="5709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702040" y="5504040"/>
              <a:ext cx="2634480" cy="699840"/>
              <a:chOff x="5702040" y="5504040"/>
              <a:chExt cx="2634480" cy="699840"/>
            </a:xfrm>
          </p:grpSpPr>
          <p:sp>
            <p:nvSpPr>
              <p:cNvPr id="897" name=""/>
              <p:cNvSpPr/>
              <p:nvPr/>
            </p:nvSpPr>
            <p:spPr>
              <a:xfrm>
                <a:off x="6550200" y="550404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24580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70204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98000" y="550800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466480" y="5656320"/>
              <a:ext cx="452520" cy="369720"/>
              <a:chOff x="8466480" y="5656320"/>
              <a:chExt cx="452520" cy="36972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8466480" y="5656320"/>
                <a:ext cx="452520" cy="369720"/>
                <a:chOff x="8466480" y="5656320"/>
                <a:chExt cx="452520" cy="369720"/>
              </a:xfrm>
            </p:grpSpPr>
            <p:sp>
              <p:nvSpPr>
                <p:cNvPr id="903" name=""/>
                <p:cNvSpPr/>
                <p:nvPr/>
              </p:nvSpPr>
              <p:spPr>
                <a:xfrm flipH="1">
                  <a:off x="8466480" y="565632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466120" y="565632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 flipH="1">
                <a:off x="8486280" y="56948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6" name=""/>
          <p:cNvSpPr/>
          <p:nvPr/>
        </p:nvSpPr>
        <p:spPr>
          <a:xfrm>
            <a:off x="23623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29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3084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67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D29-1A36-47DD-A28A-A0D3C3E36B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D9F92-C36F-49E1-8A70-CA70D80021FB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Figure A.5, Page A-15)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1280" y="220968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182880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18520" y="114300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080" y="220968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720" y="29559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35480" y="37497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5200" y="4500720"/>
            <a:ext cx="109584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3000" y="52815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19320" y="16002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610000" y="2222640"/>
            <a:ext cx="447480" cy="369720"/>
            <a:chOff x="2610000" y="2222640"/>
            <a:chExt cx="447480" cy="369720"/>
          </a:xfrm>
        </p:grpSpPr>
        <p:grpSp>
          <p:nvGrpSpPr>
            <p:cNvPr id="924" name=""/>
            <p:cNvGrpSpPr/>
            <p:nvPr/>
          </p:nvGrpSpPr>
          <p:grpSpPr>
            <a:xfrm>
              <a:off x="2610000" y="2222640"/>
              <a:ext cx="447480" cy="369720"/>
              <a:chOff x="2610000" y="2222640"/>
              <a:chExt cx="447480" cy="369720"/>
            </a:xfrm>
          </p:grpSpPr>
          <p:sp>
            <p:nvSpPr>
              <p:cNvPr id="925" name=""/>
              <p:cNvSpPr/>
              <p:nvPr/>
            </p:nvSpPr>
            <p:spPr>
              <a:xfrm>
                <a:off x="2833920" y="222264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610000" y="222264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625480" y="22611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060720" y="2297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60720" y="2517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466800" y="2112840"/>
            <a:ext cx="403200" cy="588960"/>
            <a:chOff x="3466800" y="2112840"/>
            <a:chExt cx="403200" cy="588960"/>
          </a:xfrm>
        </p:grpSpPr>
        <p:sp>
          <p:nvSpPr>
            <p:cNvPr id="931" name=""/>
            <p:cNvSpPr/>
            <p:nvPr/>
          </p:nvSpPr>
          <p:spPr>
            <a:xfrm rot="16200000">
              <a:off x="3386160" y="221796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5400000">
              <a:off x="3472560" y="230616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3485520" y="232920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6200000">
              <a:off x="3517560" y="225000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3875040" y="240840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34000" y="24084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53040" y="2224080"/>
            <a:ext cx="45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77440" y="22629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91120" y="2408400"/>
            <a:ext cx="674640" cy="29340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1640" y="25192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81160" y="229716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676520" y="2224080"/>
            <a:ext cx="557280" cy="368280"/>
            <a:chOff x="1676520" y="2224080"/>
            <a:chExt cx="557280" cy="368280"/>
          </a:xfrm>
        </p:grpSpPr>
        <p:sp>
          <p:nvSpPr>
            <p:cNvPr id="943" name=""/>
            <p:cNvSpPr/>
            <p:nvPr/>
          </p:nvSpPr>
          <p:spPr>
            <a:xfrm>
              <a:off x="1730160" y="222408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76520" y="226260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22360" y="2057400"/>
            <a:ext cx="2635200" cy="700200"/>
            <a:chOff x="2322360" y="2057400"/>
            <a:chExt cx="2635200" cy="700200"/>
          </a:xfrm>
        </p:grpSpPr>
        <p:sp>
          <p:nvSpPr>
            <p:cNvPr id="946" name=""/>
            <p:cNvSpPr/>
            <p:nvPr/>
          </p:nvSpPr>
          <p:spPr>
            <a:xfrm>
              <a:off x="317052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6684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2236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18680" y="206136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87520" y="2209680"/>
            <a:ext cx="452520" cy="370080"/>
            <a:chOff x="5087520" y="2209680"/>
            <a:chExt cx="452520" cy="370080"/>
          </a:xfrm>
        </p:grpSpPr>
        <p:grpSp>
          <p:nvGrpSpPr>
            <p:cNvPr id="951" name=""/>
            <p:cNvGrpSpPr/>
            <p:nvPr/>
          </p:nvGrpSpPr>
          <p:grpSpPr>
            <a:xfrm>
              <a:off x="5087520" y="2209680"/>
              <a:ext cx="452520" cy="370080"/>
              <a:chOff x="5087520" y="2209680"/>
              <a:chExt cx="452520" cy="370080"/>
            </a:xfrm>
          </p:grpSpPr>
          <p:sp>
            <p:nvSpPr>
              <p:cNvPr id="952" name=""/>
              <p:cNvSpPr/>
              <p:nvPr/>
            </p:nvSpPr>
            <p:spPr>
              <a:xfrm flipH="1">
                <a:off x="5087520" y="2209680"/>
                <a:ext cx="226080" cy="3657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5087160" y="2209680"/>
                <a:ext cx="452520" cy="37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 flipH="1">
              <a:off x="5107320" y="224820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530440" y="2819520"/>
            <a:ext cx="3862800" cy="699840"/>
            <a:chOff x="2530440" y="2819520"/>
            <a:chExt cx="3862800" cy="699840"/>
          </a:xfrm>
        </p:grpSpPr>
        <p:grpSp>
          <p:nvGrpSpPr>
            <p:cNvPr id="956" name=""/>
            <p:cNvGrpSpPr/>
            <p:nvPr/>
          </p:nvGrpSpPr>
          <p:grpSpPr>
            <a:xfrm>
              <a:off x="3462840" y="2984400"/>
              <a:ext cx="448920" cy="370080"/>
              <a:chOff x="3462840" y="2984400"/>
              <a:chExt cx="448920" cy="37008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3462840" y="2984400"/>
                <a:ext cx="448920" cy="370080"/>
                <a:chOff x="3462840" y="2984400"/>
                <a:chExt cx="448920" cy="37008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3687480" y="2984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462840" y="2984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3479040" y="3022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913920" y="3059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13920" y="3279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319640" y="2874960"/>
              <a:ext cx="404280" cy="588960"/>
              <a:chOff x="4319640" y="2874960"/>
              <a:chExt cx="404280" cy="588960"/>
            </a:xfrm>
          </p:grpSpPr>
          <p:sp>
            <p:nvSpPr>
              <p:cNvPr id="964" name=""/>
              <p:cNvSpPr/>
              <p:nvPr/>
            </p:nvSpPr>
            <p:spPr>
              <a:xfrm rot="16200000">
                <a:off x="4239720" y="2979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400000">
                <a:off x="4325760" y="3067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5400000">
                <a:off x="4339080" y="3091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6200000">
                <a:off x="4371480" y="3012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4728240" y="3170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87920" y="317016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5030640" y="2986200"/>
              <a:ext cx="592200" cy="368280"/>
              <a:chOff x="5030640" y="2986200"/>
              <a:chExt cx="592200" cy="368280"/>
            </a:xfrm>
          </p:grpSpPr>
          <p:sp>
            <p:nvSpPr>
              <p:cNvPr id="971" name=""/>
              <p:cNvSpPr/>
              <p:nvPr/>
            </p:nvSpPr>
            <p:spPr>
              <a:xfrm>
                <a:off x="5105520" y="298620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030640" y="3024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5045400" y="3170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95920" y="3281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35080" y="3059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2530440" y="2986200"/>
              <a:ext cx="557280" cy="368280"/>
              <a:chOff x="2530440" y="2986200"/>
              <a:chExt cx="557280" cy="368280"/>
            </a:xfrm>
          </p:grpSpPr>
          <p:sp>
            <p:nvSpPr>
              <p:cNvPr id="977" name=""/>
              <p:cNvSpPr/>
              <p:nvPr/>
            </p:nvSpPr>
            <p:spPr>
              <a:xfrm>
                <a:off x="2584080" y="2986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530440" y="3024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76280" y="2819520"/>
              <a:ext cx="2634480" cy="699840"/>
              <a:chOff x="3176280" y="2819520"/>
              <a:chExt cx="2634480" cy="699840"/>
            </a:xfrm>
          </p:grpSpPr>
          <p:sp>
            <p:nvSpPr>
              <p:cNvPr id="980" name=""/>
              <p:cNvSpPr/>
              <p:nvPr/>
            </p:nvSpPr>
            <p:spPr>
              <a:xfrm>
                <a:off x="4024440" y="2819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2004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17628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72240" y="2823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940720" y="2971800"/>
              <a:ext cx="452520" cy="369720"/>
              <a:chOff x="5940720" y="2971800"/>
              <a:chExt cx="452520" cy="3697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940720" y="2971800"/>
                <a:ext cx="452520" cy="369720"/>
                <a:chOff x="5940720" y="2971800"/>
                <a:chExt cx="452520" cy="369720"/>
              </a:xfrm>
            </p:grpSpPr>
            <p:sp>
              <p:nvSpPr>
                <p:cNvPr id="986" name=""/>
                <p:cNvSpPr/>
                <p:nvPr/>
              </p:nvSpPr>
              <p:spPr>
                <a:xfrm flipH="1">
                  <a:off x="5940720" y="2971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5940360" y="2971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 flipH="1">
                <a:off x="5960520" y="3010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3368520" y="3581280"/>
            <a:ext cx="3863880" cy="699840"/>
            <a:chOff x="3368520" y="3581280"/>
            <a:chExt cx="3863880" cy="699840"/>
          </a:xfrm>
        </p:grpSpPr>
        <p:grpSp>
          <p:nvGrpSpPr>
            <p:cNvPr id="990" name=""/>
            <p:cNvGrpSpPr/>
            <p:nvPr/>
          </p:nvGrpSpPr>
          <p:grpSpPr>
            <a:xfrm>
              <a:off x="4302000" y="3746160"/>
              <a:ext cx="447840" cy="370080"/>
              <a:chOff x="4302000" y="3746160"/>
              <a:chExt cx="447840" cy="37008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4302000" y="3746160"/>
                <a:ext cx="447840" cy="370080"/>
                <a:chOff x="4302000" y="3746160"/>
                <a:chExt cx="447840" cy="37008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4525920" y="3746160"/>
                  <a:ext cx="2235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302000" y="3746160"/>
                  <a:ext cx="44784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4317480" y="37846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4753080" y="38210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53080" y="40413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5159160" y="3636720"/>
              <a:ext cx="403200" cy="588960"/>
              <a:chOff x="5159160" y="3636720"/>
              <a:chExt cx="403200" cy="588960"/>
            </a:xfrm>
          </p:grpSpPr>
          <p:sp>
            <p:nvSpPr>
              <p:cNvPr id="998" name=""/>
              <p:cNvSpPr/>
              <p:nvPr/>
            </p:nvSpPr>
            <p:spPr>
              <a:xfrm rot="16200000">
                <a:off x="5078520" y="3741840"/>
                <a:ext cx="588960" cy="3783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160 h 378360"/>
                  <a:gd name="textAreaBottom" fmla="*/ 29520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5400000">
                <a:off x="5164920" y="3830040"/>
                <a:ext cx="190080" cy="201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5400000">
                <a:off x="5177880" y="3853080"/>
                <a:ext cx="167040" cy="155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200000">
                <a:off x="5209920" y="3773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567400" y="393192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26360" y="393192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869800" y="3747960"/>
              <a:ext cx="592200" cy="368280"/>
              <a:chOff x="5869800" y="3747960"/>
              <a:chExt cx="592200" cy="368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594432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9800" y="37864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5883120" y="3931920"/>
              <a:ext cx="6750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33640" y="4043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73520" y="3821040"/>
              <a:ext cx="5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68520" y="3747960"/>
              <a:ext cx="557280" cy="368280"/>
              <a:chOff x="3368520" y="3747960"/>
              <a:chExt cx="557280" cy="368280"/>
            </a:xfrm>
          </p:grpSpPr>
          <p:sp>
            <p:nvSpPr>
              <p:cNvPr id="1011" name=""/>
              <p:cNvSpPr/>
              <p:nvPr/>
            </p:nvSpPr>
            <p:spPr>
              <a:xfrm>
                <a:off x="342216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368520" y="37864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014720" y="3581280"/>
              <a:ext cx="2634840" cy="699840"/>
              <a:chOff x="4014720" y="3581280"/>
              <a:chExt cx="2634840" cy="699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486288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884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1472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710680" y="358524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779880" y="3733560"/>
              <a:ext cx="452520" cy="369720"/>
              <a:chOff x="6779880" y="3733560"/>
              <a:chExt cx="452520" cy="36972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6779880" y="3733560"/>
                <a:ext cx="452520" cy="369720"/>
                <a:chOff x="6779880" y="3733560"/>
                <a:chExt cx="452520" cy="369720"/>
              </a:xfrm>
            </p:grpSpPr>
            <p:sp>
              <p:nvSpPr>
                <p:cNvPr id="1020" name=""/>
                <p:cNvSpPr/>
                <p:nvPr/>
              </p:nvSpPr>
              <p:spPr>
                <a:xfrm flipH="1">
                  <a:off x="6779880" y="373356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6779520" y="373356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2" name=""/>
              <p:cNvSpPr/>
              <p:nvPr/>
            </p:nvSpPr>
            <p:spPr>
              <a:xfrm flipH="1">
                <a:off x="6799680" y="37720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150480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2056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85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35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68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60672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54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056200" y="5122800"/>
            <a:ext cx="3862800" cy="699840"/>
            <a:chOff x="5056200" y="5122800"/>
            <a:chExt cx="3862800" cy="699840"/>
          </a:xfrm>
        </p:grpSpPr>
        <p:grpSp>
          <p:nvGrpSpPr>
            <p:cNvPr id="1031" name=""/>
            <p:cNvGrpSpPr/>
            <p:nvPr/>
          </p:nvGrpSpPr>
          <p:grpSpPr>
            <a:xfrm>
              <a:off x="5988600" y="5287680"/>
              <a:ext cx="448920" cy="370080"/>
              <a:chOff x="5988600" y="5287680"/>
              <a:chExt cx="448920" cy="3700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5988600" y="5287680"/>
                <a:ext cx="448920" cy="370080"/>
                <a:chOff x="5988600" y="5287680"/>
                <a:chExt cx="448920" cy="37008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213240" y="52876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988600" y="52876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04800" y="5326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439680" y="53625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39680" y="55828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845400" y="5178240"/>
              <a:ext cx="404280" cy="588960"/>
              <a:chOff x="6845400" y="5178240"/>
              <a:chExt cx="404280" cy="58896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6765480" y="52830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400000">
                <a:off x="6851520" y="53712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6864840" y="53946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897240" y="5315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254000" y="54734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13680" y="54734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7556400" y="5289480"/>
              <a:ext cx="592200" cy="368280"/>
              <a:chOff x="7556400" y="5289480"/>
              <a:chExt cx="592200" cy="368280"/>
            </a:xfrm>
          </p:grpSpPr>
          <p:sp>
            <p:nvSpPr>
              <p:cNvPr id="1046" name=""/>
              <p:cNvSpPr/>
              <p:nvPr/>
            </p:nvSpPr>
            <p:spPr>
              <a:xfrm>
                <a:off x="7631280" y="52894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556400" y="5328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7571160" y="54734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21680" y="55846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60840" y="53625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056200" y="5289480"/>
              <a:ext cx="557280" cy="368280"/>
              <a:chOff x="5056200" y="5289480"/>
              <a:chExt cx="557280" cy="368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5109840" y="52894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56200" y="5328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5702040" y="5122800"/>
              <a:ext cx="2634480" cy="699840"/>
              <a:chOff x="5702040" y="5122800"/>
              <a:chExt cx="2634480" cy="699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6550200" y="51228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4580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70204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398000" y="51267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8466480" y="5275080"/>
              <a:ext cx="452520" cy="369720"/>
              <a:chOff x="8466480" y="5275080"/>
              <a:chExt cx="452520" cy="36972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466480" y="5275080"/>
                <a:ext cx="452520" cy="369720"/>
                <a:chOff x="8466480" y="5275080"/>
                <a:chExt cx="452520" cy="36972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>
                  <a:off x="8466480" y="52750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8466120" y="52750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 flipH="1">
                <a:off x="8486280" y="53136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"/>
          <p:cNvSpPr/>
          <p:nvPr/>
        </p:nvSpPr>
        <p:spPr>
          <a:xfrm>
            <a:off x="23623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769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38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00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3084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467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038480" y="4343400"/>
            <a:ext cx="4343400" cy="700200"/>
            <a:chOff x="4038480" y="4343400"/>
            <a:chExt cx="4343400" cy="700200"/>
          </a:xfrm>
        </p:grpSpPr>
        <p:sp>
          <p:nvSpPr>
            <p:cNvPr id="1072" name=""/>
            <p:cNvSpPr/>
            <p:nvPr/>
          </p:nvSpPr>
          <p:spPr>
            <a:xfrm>
              <a:off x="4038480" y="4419720"/>
              <a:ext cx="762120" cy="609480"/>
            </a:xfrm>
            <a:prstGeom prst="cloudCallout">
              <a:avLst>
                <a:gd name="adj1" fmla="val 21875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150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294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438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692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843440" y="4343400"/>
              <a:ext cx="2634840" cy="700200"/>
              <a:chOff x="4843440" y="4343400"/>
              <a:chExt cx="2634840" cy="700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569160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38756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84344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539400" y="4347360"/>
                <a:ext cx="89280" cy="690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973440" y="62596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ow do you “bubble” the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BF6-2E4A-4F22-BB61-5D94C4AE382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4C436-506E-4B2B-A582-C8E7AFA85570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121-AC1D-4C38-A7FE-FA259FE546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941D4-395F-4727-8D40-B44C2FF6F2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ed Up Equation for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609480" y="3048120"/>
                <a:ext cx="8269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609480" y="5105520"/>
                <a:ext cx="710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685800" y="2209680"/>
                <a:ext cx="729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pelin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eal CP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verage Stall cycles per I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510480" y="426600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For simple RISC pipeline, CPI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57C-97AF-4C45-B2F8-3310628285A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7E21E-C993-4F84-B20C-2397C50E4C9F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Dual-port vs. Single-por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1440" y="1371600"/>
            <a:ext cx="8782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: Dual ported memory (“Harvard Architecture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B: Single ported memory, but its pipelined implementation has a 1.05 times faster 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 CPI = 1 for bo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s are 40% of instructions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.4 x 1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1.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Pipeline Depth/1.4) x  1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75 x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0.75 x Pipeline Depth)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 is 1.33 times fas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258-E0C9-421A-BE77-E8F978AF80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A43BE-E19C-43BA-A76A-7DC29B159820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103680" y="2143080"/>
            <a:ext cx="9024120" cy="4047480"/>
            <a:chOff x="103680" y="2143080"/>
            <a:chExt cx="9024120" cy="4047480"/>
          </a:xfrm>
        </p:grpSpPr>
        <p:grpSp>
          <p:nvGrpSpPr>
            <p:cNvPr id="1091" name=""/>
            <p:cNvGrpSpPr/>
            <p:nvPr/>
          </p:nvGrpSpPr>
          <p:grpSpPr>
            <a:xfrm>
              <a:off x="103680" y="2143080"/>
              <a:ext cx="3393000" cy="3962520"/>
              <a:chOff x="103680" y="2143080"/>
              <a:chExt cx="3393000" cy="3962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2046240" y="2143080"/>
                <a:ext cx="1143000" cy="396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3680" y="2219400"/>
                <a:ext cx="367200" cy="34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2200" y="2238480"/>
                <a:ext cx="0" cy="37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8800" y="2295360"/>
                <a:ext cx="237600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dd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2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8800" y="317196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48800" y="40100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48800" y="48672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4920" y="5638680"/>
                <a:ext cx="274176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xor r10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070080" y="2163600"/>
              <a:ext cx="6057720" cy="4026960"/>
              <a:chOff x="3070080" y="2163600"/>
              <a:chExt cx="6057720" cy="402696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4465800" y="3839760"/>
                <a:ext cx="3258000" cy="699840"/>
                <a:chOff x="4465800" y="3839760"/>
                <a:chExt cx="3258000" cy="69984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5258520" y="4004640"/>
                  <a:ext cx="420120" cy="370080"/>
                  <a:chOff x="5258520" y="4004640"/>
                  <a:chExt cx="420120" cy="37008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279760" y="4004640"/>
                    <a:ext cx="370800" cy="370080"/>
                    <a:chOff x="5279760" y="4004640"/>
                    <a:chExt cx="370800" cy="37008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465160" y="40046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279760" y="40046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"/>
                  <p:cNvSpPr/>
                  <p:nvPr/>
                </p:nvSpPr>
                <p:spPr>
                  <a:xfrm>
                    <a:off x="5258520" y="40431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"/>
                <p:cNvSpPr/>
                <p:nvPr/>
              </p:nvSpPr>
              <p:spPr>
                <a:xfrm>
                  <a:off x="5651640" y="40795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651640" y="4299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5986080" y="3895200"/>
                  <a:ext cx="345960" cy="588960"/>
                  <a:chOff x="5986080" y="3895200"/>
                  <a:chExt cx="345960" cy="58896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rot="16200000">
                    <a:off x="5868720" y="40327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rot="5400000">
                    <a:off x="5974560" y="41058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5400000">
                    <a:off x="5987160" y="41248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rot="16200000">
                    <a:off x="5991120" y="40323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4" name=""/>
                <p:cNvSpPr/>
                <p:nvPr/>
              </p:nvSpPr>
              <p:spPr>
                <a:xfrm>
                  <a:off x="6322680" y="41904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031160" y="41904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522120" y="4006440"/>
                  <a:ext cx="592200" cy="368280"/>
                  <a:chOff x="6522120" y="4006440"/>
                  <a:chExt cx="592200" cy="36828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6633720" y="40064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522120" y="40449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584040" y="41904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894920" y="43016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844880" y="40795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4465800" y="4006440"/>
                  <a:ext cx="557280" cy="368280"/>
                  <a:chOff x="4465800" y="4006440"/>
                  <a:chExt cx="557280" cy="36828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555080" y="40064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465800" y="40449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5043960" y="3839760"/>
                  <a:ext cx="2171160" cy="699840"/>
                  <a:chOff x="5043960" y="3839760"/>
                  <a:chExt cx="2171160" cy="6998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5742720" y="38397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14024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04396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441480" y="38437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7303680" y="3992040"/>
                  <a:ext cx="420120" cy="369720"/>
                  <a:chOff x="7303680" y="3992040"/>
                  <a:chExt cx="420120" cy="3697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7332840" y="3992040"/>
                    <a:ext cx="373320" cy="369720"/>
                    <a:chOff x="7332840" y="3992040"/>
                    <a:chExt cx="373320" cy="36972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>
                      <a:off x="7332840" y="39920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>
                      <a:off x="7332480" y="39920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4" name=""/>
                  <p:cNvSpPr/>
                  <p:nvPr/>
                </p:nvSpPr>
                <p:spPr>
                  <a:xfrm flipH="1">
                    <a:off x="7303320" y="40305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5" name=""/>
              <p:cNvGrpSpPr/>
              <p:nvPr/>
            </p:nvGrpSpPr>
            <p:grpSpPr>
              <a:xfrm>
                <a:off x="3762720" y="2989080"/>
                <a:ext cx="3259440" cy="699840"/>
                <a:chOff x="3762720" y="2989080"/>
                <a:chExt cx="3259440" cy="699840"/>
              </a:xfrm>
            </p:grpSpPr>
            <p:grpSp>
              <p:nvGrpSpPr>
                <p:cNvPr id="1136" name=""/>
                <p:cNvGrpSpPr/>
                <p:nvPr/>
              </p:nvGrpSpPr>
              <p:grpSpPr>
                <a:xfrm>
                  <a:off x="4555080" y="3153960"/>
                  <a:ext cx="420120" cy="370080"/>
                  <a:chOff x="4555080" y="3153960"/>
                  <a:chExt cx="420120" cy="370080"/>
                </a:xfrm>
              </p:grpSpPr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4576320" y="3153960"/>
                    <a:ext cx="370800" cy="370080"/>
                    <a:chOff x="4576320" y="3153960"/>
                    <a:chExt cx="370800" cy="3700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4761720" y="31539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4576320" y="31539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0" name=""/>
                  <p:cNvSpPr/>
                  <p:nvPr/>
                </p:nvSpPr>
                <p:spPr>
                  <a:xfrm>
                    <a:off x="4555080" y="31924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1" name=""/>
                <p:cNvSpPr/>
                <p:nvPr/>
              </p:nvSpPr>
              <p:spPr>
                <a:xfrm>
                  <a:off x="4948560" y="3228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948560" y="3449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5283000" y="3044520"/>
                  <a:ext cx="345960" cy="588960"/>
                  <a:chOff x="5283000" y="3044520"/>
                  <a:chExt cx="345960" cy="58896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rot="16200000">
                    <a:off x="5165640" y="31820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rot="5400000">
                    <a:off x="5271480" y="32551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rot="5400000">
                    <a:off x="5284080" y="32742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rot="16200000">
                    <a:off x="5288040" y="31831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8" name=""/>
                <p:cNvSpPr/>
                <p:nvPr/>
              </p:nvSpPr>
              <p:spPr>
                <a:xfrm>
                  <a:off x="5619600" y="33397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327720" y="33397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5819040" y="3155760"/>
                  <a:ext cx="592200" cy="368280"/>
                  <a:chOff x="5819040" y="3155760"/>
                  <a:chExt cx="592200" cy="3682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5930640" y="31557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819040" y="31942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3" name=""/>
                <p:cNvSpPr/>
                <p:nvPr/>
              </p:nvSpPr>
              <p:spPr>
                <a:xfrm>
                  <a:off x="5880600" y="33397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91840" y="34509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41800" y="32288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6" name=""/>
                <p:cNvGrpSpPr/>
                <p:nvPr/>
              </p:nvGrpSpPr>
              <p:grpSpPr>
                <a:xfrm>
                  <a:off x="3762720" y="3155760"/>
                  <a:ext cx="557280" cy="368280"/>
                  <a:chOff x="3762720" y="3155760"/>
                  <a:chExt cx="557280" cy="36828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3852000" y="31557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762720" y="31942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340880" y="2989080"/>
                  <a:ext cx="2170800" cy="699840"/>
                  <a:chOff x="4340880" y="2989080"/>
                  <a:chExt cx="2170800" cy="6998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5039640" y="29890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43680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434088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738040" y="29930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6602040" y="3141360"/>
                  <a:ext cx="420120" cy="369720"/>
                  <a:chOff x="6602040" y="3141360"/>
                  <a:chExt cx="420120" cy="3697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632640" y="3141360"/>
                    <a:ext cx="373680" cy="369720"/>
                    <a:chOff x="6632640" y="3141360"/>
                    <a:chExt cx="373680" cy="3697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>
                      <a:off x="6632280" y="31413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6632640" y="31413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8" name=""/>
                  <p:cNvSpPr/>
                  <p:nvPr/>
                </p:nvSpPr>
                <p:spPr>
                  <a:xfrm flipH="1">
                    <a:off x="6601680" y="31798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3070080" y="2163600"/>
                <a:ext cx="3257640" cy="699840"/>
                <a:chOff x="3070080" y="2163600"/>
                <a:chExt cx="3257640" cy="699840"/>
              </a:xfrm>
            </p:grpSpPr>
            <p:grpSp>
              <p:nvGrpSpPr>
                <p:cNvPr id="1170" name=""/>
                <p:cNvGrpSpPr/>
                <p:nvPr/>
              </p:nvGrpSpPr>
              <p:grpSpPr>
                <a:xfrm>
                  <a:off x="3862440" y="2328480"/>
                  <a:ext cx="420120" cy="370080"/>
                  <a:chOff x="3862440" y="2328480"/>
                  <a:chExt cx="420120" cy="37008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3885480" y="2328480"/>
                    <a:ext cx="370440" cy="370080"/>
                    <a:chOff x="3885480" y="2328480"/>
                    <a:chExt cx="370440" cy="3700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4070880" y="23284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3885480" y="23284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4" name=""/>
                  <p:cNvSpPr/>
                  <p:nvPr/>
                </p:nvSpPr>
                <p:spPr>
                  <a:xfrm>
                    <a:off x="3862440" y="2367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4257360" y="24033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257360" y="26236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7" name=""/>
                <p:cNvGrpSpPr/>
                <p:nvPr/>
              </p:nvGrpSpPr>
              <p:grpSpPr>
                <a:xfrm>
                  <a:off x="4591800" y="2219040"/>
                  <a:ext cx="345960" cy="588960"/>
                  <a:chOff x="4591800" y="2219040"/>
                  <a:chExt cx="345960" cy="58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 rot="16200000">
                    <a:off x="4474440" y="23565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rot="5400000">
                    <a:off x="4580280" y="24296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5400000">
                    <a:off x="4592880" y="24487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rot="16200000">
                    <a:off x="4596840" y="23576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2" name=""/>
                <p:cNvSpPr/>
                <p:nvPr/>
              </p:nvSpPr>
              <p:spPr>
                <a:xfrm>
                  <a:off x="4928400" y="25142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636880" y="25142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5126400" y="2330280"/>
                  <a:ext cx="592200" cy="368280"/>
                  <a:chOff x="5126400" y="2330280"/>
                  <a:chExt cx="592200" cy="3682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5239440" y="23302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126400" y="23688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5189760" y="25142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501000" y="26254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450600" y="24033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3070080" y="2330280"/>
                  <a:ext cx="557280" cy="368280"/>
                  <a:chOff x="3070080" y="2330280"/>
                  <a:chExt cx="557280" cy="36828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3161880" y="23302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70080" y="23688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3649680" y="2163600"/>
                  <a:ext cx="2171160" cy="699840"/>
                  <a:chOff x="3649680" y="2163600"/>
                  <a:chExt cx="2171160" cy="69984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348440" y="21636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74596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64968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5047200" y="21675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5907600" y="2315880"/>
                  <a:ext cx="420120" cy="369720"/>
                  <a:chOff x="5907600" y="2315880"/>
                  <a:chExt cx="420120" cy="369720"/>
                </a:xfrm>
              </p:grpSpPr>
              <p:grpSp>
                <p:nvGrpSpPr>
                  <p:cNvPr id="1199" name=""/>
                  <p:cNvGrpSpPr/>
                  <p:nvPr/>
                </p:nvGrpSpPr>
                <p:grpSpPr>
                  <a:xfrm>
                    <a:off x="5934960" y="2315880"/>
                    <a:ext cx="373680" cy="369720"/>
                    <a:chOff x="5934960" y="2315880"/>
                    <a:chExt cx="373680" cy="369720"/>
                  </a:xfrm>
                </p:grpSpPr>
                <p:sp>
                  <p:nvSpPr>
                    <p:cNvPr id="1200" name=""/>
                    <p:cNvSpPr/>
                    <p:nvPr/>
                  </p:nvSpPr>
                  <p:spPr>
                    <a:xfrm flipH="1">
                      <a:off x="5934600" y="23158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H="1">
                      <a:off x="5934960" y="23158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2" name=""/>
                  <p:cNvSpPr/>
                  <p:nvPr/>
                </p:nvSpPr>
                <p:spPr>
                  <a:xfrm flipH="1">
                    <a:off x="5907240" y="2354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3" name=""/>
              <p:cNvGrpSpPr/>
              <p:nvPr/>
            </p:nvGrpSpPr>
            <p:grpSpPr>
              <a:xfrm>
                <a:off x="5168520" y="4678200"/>
                <a:ext cx="3256200" cy="699840"/>
                <a:chOff x="5168520" y="4678200"/>
                <a:chExt cx="3256200" cy="69984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5955840" y="4843080"/>
                  <a:ext cx="420120" cy="370080"/>
                  <a:chOff x="5955840" y="4843080"/>
                  <a:chExt cx="420120" cy="370080"/>
                </a:xfrm>
              </p:grpSpPr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5982120" y="4843080"/>
                    <a:ext cx="370440" cy="370080"/>
                    <a:chOff x="5982120" y="4843080"/>
                    <a:chExt cx="370440" cy="37008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167520" y="48430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5982120" y="48430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8" name=""/>
                  <p:cNvSpPr/>
                  <p:nvPr/>
                </p:nvSpPr>
                <p:spPr>
                  <a:xfrm>
                    <a:off x="5955840" y="48816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9" name=""/>
                <p:cNvSpPr/>
                <p:nvPr/>
              </p:nvSpPr>
              <p:spPr>
                <a:xfrm>
                  <a:off x="6354360" y="491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354360" y="5138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6688800" y="4733640"/>
                  <a:ext cx="345960" cy="588960"/>
                  <a:chOff x="6688800" y="4733640"/>
                  <a:chExt cx="345960" cy="58896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rot="16200000">
                    <a:off x="6571440" y="48711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rot="5400000">
                    <a:off x="6677280" y="49442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rot="5400000">
                    <a:off x="6689880" y="49633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rot="16200000">
                    <a:off x="6693840" y="48722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025400" y="50288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733880" y="50288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8" name=""/>
                <p:cNvGrpSpPr/>
                <p:nvPr/>
              </p:nvGrpSpPr>
              <p:grpSpPr>
                <a:xfrm>
                  <a:off x="7223400" y="4844880"/>
                  <a:ext cx="592200" cy="368280"/>
                  <a:chOff x="7223400" y="4844880"/>
                  <a:chExt cx="592200" cy="36828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7336440" y="48448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223400" y="48834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>
                  <a:off x="7286400" y="50288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597640" y="51400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547600" y="49179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4" name=""/>
                <p:cNvGrpSpPr/>
                <p:nvPr/>
              </p:nvGrpSpPr>
              <p:grpSpPr>
                <a:xfrm>
                  <a:off x="5168520" y="4844880"/>
                  <a:ext cx="557280" cy="368280"/>
                  <a:chOff x="5168520" y="4844880"/>
                  <a:chExt cx="557280" cy="36828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5257800" y="48448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168520" y="48834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7" name=""/>
                <p:cNvGrpSpPr/>
                <p:nvPr/>
              </p:nvGrpSpPr>
              <p:grpSpPr>
                <a:xfrm>
                  <a:off x="5746680" y="4678200"/>
                  <a:ext cx="2171160" cy="699840"/>
                  <a:chOff x="5746680" y="4678200"/>
                  <a:chExt cx="2171160" cy="69984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6445440" y="46782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84296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74668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7144200" y="46821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2" name=""/>
                <p:cNvGrpSpPr/>
                <p:nvPr/>
              </p:nvGrpSpPr>
              <p:grpSpPr>
                <a:xfrm>
                  <a:off x="8004600" y="4830480"/>
                  <a:ext cx="420120" cy="369720"/>
                  <a:chOff x="8004600" y="4830480"/>
                  <a:chExt cx="420120" cy="369720"/>
                </a:xfrm>
              </p:grpSpPr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8031960" y="4830480"/>
                    <a:ext cx="373680" cy="369720"/>
                    <a:chOff x="8031960" y="4830480"/>
                    <a:chExt cx="373680" cy="36972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 flipH="1">
                      <a:off x="8031600" y="48304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8031960" y="48304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6" name=""/>
                  <p:cNvSpPr/>
                  <p:nvPr/>
                </p:nvSpPr>
                <p:spPr>
                  <a:xfrm flipH="1">
                    <a:off x="8004240" y="4869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7" name=""/>
              <p:cNvGrpSpPr/>
              <p:nvPr/>
            </p:nvGrpSpPr>
            <p:grpSpPr>
              <a:xfrm>
                <a:off x="5871600" y="5490720"/>
                <a:ext cx="3256200" cy="699840"/>
                <a:chOff x="5871600" y="5490720"/>
                <a:chExt cx="3256200" cy="699840"/>
              </a:xfrm>
            </p:grpSpPr>
            <p:grpSp>
              <p:nvGrpSpPr>
                <p:cNvPr id="1238" name=""/>
                <p:cNvGrpSpPr/>
                <p:nvPr/>
              </p:nvGrpSpPr>
              <p:grpSpPr>
                <a:xfrm>
                  <a:off x="6661440" y="5655600"/>
                  <a:ext cx="420120" cy="370080"/>
                  <a:chOff x="6661440" y="5655600"/>
                  <a:chExt cx="420120" cy="370080"/>
                </a:xfrm>
              </p:grpSpPr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6685200" y="5655600"/>
                    <a:ext cx="370440" cy="370080"/>
                    <a:chOff x="6685200" y="5655600"/>
                    <a:chExt cx="370440" cy="37008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6870600" y="56556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685200" y="56556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2" name=""/>
                  <p:cNvSpPr/>
                  <p:nvPr/>
                </p:nvSpPr>
                <p:spPr>
                  <a:xfrm>
                    <a:off x="6661440" y="56941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3" name=""/>
                <p:cNvSpPr/>
                <p:nvPr/>
              </p:nvSpPr>
              <p:spPr>
                <a:xfrm>
                  <a:off x="7057440" y="5730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057440" y="59508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5" name=""/>
                <p:cNvGrpSpPr/>
                <p:nvPr/>
              </p:nvGrpSpPr>
              <p:grpSpPr>
                <a:xfrm>
                  <a:off x="7391880" y="5546160"/>
                  <a:ext cx="345960" cy="588960"/>
                  <a:chOff x="7391880" y="5546160"/>
                  <a:chExt cx="345960" cy="58896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 rot="16200000">
                    <a:off x="7274520" y="56836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rot="5400000">
                    <a:off x="7380360" y="57567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5400000">
                    <a:off x="7392960" y="57758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rot="16200000">
                    <a:off x="7396920" y="56847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0" name=""/>
                <p:cNvSpPr/>
                <p:nvPr/>
              </p:nvSpPr>
              <p:spPr>
                <a:xfrm>
                  <a:off x="7728480" y="58413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436960" y="58413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2" name=""/>
                <p:cNvGrpSpPr/>
                <p:nvPr/>
              </p:nvGrpSpPr>
              <p:grpSpPr>
                <a:xfrm>
                  <a:off x="7926480" y="5657400"/>
                  <a:ext cx="592200" cy="368280"/>
                  <a:chOff x="7926480" y="5657400"/>
                  <a:chExt cx="592200" cy="36828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8039520" y="56574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7926480" y="56959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>
                  <a:off x="7989480" y="58413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300720" y="59526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250680" y="57304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5871600" y="5657400"/>
                  <a:ext cx="557280" cy="368280"/>
                  <a:chOff x="5871600" y="5657400"/>
                  <a:chExt cx="557280" cy="36828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960880" y="56574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871600" y="56959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6449760" y="5490720"/>
                  <a:ext cx="2171160" cy="699840"/>
                  <a:chOff x="6449760" y="5490720"/>
                  <a:chExt cx="2171160" cy="69984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7148520" y="54907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854604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44976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7847280" y="549468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8707680" y="5643000"/>
                  <a:ext cx="420120" cy="369720"/>
                  <a:chOff x="8707680" y="5643000"/>
                  <a:chExt cx="420120" cy="369720"/>
                </a:xfrm>
              </p:grpSpPr>
              <p:grpSp>
                <p:nvGrpSpPr>
                  <p:cNvPr id="1267" name=""/>
                  <p:cNvGrpSpPr/>
                  <p:nvPr/>
                </p:nvGrpSpPr>
                <p:grpSpPr>
                  <a:xfrm>
                    <a:off x="8735040" y="5643000"/>
                    <a:ext cx="373680" cy="369720"/>
                    <a:chOff x="8735040" y="5643000"/>
                    <a:chExt cx="373680" cy="369720"/>
                  </a:xfrm>
                </p:grpSpPr>
                <p:sp>
                  <p:nvSpPr>
                    <p:cNvPr id="1268" name=""/>
                    <p:cNvSpPr/>
                    <p:nvPr/>
                  </p:nvSpPr>
                  <p:spPr>
                    <a:xfrm flipH="1">
                      <a:off x="8734680" y="56430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 flipH="1">
                      <a:off x="8735040" y="56430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0" name=""/>
                  <p:cNvSpPr/>
                  <p:nvPr/>
                </p:nvSpPr>
                <p:spPr>
                  <a:xfrm flipH="1">
                    <a:off x="8707320" y="56815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66320" y="73080"/>
            <a:ext cx="716292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on R1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6, Page A-17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66680" y="1600200"/>
            <a:ext cx="759456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42200" y="11430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148920" y="1752480"/>
            <a:ext cx="3205080" cy="369720"/>
            <a:chOff x="3148920" y="1752480"/>
            <a:chExt cx="3205080" cy="369720"/>
          </a:xfrm>
        </p:grpSpPr>
        <p:sp>
          <p:nvSpPr>
            <p:cNvPr id="1275" name=""/>
            <p:cNvSpPr/>
            <p:nvPr/>
          </p:nvSpPr>
          <p:spPr>
            <a:xfrm>
              <a:off x="3148920" y="1758960"/>
              <a:ext cx="39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12960" y="175896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89840" y="1752480"/>
              <a:ext cx="46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97880" y="1755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800" y="17542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 flipH="1">
            <a:off x="4800600" y="2514600"/>
            <a:ext cx="1371600" cy="609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86040" y="2514600"/>
            <a:ext cx="685800" cy="15238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48520" y="2514600"/>
            <a:ext cx="609480" cy="3124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172200" y="2495520"/>
            <a:ext cx="23760" cy="23814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7F3-4C95-4238-8A9A-FE8EA9DDE23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D938C-0990-4661-8F6A-C61BAA19856A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ad After Write (R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ies to read operand before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a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(in compiler nomenclature).  This hazard results from an actual need for commun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0" y="289548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 add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: sub r4,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1828080" y="3047400"/>
            <a:ext cx="824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34" y="100"/>
                </a:moveTo>
                <a:arcTo wR="10800" hR="10800" stAng="-5868132" swAng="11596748"/>
                <a:lnTo>
                  <a:pt x="10800" y="10800"/>
                </a:lnTo>
                <a:close/>
              </a:path>
              <a:path fill="none" w="21600" h="21600">
                <a:moveTo>
                  <a:pt x="9334" y="100"/>
                </a:moveTo>
                <a:arcTo wR="10800" hR="10800" stAng="-5868132" swAng="11596748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A20-3EC6-4A32-9FCF-ECC26E0539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EA10B-7336-4750-8FF3-94505AB25043}" type="datetime1">
              <a:rPr lang="en-US"/>
              <a:t>07/29/26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Read (WA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ti-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sults from reuse of the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are always in stage 2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133360" y="2362320"/>
            <a:ext cx="3810240" cy="1186200"/>
            <a:chOff x="2133360" y="2362320"/>
            <a:chExt cx="3810240" cy="1186200"/>
          </a:xfrm>
        </p:grpSpPr>
        <p:sp>
          <p:nvSpPr>
            <p:cNvPr id="1290" name=""/>
            <p:cNvSpPr/>
            <p:nvPr/>
          </p:nvSpPr>
          <p:spPr>
            <a:xfrm>
              <a:off x="2590920" y="236232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2133000" y="251388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65D-2BDA-4355-8050-C49D42AAB9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67D07-3EC7-4AD9-B24B-1FEEEDBDC16D}" type="datetime1">
              <a:rPr lang="en-US"/>
              <a:t>07/29/2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248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Write (W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utput 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so results from the reuse of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ee WAR and WAW in more complicated pi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2133360" y="2286000"/>
            <a:ext cx="3810240" cy="1186200"/>
            <a:chOff x="2133360" y="2286000"/>
            <a:chExt cx="3810240" cy="1186200"/>
          </a:xfrm>
        </p:grpSpPr>
        <p:sp>
          <p:nvSpPr>
            <p:cNvPr id="1296" name=""/>
            <p:cNvSpPr/>
            <p:nvPr/>
          </p:nvSpPr>
          <p:spPr>
            <a:xfrm>
              <a:off x="2590920" y="2286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2133000" y="243792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D67-8675-42ED-A63B-471304407D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E1C32-2D2E-4E08-932B-B511BFFE5B8C}" type="datetime1">
              <a:rPr lang="en-US"/>
              <a:t>07/29/26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warding to Avoid Data Hazard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7, Page A-1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302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nd r6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ae00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2919240" y="1922400"/>
            <a:ext cx="6057360" cy="4026960"/>
            <a:chOff x="2919240" y="1922400"/>
            <a:chExt cx="6057360" cy="4026960"/>
          </a:xfrm>
        </p:grpSpPr>
        <p:grpSp>
          <p:nvGrpSpPr>
            <p:cNvPr id="1311" name=""/>
            <p:cNvGrpSpPr/>
            <p:nvPr/>
          </p:nvGrpSpPr>
          <p:grpSpPr>
            <a:xfrm>
              <a:off x="2919240" y="1922400"/>
              <a:ext cx="6057360" cy="4026960"/>
              <a:chOff x="2919240" y="1922400"/>
              <a:chExt cx="6057360" cy="402696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4314600" y="3598560"/>
                <a:ext cx="3257640" cy="699840"/>
                <a:chOff x="4314600" y="3598560"/>
                <a:chExt cx="3257640" cy="69984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5107320" y="3763440"/>
                  <a:ext cx="420120" cy="370080"/>
                  <a:chOff x="5107320" y="3763440"/>
                  <a:chExt cx="420120" cy="370080"/>
                </a:xfrm>
              </p:grpSpPr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5128560" y="3763440"/>
                    <a:ext cx="370800" cy="370080"/>
                    <a:chOff x="5128560" y="3763440"/>
                    <a:chExt cx="370800" cy="3700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5313960" y="37634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5128560" y="37634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7" name=""/>
                  <p:cNvSpPr/>
                  <p:nvPr/>
                </p:nvSpPr>
                <p:spPr>
                  <a:xfrm>
                    <a:off x="5107320" y="38019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5500440" y="38383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00440" y="4058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5834880" y="3654000"/>
                  <a:ext cx="345960" cy="588960"/>
                  <a:chOff x="5834880" y="3654000"/>
                  <a:chExt cx="345960" cy="58896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rot="16200000">
                    <a:off x="5717520" y="37915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5400000">
                    <a:off x="5823360" y="38646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5400000">
                    <a:off x="5835960" y="38836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16200000">
                    <a:off x="5839920" y="37911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5" name=""/>
                <p:cNvSpPr/>
                <p:nvPr/>
              </p:nvSpPr>
              <p:spPr>
                <a:xfrm>
                  <a:off x="6171480" y="39492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879600" y="39492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6370920" y="3765240"/>
                  <a:ext cx="592200" cy="368280"/>
                  <a:chOff x="6370920" y="3765240"/>
                  <a:chExt cx="592200" cy="3682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6482520" y="37652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370920" y="38037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6432480" y="39492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743720" y="40604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693680" y="38383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4314600" y="3765240"/>
                  <a:ext cx="557280" cy="368280"/>
                  <a:chOff x="4314600" y="3765240"/>
                  <a:chExt cx="557280" cy="3682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4403880" y="37652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314600" y="38037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4892760" y="3598560"/>
                  <a:ext cx="2171160" cy="699840"/>
                  <a:chOff x="4892760" y="3598560"/>
                  <a:chExt cx="2171160" cy="69984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591520" y="35985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98904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89276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290280" y="36025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52120" y="3750840"/>
                  <a:ext cx="420120" cy="369720"/>
                  <a:chOff x="7152120" y="3750840"/>
                  <a:chExt cx="420120" cy="369720"/>
                </a:xfrm>
              </p:grpSpPr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7181280" y="3750840"/>
                    <a:ext cx="373320" cy="369720"/>
                    <a:chOff x="7181280" y="3750840"/>
                    <a:chExt cx="373320" cy="369720"/>
                  </a:xfrm>
                </p:grpSpPr>
                <p:sp>
                  <p:nvSpPr>
                    <p:cNvPr id="1343" name=""/>
                    <p:cNvSpPr/>
                    <p:nvPr/>
                  </p:nvSpPr>
                  <p:spPr>
                    <a:xfrm flipH="1">
                      <a:off x="7181280" y="37508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flipH="1">
                      <a:off x="7180920" y="37508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45" name=""/>
                  <p:cNvSpPr/>
                  <p:nvPr/>
                </p:nvSpPr>
                <p:spPr>
                  <a:xfrm flipH="1">
                    <a:off x="7151760" y="37893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6" name=""/>
              <p:cNvGrpSpPr/>
              <p:nvPr/>
            </p:nvGrpSpPr>
            <p:grpSpPr>
              <a:xfrm>
                <a:off x="3611880" y="2747880"/>
                <a:ext cx="3259440" cy="699840"/>
                <a:chOff x="3611880" y="2747880"/>
                <a:chExt cx="3259440" cy="699840"/>
              </a:xfrm>
            </p:grpSpPr>
            <p:grpSp>
              <p:nvGrpSpPr>
                <p:cNvPr id="1347" name=""/>
                <p:cNvGrpSpPr/>
                <p:nvPr/>
              </p:nvGrpSpPr>
              <p:grpSpPr>
                <a:xfrm>
                  <a:off x="4404240" y="2912760"/>
                  <a:ext cx="420120" cy="370080"/>
                  <a:chOff x="4404240" y="2912760"/>
                  <a:chExt cx="420120" cy="370080"/>
                </a:xfrm>
              </p:grpSpPr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4425480" y="2912760"/>
                    <a:ext cx="370800" cy="370080"/>
                    <a:chOff x="4425480" y="2912760"/>
                    <a:chExt cx="370800" cy="37008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4610880" y="29127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4425480" y="29127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1" name=""/>
                  <p:cNvSpPr/>
                  <p:nvPr/>
                </p:nvSpPr>
                <p:spPr>
                  <a:xfrm>
                    <a:off x="4404240" y="29512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4797720" y="2987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797720" y="320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4" name=""/>
                <p:cNvGrpSpPr/>
                <p:nvPr/>
              </p:nvGrpSpPr>
              <p:grpSpPr>
                <a:xfrm>
                  <a:off x="5132160" y="2803320"/>
                  <a:ext cx="345960" cy="588960"/>
                  <a:chOff x="5132160" y="2803320"/>
                  <a:chExt cx="345960" cy="588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 rot="16200000">
                    <a:off x="5014800" y="29408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rot="5400000">
                    <a:off x="5120640" y="30139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5400000">
                    <a:off x="5133240" y="30330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16200000">
                    <a:off x="5137200" y="29419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9" name=""/>
                <p:cNvSpPr/>
                <p:nvPr/>
              </p:nvSpPr>
              <p:spPr>
                <a:xfrm>
                  <a:off x="5468760" y="30985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176880" y="30985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1" name=""/>
                <p:cNvGrpSpPr/>
                <p:nvPr/>
              </p:nvGrpSpPr>
              <p:grpSpPr>
                <a:xfrm>
                  <a:off x="5668200" y="2914560"/>
                  <a:ext cx="592200" cy="368280"/>
                  <a:chOff x="5668200" y="2914560"/>
                  <a:chExt cx="592200" cy="36828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>
                    <a:off x="5779800" y="29145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5668200" y="29530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4" name=""/>
                <p:cNvSpPr/>
                <p:nvPr/>
              </p:nvSpPr>
              <p:spPr>
                <a:xfrm>
                  <a:off x="5729760" y="30985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041000" y="32097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990960" y="29876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7" name=""/>
                <p:cNvGrpSpPr/>
                <p:nvPr/>
              </p:nvGrpSpPr>
              <p:grpSpPr>
                <a:xfrm>
                  <a:off x="3611880" y="2914560"/>
                  <a:ext cx="557280" cy="368280"/>
                  <a:chOff x="3611880" y="2914560"/>
                  <a:chExt cx="557280" cy="3682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>
                    <a:off x="3701160" y="29145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3611880" y="29530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4190040" y="2747880"/>
                  <a:ext cx="2170800" cy="699840"/>
                  <a:chOff x="4190040" y="2747880"/>
                  <a:chExt cx="2170800" cy="69984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4888800" y="27478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28596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19004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587200" y="27518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6451200" y="2900160"/>
                  <a:ext cx="420120" cy="369720"/>
                  <a:chOff x="6451200" y="2900160"/>
                  <a:chExt cx="420120" cy="3697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6481800" y="2900160"/>
                    <a:ext cx="373680" cy="369720"/>
                    <a:chOff x="6481800" y="2900160"/>
                    <a:chExt cx="373680" cy="36972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>
                      <a:off x="6481440" y="29001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>
                      <a:off x="6481800" y="29001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9" name=""/>
                  <p:cNvSpPr/>
                  <p:nvPr/>
                </p:nvSpPr>
                <p:spPr>
                  <a:xfrm flipH="1">
                    <a:off x="6450840" y="29386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0" name=""/>
              <p:cNvGrpSpPr/>
              <p:nvPr/>
            </p:nvGrpSpPr>
            <p:grpSpPr>
              <a:xfrm>
                <a:off x="2919240" y="1922400"/>
                <a:ext cx="3257280" cy="699840"/>
                <a:chOff x="2919240" y="1922400"/>
                <a:chExt cx="3257280" cy="699840"/>
              </a:xfrm>
            </p:grpSpPr>
            <p:grpSp>
              <p:nvGrpSpPr>
                <p:cNvPr id="1381" name=""/>
                <p:cNvGrpSpPr/>
                <p:nvPr/>
              </p:nvGrpSpPr>
              <p:grpSpPr>
                <a:xfrm>
                  <a:off x="3711240" y="2087280"/>
                  <a:ext cx="420120" cy="370080"/>
                  <a:chOff x="3711240" y="2087280"/>
                  <a:chExt cx="420120" cy="370080"/>
                </a:xfrm>
              </p:grpSpPr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3734280" y="2087280"/>
                    <a:ext cx="370440" cy="370080"/>
                    <a:chOff x="3734280" y="2087280"/>
                    <a:chExt cx="370440" cy="3700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3919680" y="20872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3734280" y="20872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5" name=""/>
                  <p:cNvSpPr/>
                  <p:nvPr/>
                </p:nvSpPr>
                <p:spPr>
                  <a:xfrm>
                    <a:off x="3711240" y="2125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4106520" y="2162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106520" y="2382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4440600" y="1977840"/>
                  <a:ext cx="345960" cy="588960"/>
                  <a:chOff x="4440600" y="1977840"/>
                  <a:chExt cx="345960" cy="58896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4323240" y="21153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5400000">
                    <a:off x="4429080" y="21884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5400000">
                    <a:off x="4441680" y="22075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rot="16200000">
                    <a:off x="4445640" y="21164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3" name=""/>
                <p:cNvSpPr/>
                <p:nvPr/>
              </p:nvSpPr>
              <p:spPr>
                <a:xfrm>
                  <a:off x="4777560" y="22730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485680" y="22730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5" name=""/>
                <p:cNvGrpSpPr/>
                <p:nvPr/>
              </p:nvGrpSpPr>
              <p:grpSpPr>
                <a:xfrm>
                  <a:off x="4975200" y="2089080"/>
                  <a:ext cx="592200" cy="368280"/>
                  <a:chOff x="4975200" y="2089080"/>
                  <a:chExt cx="592200" cy="36828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5088240" y="20890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975200" y="21276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>
                  <a:off x="5038560" y="22730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349800" y="23842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299760" y="21621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1" name=""/>
                <p:cNvGrpSpPr/>
                <p:nvPr/>
              </p:nvGrpSpPr>
              <p:grpSpPr>
                <a:xfrm>
                  <a:off x="2919240" y="2089080"/>
                  <a:ext cx="557280" cy="368280"/>
                  <a:chOff x="2919240" y="2089080"/>
                  <a:chExt cx="557280" cy="3682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3011040" y="20890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919240" y="21276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3498840" y="1922400"/>
                  <a:ext cx="2170800" cy="699840"/>
                  <a:chOff x="3498840" y="1922400"/>
                  <a:chExt cx="2170800" cy="69984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4197600" y="19224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59476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49884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896000" y="19263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5756400" y="2074680"/>
                  <a:ext cx="420120" cy="369720"/>
                  <a:chOff x="5756400" y="2074680"/>
                  <a:chExt cx="420120" cy="36972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5783760" y="2074680"/>
                    <a:ext cx="373680" cy="369720"/>
                    <a:chOff x="5783760" y="2074680"/>
                    <a:chExt cx="373680" cy="36972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 flipH="1">
                      <a:off x="5783400" y="20746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 flipH="1">
                      <a:off x="5783760" y="20746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3" name=""/>
                  <p:cNvSpPr/>
                  <p:nvPr/>
                </p:nvSpPr>
                <p:spPr>
                  <a:xfrm flipH="1">
                    <a:off x="5756040" y="21132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4" name=""/>
              <p:cNvGrpSpPr/>
              <p:nvPr/>
            </p:nvGrpSpPr>
            <p:grpSpPr>
              <a:xfrm>
                <a:off x="5017680" y="4437000"/>
                <a:ext cx="3255840" cy="699840"/>
                <a:chOff x="5017680" y="4437000"/>
                <a:chExt cx="3255840" cy="699840"/>
              </a:xfrm>
            </p:grpSpPr>
            <p:grpSp>
              <p:nvGrpSpPr>
                <p:cNvPr id="1415" name=""/>
                <p:cNvGrpSpPr/>
                <p:nvPr/>
              </p:nvGrpSpPr>
              <p:grpSpPr>
                <a:xfrm>
                  <a:off x="5806800" y="4601880"/>
                  <a:ext cx="420120" cy="370080"/>
                  <a:chOff x="5806800" y="4601880"/>
                  <a:chExt cx="420120" cy="370080"/>
                </a:xfrm>
              </p:grpSpPr>
              <p:grpSp>
                <p:nvGrpSpPr>
                  <p:cNvPr id="1416" name=""/>
                  <p:cNvGrpSpPr/>
                  <p:nvPr/>
                </p:nvGrpSpPr>
                <p:grpSpPr>
                  <a:xfrm>
                    <a:off x="5831280" y="4601880"/>
                    <a:ext cx="370800" cy="370080"/>
                    <a:chOff x="5831280" y="4601880"/>
                    <a:chExt cx="370800" cy="370080"/>
                  </a:xfrm>
                </p:grpSpPr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6016680" y="460188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5831280" y="460188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9" name=""/>
                  <p:cNvSpPr/>
                  <p:nvPr/>
                </p:nvSpPr>
                <p:spPr>
                  <a:xfrm>
                    <a:off x="5806800" y="4640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6203160" y="46767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203160" y="48970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6537600" y="4492440"/>
                  <a:ext cx="345960" cy="588960"/>
                  <a:chOff x="6537600" y="4492440"/>
                  <a:chExt cx="345960" cy="58896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 rot="16200000">
                    <a:off x="6420240" y="46299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rot="5400000">
                    <a:off x="6526080" y="47030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rot="5400000">
                    <a:off x="6538680" y="47221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rot="16200000">
                    <a:off x="6542640" y="46310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6874200" y="47876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582680" y="47876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9" name=""/>
                <p:cNvGrpSpPr/>
                <p:nvPr/>
              </p:nvGrpSpPr>
              <p:grpSpPr>
                <a:xfrm>
                  <a:off x="7072200" y="4603680"/>
                  <a:ext cx="592200" cy="368280"/>
                  <a:chOff x="7072200" y="4603680"/>
                  <a:chExt cx="592200" cy="3682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7185240" y="46036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072200" y="46422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2" name=""/>
                <p:cNvSpPr/>
                <p:nvPr/>
              </p:nvSpPr>
              <p:spPr>
                <a:xfrm>
                  <a:off x="7135560" y="47876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446800" y="48988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396760" y="46767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5" name=""/>
                <p:cNvGrpSpPr/>
                <p:nvPr/>
              </p:nvGrpSpPr>
              <p:grpSpPr>
                <a:xfrm>
                  <a:off x="5017680" y="4603680"/>
                  <a:ext cx="557280" cy="368280"/>
                  <a:chOff x="5017680" y="4603680"/>
                  <a:chExt cx="557280" cy="3682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5106960" y="46036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5017680" y="46422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5595480" y="4437000"/>
                  <a:ext cx="2170800" cy="699840"/>
                  <a:chOff x="5595480" y="4437000"/>
                  <a:chExt cx="2170800" cy="6998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294240" y="44370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69140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559548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992640" y="44409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7853400" y="4589280"/>
                  <a:ext cx="420120" cy="369720"/>
                  <a:chOff x="7853400" y="4589280"/>
                  <a:chExt cx="420120" cy="369720"/>
                </a:xfrm>
              </p:grpSpPr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7880760" y="4589280"/>
                    <a:ext cx="373680" cy="369720"/>
                    <a:chOff x="7880760" y="4589280"/>
                    <a:chExt cx="373680" cy="36972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flipH="1">
                      <a:off x="7880400" y="45892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flipH="1">
                      <a:off x="7880760" y="45892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7" name=""/>
                  <p:cNvSpPr/>
                  <p:nvPr/>
                </p:nvSpPr>
                <p:spPr>
                  <a:xfrm flipH="1">
                    <a:off x="7853040" y="4627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8" name=""/>
              <p:cNvGrpSpPr/>
              <p:nvPr/>
            </p:nvGrpSpPr>
            <p:grpSpPr>
              <a:xfrm>
                <a:off x="5720760" y="5249520"/>
                <a:ext cx="3255840" cy="699840"/>
                <a:chOff x="5720760" y="5249520"/>
                <a:chExt cx="3255840" cy="699840"/>
              </a:xfrm>
            </p:grpSpPr>
            <p:grpSp>
              <p:nvGrpSpPr>
                <p:cNvPr id="1449" name=""/>
                <p:cNvGrpSpPr/>
                <p:nvPr/>
              </p:nvGrpSpPr>
              <p:grpSpPr>
                <a:xfrm>
                  <a:off x="6510600" y="5414400"/>
                  <a:ext cx="420120" cy="370080"/>
                  <a:chOff x="6510600" y="5414400"/>
                  <a:chExt cx="420120" cy="370080"/>
                </a:xfrm>
              </p:grpSpPr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6534360" y="5414400"/>
                    <a:ext cx="370440" cy="370080"/>
                    <a:chOff x="6534360" y="5414400"/>
                    <a:chExt cx="370440" cy="37008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6719760" y="54144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6534360" y="54144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3" name=""/>
                  <p:cNvSpPr/>
                  <p:nvPr/>
                </p:nvSpPr>
                <p:spPr>
                  <a:xfrm>
                    <a:off x="6510600" y="54529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6906240" y="5489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906240" y="57096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6" name=""/>
                <p:cNvGrpSpPr/>
                <p:nvPr/>
              </p:nvGrpSpPr>
              <p:grpSpPr>
                <a:xfrm>
                  <a:off x="7240680" y="5304960"/>
                  <a:ext cx="345960" cy="588960"/>
                  <a:chOff x="7240680" y="5304960"/>
                  <a:chExt cx="345960" cy="58896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16200000">
                    <a:off x="7123320" y="54424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rot="5400000">
                    <a:off x="7229160" y="55155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5400000">
                    <a:off x="7241760" y="55346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7245720" y="54435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1" name=""/>
                <p:cNvSpPr/>
                <p:nvPr/>
              </p:nvSpPr>
              <p:spPr>
                <a:xfrm>
                  <a:off x="7577280" y="56001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285760" y="56001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7775280" y="5416200"/>
                  <a:ext cx="592200" cy="368280"/>
                  <a:chOff x="7775280" y="5416200"/>
                  <a:chExt cx="592200" cy="36828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7888320" y="54162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7775280" y="54547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6" name=""/>
                <p:cNvSpPr/>
                <p:nvPr/>
              </p:nvSpPr>
              <p:spPr>
                <a:xfrm>
                  <a:off x="7838640" y="56001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149880" y="57114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099840" y="54892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9" name=""/>
                <p:cNvGrpSpPr/>
                <p:nvPr/>
              </p:nvGrpSpPr>
              <p:grpSpPr>
                <a:xfrm>
                  <a:off x="5720760" y="5416200"/>
                  <a:ext cx="557280" cy="368280"/>
                  <a:chOff x="5720760" y="5416200"/>
                  <a:chExt cx="557280" cy="36828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5810040" y="54162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720760" y="54547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6298560" y="5249520"/>
                  <a:ext cx="2170800" cy="699840"/>
                  <a:chOff x="6298560" y="5249520"/>
                  <a:chExt cx="2170800" cy="6998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>
                    <a:off x="6997320" y="52495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839448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629856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7695720" y="525348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7" name=""/>
                <p:cNvGrpSpPr/>
                <p:nvPr/>
              </p:nvGrpSpPr>
              <p:grpSpPr>
                <a:xfrm>
                  <a:off x="8556480" y="5401800"/>
                  <a:ext cx="420120" cy="369720"/>
                  <a:chOff x="8556480" y="5401800"/>
                  <a:chExt cx="420120" cy="369720"/>
                </a:xfrm>
              </p:grpSpPr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8583840" y="5401800"/>
                    <a:ext cx="373680" cy="369720"/>
                    <a:chOff x="8583840" y="5401800"/>
                    <a:chExt cx="373680" cy="369720"/>
                  </a:xfrm>
                </p:grpSpPr>
                <p:sp>
                  <p:nvSpPr>
                    <p:cNvPr id="1479" name=""/>
                    <p:cNvSpPr/>
                    <p:nvPr/>
                  </p:nvSpPr>
                  <p:spPr>
                    <a:xfrm flipH="1">
                      <a:off x="8583480" y="54018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 flipH="1">
                      <a:off x="8583840" y="54018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1" name=""/>
                  <p:cNvSpPr/>
                  <p:nvPr/>
                </p:nvSpPr>
                <p:spPr>
                  <a:xfrm flipH="1">
                    <a:off x="8556120" y="54403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82" name=""/>
            <p:cNvSpPr/>
            <p:nvPr/>
          </p:nvSpPr>
          <p:spPr>
            <a:xfrm>
              <a:off x="4944960" y="2271600"/>
              <a:ext cx="187200" cy="717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1560" y="2252520"/>
              <a:ext cx="240840" cy="15238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36040" y="2226960"/>
              <a:ext cx="80280" cy="243864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ACE-F8CB-4D78-8B93-06E4428D8E6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A7B87-5DBD-45CD-A5D8-47576E586E07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29288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Change for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3, Page A-37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74600" y="1143000"/>
            <a:ext cx="7664400" cy="45115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03260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/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7668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/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100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/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576760" y="2819520"/>
            <a:ext cx="9144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3409920" y="2340000"/>
            <a:ext cx="635040" cy="1469520"/>
            <a:chOff x="3409920" y="2340000"/>
            <a:chExt cx="635040" cy="1469520"/>
          </a:xfrm>
        </p:grpSpPr>
        <p:sp>
          <p:nvSpPr>
            <p:cNvPr id="1492" name=""/>
            <p:cNvSpPr/>
            <p:nvPr/>
          </p:nvSpPr>
          <p:spPr>
            <a:xfrm>
              <a:off x="3409920" y="2340000"/>
              <a:ext cx="635040" cy="1469520"/>
            </a:xfrm>
            <a:custGeom>
              <a:avLst/>
              <a:gdLst/>
              <a:ahLst/>
              <a:rect l="l" t="t" r="r" b="b"/>
              <a:pathLst>
                <a:path w="468" h="816">
                  <a:moveTo>
                    <a:pt x="0" y="0"/>
                  </a:moveTo>
                  <a:lnTo>
                    <a:pt x="468" y="252"/>
                  </a:lnTo>
                  <a:lnTo>
                    <a:pt x="468" y="588"/>
                  </a:lnTo>
                  <a:lnTo>
                    <a:pt x="0" y="816"/>
                  </a:lnTo>
                  <a:lnTo>
                    <a:pt x="0" y="576"/>
                  </a:lnTo>
                  <a:lnTo>
                    <a:pt x="168" y="420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3531240" y="2921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2749680" y="2133720"/>
            <a:ext cx="380880" cy="761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1760"/>
              <a:gd name="textAreaBottom" fmla="*/ 743400 h 76176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49680" y="3321000"/>
            <a:ext cx="380880" cy="7621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30560" y="2514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13056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0800000">
            <a:off x="615600" y="2285640"/>
            <a:ext cx="6858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30176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0176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13984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39840" y="3429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4840" y="16761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xt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30176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39840" y="1828800"/>
            <a:ext cx="60984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144" y="0"/>
                </a:lnTo>
                <a:lnTo>
                  <a:pt x="144" y="480"/>
                </a:lnTo>
                <a:lnTo>
                  <a:pt x="384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36880" y="40003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37808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139840" y="3575160"/>
            <a:ext cx="609840" cy="615960"/>
          </a:xfrm>
          <a:custGeom>
            <a:avLst/>
            <a:gdLst/>
            <a:ahLst/>
            <a:rect l="l" t="t" r="r" b="b"/>
            <a:pathLst>
              <a:path w="384" h="388">
                <a:moveTo>
                  <a:pt x="0" y="388"/>
                </a:moveTo>
                <a:lnTo>
                  <a:pt x="76" y="384"/>
                </a:lnTo>
                <a:lnTo>
                  <a:pt x="76" y="0"/>
                </a:lnTo>
                <a:lnTo>
                  <a:pt x="384" y="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368440" y="3429000"/>
            <a:ext cx="2133720" cy="762120"/>
          </a:xfrm>
          <a:custGeom>
            <a:avLst/>
            <a:gdLst/>
            <a:ahLst/>
            <a:rect l="l" t="t" r="r" b="b"/>
            <a:pathLst>
              <a:path w="1344" h="624">
                <a:moveTo>
                  <a:pt x="0" y="0"/>
                </a:moveTo>
                <a:lnTo>
                  <a:pt x="0" y="624"/>
                </a:lnTo>
                <a:lnTo>
                  <a:pt x="1344" y="6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883040" y="419112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04496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83040" y="312408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491160" y="3657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195880" y="312408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lnTo>
                  <a:pt x="0" y="1008"/>
                </a:lnTo>
                <a:lnTo>
                  <a:pt x="1152" y="10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59520" y="30924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327400" y="339084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32560" y="470520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7413480" y="3651120"/>
            <a:ext cx="1041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2448000" y="1219320"/>
            <a:ext cx="5613480" cy="4266720"/>
            <a:chOff x="2448000" y="1219320"/>
            <a:chExt cx="5613480" cy="4266720"/>
          </a:xfrm>
        </p:grpSpPr>
        <p:sp>
          <p:nvSpPr>
            <p:cNvPr id="1520" name=""/>
            <p:cNvSpPr/>
            <p:nvPr/>
          </p:nvSpPr>
          <p:spPr>
            <a:xfrm>
              <a:off x="2570400" y="3962160"/>
              <a:ext cx="2633400" cy="1066680"/>
            </a:xfrm>
            <a:custGeom>
              <a:avLst/>
              <a:gdLst/>
              <a:ahLst/>
              <a:rect l="l" t="t" r="r" b="b"/>
              <a:pathLst>
                <a:path w="1659" h="672">
                  <a:moveTo>
                    <a:pt x="1659" y="480"/>
                  </a:moveTo>
                  <a:lnTo>
                    <a:pt x="1659" y="672"/>
                  </a:lnTo>
                  <a:lnTo>
                    <a:pt x="0" y="666"/>
                  </a:lnTo>
                  <a:lnTo>
                    <a:pt x="0" y="0"/>
                  </a:lnTo>
                  <a:lnTo>
                    <a:pt x="114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72120" y="4680000"/>
              <a:ext cx="76320" cy="75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60600" y="1219320"/>
              <a:ext cx="5562720" cy="2438280"/>
            </a:xfrm>
            <a:custGeom>
              <a:avLst/>
              <a:gdLst/>
              <a:ahLst/>
              <a:rect l="l" t="t" r="r" b="b"/>
              <a:pathLst>
                <a:path w="3504" h="1536">
                  <a:moveTo>
                    <a:pt x="3504" y="1536"/>
                  </a:moveTo>
                  <a:lnTo>
                    <a:pt x="3504" y="0"/>
                  </a:lnTo>
                  <a:lnTo>
                    <a:pt x="0" y="0"/>
                  </a:lnTo>
                  <a:lnTo>
                    <a:pt x="3" y="798"/>
                  </a:lnTo>
                  <a:lnTo>
                    <a:pt x="186" y="795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511360" y="3854160"/>
              <a:ext cx="5365800" cy="1517400"/>
            </a:xfrm>
            <a:custGeom>
              <a:avLst/>
              <a:gdLst/>
              <a:ahLst/>
              <a:rect l="l" t="t" r="r" b="b"/>
              <a:pathLst>
                <a:path w="3380" h="956">
                  <a:moveTo>
                    <a:pt x="3088" y="540"/>
                  </a:moveTo>
                  <a:lnTo>
                    <a:pt x="3380" y="540"/>
                  </a:lnTo>
                  <a:lnTo>
                    <a:pt x="3380" y="956"/>
                  </a:lnTo>
                  <a:lnTo>
                    <a:pt x="0" y="956"/>
                  </a:lnTo>
                  <a:lnTo>
                    <a:pt x="0" y="0"/>
                  </a:lnTo>
                  <a:lnTo>
                    <a:pt x="152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48000" y="3657600"/>
              <a:ext cx="5575320" cy="1828440"/>
            </a:xfrm>
            <a:custGeom>
              <a:avLst/>
              <a:gdLst/>
              <a:ahLst/>
              <a:rect l="l" t="t" r="r" b="b"/>
              <a:pathLst>
                <a:path w="3512" h="1152">
                  <a:moveTo>
                    <a:pt x="3128" y="0"/>
                  </a:moveTo>
                  <a:lnTo>
                    <a:pt x="3512" y="0"/>
                  </a:lnTo>
                  <a:lnTo>
                    <a:pt x="3512" y="1152"/>
                  </a:lnTo>
                  <a:lnTo>
                    <a:pt x="0" y="1152"/>
                  </a:lnTo>
                  <a:lnTo>
                    <a:pt x="2" y="33"/>
                  </a:lnTo>
                  <a:lnTo>
                    <a:pt x="191" y="36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79760" y="1523880"/>
              <a:ext cx="2624040" cy="1599840"/>
            </a:xfrm>
            <a:custGeom>
              <a:avLst/>
              <a:gdLst/>
              <a:ahLst/>
              <a:rect l="l" t="t" r="r" b="b"/>
              <a:pathLst>
                <a:path w="1653" h="1008">
                  <a:moveTo>
                    <a:pt x="1653" y="1008"/>
                  </a:moveTo>
                  <a:lnTo>
                    <a:pt x="1653" y="0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117" y="432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536920" y="1371600"/>
              <a:ext cx="5334120" cy="3352320"/>
            </a:xfrm>
            <a:custGeom>
              <a:avLst/>
              <a:gdLst/>
              <a:ahLst/>
              <a:rect l="l" t="t" r="r" b="b"/>
              <a:pathLst>
                <a:path w="3360" h="2112">
                  <a:moveTo>
                    <a:pt x="3360" y="2112"/>
                  </a:moveTo>
                  <a:lnTo>
                    <a:pt x="3360" y="0"/>
                  </a:lnTo>
                  <a:lnTo>
                    <a:pt x="0" y="0"/>
                  </a:lnTo>
                  <a:lnTo>
                    <a:pt x="0" y="624"/>
                  </a:lnTo>
                  <a:lnTo>
                    <a:pt x="144" y="624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6400" y="46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85160" y="3619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8396280" y="3352680"/>
            <a:ext cx="380880" cy="1600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600200"/>
              <a:gd name="textAreaBottom" fmla="*/ 1581840 h 1600200"/>
            </a:gdLst>
            <a:ahLst/>
            <a:rect l="textAreaLeft" t="textAreaTop" r="textAreaRight" b="textAreaBottom"/>
            <a:pathLst>
              <a:path w="21600" h="90683">
                <a:moveTo>
                  <a:pt x="3600" y="0"/>
                </a:moveTo>
                <a:arcTo wR="3600" hR="3600" stAng="16200000" swAng="-5400000"/>
                <a:lnTo>
                  <a:pt x="0" y="87083"/>
                </a:lnTo>
                <a:arcTo wR="3600" hR="3600" stAng="10800000" swAng="-5400000"/>
                <a:lnTo>
                  <a:pt x="18000" y="9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52280" y="3048120"/>
            <a:ext cx="8763120" cy="2590560"/>
          </a:xfrm>
          <a:custGeom>
            <a:avLst/>
            <a:gdLst/>
            <a:ahLst/>
            <a:rect l="l" t="t" r="r" b="b"/>
            <a:pathLst>
              <a:path w="5520" h="1632">
                <a:moveTo>
                  <a:pt x="5424" y="720"/>
                </a:moveTo>
                <a:lnTo>
                  <a:pt x="5520" y="720"/>
                </a:lnTo>
                <a:lnTo>
                  <a:pt x="5520" y="1632"/>
                </a:lnTo>
                <a:lnTo>
                  <a:pt x="0" y="163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14680" y="610704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ircuit detects and resolves this haz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A6B-4397-41CA-AA13-2D2CA6EF558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13F1E-6636-4345-B4F2-5C288AE4403C}" type="datetime1">
              <a:rPr lang="en-US"/>
              <a:t>07/29/26</a:t>
            </a:fld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Forwarding to Avoid LW-SW Data Hazard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8, Page A-20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536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l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 0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12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9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2919240" y="1922400"/>
            <a:ext cx="6057720" cy="4026960"/>
            <a:chOff x="2919240" y="1922400"/>
            <a:chExt cx="6057720" cy="4026960"/>
          </a:xfrm>
        </p:grpSpPr>
        <p:grpSp>
          <p:nvGrpSpPr>
            <p:cNvPr id="1545" name=""/>
            <p:cNvGrpSpPr/>
            <p:nvPr/>
          </p:nvGrpSpPr>
          <p:grpSpPr>
            <a:xfrm>
              <a:off x="4314960" y="3598560"/>
              <a:ext cx="3258000" cy="699840"/>
              <a:chOff x="4314960" y="3598560"/>
              <a:chExt cx="3258000" cy="69984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5107680" y="3763440"/>
                <a:ext cx="420120" cy="370080"/>
                <a:chOff x="5107680" y="3763440"/>
                <a:chExt cx="420120" cy="37008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5128920" y="3763440"/>
                  <a:ext cx="370800" cy="370080"/>
                  <a:chOff x="5128920" y="3763440"/>
                  <a:chExt cx="370800" cy="37008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>
                    <a:off x="5314320" y="376344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5128920" y="376344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0" name=""/>
                <p:cNvSpPr/>
                <p:nvPr/>
              </p:nvSpPr>
              <p:spPr>
                <a:xfrm>
                  <a:off x="5107680" y="3801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5500800" y="383832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500800" y="4058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5835240" y="3654000"/>
                <a:ext cx="345960" cy="588960"/>
                <a:chOff x="5835240" y="3654000"/>
                <a:chExt cx="345960" cy="588960"/>
              </a:xfrm>
            </p:grpSpPr>
            <p:sp>
              <p:nvSpPr>
                <p:cNvPr id="1554" name=""/>
                <p:cNvSpPr/>
                <p:nvPr/>
              </p:nvSpPr>
              <p:spPr>
                <a:xfrm rot="16200000">
                  <a:off x="5717880" y="379152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5400000">
                  <a:off x="5823720" y="386460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5400000">
                  <a:off x="5836320" y="388368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6200000">
                  <a:off x="5840280" y="3791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8" name=""/>
              <p:cNvSpPr/>
              <p:nvPr/>
            </p:nvSpPr>
            <p:spPr>
              <a:xfrm>
                <a:off x="6171840" y="39492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80320" y="394920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6371280" y="3765240"/>
                <a:ext cx="592200" cy="368280"/>
                <a:chOff x="6371280" y="3765240"/>
                <a:chExt cx="592200" cy="3682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482880" y="376524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71280" y="3803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3" name=""/>
              <p:cNvSpPr/>
              <p:nvPr/>
            </p:nvSpPr>
            <p:spPr>
              <a:xfrm>
                <a:off x="6433200" y="394920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744080" y="406044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694040" y="383832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4314960" y="3765240"/>
                <a:ext cx="557280" cy="368280"/>
                <a:chOff x="4314960" y="3765240"/>
                <a:chExt cx="557280" cy="3682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404240" y="376524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314960" y="3803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4893120" y="3598560"/>
                <a:ext cx="2171160" cy="699840"/>
                <a:chOff x="4893120" y="3598560"/>
                <a:chExt cx="2171160" cy="69984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5591880" y="359856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8940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89312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290640" y="360252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152840" y="3750840"/>
                <a:ext cx="420120" cy="369720"/>
                <a:chOff x="7152840" y="3750840"/>
                <a:chExt cx="420120" cy="369720"/>
              </a:xfrm>
            </p:grpSpPr>
            <p:grpSp>
              <p:nvGrpSpPr>
                <p:cNvPr id="1575" name=""/>
                <p:cNvGrpSpPr/>
                <p:nvPr/>
              </p:nvGrpSpPr>
              <p:grpSpPr>
                <a:xfrm>
                  <a:off x="7182000" y="3750840"/>
                  <a:ext cx="373320" cy="369720"/>
                  <a:chOff x="7182000" y="3750840"/>
                  <a:chExt cx="373320" cy="3697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flipH="1">
                    <a:off x="7182000" y="3750840"/>
                    <a:ext cx="1864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7181640" y="3750840"/>
                    <a:ext cx="3733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8" name=""/>
                <p:cNvSpPr/>
                <p:nvPr/>
              </p:nvSpPr>
              <p:spPr>
                <a:xfrm flipH="1">
                  <a:off x="7152480" y="3789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9" name=""/>
            <p:cNvGrpSpPr/>
            <p:nvPr/>
          </p:nvGrpSpPr>
          <p:grpSpPr>
            <a:xfrm>
              <a:off x="3611880" y="2747880"/>
              <a:ext cx="3259440" cy="699840"/>
              <a:chOff x="3611880" y="2747880"/>
              <a:chExt cx="3259440" cy="69984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4404240" y="2912760"/>
                <a:ext cx="420120" cy="370080"/>
                <a:chOff x="4404240" y="2912760"/>
                <a:chExt cx="420120" cy="370080"/>
              </a:xfrm>
            </p:grpSpPr>
            <p:grpSp>
              <p:nvGrpSpPr>
                <p:cNvPr id="1581" name=""/>
                <p:cNvGrpSpPr/>
                <p:nvPr/>
              </p:nvGrpSpPr>
              <p:grpSpPr>
                <a:xfrm>
                  <a:off x="4425480" y="2912760"/>
                  <a:ext cx="370800" cy="370080"/>
                  <a:chOff x="4425480" y="2912760"/>
                  <a:chExt cx="370800" cy="370080"/>
                </a:xfrm>
              </p:grpSpPr>
              <p:sp>
                <p:nvSpPr>
                  <p:cNvPr id="1582" name=""/>
                  <p:cNvSpPr/>
                  <p:nvPr/>
                </p:nvSpPr>
                <p:spPr>
                  <a:xfrm>
                    <a:off x="4610880" y="291276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425480" y="291276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4" name=""/>
                <p:cNvSpPr/>
                <p:nvPr/>
              </p:nvSpPr>
              <p:spPr>
                <a:xfrm>
                  <a:off x="4404240" y="2951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5" name=""/>
              <p:cNvSpPr/>
              <p:nvPr/>
            </p:nvSpPr>
            <p:spPr>
              <a:xfrm>
                <a:off x="4797720" y="2987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97720" y="32079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5132160" y="2803320"/>
                <a:ext cx="345960" cy="588960"/>
                <a:chOff x="5132160" y="2803320"/>
                <a:chExt cx="345960" cy="588960"/>
              </a:xfrm>
            </p:grpSpPr>
            <p:sp>
              <p:nvSpPr>
                <p:cNvPr id="1588" name=""/>
                <p:cNvSpPr/>
                <p:nvPr/>
              </p:nvSpPr>
              <p:spPr>
                <a:xfrm rot="16200000">
                  <a:off x="5014800" y="294084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5400000">
                  <a:off x="5120640" y="301392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5400000">
                  <a:off x="5133240" y="303300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6200000">
                  <a:off x="5137200" y="29419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2" name=""/>
              <p:cNvSpPr/>
              <p:nvPr/>
            </p:nvSpPr>
            <p:spPr>
              <a:xfrm>
                <a:off x="5468760" y="30985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176880" y="309852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5668200" y="2914560"/>
                <a:ext cx="592200" cy="368280"/>
                <a:chOff x="5668200" y="2914560"/>
                <a:chExt cx="592200" cy="3682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5779800" y="291456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668200" y="29530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7" name=""/>
              <p:cNvSpPr/>
              <p:nvPr/>
            </p:nvSpPr>
            <p:spPr>
              <a:xfrm>
                <a:off x="5729760" y="309852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041000" y="320976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90960" y="298764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3611880" y="2914560"/>
                <a:ext cx="557280" cy="368280"/>
                <a:chOff x="3611880" y="2914560"/>
                <a:chExt cx="557280" cy="3682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701160" y="291456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611880" y="29530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4190040" y="2747880"/>
                <a:ext cx="2170800" cy="699840"/>
                <a:chOff x="4190040" y="2747880"/>
                <a:chExt cx="2170800" cy="6998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4888800" y="274788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628596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419004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587200" y="2751840"/>
                  <a:ext cx="734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6451200" y="2900160"/>
                <a:ext cx="420120" cy="369720"/>
                <a:chOff x="6451200" y="2900160"/>
                <a:chExt cx="420120" cy="369720"/>
              </a:xfrm>
            </p:grpSpPr>
            <p:grpSp>
              <p:nvGrpSpPr>
                <p:cNvPr id="1609" name=""/>
                <p:cNvGrpSpPr/>
                <p:nvPr/>
              </p:nvGrpSpPr>
              <p:grpSpPr>
                <a:xfrm>
                  <a:off x="6481800" y="2900160"/>
                  <a:ext cx="373680" cy="369720"/>
                  <a:chOff x="6481800" y="2900160"/>
                  <a:chExt cx="373680" cy="36972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 flipH="1">
                    <a:off x="6481440" y="290016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H="1">
                    <a:off x="6481800" y="290016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2" name=""/>
                <p:cNvSpPr/>
                <p:nvPr/>
              </p:nvSpPr>
              <p:spPr>
                <a:xfrm flipH="1">
                  <a:off x="6450840" y="2938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2919240" y="1922400"/>
              <a:ext cx="3257640" cy="699840"/>
              <a:chOff x="2919240" y="1922400"/>
              <a:chExt cx="3257640" cy="699840"/>
            </a:xfrm>
          </p:grpSpPr>
          <p:grpSp>
            <p:nvGrpSpPr>
              <p:cNvPr id="1614" name=""/>
              <p:cNvGrpSpPr/>
              <p:nvPr/>
            </p:nvGrpSpPr>
            <p:grpSpPr>
              <a:xfrm>
                <a:off x="3711600" y="2087280"/>
                <a:ext cx="420120" cy="370080"/>
                <a:chOff x="3711600" y="2087280"/>
                <a:chExt cx="420120" cy="37008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3734640" y="2087280"/>
                  <a:ext cx="370440" cy="370080"/>
                  <a:chOff x="3734640" y="2087280"/>
                  <a:chExt cx="370440" cy="3700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920040" y="208728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734640" y="208728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8" name=""/>
                <p:cNvSpPr/>
                <p:nvPr/>
              </p:nvSpPr>
              <p:spPr>
                <a:xfrm>
                  <a:off x="3711600" y="2125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4106520" y="21621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06520" y="23824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4440960" y="1977840"/>
                <a:ext cx="345960" cy="588960"/>
                <a:chOff x="4440960" y="1977840"/>
                <a:chExt cx="345960" cy="588960"/>
              </a:xfrm>
            </p:grpSpPr>
            <p:sp>
              <p:nvSpPr>
                <p:cNvPr id="1622" name=""/>
                <p:cNvSpPr/>
                <p:nvPr/>
              </p:nvSpPr>
              <p:spPr>
                <a:xfrm rot="16200000">
                  <a:off x="4323600" y="21153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5400000">
                  <a:off x="4429440" y="21884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5400000">
                  <a:off x="4442040" y="22075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16200000">
                  <a:off x="4446000" y="2116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>
                <a:off x="4777560" y="2273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86040" y="22730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4975560" y="2089080"/>
                <a:ext cx="592200" cy="368280"/>
                <a:chOff x="4975560" y="2089080"/>
                <a:chExt cx="592200" cy="36828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5088600" y="20890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4975560" y="2127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"/>
              <p:cNvSpPr/>
              <p:nvPr/>
            </p:nvSpPr>
            <p:spPr>
              <a:xfrm>
                <a:off x="5038920" y="22730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50160" y="23842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299760" y="21621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2919240" y="2089080"/>
                <a:ext cx="557280" cy="368280"/>
                <a:chOff x="2919240" y="2089080"/>
                <a:chExt cx="557280" cy="3682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011040" y="208908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919240" y="2127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3498840" y="1922400"/>
                <a:ext cx="2171160" cy="699840"/>
                <a:chOff x="3498840" y="1922400"/>
                <a:chExt cx="2171160" cy="69984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4197600" y="19224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59512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49884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896360" y="19263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5756760" y="2074680"/>
                <a:ext cx="420120" cy="369720"/>
                <a:chOff x="5756760" y="2074680"/>
                <a:chExt cx="420120" cy="36972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5784120" y="2074680"/>
                  <a:ext cx="373680" cy="369720"/>
                  <a:chOff x="5784120" y="2074680"/>
                  <a:chExt cx="373680" cy="36972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 flipH="1">
                    <a:off x="5783760" y="20746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>
                    <a:off x="5784120" y="20746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6" name=""/>
                <p:cNvSpPr/>
                <p:nvPr/>
              </p:nvSpPr>
              <p:spPr>
                <a:xfrm flipH="1">
                  <a:off x="5756400" y="2113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7" name=""/>
            <p:cNvGrpSpPr/>
            <p:nvPr/>
          </p:nvGrpSpPr>
          <p:grpSpPr>
            <a:xfrm>
              <a:off x="5017680" y="4437000"/>
              <a:ext cx="3256200" cy="699840"/>
              <a:chOff x="5017680" y="4437000"/>
              <a:chExt cx="3256200" cy="69984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5806800" y="4601880"/>
                <a:ext cx="420120" cy="370080"/>
                <a:chOff x="5806800" y="4601880"/>
                <a:chExt cx="420120" cy="370080"/>
              </a:xfrm>
            </p:grpSpPr>
            <p:grpSp>
              <p:nvGrpSpPr>
                <p:cNvPr id="1649" name=""/>
                <p:cNvGrpSpPr/>
                <p:nvPr/>
              </p:nvGrpSpPr>
              <p:grpSpPr>
                <a:xfrm>
                  <a:off x="5831280" y="4601880"/>
                  <a:ext cx="370800" cy="370080"/>
                  <a:chOff x="5831280" y="4601880"/>
                  <a:chExt cx="370800" cy="37008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6016680" y="460188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831280" y="460188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2" name=""/>
                <p:cNvSpPr/>
                <p:nvPr/>
              </p:nvSpPr>
              <p:spPr>
                <a:xfrm>
                  <a:off x="5806800" y="4640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6203520" y="46767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203520" y="48970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6537960" y="4492440"/>
                <a:ext cx="345960" cy="588960"/>
                <a:chOff x="6537960" y="4492440"/>
                <a:chExt cx="345960" cy="588960"/>
              </a:xfrm>
            </p:grpSpPr>
            <p:sp>
              <p:nvSpPr>
                <p:cNvPr id="1656" name=""/>
                <p:cNvSpPr/>
                <p:nvPr/>
              </p:nvSpPr>
              <p:spPr>
                <a:xfrm rot="16200000">
                  <a:off x="6420600" y="46299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5400000">
                  <a:off x="6526440" y="47030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5400000">
                  <a:off x="6539040" y="47221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16200000">
                  <a:off x="6543000" y="46310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0" name=""/>
              <p:cNvSpPr/>
              <p:nvPr/>
            </p:nvSpPr>
            <p:spPr>
              <a:xfrm>
                <a:off x="6874560" y="4787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583040" y="47876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7072560" y="4603680"/>
                <a:ext cx="592200" cy="368280"/>
                <a:chOff x="7072560" y="4603680"/>
                <a:chExt cx="592200" cy="36828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7185600" y="46036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7072560" y="4642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5" name=""/>
              <p:cNvSpPr/>
              <p:nvPr/>
            </p:nvSpPr>
            <p:spPr>
              <a:xfrm>
                <a:off x="7135560" y="47876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446800" y="48988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96760" y="46767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5017680" y="4603680"/>
                <a:ext cx="557280" cy="368280"/>
                <a:chOff x="5017680" y="4603680"/>
                <a:chExt cx="557280" cy="3682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5106960" y="460368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017680" y="4642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595840" y="4437000"/>
                <a:ext cx="2171160" cy="699840"/>
                <a:chOff x="5595840" y="4437000"/>
                <a:chExt cx="2171160" cy="69984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6294600" y="44370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69212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59584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6993360" y="44409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7853760" y="4589280"/>
                <a:ext cx="420120" cy="369720"/>
                <a:chOff x="7853760" y="4589280"/>
                <a:chExt cx="420120" cy="369720"/>
              </a:xfrm>
            </p:grpSpPr>
            <p:grpSp>
              <p:nvGrpSpPr>
                <p:cNvPr id="1677" name=""/>
                <p:cNvGrpSpPr/>
                <p:nvPr/>
              </p:nvGrpSpPr>
              <p:grpSpPr>
                <a:xfrm>
                  <a:off x="7881120" y="4589280"/>
                  <a:ext cx="373680" cy="369720"/>
                  <a:chOff x="7881120" y="4589280"/>
                  <a:chExt cx="373680" cy="36972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 flipH="1">
                    <a:off x="7880760" y="45892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>
                    <a:off x="7881120" y="45892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0" name=""/>
                <p:cNvSpPr/>
                <p:nvPr/>
              </p:nvSpPr>
              <p:spPr>
                <a:xfrm flipH="1">
                  <a:off x="7853400" y="4627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1" name=""/>
            <p:cNvGrpSpPr/>
            <p:nvPr/>
          </p:nvGrpSpPr>
          <p:grpSpPr>
            <a:xfrm>
              <a:off x="5720760" y="5249520"/>
              <a:ext cx="3256200" cy="699840"/>
              <a:chOff x="5720760" y="5249520"/>
              <a:chExt cx="3256200" cy="69984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510600" y="5414400"/>
                <a:ext cx="420120" cy="370080"/>
                <a:chOff x="6510600" y="5414400"/>
                <a:chExt cx="420120" cy="370080"/>
              </a:xfrm>
            </p:grpSpPr>
            <p:grpSp>
              <p:nvGrpSpPr>
                <p:cNvPr id="1683" name=""/>
                <p:cNvGrpSpPr/>
                <p:nvPr/>
              </p:nvGrpSpPr>
              <p:grpSpPr>
                <a:xfrm>
                  <a:off x="6534360" y="5414400"/>
                  <a:ext cx="370440" cy="370080"/>
                  <a:chOff x="6534360" y="5414400"/>
                  <a:chExt cx="370440" cy="37008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6719760" y="541440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534360" y="541440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6" name=""/>
                <p:cNvSpPr/>
                <p:nvPr/>
              </p:nvSpPr>
              <p:spPr>
                <a:xfrm>
                  <a:off x="6510600" y="54529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7" name=""/>
              <p:cNvSpPr/>
              <p:nvPr/>
            </p:nvSpPr>
            <p:spPr>
              <a:xfrm>
                <a:off x="6906600" y="54892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06600" y="5709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9" name=""/>
              <p:cNvGrpSpPr/>
              <p:nvPr/>
            </p:nvGrpSpPr>
            <p:grpSpPr>
              <a:xfrm>
                <a:off x="7241040" y="5304960"/>
                <a:ext cx="345960" cy="588960"/>
                <a:chOff x="7241040" y="5304960"/>
                <a:chExt cx="345960" cy="588960"/>
              </a:xfrm>
            </p:grpSpPr>
            <p:sp>
              <p:nvSpPr>
                <p:cNvPr id="1690" name=""/>
                <p:cNvSpPr/>
                <p:nvPr/>
              </p:nvSpPr>
              <p:spPr>
                <a:xfrm rot="16200000">
                  <a:off x="7123680" y="544248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5400000">
                  <a:off x="7229520" y="551556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5400000">
                  <a:off x="7242120" y="553464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16200000">
                  <a:off x="7246080" y="54435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7577640" y="5600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86120" y="560016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6" name=""/>
              <p:cNvGrpSpPr/>
              <p:nvPr/>
            </p:nvGrpSpPr>
            <p:grpSpPr>
              <a:xfrm>
                <a:off x="7775640" y="5416200"/>
                <a:ext cx="592200" cy="368280"/>
                <a:chOff x="7775640" y="5416200"/>
                <a:chExt cx="592200" cy="3682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7888680" y="541620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7775640" y="54547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7838640" y="560016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149880" y="571140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099840" y="548928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2" name=""/>
              <p:cNvGrpSpPr/>
              <p:nvPr/>
            </p:nvGrpSpPr>
            <p:grpSpPr>
              <a:xfrm>
                <a:off x="5720760" y="5416200"/>
                <a:ext cx="557280" cy="368280"/>
                <a:chOff x="5720760" y="5416200"/>
                <a:chExt cx="557280" cy="36828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5810040" y="541620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720760" y="54547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6298920" y="5249520"/>
                <a:ext cx="2171160" cy="699840"/>
                <a:chOff x="6298920" y="5249520"/>
                <a:chExt cx="2171160" cy="69984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6997680" y="524952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839520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29892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696440" y="525348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8556840" y="5401800"/>
                <a:ext cx="420120" cy="369720"/>
                <a:chOff x="8556840" y="5401800"/>
                <a:chExt cx="420120" cy="369720"/>
              </a:xfrm>
            </p:grpSpPr>
            <p:grpSp>
              <p:nvGrpSpPr>
                <p:cNvPr id="1711" name=""/>
                <p:cNvGrpSpPr/>
                <p:nvPr/>
              </p:nvGrpSpPr>
              <p:grpSpPr>
                <a:xfrm>
                  <a:off x="8584200" y="5401800"/>
                  <a:ext cx="373680" cy="369720"/>
                  <a:chOff x="8584200" y="5401800"/>
                  <a:chExt cx="373680" cy="3697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 flipH="1">
                    <a:off x="8583840" y="540180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H="1">
                    <a:off x="8584200" y="540180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4" name=""/>
                <p:cNvSpPr/>
                <p:nvPr/>
              </p:nvSpPr>
              <p:spPr>
                <a:xfrm flipH="1">
                  <a:off x="8556480" y="544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5" name=""/>
          <p:cNvSpPr/>
          <p:nvPr/>
        </p:nvSpPr>
        <p:spPr>
          <a:xfrm>
            <a:off x="4944960" y="2271600"/>
            <a:ext cx="187560" cy="7178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38880" y="3095640"/>
            <a:ext cx="106200" cy="8287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638680" y="2257560"/>
            <a:ext cx="166680" cy="15699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37200" y="2576520"/>
            <a:ext cx="768240" cy="154944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5BA-1362-46CA-AC0E-5C79803758B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6E949-B103-4471-9B8E-2CCF2B2008A3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054080" y="2349360"/>
            <a:ext cx="748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61840" y="19368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103680" y="2760840"/>
            <a:ext cx="3165840" cy="3735000"/>
            <a:chOff x="103680" y="2760840"/>
            <a:chExt cx="3165840" cy="3735000"/>
          </a:xfrm>
        </p:grpSpPr>
        <p:sp>
          <p:nvSpPr>
            <p:cNvPr id="1722" name=""/>
            <p:cNvSpPr/>
            <p:nvPr/>
          </p:nvSpPr>
          <p:spPr>
            <a:xfrm>
              <a:off x="103680" y="2798640"/>
              <a:ext cx="36720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200" y="2817720"/>
              <a:ext cx="0" cy="36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710640" y="2760840"/>
              <a:ext cx="2558880" cy="3735000"/>
              <a:chOff x="710640" y="2760840"/>
              <a:chExt cx="2558880" cy="3735000"/>
            </a:xfrm>
          </p:grpSpPr>
          <p:sp>
            <p:nvSpPr>
              <p:cNvPr id="1725" name=""/>
              <p:cNvSpPr/>
              <p:nvPr/>
            </p:nvSpPr>
            <p:spPr>
              <a:xfrm>
                <a:off x="710640" y="27608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l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, 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(r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10640" y="37324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40" y="46846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0640" y="56754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1552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9, Page A-21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2982600" y="2651040"/>
            <a:ext cx="6030000" cy="3519360"/>
            <a:chOff x="2982600" y="2651040"/>
            <a:chExt cx="6030000" cy="3519360"/>
          </a:xfrm>
        </p:grpSpPr>
        <p:grpSp>
          <p:nvGrpSpPr>
            <p:cNvPr id="1731" name=""/>
            <p:cNvGrpSpPr/>
            <p:nvPr/>
          </p:nvGrpSpPr>
          <p:grpSpPr>
            <a:xfrm>
              <a:off x="2982600" y="2651040"/>
              <a:ext cx="3650760" cy="699840"/>
              <a:chOff x="2982600" y="2651040"/>
              <a:chExt cx="3650760" cy="69984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3876480" y="2815920"/>
                <a:ext cx="422640" cy="370080"/>
                <a:chOff x="3876480" y="2815920"/>
                <a:chExt cx="422640" cy="370080"/>
              </a:xfrm>
            </p:grpSpPr>
            <p:grpSp>
              <p:nvGrpSpPr>
                <p:cNvPr id="1733" name=""/>
                <p:cNvGrpSpPr/>
                <p:nvPr/>
              </p:nvGrpSpPr>
              <p:grpSpPr>
                <a:xfrm>
                  <a:off x="3876480" y="2815920"/>
                  <a:ext cx="422280" cy="370080"/>
                  <a:chOff x="3876480" y="2815920"/>
                  <a:chExt cx="422280" cy="37008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>
                    <a:off x="4087800" y="281592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876480" y="281592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6" name=""/>
                <p:cNvSpPr/>
                <p:nvPr/>
              </p:nvSpPr>
              <p:spPr>
                <a:xfrm>
                  <a:off x="3879000" y="2854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7" name=""/>
              <p:cNvSpPr/>
              <p:nvPr/>
            </p:nvSpPr>
            <p:spPr>
              <a:xfrm>
                <a:off x="4300920" y="289080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00920" y="31111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682520" y="2706480"/>
                <a:ext cx="380160" cy="588960"/>
                <a:chOff x="4682520" y="2706480"/>
                <a:chExt cx="380160" cy="588960"/>
              </a:xfrm>
            </p:grpSpPr>
            <p:sp>
              <p:nvSpPr>
                <p:cNvPr id="1740" name=""/>
                <p:cNvSpPr/>
                <p:nvPr/>
              </p:nvSpPr>
              <p:spPr>
                <a:xfrm rot="16200000">
                  <a:off x="4589640" y="282240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rot="5400000">
                  <a:off x="4682520" y="290556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rot="5400000">
                  <a:off x="4695840" y="292752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rot="16200000">
                  <a:off x="4717800" y="28418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5067000" y="30016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875560" y="300168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5334840" y="2817720"/>
                <a:ext cx="592200" cy="368280"/>
                <a:chOff x="5334840" y="2817720"/>
                <a:chExt cx="592200" cy="36828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5421960" y="281772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334840" y="28562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5365080" y="300168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37280" y="311292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380040" y="289080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2982600" y="2817720"/>
                <a:ext cx="557280" cy="368280"/>
                <a:chOff x="2982600" y="2817720"/>
                <a:chExt cx="557280" cy="36828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049200" y="281772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982600" y="28562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606840" y="2651040"/>
                <a:ext cx="2478240" cy="699840"/>
                <a:chOff x="3606840" y="2651040"/>
                <a:chExt cx="2478240" cy="69984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440460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599976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60684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202000" y="265500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6202440" y="2803320"/>
                <a:ext cx="430920" cy="369720"/>
                <a:chOff x="6202440" y="2803320"/>
                <a:chExt cx="430920" cy="369720"/>
              </a:xfrm>
            </p:grpSpPr>
            <p:grpSp>
              <p:nvGrpSpPr>
                <p:cNvPr id="1761" name=""/>
                <p:cNvGrpSpPr/>
                <p:nvPr/>
              </p:nvGrpSpPr>
              <p:grpSpPr>
                <a:xfrm>
                  <a:off x="6207480" y="2803320"/>
                  <a:ext cx="425880" cy="369720"/>
                  <a:chOff x="6207480" y="2803320"/>
                  <a:chExt cx="425880" cy="36972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 flipH="1">
                    <a:off x="6207120" y="280332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>
                    <a:off x="6207120" y="280332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4" name=""/>
                <p:cNvSpPr/>
                <p:nvPr/>
              </p:nvSpPr>
              <p:spPr>
                <a:xfrm flipH="1">
                  <a:off x="6202080" y="28418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5" name=""/>
            <p:cNvGrpSpPr/>
            <p:nvPr/>
          </p:nvGrpSpPr>
          <p:grpSpPr>
            <a:xfrm>
              <a:off x="3801600" y="3581280"/>
              <a:ext cx="3650400" cy="699840"/>
              <a:chOff x="3801600" y="3581280"/>
              <a:chExt cx="3650400" cy="699840"/>
            </a:xfrm>
          </p:grpSpPr>
          <p:grpSp>
            <p:nvGrpSpPr>
              <p:cNvPr id="1766" name=""/>
              <p:cNvGrpSpPr/>
              <p:nvPr/>
            </p:nvGrpSpPr>
            <p:grpSpPr>
              <a:xfrm>
                <a:off x="4695480" y="3746160"/>
                <a:ext cx="422640" cy="370080"/>
                <a:chOff x="4695480" y="3746160"/>
                <a:chExt cx="422640" cy="370080"/>
              </a:xfrm>
            </p:grpSpPr>
            <p:grpSp>
              <p:nvGrpSpPr>
                <p:cNvPr id="1767" name=""/>
                <p:cNvGrpSpPr/>
                <p:nvPr/>
              </p:nvGrpSpPr>
              <p:grpSpPr>
                <a:xfrm>
                  <a:off x="4695480" y="3746160"/>
                  <a:ext cx="422280" cy="370080"/>
                  <a:chOff x="4695480" y="3746160"/>
                  <a:chExt cx="422280" cy="37008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4906800" y="37461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4695480" y="37461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0" name=""/>
                <p:cNvSpPr/>
                <p:nvPr/>
              </p:nvSpPr>
              <p:spPr>
                <a:xfrm>
                  <a:off x="4698000" y="3784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"/>
              <p:cNvSpPr/>
              <p:nvPr/>
            </p:nvSpPr>
            <p:spPr>
              <a:xfrm>
                <a:off x="5119560" y="38210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119560" y="404136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5501520" y="3636720"/>
                <a:ext cx="380160" cy="588960"/>
                <a:chOff x="5501520" y="3636720"/>
                <a:chExt cx="380160" cy="588960"/>
              </a:xfrm>
            </p:grpSpPr>
            <p:sp>
              <p:nvSpPr>
                <p:cNvPr id="1774" name=""/>
                <p:cNvSpPr/>
                <p:nvPr/>
              </p:nvSpPr>
              <p:spPr>
                <a:xfrm rot="16200000">
                  <a:off x="5408640" y="37526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5400000">
                  <a:off x="5501520" y="38358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5400000">
                  <a:off x="5514840" y="38577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6200000">
                  <a:off x="5537520" y="3772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5885640" y="39319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94200" y="39319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6153480" y="3747960"/>
                <a:ext cx="592200" cy="368280"/>
                <a:chOff x="6153480" y="3747960"/>
                <a:chExt cx="592200" cy="3682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6240600" y="37479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153480" y="37864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"/>
              <p:cNvSpPr/>
              <p:nvPr/>
            </p:nvSpPr>
            <p:spPr>
              <a:xfrm>
                <a:off x="6183720" y="393192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55920" y="404316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99040" y="382104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6" name=""/>
              <p:cNvGrpSpPr/>
              <p:nvPr/>
            </p:nvGrpSpPr>
            <p:grpSpPr>
              <a:xfrm>
                <a:off x="3801600" y="3747960"/>
                <a:ext cx="557280" cy="368280"/>
                <a:chOff x="3801600" y="3747960"/>
                <a:chExt cx="557280" cy="36828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3868200" y="37479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801600" y="37864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4425840" y="3581280"/>
                <a:ext cx="2477880" cy="699840"/>
                <a:chOff x="4425840" y="3581280"/>
                <a:chExt cx="2477880" cy="6998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52232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81840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4258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6021000" y="358524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7021080" y="3733560"/>
                <a:ext cx="430920" cy="369720"/>
                <a:chOff x="7021080" y="3733560"/>
                <a:chExt cx="430920" cy="3697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7026120" y="3733560"/>
                  <a:ext cx="425880" cy="369720"/>
                  <a:chOff x="7026120" y="3733560"/>
                  <a:chExt cx="425880" cy="3697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 flipH="1">
                    <a:off x="7025760" y="373356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flipH="1">
                    <a:off x="7025760" y="373356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 flipH="1">
                  <a:off x="7020720" y="3772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9" name=""/>
            <p:cNvGrpSpPr/>
            <p:nvPr/>
          </p:nvGrpSpPr>
          <p:grpSpPr>
            <a:xfrm>
              <a:off x="4593240" y="4497480"/>
              <a:ext cx="3649680" cy="699840"/>
              <a:chOff x="4593240" y="4497480"/>
              <a:chExt cx="3649680" cy="699840"/>
            </a:xfrm>
          </p:grpSpPr>
          <p:grpSp>
            <p:nvGrpSpPr>
              <p:cNvPr id="1800" name=""/>
              <p:cNvGrpSpPr/>
              <p:nvPr/>
            </p:nvGrpSpPr>
            <p:grpSpPr>
              <a:xfrm>
                <a:off x="5487120" y="4662360"/>
                <a:ext cx="422640" cy="370080"/>
                <a:chOff x="5487120" y="4662360"/>
                <a:chExt cx="422640" cy="370080"/>
              </a:xfrm>
            </p:grpSpPr>
            <p:grpSp>
              <p:nvGrpSpPr>
                <p:cNvPr id="1801" name=""/>
                <p:cNvGrpSpPr/>
                <p:nvPr/>
              </p:nvGrpSpPr>
              <p:grpSpPr>
                <a:xfrm>
                  <a:off x="5487120" y="4662360"/>
                  <a:ext cx="422280" cy="370080"/>
                  <a:chOff x="5487120" y="4662360"/>
                  <a:chExt cx="422280" cy="37008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>
                    <a:off x="5698440" y="46623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5487120" y="46623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4" name=""/>
                <p:cNvSpPr/>
                <p:nvPr/>
              </p:nvSpPr>
              <p:spPr>
                <a:xfrm>
                  <a:off x="5489640" y="4700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911200" y="473724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911200" y="495756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7" name=""/>
              <p:cNvGrpSpPr/>
              <p:nvPr/>
            </p:nvGrpSpPr>
            <p:grpSpPr>
              <a:xfrm>
                <a:off x="6292800" y="4552920"/>
                <a:ext cx="380160" cy="588960"/>
                <a:chOff x="6292800" y="4552920"/>
                <a:chExt cx="380160" cy="588960"/>
              </a:xfrm>
            </p:grpSpPr>
            <p:sp>
              <p:nvSpPr>
                <p:cNvPr id="1808" name=""/>
                <p:cNvSpPr/>
                <p:nvPr/>
              </p:nvSpPr>
              <p:spPr>
                <a:xfrm rot="16200000">
                  <a:off x="6199920" y="46688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rot="5400000">
                  <a:off x="6292800" y="47520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5400000">
                  <a:off x="6306120" y="47739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6200000">
                  <a:off x="6328800" y="46717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676920" y="484812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485120" y="48481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6945480" y="4664160"/>
                <a:ext cx="592200" cy="368280"/>
                <a:chOff x="6945480" y="4664160"/>
                <a:chExt cx="592200" cy="36828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7031520" y="46641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945480" y="4702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7" name=""/>
              <p:cNvSpPr/>
              <p:nvPr/>
            </p:nvSpPr>
            <p:spPr>
              <a:xfrm>
                <a:off x="6975000" y="4848120"/>
                <a:ext cx="63396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47920" y="4959360"/>
                <a:ext cx="43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990680" y="4737240"/>
                <a:ext cx="49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0" name=""/>
              <p:cNvGrpSpPr/>
              <p:nvPr/>
            </p:nvGrpSpPr>
            <p:grpSpPr>
              <a:xfrm>
                <a:off x="4593240" y="4664160"/>
                <a:ext cx="557280" cy="368280"/>
                <a:chOff x="4593240" y="4664160"/>
                <a:chExt cx="557280" cy="36828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4660200" y="46641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593240" y="4702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5217840" y="4497480"/>
                <a:ext cx="2476800" cy="699840"/>
                <a:chOff x="5217840" y="4497480"/>
                <a:chExt cx="2476800" cy="69984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6015240" y="4497480"/>
                  <a:ext cx="849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0932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1784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812280" y="4501440"/>
                  <a:ext cx="838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7814520" y="4649760"/>
                <a:ext cx="428400" cy="369720"/>
                <a:chOff x="7814520" y="4649760"/>
                <a:chExt cx="428400" cy="369720"/>
              </a:xfrm>
            </p:grpSpPr>
            <p:grpSp>
              <p:nvGrpSpPr>
                <p:cNvPr id="1829" name=""/>
                <p:cNvGrpSpPr/>
                <p:nvPr/>
              </p:nvGrpSpPr>
              <p:grpSpPr>
                <a:xfrm>
                  <a:off x="7817400" y="4649760"/>
                  <a:ext cx="425520" cy="369720"/>
                  <a:chOff x="7817400" y="4649760"/>
                  <a:chExt cx="425520" cy="36972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 flipH="1">
                    <a:off x="7817760" y="4649760"/>
                    <a:ext cx="21240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>
                    <a:off x="7817400" y="4649760"/>
                    <a:ext cx="425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2" name=""/>
                <p:cNvSpPr/>
                <p:nvPr/>
              </p:nvSpPr>
              <p:spPr>
                <a:xfrm flipH="1">
                  <a:off x="7814160" y="4688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3" name=""/>
            <p:cNvGrpSpPr/>
            <p:nvPr/>
          </p:nvGrpSpPr>
          <p:grpSpPr>
            <a:xfrm>
              <a:off x="5362200" y="5470560"/>
              <a:ext cx="3650400" cy="699840"/>
              <a:chOff x="5362200" y="5470560"/>
              <a:chExt cx="3650400" cy="699840"/>
            </a:xfrm>
          </p:grpSpPr>
          <p:grpSp>
            <p:nvGrpSpPr>
              <p:cNvPr id="1834" name=""/>
              <p:cNvGrpSpPr/>
              <p:nvPr/>
            </p:nvGrpSpPr>
            <p:grpSpPr>
              <a:xfrm>
                <a:off x="6256080" y="5635440"/>
                <a:ext cx="422640" cy="370080"/>
                <a:chOff x="6256080" y="5635440"/>
                <a:chExt cx="422640" cy="370080"/>
              </a:xfrm>
            </p:grpSpPr>
            <p:grpSp>
              <p:nvGrpSpPr>
                <p:cNvPr id="1835" name=""/>
                <p:cNvGrpSpPr/>
                <p:nvPr/>
              </p:nvGrpSpPr>
              <p:grpSpPr>
                <a:xfrm>
                  <a:off x="6256080" y="5635440"/>
                  <a:ext cx="422280" cy="370080"/>
                  <a:chOff x="6256080" y="5635440"/>
                  <a:chExt cx="422280" cy="37008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6467400" y="563544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6256080" y="563544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8" name=""/>
                <p:cNvSpPr/>
                <p:nvPr/>
              </p:nvSpPr>
              <p:spPr>
                <a:xfrm>
                  <a:off x="6258600" y="5673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"/>
              <p:cNvSpPr/>
              <p:nvPr/>
            </p:nvSpPr>
            <p:spPr>
              <a:xfrm>
                <a:off x="6680160" y="57103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80160" y="59306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7062120" y="5526000"/>
                <a:ext cx="380160" cy="588960"/>
                <a:chOff x="7062120" y="5526000"/>
                <a:chExt cx="380160" cy="588960"/>
              </a:xfrm>
            </p:grpSpPr>
            <p:sp>
              <p:nvSpPr>
                <p:cNvPr id="1842" name=""/>
                <p:cNvSpPr/>
                <p:nvPr/>
              </p:nvSpPr>
              <p:spPr>
                <a:xfrm rot="16200000">
                  <a:off x="6969240" y="564192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5400000">
                  <a:off x="7062120" y="572508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5400000">
                  <a:off x="7075440" y="574704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7097400" y="56613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>
                <a:off x="7446240" y="5821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254800" y="582120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8" name=""/>
              <p:cNvGrpSpPr/>
              <p:nvPr/>
            </p:nvGrpSpPr>
            <p:grpSpPr>
              <a:xfrm>
                <a:off x="7714080" y="5637240"/>
                <a:ext cx="592200" cy="368280"/>
                <a:chOff x="7714080" y="5637240"/>
                <a:chExt cx="592200" cy="36828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7801200" y="563724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714080" y="5675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1" name=""/>
              <p:cNvSpPr/>
              <p:nvPr/>
            </p:nvSpPr>
            <p:spPr>
              <a:xfrm>
                <a:off x="7744320" y="582120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16520" y="593244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59640" y="571032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4" name=""/>
              <p:cNvGrpSpPr/>
              <p:nvPr/>
            </p:nvGrpSpPr>
            <p:grpSpPr>
              <a:xfrm>
                <a:off x="5362200" y="5637240"/>
                <a:ext cx="557280" cy="368280"/>
                <a:chOff x="5362200" y="5637240"/>
                <a:chExt cx="557280" cy="36828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5428800" y="563724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362200" y="5675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5986440" y="5470560"/>
                <a:ext cx="2477880" cy="699840"/>
                <a:chOff x="5986440" y="5470560"/>
                <a:chExt cx="2477880" cy="69984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67838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837900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9864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7581600" y="547452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8581680" y="5622840"/>
                <a:ext cx="430920" cy="369720"/>
                <a:chOff x="8581680" y="5622840"/>
                <a:chExt cx="430920" cy="369720"/>
              </a:xfrm>
            </p:grpSpPr>
            <p:grpSp>
              <p:nvGrpSpPr>
                <p:cNvPr id="1863" name=""/>
                <p:cNvGrpSpPr/>
                <p:nvPr/>
              </p:nvGrpSpPr>
              <p:grpSpPr>
                <a:xfrm>
                  <a:off x="8586720" y="5622840"/>
                  <a:ext cx="425880" cy="369720"/>
                  <a:chOff x="8586720" y="5622840"/>
                  <a:chExt cx="425880" cy="369720"/>
                </a:xfrm>
              </p:grpSpPr>
              <p:sp>
                <p:nvSpPr>
                  <p:cNvPr id="1864" name=""/>
                  <p:cNvSpPr/>
                  <p:nvPr/>
                </p:nvSpPr>
                <p:spPr>
                  <a:xfrm flipH="1">
                    <a:off x="8586360" y="562284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 flipH="1">
                    <a:off x="8586360" y="562284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6" name=""/>
                <p:cNvSpPr/>
                <p:nvPr/>
              </p:nvSpPr>
              <p:spPr>
                <a:xfrm flipH="1">
                  <a:off x="8581320" y="5661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67" name=""/>
          <p:cNvSpPr/>
          <p:nvPr/>
        </p:nvSpPr>
        <p:spPr>
          <a:xfrm flipH="1">
            <a:off x="5486400" y="2971800"/>
            <a:ext cx="53352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019920" y="2971800"/>
            <a:ext cx="304560" cy="1752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400800" y="2971800"/>
            <a:ext cx="76320" cy="2743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28C-2739-48A5-8AE3-28AD010E7FC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76B3E-53AF-4EA8-B1AD-FBDE30E0259E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58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63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E9E-A623-4416-8CAD-414A011095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E7D25-2B18-4497-943B-77BBA3544321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762120" y="235080"/>
            <a:ext cx="77724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imilar to Figure A.10, Page A-2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456200" y="1749600"/>
            <a:ext cx="201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06400" y="5432400"/>
            <a:ext cx="177696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r8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81520" y="2178000"/>
            <a:ext cx="34596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8880" y="2168640"/>
            <a:ext cx="0" cy="436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336680" y="2124000"/>
            <a:ext cx="706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06040" y="2577960"/>
            <a:ext cx="170964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,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07840" y="356868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r4,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7840" y="450216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6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2733120" y="2475000"/>
            <a:ext cx="3651120" cy="699840"/>
            <a:chOff x="2733120" y="2475000"/>
            <a:chExt cx="3651120" cy="699840"/>
          </a:xfrm>
        </p:grpSpPr>
        <p:grpSp>
          <p:nvGrpSpPr>
            <p:cNvPr id="1880" name=""/>
            <p:cNvGrpSpPr/>
            <p:nvPr/>
          </p:nvGrpSpPr>
          <p:grpSpPr>
            <a:xfrm>
              <a:off x="3627000" y="2639880"/>
              <a:ext cx="422640" cy="370080"/>
              <a:chOff x="3627000" y="2639880"/>
              <a:chExt cx="422640" cy="37008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3627000" y="2639880"/>
                <a:ext cx="422280" cy="370080"/>
                <a:chOff x="3627000" y="2639880"/>
                <a:chExt cx="422280" cy="37008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838320" y="2639880"/>
                  <a:ext cx="2109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627000" y="2639880"/>
                  <a:ext cx="42228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3629520" y="26784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4051440" y="271476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51440" y="293508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7" name=""/>
            <p:cNvGrpSpPr/>
            <p:nvPr/>
          </p:nvGrpSpPr>
          <p:grpSpPr>
            <a:xfrm>
              <a:off x="4433400" y="2530440"/>
              <a:ext cx="380160" cy="588960"/>
              <a:chOff x="4433400" y="2530440"/>
              <a:chExt cx="380160" cy="588960"/>
            </a:xfrm>
          </p:grpSpPr>
          <p:sp>
            <p:nvSpPr>
              <p:cNvPr id="1888" name=""/>
              <p:cNvSpPr/>
              <p:nvPr/>
            </p:nvSpPr>
            <p:spPr>
              <a:xfrm rot="16200000">
                <a:off x="4340520" y="2646360"/>
                <a:ext cx="588960" cy="3567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6760"/>
                  <a:gd name="textAreaBottom" fmla="*/ 278280 h 35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5400000">
                <a:off x="4433400" y="2729520"/>
                <a:ext cx="1900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5400000">
                <a:off x="4446720" y="2751480"/>
                <a:ext cx="167040" cy="146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6200000">
                <a:off x="4468680" y="26658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4817520" y="282564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626440" y="282564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085360" y="2641680"/>
              <a:ext cx="592200" cy="368280"/>
              <a:chOff x="5085360" y="2641680"/>
              <a:chExt cx="592200" cy="368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5172480" y="2641680"/>
                <a:ext cx="424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085360" y="26802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5115600" y="2825640"/>
              <a:ext cx="63432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187800" y="2936880"/>
              <a:ext cx="43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130560" y="2714760"/>
              <a:ext cx="49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733120" y="2641680"/>
              <a:ext cx="557280" cy="368280"/>
              <a:chOff x="2733120" y="2641680"/>
              <a:chExt cx="557280" cy="368280"/>
            </a:xfrm>
          </p:grpSpPr>
          <p:sp>
            <p:nvSpPr>
              <p:cNvPr id="1901" name=""/>
              <p:cNvSpPr/>
              <p:nvPr/>
            </p:nvSpPr>
            <p:spPr>
              <a:xfrm>
                <a:off x="2799720" y="2641680"/>
                <a:ext cx="4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733120" y="26802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3357720" y="2475000"/>
              <a:ext cx="2478240" cy="699840"/>
              <a:chOff x="3357720" y="2475000"/>
              <a:chExt cx="2478240" cy="699840"/>
            </a:xfrm>
          </p:grpSpPr>
          <p:sp>
            <p:nvSpPr>
              <p:cNvPr id="1904" name=""/>
              <p:cNvSpPr/>
              <p:nvPr/>
            </p:nvSpPr>
            <p:spPr>
              <a:xfrm>
                <a:off x="415548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75064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35772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52880" y="2478960"/>
                <a:ext cx="8424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5953320" y="2627280"/>
              <a:ext cx="430920" cy="369720"/>
              <a:chOff x="5953320" y="2627280"/>
              <a:chExt cx="430920" cy="369720"/>
            </a:xfrm>
          </p:grpSpPr>
          <p:grpSp>
            <p:nvGrpSpPr>
              <p:cNvPr id="1909" name=""/>
              <p:cNvGrpSpPr/>
              <p:nvPr/>
            </p:nvGrpSpPr>
            <p:grpSpPr>
              <a:xfrm>
                <a:off x="5958360" y="2627280"/>
                <a:ext cx="425880" cy="369720"/>
                <a:chOff x="5958360" y="2627280"/>
                <a:chExt cx="425880" cy="369720"/>
              </a:xfrm>
            </p:grpSpPr>
            <p:sp>
              <p:nvSpPr>
                <p:cNvPr id="1910" name=""/>
                <p:cNvSpPr/>
                <p:nvPr/>
              </p:nvSpPr>
              <p:spPr>
                <a:xfrm flipH="1">
                  <a:off x="5958000" y="2627280"/>
                  <a:ext cx="2127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>
                  <a:off x="5958000" y="2627280"/>
                  <a:ext cx="4258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"/>
              <p:cNvSpPr/>
              <p:nvPr/>
            </p:nvSpPr>
            <p:spPr>
              <a:xfrm flipH="1">
                <a:off x="5952960" y="2665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3" name=""/>
          <p:cNvGrpSpPr/>
          <p:nvPr/>
        </p:nvGrpSpPr>
        <p:grpSpPr>
          <a:xfrm>
            <a:off x="3552840" y="3408480"/>
            <a:ext cx="4439520" cy="701640"/>
            <a:chOff x="3552840" y="3408480"/>
            <a:chExt cx="4439520" cy="701640"/>
          </a:xfrm>
        </p:grpSpPr>
        <p:grpSp>
          <p:nvGrpSpPr>
            <p:cNvPr id="1914" name=""/>
            <p:cNvGrpSpPr/>
            <p:nvPr/>
          </p:nvGrpSpPr>
          <p:grpSpPr>
            <a:xfrm>
              <a:off x="4446720" y="3570480"/>
              <a:ext cx="422640" cy="369720"/>
              <a:chOff x="4446720" y="3570480"/>
              <a:chExt cx="422640" cy="369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4446720" y="3570480"/>
                <a:ext cx="422280" cy="369720"/>
                <a:chOff x="4446720" y="3570480"/>
                <a:chExt cx="422280" cy="36972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4658040" y="3570480"/>
                  <a:ext cx="2109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446720" y="3570480"/>
                  <a:ext cx="4222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8" name=""/>
              <p:cNvSpPr/>
              <p:nvPr/>
            </p:nvSpPr>
            <p:spPr>
              <a:xfrm>
                <a:off x="4449240" y="36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4870440" y="364500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42000" y="3870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06800" y="38671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49560" y="36450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3552840" y="3571920"/>
              <a:ext cx="557280" cy="368280"/>
              <a:chOff x="3552840" y="3571920"/>
              <a:chExt cx="557280" cy="368280"/>
            </a:xfrm>
          </p:grpSpPr>
          <p:sp>
            <p:nvSpPr>
              <p:cNvPr id="1924" name=""/>
              <p:cNvSpPr/>
              <p:nvPr/>
            </p:nvSpPr>
            <p:spPr>
              <a:xfrm>
                <a:off x="3619440" y="357192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552840" y="36104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6" name=""/>
            <p:cNvSpPr/>
            <p:nvPr/>
          </p:nvSpPr>
          <p:spPr>
            <a:xfrm>
              <a:off x="497520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7672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6041520" y="3408480"/>
              <a:ext cx="1950840" cy="699840"/>
              <a:chOff x="6041520" y="3408480"/>
              <a:chExt cx="1950840" cy="699840"/>
            </a:xfrm>
          </p:grpSpPr>
          <p:sp>
            <p:nvSpPr>
              <p:cNvPr id="1929" name=""/>
              <p:cNvSpPr/>
              <p:nvPr/>
            </p:nvSpPr>
            <p:spPr>
              <a:xfrm rot="16200000">
                <a:off x="5949720" y="3578760"/>
                <a:ext cx="588600" cy="357120"/>
              </a:xfrm>
              <a:custGeom>
                <a:avLst/>
                <a:gdLst>
                  <a:gd name="textAreaLeft" fmla="*/ 129240 w 588600"/>
                  <a:gd name="textAreaRight" fmla="*/ 459360 w 58860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5400000">
                <a:off x="6042240" y="3662640"/>
                <a:ext cx="18864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5400000">
                <a:off x="6056280" y="3684240"/>
                <a:ext cx="16632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6200000">
                <a:off x="6078240" y="35985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42600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3384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79880" y="3574800"/>
                <a:ext cx="425520" cy="367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693480" y="36133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724440" y="3759120"/>
                <a:ext cx="633240" cy="29304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59480" y="3408480"/>
                <a:ext cx="8568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561000" y="3412800"/>
                <a:ext cx="85680" cy="69012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7567200" y="3560400"/>
                <a:ext cx="425160" cy="369720"/>
                <a:chOff x="7567200" y="3560400"/>
                <a:chExt cx="425160" cy="369720"/>
              </a:xfrm>
            </p:grpSpPr>
            <p:sp>
              <p:nvSpPr>
                <p:cNvPr id="1941" name=""/>
                <p:cNvSpPr/>
                <p:nvPr/>
              </p:nvSpPr>
              <p:spPr>
                <a:xfrm flipH="1">
                  <a:off x="7567200" y="3560400"/>
                  <a:ext cx="21240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>
                  <a:off x="7566840" y="3560400"/>
                  <a:ext cx="42516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 flipH="1">
                <a:off x="7561800" y="35992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5756400" y="34099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102280" y="3430800"/>
              <a:ext cx="577800" cy="66960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4346640" y="4300560"/>
            <a:ext cx="4439520" cy="712800"/>
            <a:chOff x="4346640" y="4300560"/>
            <a:chExt cx="4439520" cy="712800"/>
          </a:xfrm>
        </p:grpSpPr>
        <p:sp>
          <p:nvSpPr>
            <p:cNvPr id="1947" name=""/>
            <p:cNvSpPr/>
            <p:nvPr/>
          </p:nvSpPr>
          <p:spPr>
            <a:xfrm>
              <a:off x="5664240" y="454824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635800" y="4773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0600" y="477036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743360" y="45482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4346640" y="4475160"/>
              <a:ext cx="557280" cy="368280"/>
              <a:chOff x="4346640" y="4475160"/>
              <a:chExt cx="557280" cy="368280"/>
            </a:xfrm>
          </p:grpSpPr>
          <p:sp>
            <p:nvSpPr>
              <p:cNvPr id="1952" name=""/>
              <p:cNvSpPr/>
              <p:nvPr/>
            </p:nvSpPr>
            <p:spPr>
              <a:xfrm>
                <a:off x="4413240" y="447516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346640" y="45136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>
              <a:off x="576900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97052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6835320" y="4311720"/>
              <a:ext cx="1950840" cy="700200"/>
              <a:chOff x="6835320" y="4311720"/>
              <a:chExt cx="1950840" cy="700200"/>
            </a:xfrm>
          </p:grpSpPr>
          <p:sp>
            <p:nvSpPr>
              <p:cNvPr id="1957" name=""/>
              <p:cNvSpPr/>
              <p:nvPr/>
            </p:nvSpPr>
            <p:spPr>
              <a:xfrm rot="16200000">
                <a:off x="6743520" y="4483080"/>
                <a:ext cx="588960" cy="35712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5400000">
                <a:off x="6836040" y="4566600"/>
                <a:ext cx="1890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5400000">
                <a:off x="6849720" y="458784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6872040" y="4502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1980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02764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73680" y="4478400"/>
                <a:ext cx="425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487280" y="45172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518240" y="4662720"/>
                <a:ext cx="633240" cy="29340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153280" y="4311720"/>
                <a:ext cx="8568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54800" y="4316400"/>
                <a:ext cx="856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8" name=""/>
              <p:cNvGrpSpPr/>
              <p:nvPr/>
            </p:nvGrpSpPr>
            <p:grpSpPr>
              <a:xfrm>
                <a:off x="8361000" y="4464000"/>
                <a:ext cx="425160" cy="370080"/>
                <a:chOff x="8361000" y="4464000"/>
                <a:chExt cx="425160" cy="370080"/>
              </a:xfrm>
            </p:grpSpPr>
            <p:sp>
              <p:nvSpPr>
                <p:cNvPr id="1969" name=""/>
                <p:cNvSpPr/>
                <p:nvPr/>
              </p:nvSpPr>
              <p:spPr>
                <a:xfrm flipH="1">
                  <a:off x="8361000" y="4464000"/>
                  <a:ext cx="21240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8360640" y="4464000"/>
                  <a:ext cx="4251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1" name=""/>
              <p:cNvSpPr/>
              <p:nvPr/>
            </p:nvSpPr>
            <p:spPr>
              <a:xfrm flipH="1">
                <a:off x="8355600" y="4503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6550200" y="431316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122800" y="4300560"/>
              <a:ext cx="577800" cy="66996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5999040" y="4470480"/>
              <a:ext cx="428400" cy="369720"/>
              <a:chOff x="5999040" y="4470480"/>
              <a:chExt cx="428400" cy="369720"/>
            </a:xfrm>
          </p:grpSpPr>
          <p:sp>
            <p:nvSpPr>
              <p:cNvPr id="1975" name=""/>
              <p:cNvSpPr/>
              <p:nvPr/>
            </p:nvSpPr>
            <p:spPr>
              <a:xfrm>
                <a:off x="5999040" y="4470480"/>
                <a:ext cx="428400" cy="36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210000" y="4470480"/>
                <a:ext cx="211320" cy="3650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99040" y="4470480"/>
                <a:ext cx="4222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001920" y="45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9" name=""/>
          <p:cNvSpPr/>
          <p:nvPr/>
        </p:nvSpPr>
        <p:spPr>
          <a:xfrm>
            <a:off x="6450120" y="540216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21320" y="5627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586480" y="562464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529240" y="5402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5937120" y="5313240"/>
            <a:ext cx="557280" cy="368280"/>
            <a:chOff x="5937120" y="5313240"/>
            <a:chExt cx="557280" cy="368280"/>
          </a:xfrm>
        </p:grpSpPr>
        <p:sp>
          <p:nvSpPr>
            <p:cNvPr id="1984" name=""/>
            <p:cNvSpPr/>
            <p:nvPr/>
          </p:nvSpPr>
          <p:spPr>
            <a:xfrm>
              <a:off x="6003720" y="5313240"/>
              <a:ext cx="425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37120" y="53517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55488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5640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rot="16200000">
            <a:off x="7529400" y="5337360"/>
            <a:ext cx="588960" cy="357120"/>
          </a:xfrm>
          <a:custGeom>
            <a:avLst/>
            <a:gdLst>
              <a:gd name="textAreaLeft" fmla="*/ 129240 w 588960"/>
              <a:gd name="textAreaRight" fmla="*/ 459720 w 588960"/>
              <a:gd name="textAreaTop" fmla="*/ 78480 h 357120"/>
              <a:gd name="textAreaBottom" fmla="*/ 2786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21920" y="5420520"/>
            <a:ext cx="1890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rot="5400000">
            <a:off x="7635600" y="5441760"/>
            <a:ext cx="166680" cy="1476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rot="16200000">
            <a:off x="7657920" y="5356800"/>
            <a:ext cx="4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005680" y="551664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8469360" y="55357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359920" y="5332320"/>
            <a:ext cx="4251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273520" y="53715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140680" y="5170320"/>
            <a:ext cx="85680" cy="690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335720" y="5167440"/>
            <a:ext cx="85680" cy="699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113440" y="5165640"/>
            <a:ext cx="577800" cy="669960"/>
          </a:xfrm>
          <a:prstGeom prst="cloudCallout">
            <a:avLst>
              <a:gd name="adj1" fmla="val 39287"/>
              <a:gd name="adj2" fmla="val 38152"/>
            </a:avLst>
          </a:prstGeom>
          <a:solidFill>
            <a:srgbClr val="0fef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ub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6784920" y="5324400"/>
            <a:ext cx="428400" cy="370080"/>
            <a:chOff x="6784920" y="5324400"/>
            <a:chExt cx="428400" cy="370080"/>
          </a:xfrm>
        </p:grpSpPr>
        <p:sp>
          <p:nvSpPr>
            <p:cNvPr id="2000" name=""/>
            <p:cNvSpPr/>
            <p:nvPr/>
          </p:nvSpPr>
          <p:spPr>
            <a:xfrm>
              <a:off x="6784920" y="5324400"/>
              <a:ext cx="428400" cy="36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995880" y="5324400"/>
              <a:ext cx="211320" cy="365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84920" y="5324400"/>
              <a:ext cx="422280" cy="370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787800" y="53636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5832360" y="2803680"/>
            <a:ext cx="22860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137280" y="2803680"/>
            <a:ext cx="76320" cy="18288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591920" y="608472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ow is this det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3DA-171A-4A82-8D72-20AF3B1C14E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B0F9E-88AF-4CDD-A59D-29550D5DC775}" type="datetime1">
              <a:rPr lang="en-US"/>
              <a:t>07/29/2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1219320" y="1219320"/>
            <a:ext cx="6286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producing fast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e –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a, b, c, d ,e, and f in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oftware Scheduling to Avoid Load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91080" y="2945880"/>
            <a:ext cx="3581280" cy="29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ast co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,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,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,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,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3708360" y="4120920"/>
            <a:ext cx="1727280" cy="67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51120" y="4470480"/>
            <a:ext cx="1860840" cy="60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141920" y="6156360"/>
            <a:ext cx="651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r optimizes for performance.  Hardware checks for saf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194-B85A-4F2A-9387-B871F1E5C6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E621D-FEBE-498B-9455-A42617F16E65}" type="datetime1">
              <a:rPr lang="en-US"/>
              <a:t>07/29/26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971-B7DA-45E5-B606-F5BDDA9B422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89C74-FBDD-46F3-9B62-40DA3823ED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ntrol Hazard on Branches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Stage Stal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427120" y="1295280"/>
            <a:ext cx="1143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454320" y="1447920"/>
            <a:ext cx="3480480" cy="3797640"/>
            <a:chOff x="454320" y="1447920"/>
            <a:chExt cx="3480480" cy="3797640"/>
          </a:xfrm>
        </p:grpSpPr>
        <p:sp>
          <p:nvSpPr>
            <p:cNvPr id="2018" name=""/>
            <p:cNvSpPr/>
            <p:nvPr/>
          </p:nvSpPr>
          <p:spPr>
            <a:xfrm>
              <a:off x="454680" y="1447920"/>
              <a:ext cx="310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: beq r1,r3,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54320" y="2324160"/>
              <a:ext cx="32904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4: and r2,r3,r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4680" y="316224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8: or 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54680" y="401940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2: add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61520" y="4790880"/>
              <a:ext cx="34732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6: xor r10,r1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2286000" y="1819440"/>
            <a:ext cx="1447920" cy="3057480"/>
          </a:xfrm>
          <a:custGeom>
            <a:avLst/>
            <a:gdLst/>
            <a:ahLst/>
            <a:rect l="l" t="t" r="r" b="b"/>
            <a:pathLst>
              <a:path w="960" h="1920">
                <a:moveTo>
                  <a:pt x="0" y="0"/>
                </a:moveTo>
                <a:lnTo>
                  <a:pt x="0" y="192"/>
                </a:lnTo>
                <a:lnTo>
                  <a:pt x="960" y="192"/>
                </a:lnTo>
                <a:lnTo>
                  <a:pt x="960" y="1728"/>
                </a:lnTo>
                <a:lnTo>
                  <a:pt x="48" y="1728"/>
                </a:lnTo>
                <a:lnTo>
                  <a:pt x="48" y="19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3809880" y="1295280"/>
            <a:ext cx="5791320" cy="4057200"/>
            <a:chOff x="3809880" y="1295280"/>
            <a:chExt cx="5791320" cy="4057200"/>
          </a:xfrm>
        </p:grpSpPr>
        <p:grpSp>
          <p:nvGrpSpPr>
            <p:cNvPr id="2025" name=""/>
            <p:cNvGrpSpPr/>
            <p:nvPr/>
          </p:nvGrpSpPr>
          <p:grpSpPr>
            <a:xfrm>
              <a:off x="5159160" y="3001680"/>
              <a:ext cx="3113280" cy="699840"/>
              <a:chOff x="5159160" y="3001680"/>
              <a:chExt cx="3113280" cy="69984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5912280" y="3166560"/>
                <a:ext cx="420120" cy="370080"/>
                <a:chOff x="5912280" y="3166560"/>
                <a:chExt cx="420120" cy="370080"/>
              </a:xfrm>
            </p:grpSpPr>
            <p:grpSp>
              <p:nvGrpSpPr>
                <p:cNvPr id="2027" name=""/>
                <p:cNvGrpSpPr/>
                <p:nvPr/>
              </p:nvGrpSpPr>
              <p:grpSpPr>
                <a:xfrm>
                  <a:off x="5942520" y="3166560"/>
                  <a:ext cx="351360" cy="370080"/>
                  <a:chOff x="5942520" y="3166560"/>
                  <a:chExt cx="351360" cy="370080"/>
                </a:xfrm>
              </p:grpSpPr>
              <p:sp>
                <p:nvSpPr>
                  <p:cNvPr id="2028" name=""/>
                  <p:cNvSpPr/>
                  <p:nvPr/>
                </p:nvSpPr>
                <p:spPr>
                  <a:xfrm>
                    <a:off x="6118200" y="3166560"/>
                    <a:ext cx="1756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5942520" y="3166560"/>
                    <a:ext cx="3513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0" name=""/>
                <p:cNvSpPr/>
                <p:nvPr/>
              </p:nvSpPr>
              <p:spPr>
                <a:xfrm>
                  <a:off x="5912280" y="3205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1" name=""/>
              <p:cNvSpPr/>
              <p:nvPr/>
            </p:nvSpPr>
            <p:spPr>
              <a:xfrm>
                <a:off x="6294960" y="32414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94960" y="3461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"/>
              <p:cNvGrpSpPr/>
              <p:nvPr/>
            </p:nvGrpSpPr>
            <p:grpSpPr>
              <a:xfrm>
                <a:off x="6611400" y="3057120"/>
                <a:ext cx="336600" cy="588960"/>
                <a:chOff x="6611400" y="3057120"/>
                <a:chExt cx="336600" cy="588960"/>
              </a:xfrm>
            </p:grpSpPr>
            <p:sp>
              <p:nvSpPr>
                <p:cNvPr id="2034" name=""/>
                <p:cNvSpPr/>
                <p:nvPr/>
              </p:nvSpPr>
              <p:spPr>
                <a:xfrm rot="16200000">
                  <a:off x="6484320" y="320364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5400000">
                  <a:off x="6595200" y="327240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5400000">
                  <a:off x="6608160" y="329076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6607080" y="31892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"/>
              <p:cNvSpPr/>
              <p:nvPr/>
            </p:nvSpPr>
            <p:spPr>
              <a:xfrm>
                <a:off x="6930000" y="335232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600320" y="335232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0" name=""/>
              <p:cNvGrpSpPr/>
              <p:nvPr/>
            </p:nvGrpSpPr>
            <p:grpSpPr>
              <a:xfrm>
                <a:off x="7103880" y="3168360"/>
                <a:ext cx="592200" cy="368280"/>
                <a:chOff x="7103880" y="3168360"/>
                <a:chExt cx="592200" cy="3682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7224120" y="316836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03880" y="32068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"/>
              <p:cNvSpPr/>
              <p:nvPr/>
            </p:nvSpPr>
            <p:spPr>
              <a:xfrm>
                <a:off x="7177320" y="335232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78920" y="346356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31400" y="32414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"/>
              <p:cNvGrpSpPr/>
              <p:nvPr/>
            </p:nvGrpSpPr>
            <p:grpSpPr>
              <a:xfrm>
                <a:off x="5159160" y="3168360"/>
                <a:ext cx="557280" cy="368280"/>
                <a:chOff x="5159160" y="3168360"/>
                <a:chExt cx="557280" cy="3682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5256720" y="316836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5159160" y="32068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5719680" y="3001680"/>
                <a:ext cx="2054880" cy="699840"/>
                <a:chOff x="5719680" y="3001680"/>
                <a:chExt cx="2054880" cy="69984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6381000" y="300168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770364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71968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042320" y="300564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7852320" y="3153960"/>
                <a:ext cx="420120" cy="369720"/>
                <a:chOff x="7852320" y="3153960"/>
                <a:chExt cx="420120" cy="369720"/>
              </a:xfrm>
            </p:grpSpPr>
            <p:grpSp>
              <p:nvGrpSpPr>
                <p:cNvPr id="2055" name=""/>
                <p:cNvGrpSpPr/>
                <p:nvPr/>
              </p:nvGrpSpPr>
              <p:grpSpPr>
                <a:xfrm>
                  <a:off x="7896960" y="3153960"/>
                  <a:ext cx="353520" cy="369720"/>
                  <a:chOff x="7896960" y="3153960"/>
                  <a:chExt cx="353520" cy="36972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 flipH="1">
                    <a:off x="7896600" y="315396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H="1">
                    <a:off x="7896960" y="315396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8" name=""/>
                <p:cNvSpPr/>
                <p:nvPr/>
              </p:nvSpPr>
              <p:spPr>
                <a:xfrm flipH="1">
                  <a:off x="7851960" y="31924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9" name=""/>
            <p:cNvGrpSpPr/>
            <p:nvPr/>
          </p:nvGrpSpPr>
          <p:grpSpPr>
            <a:xfrm>
              <a:off x="4491720" y="2151000"/>
              <a:ext cx="3115440" cy="699840"/>
              <a:chOff x="4491720" y="2151000"/>
              <a:chExt cx="3115440" cy="699840"/>
            </a:xfrm>
          </p:grpSpPr>
          <p:grpSp>
            <p:nvGrpSpPr>
              <p:cNvPr id="2060" name=""/>
              <p:cNvGrpSpPr/>
              <p:nvPr/>
            </p:nvGrpSpPr>
            <p:grpSpPr>
              <a:xfrm>
                <a:off x="5245560" y="2315880"/>
                <a:ext cx="420120" cy="370080"/>
                <a:chOff x="5245560" y="2315880"/>
                <a:chExt cx="420120" cy="370080"/>
              </a:xfrm>
            </p:grpSpPr>
            <p:grpSp>
              <p:nvGrpSpPr>
                <p:cNvPr id="2061" name=""/>
                <p:cNvGrpSpPr/>
                <p:nvPr/>
              </p:nvGrpSpPr>
              <p:grpSpPr>
                <a:xfrm>
                  <a:off x="5277600" y="2315880"/>
                  <a:ext cx="350640" cy="370080"/>
                  <a:chOff x="5277600" y="2315880"/>
                  <a:chExt cx="350640" cy="37008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5452920" y="231588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5277600" y="2315880"/>
                    <a:ext cx="3506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4" name=""/>
                <p:cNvSpPr/>
                <p:nvPr/>
              </p:nvSpPr>
              <p:spPr>
                <a:xfrm>
                  <a:off x="5245560" y="2354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5" name=""/>
              <p:cNvSpPr/>
              <p:nvPr/>
            </p:nvSpPr>
            <p:spPr>
              <a:xfrm>
                <a:off x="5628600" y="2390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8600" y="26110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5945760" y="2206440"/>
                <a:ext cx="330120" cy="588960"/>
                <a:chOff x="5945760" y="2206440"/>
                <a:chExt cx="330120" cy="588960"/>
              </a:xfrm>
            </p:grpSpPr>
            <p:sp>
              <p:nvSpPr>
                <p:cNvPr id="2068" name=""/>
                <p:cNvSpPr/>
                <p:nvPr/>
              </p:nvSpPr>
              <p:spPr>
                <a:xfrm rot="16200000">
                  <a:off x="5818320" y="235296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rot="5400000">
                  <a:off x="5929560" y="242208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5400000">
                  <a:off x="5942160" y="244008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rot="16200000">
                  <a:off x="5934960" y="23418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2" name=""/>
              <p:cNvSpPr/>
              <p:nvPr/>
            </p:nvSpPr>
            <p:spPr>
              <a:xfrm>
                <a:off x="6264000" y="250164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934320" y="250164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4" name=""/>
              <p:cNvGrpSpPr/>
              <p:nvPr/>
            </p:nvGrpSpPr>
            <p:grpSpPr>
              <a:xfrm>
                <a:off x="6437520" y="2317680"/>
                <a:ext cx="592200" cy="368280"/>
                <a:chOff x="6437520" y="2317680"/>
                <a:chExt cx="592200" cy="368280"/>
              </a:xfrm>
            </p:grpSpPr>
            <p:sp>
              <p:nvSpPr>
                <p:cNvPr id="2075" name=""/>
                <p:cNvSpPr/>
                <p:nvPr/>
              </p:nvSpPr>
              <p:spPr>
                <a:xfrm>
                  <a:off x="6557760" y="231768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437520" y="2356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7" name=""/>
              <p:cNvSpPr/>
              <p:nvPr/>
            </p:nvSpPr>
            <p:spPr>
              <a:xfrm>
                <a:off x="6510960" y="250164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912920" y="261288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65400" y="23907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4491720" y="2317680"/>
                <a:ext cx="557280" cy="368280"/>
                <a:chOff x="4491720" y="2317680"/>
                <a:chExt cx="557280" cy="36828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4591800" y="231768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491720" y="2356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5053680" y="2151000"/>
                <a:ext cx="2054520" cy="699840"/>
                <a:chOff x="5053680" y="2151000"/>
                <a:chExt cx="2054520" cy="69984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5715000" y="215100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0372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0536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6375960" y="215496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7187040" y="2303280"/>
                <a:ext cx="420120" cy="369720"/>
                <a:chOff x="7187040" y="2303280"/>
                <a:chExt cx="420120" cy="36972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7232400" y="2303280"/>
                  <a:ext cx="353880" cy="369720"/>
                  <a:chOff x="7232400" y="2303280"/>
                  <a:chExt cx="353880" cy="36972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 flipH="1">
                    <a:off x="7232040" y="230328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7232040" y="2303280"/>
                    <a:ext cx="353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2" name=""/>
                <p:cNvSpPr/>
                <p:nvPr/>
              </p:nvSpPr>
              <p:spPr>
                <a:xfrm flipH="1">
                  <a:off x="7186680" y="2341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3" name=""/>
            <p:cNvGrpSpPr/>
            <p:nvPr/>
          </p:nvGrpSpPr>
          <p:grpSpPr>
            <a:xfrm>
              <a:off x="3837960" y="1325160"/>
              <a:ext cx="3113280" cy="699840"/>
              <a:chOff x="3837960" y="1325160"/>
              <a:chExt cx="3113280" cy="699840"/>
            </a:xfrm>
          </p:grpSpPr>
          <p:grpSp>
            <p:nvGrpSpPr>
              <p:cNvPr id="2094" name=""/>
              <p:cNvGrpSpPr/>
              <p:nvPr/>
            </p:nvGrpSpPr>
            <p:grpSpPr>
              <a:xfrm>
                <a:off x="4590720" y="1490040"/>
                <a:ext cx="420120" cy="370080"/>
                <a:chOff x="4590720" y="1490040"/>
                <a:chExt cx="420120" cy="370080"/>
              </a:xfrm>
            </p:grpSpPr>
            <p:grpSp>
              <p:nvGrpSpPr>
                <p:cNvPr id="2095" name=""/>
                <p:cNvGrpSpPr/>
                <p:nvPr/>
              </p:nvGrpSpPr>
              <p:grpSpPr>
                <a:xfrm>
                  <a:off x="4622760" y="1490040"/>
                  <a:ext cx="351000" cy="370080"/>
                  <a:chOff x="4622760" y="1490040"/>
                  <a:chExt cx="351000" cy="37008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4798440" y="149004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22760" y="149004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8" name=""/>
                <p:cNvSpPr/>
                <p:nvPr/>
              </p:nvSpPr>
              <p:spPr>
                <a:xfrm>
                  <a:off x="4590720" y="15285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"/>
              <p:cNvSpPr/>
              <p:nvPr/>
            </p:nvSpPr>
            <p:spPr>
              <a:xfrm>
                <a:off x="4975200" y="15649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975200" y="17852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"/>
              <p:cNvGrpSpPr/>
              <p:nvPr/>
            </p:nvGrpSpPr>
            <p:grpSpPr>
              <a:xfrm>
                <a:off x="5291640" y="1380600"/>
                <a:ext cx="333360" cy="588960"/>
                <a:chOff x="5291640" y="1380600"/>
                <a:chExt cx="333360" cy="588960"/>
              </a:xfrm>
            </p:grpSpPr>
            <p:sp>
              <p:nvSpPr>
                <p:cNvPr id="2102" name=""/>
                <p:cNvSpPr/>
                <p:nvPr/>
              </p:nvSpPr>
              <p:spPr>
                <a:xfrm rot="16200000">
                  <a:off x="5164560" y="1526760"/>
                  <a:ext cx="588960" cy="29628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5160 h 296280"/>
                    <a:gd name="textAreaBottom" fmla="*/ 231120 h 29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5400000">
                  <a:off x="5275440" y="159588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5400000">
                  <a:off x="5288040" y="1613880"/>
                  <a:ext cx="167040" cy="1220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16200000">
                  <a:off x="5284080" y="1514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6" name=""/>
              <p:cNvSpPr/>
              <p:nvPr/>
            </p:nvSpPr>
            <p:spPr>
              <a:xfrm>
                <a:off x="5610240" y="167580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280560" y="167580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8" name=""/>
              <p:cNvGrpSpPr/>
              <p:nvPr/>
            </p:nvGrpSpPr>
            <p:grpSpPr>
              <a:xfrm>
                <a:off x="5783040" y="1491840"/>
                <a:ext cx="592200" cy="368280"/>
                <a:chOff x="5783040" y="1491840"/>
                <a:chExt cx="592200" cy="36828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5904360" y="1491840"/>
                  <a:ext cx="3517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783040" y="15303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5857560" y="167580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259160" y="178704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211640" y="15649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4" name=""/>
              <p:cNvGrpSpPr/>
              <p:nvPr/>
            </p:nvGrpSpPr>
            <p:grpSpPr>
              <a:xfrm>
                <a:off x="3837960" y="1491840"/>
                <a:ext cx="557280" cy="368280"/>
                <a:chOff x="3837960" y="1491840"/>
                <a:chExt cx="557280" cy="36828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3937680" y="149184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3837960" y="15303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4399920" y="1325160"/>
                <a:ext cx="2054880" cy="699840"/>
                <a:chOff x="4399920" y="1325160"/>
                <a:chExt cx="2054880" cy="69984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5061240" y="132516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38388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39992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722560" y="132912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2" name=""/>
              <p:cNvGrpSpPr/>
              <p:nvPr/>
            </p:nvGrpSpPr>
            <p:grpSpPr>
              <a:xfrm>
                <a:off x="6531120" y="1477440"/>
                <a:ext cx="420120" cy="369720"/>
                <a:chOff x="6531120" y="1477440"/>
                <a:chExt cx="420120" cy="369720"/>
              </a:xfrm>
            </p:grpSpPr>
            <p:grpSp>
              <p:nvGrpSpPr>
                <p:cNvPr id="2123" name=""/>
                <p:cNvGrpSpPr/>
                <p:nvPr/>
              </p:nvGrpSpPr>
              <p:grpSpPr>
                <a:xfrm>
                  <a:off x="6574320" y="1477440"/>
                  <a:ext cx="353520" cy="369720"/>
                  <a:chOff x="6574320" y="1477440"/>
                  <a:chExt cx="353520" cy="369720"/>
                </a:xfrm>
              </p:grpSpPr>
              <p:sp>
                <p:nvSpPr>
                  <p:cNvPr id="2124" name=""/>
                  <p:cNvSpPr/>
                  <p:nvPr/>
                </p:nvSpPr>
                <p:spPr>
                  <a:xfrm flipH="1">
                    <a:off x="6573960" y="147744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6574320" y="147744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6" name=""/>
                <p:cNvSpPr/>
                <p:nvPr/>
              </p:nvSpPr>
              <p:spPr>
                <a:xfrm flipH="1">
                  <a:off x="6530760" y="1515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7" name=""/>
            <p:cNvGrpSpPr/>
            <p:nvPr/>
          </p:nvGrpSpPr>
          <p:grpSpPr>
            <a:xfrm>
              <a:off x="6573240" y="4005000"/>
              <a:ext cx="420120" cy="370080"/>
              <a:chOff x="6573240" y="4005000"/>
              <a:chExt cx="420120" cy="370080"/>
            </a:xfrm>
          </p:grpSpPr>
          <p:grpSp>
            <p:nvGrpSpPr>
              <p:cNvPr id="2128" name=""/>
              <p:cNvGrpSpPr/>
              <p:nvPr/>
            </p:nvGrpSpPr>
            <p:grpSpPr>
              <a:xfrm>
                <a:off x="6607440" y="4005000"/>
                <a:ext cx="351360" cy="370080"/>
                <a:chOff x="6607440" y="4005000"/>
                <a:chExt cx="351360" cy="37008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6783120" y="4005000"/>
                  <a:ext cx="1756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607440" y="4005000"/>
                  <a:ext cx="3513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6573240" y="40435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6960240" y="407952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60240" y="430020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4" name=""/>
            <p:cNvGrpSpPr/>
            <p:nvPr/>
          </p:nvGrpSpPr>
          <p:grpSpPr>
            <a:xfrm>
              <a:off x="7277040" y="3895560"/>
              <a:ext cx="333000" cy="588960"/>
              <a:chOff x="7277040" y="3895560"/>
              <a:chExt cx="333000" cy="588960"/>
            </a:xfrm>
          </p:grpSpPr>
          <p:sp>
            <p:nvSpPr>
              <p:cNvPr id="2135" name=""/>
              <p:cNvSpPr/>
              <p:nvPr/>
            </p:nvSpPr>
            <p:spPr>
              <a:xfrm rot="16200000">
                <a:off x="7149240" y="4042440"/>
                <a:ext cx="588960" cy="29520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64800 h 295200"/>
                  <a:gd name="textAreaBottom" fmla="*/ 230400 h 29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5400000">
                <a:off x="7260840" y="4111200"/>
                <a:ext cx="1900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5400000">
                <a:off x="7273440" y="4129200"/>
                <a:ext cx="167040" cy="1216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6200000">
                <a:off x="7269120" y="4030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7594920" y="4190760"/>
              <a:ext cx="3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265600" y="419076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7767000" y="4006440"/>
              <a:ext cx="592200" cy="368640"/>
              <a:chOff x="7767000" y="4006440"/>
              <a:chExt cx="592200" cy="368640"/>
            </a:xfrm>
          </p:grpSpPr>
          <p:sp>
            <p:nvSpPr>
              <p:cNvPr id="2142" name=""/>
              <p:cNvSpPr/>
              <p:nvPr/>
            </p:nvSpPr>
            <p:spPr>
              <a:xfrm>
                <a:off x="7889400" y="4006440"/>
                <a:ext cx="3513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767000" y="40449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7842960" y="4190760"/>
              <a:ext cx="5256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44200" y="430200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97400" y="407952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7" name=""/>
            <p:cNvGrpSpPr/>
            <p:nvPr/>
          </p:nvGrpSpPr>
          <p:grpSpPr>
            <a:xfrm>
              <a:off x="5821920" y="4006440"/>
              <a:ext cx="557280" cy="368640"/>
              <a:chOff x="5821920" y="4006440"/>
              <a:chExt cx="557280" cy="368640"/>
            </a:xfrm>
          </p:grpSpPr>
          <p:sp>
            <p:nvSpPr>
              <p:cNvPr id="2148" name=""/>
              <p:cNvSpPr/>
              <p:nvPr/>
            </p:nvSpPr>
            <p:spPr>
              <a:xfrm>
                <a:off x="5923080" y="4006440"/>
                <a:ext cx="3531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821920" y="40449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70473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3685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386400" y="3839760"/>
              <a:ext cx="6984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07600" y="3844800"/>
              <a:ext cx="69840" cy="69048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8514720" y="3992400"/>
              <a:ext cx="420120" cy="369720"/>
              <a:chOff x="8514720" y="3992400"/>
              <a:chExt cx="420120" cy="369720"/>
            </a:xfrm>
          </p:grpSpPr>
          <p:grpSp>
            <p:nvGrpSpPr>
              <p:cNvPr id="2155" name=""/>
              <p:cNvGrpSpPr/>
              <p:nvPr/>
            </p:nvGrpSpPr>
            <p:grpSpPr>
              <a:xfrm>
                <a:off x="8556120" y="3992400"/>
                <a:ext cx="354600" cy="369720"/>
                <a:chOff x="8556120" y="3992400"/>
                <a:chExt cx="354600" cy="369720"/>
              </a:xfrm>
            </p:grpSpPr>
            <p:sp>
              <p:nvSpPr>
                <p:cNvPr id="2156" name=""/>
                <p:cNvSpPr/>
                <p:nvPr/>
              </p:nvSpPr>
              <p:spPr>
                <a:xfrm flipH="1">
                  <a:off x="8556120" y="3992400"/>
                  <a:ext cx="17712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8555760" y="3992400"/>
                  <a:ext cx="35460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8" name=""/>
              <p:cNvSpPr/>
              <p:nvPr/>
            </p:nvSpPr>
            <p:spPr>
              <a:xfrm flipH="1">
                <a:off x="8514360" y="4030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6489720" y="4652640"/>
              <a:ext cx="3111480" cy="699840"/>
              <a:chOff x="6489720" y="4652640"/>
              <a:chExt cx="3111480" cy="69984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7239600" y="4817520"/>
                <a:ext cx="420120" cy="370080"/>
                <a:chOff x="7239600" y="4817520"/>
                <a:chExt cx="420120" cy="370080"/>
              </a:xfrm>
            </p:grpSpPr>
            <p:grpSp>
              <p:nvGrpSpPr>
                <p:cNvPr id="2161" name=""/>
                <p:cNvGrpSpPr/>
                <p:nvPr/>
              </p:nvGrpSpPr>
              <p:grpSpPr>
                <a:xfrm>
                  <a:off x="7273440" y="4817520"/>
                  <a:ext cx="351000" cy="370080"/>
                  <a:chOff x="7273440" y="4817520"/>
                  <a:chExt cx="351000" cy="37008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7449120" y="481752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7273440" y="481752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4" name=""/>
                <p:cNvSpPr/>
                <p:nvPr/>
              </p:nvSpPr>
              <p:spPr>
                <a:xfrm>
                  <a:off x="7239600" y="48560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5" name=""/>
              <p:cNvSpPr/>
              <p:nvPr/>
            </p:nvSpPr>
            <p:spPr>
              <a:xfrm>
                <a:off x="7625160" y="48924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625160" y="51127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7942320" y="4708080"/>
                <a:ext cx="330120" cy="588960"/>
                <a:chOff x="7942320" y="4708080"/>
                <a:chExt cx="330120" cy="588960"/>
              </a:xfrm>
            </p:grpSpPr>
            <p:sp>
              <p:nvSpPr>
                <p:cNvPr id="2168" name=""/>
                <p:cNvSpPr/>
                <p:nvPr/>
              </p:nvSpPr>
              <p:spPr>
                <a:xfrm rot="16200000">
                  <a:off x="7814880" y="485460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5400000">
                  <a:off x="7926120" y="492372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5400000">
                  <a:off x="7938720" y="494172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16200000">
                  <a:off x="7931520" y="4843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2" name=""/>
              <p:cNvSpPr/>
              <p:nvPr/>
            </p:nvSpPr>
            <p:spPr>
              <a:xfrm>
                <a:off x="8260560" y="500328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930880" y="500328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4" name=""/>
              <p:cNvGrpSpPr/>
              <p:nvPr/>
            </p:nvGrpSpPr>
            <p:grpSpPr>
              <a:xfrm>
                <a:off x="8432280" y="4819320"/>
                <a:ext cx="592200" cy="368280"/>
                <a:chOff x="8432280" y="4819320"/>
                <a:chExt cx="592200" cy="3682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8554320" y="481932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432280" y="48578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"/>
              <p:cNvSpPr/>
              <p:nvPr/>
            </p:nvSpPr>
            <p:spPr>
              <a:xfrm>
                <a:off x="8507520" y="500328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909480" y="511452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861960" y="48924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6489720" y="4819320"/>
                <a:ext cx="557280" cy="368280"/>
                <a:chOff x="6489720" y="4819320"/>
                <a:chExt cx="557280" cy="3682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6587280" y="481932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6489720" y="48578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7050240" y="4652640"/>
                <a:ext cx="2054520" cy="699840"/>
                <a:chOff x="7050240" y="4652640"/>
                <a:chExt cx="2054520" cy="69984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7711560" y="465264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90338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70502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372520" y="465660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9181080" y="4804920"/>
                <a:ext cx="420120" cy="369720"/>
                <a:chOff x="9181080" y="4804920"/>
                <a:chExt cx="420120" cy="369720"/>
              </a:xfrm>
            </p:grpSpPr>
            <p:grpSp>
              <p:nvGrpSpPr>
                <p:cNvPr id="2189" name=""/>
                <p:cNvGrpSpPr/>
                <p:nvPr/>
              </p:nvGrpSpPr>
              <p:grpSpPr>
                <a:xfrm>
                  <a:off x="9224280" y="4804920"/>
                  <a:ext cx="353520" cy="369720"/>
                  <a:chOff x="9224280" y="4804920"/>
                  <a:chExt cx="353520" cy="36972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 flipH="1">
                    <a:off x="9223920" y="480492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>
                    <a:off x="9224280" y="480492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2" name=""/>
                <p:cNvSpPr/>
                <p:nvPr/>
              </p:nvSpPr>
              <p:spPr>
                <a:xfrm flipH="1">
                  <a:off x="9180720" y="4843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3" name=""/>
            <p:cNvSpPr/>
            <p:nvPr/>
          </p:nvSpPr>
          <p:spPr>
            <a:xfrm>
              <a:off x="6413040" y="463860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82680" y="1676160"/>
              <a:ext cx="598680" cy="3276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033880" y="297144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386600" y="211752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09880" y="129528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548640" y="5486400"/>
            <a:ext cx="512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at do you do with the 3 instructions in betwe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How do you do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ere is the “commit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867-33D0-4618-A840-69417FDF457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A31E0-173B-4180-8B58-B49262D4431E}" type="datetime1">
              <a:rPr lang="en-US"/>
              <a:t>07/29/26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ranch Stall Impac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PI = 1, 30% branch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ll 3 cycles =&gt; new CPI = 1.9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rt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branch taken or not sooner,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taken branch address ear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branch tests if register = 0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Zero test to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r to calculate new PC in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cycle penalty for branch versu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1F5-76FF-4777-9CD9-939F90A1B3C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570E6-4A31-49A6-9BD7-6B725712D2B7}" type="datetime1">
              <a:rPr lang="en-US"/>
              <a:t>07/29/26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 rot="16200000">
            <a:off x="3206520" y="2377440"/>
            <a:ext cx="771480" cy="434880"/>
          </a:xfrm>
          <a:custGeom>
            <a:avLst/>
            <a:gdLst>
              <a:gd name="textAreaLeft" fmla="*/ 169560 w 771480"/>
              <a:gd name="textAreaRight" fmla="*/ 601920 w 771480"/>
              <a:gd name="textAreaTop" fmla="*/ 95400 h 434880"/>
              <a:gd name="textAreaBottom" fmla="*/ 339480 h 43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rot="5400000">
            <a:off x="3205800" y="24332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438280" y="2328840"/>
            <a:ext cx="914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2616120" y="2209680"/>
            <a:ext cx="304920" cy="3329280"/>
            <a:chOff x="2616120" y="2209680"/>
            <a:chExt cx="304920" cy="3329280"/>
          </a:xfrm>
        </p:grpSpPr>
        <p:sp>
          <p:nvSpPr>
            <p:cNvPr id="2207" name=""/>
            <p:cNvSpPr/>
            <p:nvPr/>
          </p:nvSpPr>
          <p:spPr>
            <a:xfrm>
              <a:off x="2616120" y="2209680"/>
              <a:ext cx="304920" cy="332928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616120" y="5260320"/>
              <a:ext cx="304920" cy="278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4, page A-3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38080" y="114300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2219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2220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35440" y="3048120"/>
            <a:ext cx="590400" cy="1366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41972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82760" y="1819440"/>
            <a:ext cx="3936960" cy="1812600"/>
          </a:xfrm>
          <a:custGeom>
            <a:avLst/>
            <a:gdLst/>
            <a:ahLst/>
            <a:rect l="l" t="t" r="r" b="b"/>
            <a:pathLst>
              <a:path w="2480" h="1142">
                <a:moveTo>
                  <a:pt x="2234" y="288"/>
                </a:moveTo>
                <a:lnTo>
                  <a:pt x="2480" y="288"/>
                </a:lnTo>
                <a:lnTo>
                  <a:pt x="2480" y="0"/>
                </a:lnTo>
                <a:lnTo>
                  <a:pt x="0" y="4"/>
                </a:lnTo>
                <a:lnTo>
                  <a:pt x="2" y="1142"/>
                </a:lnTo>
                <a:lnTo>
                  <a:pt x="171" y="1142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029200" y="3952800"/>
            <a:ext cx="208296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7799400" y="1895400"/>
            <a:ext cx="304920" cy="3643560"/>
            <a:chOff x="7799400" y="1895400"/>
            <a:chExt cx="304920" cy="3643560"/>
          </a:xfrm>
        </p:grpSpPr>
        <p:sp>
          <p:nvSpPr>
            <p:cNvPr id="2252" name=""/>
            <p:cNvSpPr/>
            <p:nvPr/>
          </p:nvSpPr>
          <p:spPr>
            <a:xfrm>
              <a:off x="7799400" y="1895400"/>
              <a:ext cx="304920" cy="364356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99400" y="52340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6323040" y="1895400"/>
            <a:ext cx="304920" cy="3643200"/>
            <a:chOff x="6323040" y="1895400"/>
            <a:chExt cx="304920" cy="3643200"/>
          </a:xfrm>
        </p:grpSpPr>
        <p:sp>
          <p:nvSpPr>
            <p:cNvPr id="2255" name=""/>
            <p:cNvSpPr/>
            <p:nvPr/>
          </p:nvSpPr>
          <p:spPr>
            <a:xfrm>
              <a:off x="6323040" y="189540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23040" y="52243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4292640" y="4867200"/>
            <a:ext cx="3556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826160" y="4114800"/>
            <a:ext cx="457200" cy="7524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149640" y="4867200"/>
            <a:ext cx="149868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58920" y="2057400"/>
            <a:ext cx="1903320" cy="523800"/>
          </a:xfrm>
          <a:custGeom>
            <a:avLst/>
            <a:gdLst/>
            <a:ahLst/>
            <a:rect l="l" t="t" r="r" b="b"/>
            <a:pathLst>
              <a:path w="1199" h="330">
                <a:moveTo>
                  <a:pt x="0" y="330"/>
                </a:moveTo>
                <a:lnTo>
                  <a:pt x="173" y="330"/>
                </a:lnTo>
                <a:lnTo>
                  <a:pt x="173" y="0"/>
                </a:lnTo>
                <a:lnTo>
                  <a:pt x="1199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2264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987800" y="3917880"/>
            <a:ext cx="748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895480" y="18180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8520" y="5921280"/>
            <a:ext cx="748656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lay of instruction set design and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2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2283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038480" y="1981080"/>
            <a:ext cx="209520" cy="552600"/>
          </a:xfrm>
          <a:prstGeom prst="ellipse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316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rot="5400000">
            <a:off x="3340080" y="2494080"/>
            <a:ext cx="231840" cy="18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rot="5400000">
            <a:off x="3112200" y="2456640"/>
            <a:ext cx="233280" cy="20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09880" y="24382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48" y="96"/>
                </a:lnTo>
                <a:lnTo>
                  <a:pt x="48" y="0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4648320" y="1905120"/>
            <a:ext cx="306360" cy="3643200"/>
            <a:chOff x="4648320" y="1905120"/>
            <a:chExt cx="306360" cy="3643200"/>
          </a:xfrm>
        </p:grpSpPr>
        <p:sp>
          <p:nvSpPr>
            <p:cNvPr id="2294" name=""/>
            <p:cNvSpPr/>
            <p:nvPr/>
          </p:nvSpPr>
          <p:spPr>
            <a:xfrm>
              <a:off x="4649760" y="190512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648320" y="5234040"/>
              <a:ext cx="304560" cy="30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4419720" y="2743200"/>
            <a:ext cx="152280" cy="609480"/>
          </a:xfrm>
          <a:custGeom>
            <a:avLst/>
            <a:gdLst/>
            <a:ahLst/>
            <a:rect l="l" t="t" r="r" b="b"/>
            <a:pathLst>
              <a:path w="96" h="768">
                <a:moveTo>
                  <a:pt x="96" y="768"/>
                </a:move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537080" y="330840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048120" y="2819520"/>
            <a:ext cx="1371600" cy="2666880"/>
          </a:xfrm>
          <a:custGeom>
            <a:avLst/>
            <a:gdLst/>
            <a:ahLst/>
            <a:rect l="l" t="t" r="r" b="b"/>
            <a:pathLst>
              <a:path w="864" h="1680">
                <a:moveTo>
                  <a:pt x="864" y="1296"/>
                </a:moveTo>
                <a:lnTo>
                  <a:pt x="864" y="1680"/>
                </a:lnTo>
                <a:lnTo>
                  <a:pt x="0" y="1680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D88-1BC8-4D8B-95A3-5510B4E6B46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BA526-1516-4EAF-A7AB-CDA1DE5581B9}" type="datetime1">
              <a:rPr lang="en-US"/>
              <a:t>07/29/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: Stall until branch direction is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: Predict Branch Not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successor instructions in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uash” instructions in pipeline if branch actually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 of late pipeline state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% MIPS branches not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+4 already calculated, so use it to get next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: Predict Branch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 MIPS branches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But haven’t calculated branch target address in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still incurs 1 cycle branch penal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achines: branch target known before outc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ACC-9092-4EB8-9AC4-E24DABDF16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CA892-8CFE-40B6-BA46-0F5C88E88C88}" type="datetime1">
              <a:rPr lang="en-US"/>
              <a:t>07/29/26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841320" y="1933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844200" y="1980720"/>
            <a:ext cx="7543800" cy="33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: 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branch to take plac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llowing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..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target if take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lot delay allows proper decision and branch target address in 5 stag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uses th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526360" y="3616200"/>
            <a:ext cx="297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 delay of length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35360" y="3321000"/>
            <a:ext cx="92088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4622760" y="3778200"/>
            <a:ext cx="90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06C-856A-442C-907B-093B15FE00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4BBBA-15E1-468B-9C83-A8209138D72A}" type="datetime1">
              <a:rPr lang="en-US"/>
              <a:t>07/29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Scheduling Branch Delay Slots (Fig A.14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5334120"/>
            <a:ext cx="8788680" cy="12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is the best choice, fills delay slot &amp; reduces instruction count (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 may need to be copied, increasing 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 and C, must be okay to exec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branch 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762120" y="117144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838080" y="11574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2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14400" y="17812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520" y="779400"/>
            <a:ext cx="259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rom befor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429000" y="779400"/>
            <a:ext cx="251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rom branch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324480" y="77940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From fall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66880" y="162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95480" y="162864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2438280" y="26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5053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581280" y="196704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657600" y="254304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410080" y="24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638680" y="13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5409720" y="13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2485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324480" y="11430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400800" y="17668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8153280" y="16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8381880" y="1614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8077320" y="2681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581280" y="1233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324480" y="252900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685800" y="2971800"/>
            <a:ext cx="1143000" cy="439200"/>
            <a:chOff x="685800" y="2971800"/>
            <a:chExt cx="1143000" cy="439200"/>
          </a:xfrm>
        </p:grpSpPr>
        <p:sp>
          <p:nvSpPr>
            <p:cNvPr id="2332" name=""/>
            <p:cNvSpPr/>
            <p:nvPr/>
          </p:nvSpPr>
          <p:spPr>
            <a:xfrm>
              <a:off x="18288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8580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3581280" y="2971800"/>
            <a:ext cx="1143000" cy="439200"/>
            <a:chOff x="3581280" y="2971800"/>
            <a:chExt cx="1143000" cy="439200"/>
          </a:xfrm>
        </p:grpSpPr>
        <p:sp>
          <p:nvSpPr>
            <p:cNvPr id="2335" name=""/>
            <p:cNvSpPr/>
            <p:nvPr/>
          </p:nvSpPr>
          <p:spPr>
            <a:xfrm>
              <a:off x="47242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5812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324480" y="2971800"/>
            <a:ext cx="1143000" cy="439200"/>
            <a:chOff x="6324480" y="2971800"/>
            <a:chExt cx="1143000" cy="439200"/>
          </a:xfrm>
        </p:grpSpPr>
        <p:sp>
          <p:nvSpPr>
            <p:cNvPr id="2338" name=""/>
            <p:cNvSpPr/>
            <p:nvPr/>
          </p:nvSpPr>
          <p:spPr>
            <a:xfrm>
              <a:off x="7467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244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62120" y="3338640"/>
            <a:ext cx="2286000" cy="1842480"/>
            <a:chOff x="762120" y="3338640"/>
            <a:chExt cx="2286000" cy="1842480"/>
          </a:xfrm>
        </p:grpSpPr>
        <p:sp>
          <p:nvSpPr>
            <p:cNvPr id="2341" name=""/>
            <p:cNvSpPr/>
            <p:nvPr/>
          </p:nvSpPr>
          <p:spPr>
            <a:xfrm>
              <a:off x="7621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380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2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144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668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954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438280" y="4876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3505320" y="3338640"/>
            <a:ext cx="2286000" cy="1828800"/>
            <a:chOff x="3505320" y="3338640"/>
            <a:chExt cx="2286000" cy="1828800"/>
          </a:xfrm>
        </p:grpSpPr>
        <p:sp>
          <p:nvSpPr>
            <p:cNvPr id="2348" name=""/>
            <p:cNvSpPr/>
            <p:nvPr/>
          </p:nvSpPr>
          <p:spPr>
            <a:xfrm>
              <a:off x="3505320" y="3338640"/>
              <a:ext cx="2286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581280" y="414828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657600" y="472464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463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638680" y="381024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8006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6248520" y="3338640"/>
            <a:ext cx="2286000" cy="1842480"/>
            <a:chOff x="6248520" y="3338640"/>
            <a:chExt cx="2286000" cy="1842480"/>
          </a:xfrm>
        </p:grpSpPr>
        <p:sp>
          <p:nvSpPr>
            <p:cNvPr id="2355" name=""/>
            <p:cNvSpPr/>
            <p:nvPr/>
          </p:nvSpPr>
          <p:spPr>
            <a:xfrm>
              <a:off x="62485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244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4008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32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3818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238520" y="4876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6D2-B55A-424D-B8C3-C5DBA4484E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02DEE-CBEE-42F0-A75B-EDFE5B5E7A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layed Bran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effectiveness for single branch delay sl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s about 60% of branch delay s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80% of instructions executed in branch delay slots useful in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50% (60% x 80%) of slots usefully fi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 downside: As processor go to deeper pipelines and multiple issue, the branch delay grows and need more than one delay s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ed branching has lost popularity compared to more expensive but more flexible dynamic appro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 in available transistors has made dynamic approaches relatively che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7FD-6982-4F12-872A-011A1CAF03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59FBB-B057-4685-8E31-0589EED15DDD}" type="datetime1">
              <a:rPr lang="en-US"/>
              <a:t>07/29/26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--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26E-1E71-4437-99DD-1A52776F0F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46AA2-FA61-4CF4-B77B-865AB9B75B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valuating Branch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47640" y="255744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4% unconditional branch, 6% conditional branch- untaken, 10% conditional branch-ta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che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penalt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pipeline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ll pipe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no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 bra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.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5" name=""/>
          <p:cNvGraphicFramePr/>
          <p:nvPr/>
        </p:nvGraphicFramePr>
        <p:xfrm>
          <a:off x="1028880" y="1778040"/>
          <a:ext cx="71373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78040"/>
                    <a:ext cx="7137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D0F-5CAC-4337-9359-0E959B41132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A8CCF-2DC3-46E9-8FD4-08DE660315D3}" type="datetime1">
              <a:rPr lang="en-US"/>
              <a:t>07/29/26</a:t>
            </a:fld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n unusual event happens to an instruction during its execution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divide by zero, undefined op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rru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Hardware signal to switch the processor to a new instruction strea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 sound card interrupts when it needs more audio output samples (an audio “click” happens if it is left wai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t must appear that the exception or interrupt must appear between 2 instructions (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all instructions up to and including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otalling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ffect of any instruction after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ake pl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rupt (exception) handler either aborts program or restarts at instructio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964-FAEC-4C12-9596-8093268DE27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983C2-02D3-4FB8-A3E6-4BDFBAB086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97000" y="-11520"/>
            <a:ext cx="8240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ecise Exceptions in Static Pipelin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395280" y="1100160"/>
            <a:ext cx="8748720" cy="430524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846440" y="1116000"/>
            <a:ext cx="5287680" cy="573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57360" y="5483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observation: architected state only change in memory and register write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63520" y="228240"/>
            <a:ext cx="8701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:  Control and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9480" y="1215720"/>
            <a:ext cx="826776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A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VI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e Mach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cro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overlap tasks; easy if tasks 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 Up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ipeline Depth; if ideal CPI is 1, the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s limit performance on comput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: need more HW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(RAW,WAR,WAW): need forwarding, compiler schedu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: delayed branch, predi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s, Interrupts add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C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723960" y="3438360"/>
                <a:ext cx="7101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BD4-8577-46D1-AEA4-0655C2E6657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F763B-10A0-4C5A-8DA5-8ABF865137DD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DB4-BB9F-44EF-80A7-52EBD5987A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BF572-3B35-45A1-A5D2-FE129E2F48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02B-15A7-42F5-BDA3-0107EF42BC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DE6AC-59C5-4A8B-A441-D0651E3F41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oints make geometric mean of ratios attractive to summariz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A65-D3BD-429B-A762-F9C97F26ED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8B3ED-64E8-4EE3-B5E8-3802EA633E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A00-9BB2-4444-A07E-3BA35BFD38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5E5D7-0922-4933-8C8B-1394C7F2AB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5T15:09:01Z</dcterms:modified>
  <cp:revision>111</cp:revision>
  <dc:subject/>
  <dc:title>EECS 252 Graduate Computer Architecture   Lec 01 - Introduction  </dc:title>
</cp:coreProperties>
</file>