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wmf" ContentType="image/x-wmf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19.wmf" ContentType="image/x-wmf"/>
  <Override PartName="/ppt/media/image3.wmf" ContentType="image/x-wmf"/>
  <Override PartName="/ppt/media/image13.jpeg" ContentType="image/jpeg"/>
  <Override PartName="/ppt/media/image20.wmf" ContentType="image/x-wmf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wmf" ContentType="image/x-wmf"/>
  <Override PartName="/ppt/media/image4.wmf" ContentType="image/x-wmf"/>
  <Override PartName="/ppt/media/image5.wmf" ContentType="image/x-wmf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C7DC-FA3C-403E-9635-8C40B5FC6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98040" y="3767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5CF7-0D75-460A-B13F-AC94AEA50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536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A346-4CDD-4F92-AE8F-B11A4A381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616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9392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9804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616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9392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0F50-F6AD-44A4-B27E-13CA37C02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3F3B-3057-419A-B866-B7D7D046B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B3B8-8E50-430C-939C-0617F2324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D322-A6EA-4F9A-821A-0D51E054A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995E-B9F0-4511-A76B-DCED16C46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30120"/>
            <a:ext cx="729288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9AF4-288B-41FD-8D8B-5B7460CFA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8616-B0B0-44BB-8835-56757B8E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536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F3DE-4E26-4E55-A43C-5FF8C1C6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9F2A-94D1-409C-8BC7-B07E5C1F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426360"/>
            <a:ext cx="1905120" cy="2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ae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74A96-EB5D-4401-A758-A3F9E87B8CE4}" type="datetime">
              <a:rPr b="1" lang="en-US" sz="1400" spc="-1" strike="noStrike">
                <a:solidFill>
                  <a:srgbClr val="00ae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426360"/>
            <a:ext cx="2895840" cy="2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114ffb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4ff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413400"/>
            <a:ext cx="1905120" cy="29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ae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E9774-7679-4B70-AC0B-79D97D651CA8}" type="slidenum">
              <a:rPr b="1" lang="en-US" sz="1400" spc="-1" strike="noStrike">
                <a:solidFill>
                  <a:srgbClr val="00ae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93720" y="1041480"/>
            <a:ext cx="7778880" cy="0"/>
          </a:xfrm>
          <a:prstGeom prst="line">
            <a:avLst/>
          </a:prstGeom>
          <a:ln w="47520">
            <a:solidFill>
              <a:srgbClr val="fbb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rcRect l="0" t="0" r="0" b="22222"/>
          <a:stretch/>
        </p:blipFill>
        <p:spPr>
          <a:xfrm>
            <a:off x="8404200" y="0"/>
            <a:ext cx="739800" cy="62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1.png"/><Relationship Id="rId24" Type="http://schemas.openxmlformats.org/officeDocument/2006/relationships/image" Target="../media/image11.png"/><Relationship Id="rId25" Type="http://schemas.openxmlformats.org/officeDocument/2006/relationships/image" Target="../media/image11.png"/><Relationship Id="rId26" Type="http://schemas.openxmlformats.org/officeDocument/2006/relationships/image" Target="../media/image10.png"/><Relationship Id="rId27" Type="http://schemas.openxmlformats.org/officeDocument/2006/relationships/image" Target="../media/image10.png"/><Relationship Id="rId28" Type="http://schemas.openxmlformats.org/officeDocument/2006/relationships/image" Target="../media/image10.png"/><Relationship Id="rId29" Type="http://schemas.openxmlformats.org/officeDocument/2006/relationships/image" Target="../media/image10.png"/><Relationship Id="rId30" Type="http://schemas.openxmlformats.org/officeDocument/2006/relationships/image" Target="../media/image10.png"/><Relationship Id="rId31" Type="http://schemas.openxmlformats.org/officeDocument/2006/relationships/image" Target="../media/image10.png"/><Relationship Id="rId32" Type="http://schemas.openxmlformats.org/officeDocument/2006/relationships/image" Target="../media/image10.png"/><Relationship Id="rId33" Type="http://schemas.openxmlformats.org/officeDocument/2006/relationships/image" Target="../media/image10.png"/><Relationship Id="rId34" Type="http://schemas.openxmlformats.org/officeDocument/2006/relationships/image" Target="../media/image10.png"/><Relationship Id="rId35" Type="http://schemas.openxmlformats.org/officeDocument/2006/relationships/image" Target="../media/image10.png"/><Relationship Id="rId36" Type="http://schemas.openxmlformats.org/officeDocument/2006/relationships/image" Target="../media/image10.png"/><Relationship Id="rId37" Type="http://schemas.openxmlformats.org/officeDocument/2006/relationships/image" Target="../media/image10.png"/><Relationship Id="rId38" Type="http://schemas.openxmlformats.org/officeDocument/2006/relationships/image" Target="../media/image10.png"/><Relationship Id="rId39" Type="http://schemas.openxmlformats.org/officeDocument/2006/relationships/image" Target="../media/image10.png"/><Relationship Id="rId40" Type="http://schemas.openxmlformats.org/officeDocument/2006/relationships/image" Target="../media/image10.png"/><Relationship Id="rId41" Type="http://schemas.openxmlformats.org/officeDocument/2006/relationships/image" Target="../media/image10.png"/><Relationship Id="rId42" Type="http://schemas.openxmlformats.org/officeDocument/2006/relationships/image" Target="../media/image11.png"/><Relationship Id="rId43" Type="http://schemas.openxmlformats.org/officeDocument/2006/relationships/image" Target="../media/image11.png"/><Relationship Id="rId44" Type="http://schemas.openxmlformats.org/officeDocument/2006/relationships/image" Target="../media/image12.png"/><Relationship Id="rId45" Type="http://schemas.openxmlformats.org/officeDocument/2006/relationships/image" Target="../media/image11.png"/><Relationship Id="rId46" Type="http://schemas.openxmlformats.org/officeDocument/2006/relationships/image" Target="../media/image10.png"/><Relationship Id="rId47" Type="http://schemas.openxmlformats.org/officeDocument/2006/relationships/image" Target="../media/image11.png"/><Relationship Id="rId48" Type="http://schemas.openxmlformats.org/officeDocument/2006/relationships/image" Target="../media/image10.png"/><Relationship Id="rId49" Type="http://schemas.openxmlformats.org/officeDocument/2006/relationships/image" Target="../media/image10.png"/><Relationship Id="rId50" Type="http://schemas.openxmlformats.org/officeDocument/2006/relationships/image" Target="../media/image10.png"/><Relationship Id="rId51" Type="http://schemas.openxmlformats.org/officeDocument/2006/relationships/image" Target="../media/image12.png"/><Relationship Id="rId52" Type="http://schemas.openxmlformats.org/officeDocument/2006/relationships/image" Target="../media/image12.png"/><Relationship Id="rId53" Type="http://schemas.openxmlformats.org/officeDocument/2006/relationships/image" Target="../media/image10.png"/><Relationship Id="rId54" Type="http://schemas.openxmlformats.org/officeDocument/2006/relationships/image" Target="../media/image11.png"/><Relationship Id="rId55" Type="http://schemas.openxmlformats.org/officeDocument/2006/relationships/image" Target="../media/image12.png"/><Relationship Id="rId56" Type="http://schemas.openxmlformats.org/officeDocument/2006/relationships/image" Target="../media/image10.png"/><Relationship Id="rId57" Type="http://schemas.openxmlformats.org/officeDocument/2006/relationships/image" Target="../media/image11.png"/><Relationship Id="rId58" Type="http://schemas.openxmlformats.org/officeDocument/2006/relationships/image" Target="../media/image11.png"/><Relationship Id="rId59" Type="http://schemas.openxmlformats.org/officeDocument/2006/relationships/image" Target="../media/image10.png"/><Relationship Id="rId60" Type="http://schemas.openxmlformats.org/officeDocument/2006/relationships/image" Target="../media/image12.png"/><Relationship Id="rId61" Type="http://schemas.openxmlformats.org/officeDocument/2006/relationships/image" Target="../media/image10.png"/><Relationship Id="rId62" Type="http://schemas.openxmlformats.org/officeDocument/2006/relationships/image" Target="../media/image10.png"/><Relationship Id="rId63" Type="http://schemas.openxmlformats.org/officeDocument/2006/relationships/image" Target="../media/image11.png"/><Relationship Id="rId64" Type="http://schemas.openxmlformats.org/officeDocument/2006/relationships/image" Target="../media/image12.png"/><Relationship Id="rId65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898640"/>
            <a:ext cx="7753320" cy="166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ECS 252 Graduate Computer Architecture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 Lec 9 – Limits to ILP  and Simultaneous Multithreading</a:t>
            </a:r>
            <a:br>
              <a:rPr sz="3200"/>
            </a:b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63560" y="4289400"/>
            <a:ext cx="7662960" cy="181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vid Patter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ctrical Engineering and Computer Scien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versity of California, Berkele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eecs.berkeley.edu/~pattrs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vlsi.cs.berkeley.edu/cs252-s06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228600" y="1501920"/>
          <a:ext cx="8915400" cy="523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01920"/>
                    <a:ext cx="8915400" cy="52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More Realistic HW: Window Impac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3.2</a:t>
            </a:r>
            <a:endParaRPr b="1" lang="en-US" sz="16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3765600" cy="492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ge from Infinite window 2048, 512, 128, 3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323400" y="1295280"/>
            <a:ext cx="1707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P: 9 - 1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3320" y="2895480"/>
            <a:ext cx="2165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er: 8 - 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123120" y="3645720"/>
            <a:ext cx="859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1543-739F-43B3-BF1B-7ECF2A1E9A1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28C31A-67F3-4588-B766-1B9F6889B922}" type="datetime1">
              <a:rPr lang="en-US"/>
              <a:t>07/29/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304920" y="1143000"/>
          <a:ext cx="8229600" cy="5715000"/>
        </p:xfrm>
        <a:graphic>
          <a:graphicData uri="http://schemas.openxmlformats.org/drawingml/2006/table">
            <a:tbl>
              <a:tblPr/>
              <a:tblGrid>
                <a:gridCol w="1779480"/>
                <a:gridCol w="2224080"/>
                <a:gridCol w="1482840"/>
                <a:gridCol w="2743200"/>
              </a:tblGrid>
              <a:tr h="83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Mod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ions Issued per clo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ion Window 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20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aming Regis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 integer +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Fl. P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nch Predi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Perfect vs. 8K Tournament vs. 512 2-bit vs. profile vs. n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 to 6% mispredi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ournament Branch Predicto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KI, 32KD, 1.92MB L2, 36 MB L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ory Ali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914400" y="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Limits to ILP HW 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66AF-399A-42A6-9041-6C5D17C03B9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ED88DE-267B-4DF3-A4F5-83B602C192C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609480" y="1244520"/>
          <a:ext cx="8204400" cy="537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44520"/>
                    <a:ext cx="8204400" cy="537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399600"/>
            <a:ext cx="847728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More Realistic HW: Branch Impac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3.3</a:t>
            </a:r>
            <a:endParaRPr b="1" lang="en-US" sz="16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0800" y="971280"/>
            <a:ext cx="3886200" cy="201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e from Infinite window to examine to 2048 and maximum issue of 64 instructions per clock cyc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22400" y="6467400"/>
            <a:ext cx="893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50000" y="6467400"/>
            <a:ext cx="1246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18ffd"/>
                </a:solidFill>
                <a:latin typeface="Arial"/>
              </a:rPr>
              <a:t>BHT (51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04480" y="6467400"/>
            <a:ext cx="1502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ae00"/>
                </a:solidFill>
                <a:latin typeface="Arial"/>
              </a:rPr>
              <a:t>Tourna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64440" y="6467400"/>
            <a:ext cx="95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Perf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026840" y="6505560"/>
            <a:ext cx="1656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c0081"/>
                </a:solidFill>
                <a:latin typeface="Arial"/>
              </a:rPr>
              <a:t>No predi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423480" y="1014480"/>
            <a:ext cx="1707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P: 15 - 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41480" y="3090960"/>
            <a:ext cx="2165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er: 6 -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16200000">
            <a:off x="123120" y="3645720"/>
            <a:ext cx="859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F383-AB28-4064-ABA3-9D5F2B96842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ACAECB-D045-476B-B745-B8A86C9D500A}" type="datetime1">
              <a:rPr lang="en-US"/>
              <a:t>07/29/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Misprediction Rate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0" y="1066680"/>
          <a:ext cx="9144000" cy="511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6680"/>
                    <a:ext cx="9144000" cy="51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8E14-AB9F-4BB8-ADA6-037CC34073F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90FB7C-46A7-49AE-AF57-D665730173F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304920" y="1143000"/>
          <a:ext cx="8229600" cy="5119560"/>
        </p:xfrm>
        <a:graphic>
          <a:graphicData uri="http://schemas.openxmlformats.org/drawingml/2006/table">
            <a:tbl>
              <a:tblPr/>
              <a:tblGrid>
                <a:gridCol w="1779480"/>
                <a:gridCol w="2224080"/>
                <a:gridCol w="1482840"/>
                <a:gridCol w="2743200"/>
              </a:tblGrid>
              <a:tr h="83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Mod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ions Issued per clo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ion Window 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20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aming Regis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Infinite v. 256, 128, 64, 32, none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 integer +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Fl. P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nch Predi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8K 2-b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urnament Branch Predi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KI, 32KD, 1.92MB L2, 36 MB L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ory Ali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9" name=""/>
          <p:cNvSpPr/>
          <p:nvPr/>
        </p:nvSpPr>
        <p:spPr>
          <a:xfrm>
            <a:off x="914400" y="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Limits to ILP HW 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39A4-6432-4CE2-80C8-4AD8BF68AFC0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162BA1-192B-47C1-B64C-59DC910879F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368280" y="1157400"/>
          <a:ext cx="8178840" cy="536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280" y="1157400"/>
                    <a:ext cx="8178840" cy="536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8820000" cy="15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More Realistic HW: </a:t>
            </a:r>
            <a:br>
              <a:rPr sz="3200"/>
            </a:b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naming Register Impact (N int + N fp) </a:t>
            </a:r>
            <a:br>
              <a:rPr sz="32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gure 3.5</a:t>
            </a:r>
            <a:endParaRPr b="1" lang="en-US" sz="14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90680" y="1619280"/>
            <a:ext cx="3619440" cy="1257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68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e  2048 instr window, 64 instr issue, 8K 2 level Predi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86560" y="638964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374160" y="6389640"/>
            <a:ext cx="941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18ffd"/>
                </a:solidFill>
                <a:latin typeface="Arial"/>
              </a:rPr>
              <a:t>N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97800" y="6389640"/>
            <a:ext cx="68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2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61480" y="6389640"/>
            <a:ext cx="1182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Infi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625000" y="638964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61440" y="6389640"/>
            <a:ext cx="68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7000" y="3429000"/>
            <a:ext cx="2165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er: 5 -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42600" y="1128600"/>
            <a:ext cx="1707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P: 11 - 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9000" y="3645720"/>
            <a:ext cx="859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C61F-7D94-498F-B43E-ED05227D0AD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0302EC-EFBB-449E-B453-3FBE0320F88B}" type="datetime1">
              <a:rPr lang="en-US"/>
              <a:t>07/29/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304920" y="1143000"/>
          <a:ext cx="8229600" cy="5318280"/>
        </p:xfrm>
        <a:graphic>
          <a:graphicData uri="http://schemas.openxmlformats.org/drawingml/2006/table">
            <a:tbl>
              <a:tblPr/>
              <a:tblGrid>
                <a:gridCol w="1779480"/>
                <a:gridCol w="2224080"/>
                <a:gridCol w="1482840"/>
                <a:gridCol w="2743200"/>
              </a:tblGrid>
              <a:tr h="83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Mod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ions Issued per clo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ion Window 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20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aming Regis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256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Int + 256 F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 integer +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Fl. P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nch Predi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8K 2-b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urna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KI, 32KD, 1.92MB L2, 36 MB L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ory Ali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Perfect v. Stack v. Inspect v. n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914400" y="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Limits to ILP HW 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D311-7885-48C7-8149-D8460DC93AB2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DE1174-A745-4E7E-BA49-6DD208F1767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35040" y="927000"/>
            <a:ext cx="8496360" cy="53848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More Realistic HW: </a:t>
            </a:r>
            <a:br>
              <a:rPr sz="3200"/>
            </a:b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Memory Address Alias Impac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3.6</a:t>
            </a:r>
            <a:endParaRPr b="1" lang="en-US" sz="16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676520" y="1447920"/>
            <a:ext cx="36576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234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e  2048 instr window, 64 instr issue, 8K 2 level Prediction, 256 renaming regis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18760" y="6097680"/>
            <a:ext cx="941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86960" y="6097680"/>
            <a:ext cx="27921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Global/Stack perf;</a:t>
            </a:r>
            <a:br>
              <a:rPr sz="2400"/>
            </a:b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heap confli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1760" y="6097680"/>
            <a:ext cx="1214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94880" y="6097680"/>
            <a:ext cx="12650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Inspec.</a:t>
            </a:r>
            <a:br>
              <a:rPr sz="2400"/>
            </a:b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Ass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51800" y="1795320"/>
            <a:ext cx="15379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P: 4 - 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Fortra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he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69800" y="3262320"/>
            <a:ext cx="1996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er: 4 -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16200000">
            <a:off x="123120" y="3645720"/>
            <a:ext cx="859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2995-9426-4324-BC40-F1FE9545DFD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B2BB47-580A-4146-A22A-0399AC2BECF6}" type="datetime1">
              <a:rPr lang="en-US"/>
              <a:t>07/29/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304920" y="1143000"/>
          <a:ext cx="8229600" cy="5073480"/>
        </p:xfrm>
        <a:graphic>
          <a:graphicData uri="http://schemas.openxmlformats.org/drawingml/2006/table">
            <a:tbl>
              <a:tblPr/>
              <a:tblGrid>
                <a:gridCol w="1779480"/>
                <a:gridCol w="2224080"/>
                <a:gridCol w="1482840"/>
                <a:gridCol w="2743200"/>
              </a:tblGrid>
              <a:tr h="83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Mod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ions Issued per clo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64 (no restriction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ion Window 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Infinite vs. 256, 128, 64, 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aming Regis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64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Int + 64 F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 integer +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Fl. P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nch Predi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1K 2-b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urna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KI, 32KD, 1.92MB L2, 36 MB L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ory Ali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W disambigu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914400" y="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Limits to ILP HW 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F93A-7FCC-46A7-ADE9-C993ADB2A2E1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574F87-270B-46C6-B2AB-F9121BD3607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54160" y="993600"/>
            <a:ext cx="8623080" cy="55245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628200"/>
            <a:ext cx="889632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alistic HW: Window Impac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igure 3.7)</a:t>
            </a:r>
            <a:endParaRPr b="1" lang="en-US" sz="16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405792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37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ect disambiguation (HW), 1K Selective Prediction, 16 entry return, 64 registers, issue as many as windo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24800" y="635148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625000" y="635148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18ffd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61240" y="6351480"/>
            <a:ext cx="68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2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77200" y="6351480"/>
            <a:ext cx="1182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Infi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99520" y="635148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61520" y="6351480"/>
            <a:ext cx="68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24560" y="635148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2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275600" y="635148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4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7480" y="3738600"/>
            <a:ext cx="2165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er: 6 -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61360" y="2004840"/>
            <a:ext cx="1537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P: 8 - 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-28800" y="3607560"/>
            <a:ext cx="859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9C00-2248-409B-9030-ADA7F990165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72EC5D-C1E6-456A-B6F2-D504FA77370F}" type="datetime1">
              <a:rPr lang="en-US"/>
              <a:t>07/29/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view from Last Tim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81406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est in multiple-issue because wanted to improve performance without affecting uniprocessor programming mod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king advantage of ILP is conceptually simple, but design problems are amazingly complex in pract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ervative in ideas, just faster clock and bigg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ors of last 5 years (Pentium 4, IBM Power 5, AMD Opteron) have the same basic structure and similar sustained issue rates (3 to 4 instructions per clock) as the 1st dynamically scheduled, multiple-issue processors announced in 199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cks 10 to 20X faster, caches 4 to 8X bigger, 2 to 4X as many renaming registers, and 2X as many load-store unit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rformance 8 to 16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ak v. delivered performance gap increas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7E52-B30F-49F2-A265-3906EBB5F5D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B76BB8-D4EF-4FBE-B38C-4790857C223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S 252 Administrivia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867800" cy="5467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Page project writeups Due LAST Sund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omework Assignment due Frid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 onl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so Friday Reading Assignment: “Simultaneous Multithreading: A Platform for Next-generation Processors,” Susan J. Eggers et al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EEE Micr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199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y 30 minute discussion after one hour lecture on Mond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d email to TA by Friday, will be posted on Saturday, review before discussion on Mond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assumption made about computer organization before add SMT? What performance advantages claimed? For what workload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compare to Wall’s ILP limit claim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A7DE-6D28-44BE-B33C-CDA5E91329C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AD09FB-0284-436E-B57C-8448ED4FDA4A}" type="datetime1">
              <a:rPr lang="en-US"/>
              <a:t>07/29/26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Re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Limits to ILP (another perspectiv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Administriv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ead Level Parallelis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threa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ultaneous Multithrea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wer 4 vs. Power 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ad to Head: VLIW vs. Superscalar vs. SM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enta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7B44-E38A-433B-8095-85F81E5A939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F1696B-54B9-4EEB-B8D3-C7AD26869BE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330120"/>
            <a:ext cx="79246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How to Exceed ILP Limits of this study?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9072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se are not laws of physics; just practical limits for today, and perhaps overcome via re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r and ISA advances could change resul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 and WAW hazards through memory: eliminated WAW and WAR hazards through register renaming, but not in memory us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get conflicts via allocation of stack frames as a called procedure reuses the memory addresses of a previous frame on the sta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1BF1-C624-45D6-BB75-18462DDAF3F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F48A02-F64C-4353-BDB7-0E00D2A5A2DF}" type="datetime1">
              <a:rPr lang="en-US"/>
              <a:t>07/29/26</a:t>
            </a:fld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HW v. SW to increase ILP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268560" indent="-2685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 disambiguation: HW be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culation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W best when dynamic branch prediction better than compile time predi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eptions easier for H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W doesn’t need bookkeeping code or compensation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y complicated to get righ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heduling: SW can look ahead to schedule bet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 independence: does not require new compiler, recompilation to run we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9E61-1FBD-4467-BB6C-1246FD6AF80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0956C5-4C55-4F9E-AC9C-4DC1832A7A7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Performance beyond single thread ILP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7988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re can be much higher natural parallelism in some application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e.g., Database or Scientific code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licit </a:t>
            </a: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Thread Level Parallelis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Data Level Parallelis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0332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Threa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process with own instructions and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ad may be a process part of a parallel program of multiple processes, or it may be an independent progr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thread has all the state (instructions, data, PC, register state, and so on) necessary to allow it to execu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114f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4ffb"/>
                </a:solidFill>
                <a:latin typeface="Arial"/>
              </a:rPr>
              <a:t>Data Level Parallelis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Perform identical operations on data, and lots of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F286-9C9D-47BC-9A85-C9391A5B98B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C2939B-CA90-4DE9-A3BE-0AEFD1C92B1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hread Level Parallelism (TLP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98040" y="1193400"/>
            <a:ext cx="7683480" cy="535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P exploits implicit parallel operations within a loop or straight-line code seg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LP explicitly represented by the use of multiple threads of execution that are inherently parall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: Use multiple instruction streams to improv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oughput of computers that run many program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cution time of multi-threaded progra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LP could be more cost-effective to exploit than IL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C32E-D1C3-4A21-86F0-1B0CA2618F2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5670EE-9A62-440D-91E8-3662F0550B4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New Approach: Mulithreaded Execution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254160" indent="-2541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threading: multiple threads to share the functional units of 1 processor via overla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sor must duplicate independent state of each thread e.g., a separate copy of register file, a separate PC, and for running independent programs, a separate page t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mory shared through the virtual memory mechanisms, which already support multiple proce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W for fast thread switch; much faster than full process switch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100s to 1000s of cloc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n switch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ernate instruction per thread (fine grai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a thread is stalled, perhaps for a cache miss, another thread can be executed (coarse grai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44F2-14EB-43BC-AA60-F63B428BF5F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943456-CB32-46C6-9727-8570B2D2EB1D}" type="datetime1">
              <a:rPr lang="en-US"/>
              <a:t>07/29/26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Fine-Grained Multithreading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itches between threads on each instruction, causing the execution of multiples threads to be interleave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ually done in a round-robin fashion, skipping any stalled threa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 must be able to switch threads every clo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antage is it can hide both short and long stalls, since instructions from other threads executed when one thread stall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advantage is it slows down execution of individual threads, since a thread ready to execute without stalls will be delayed by instructions from other threa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d on Sun’s Niagara (will see late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60AC-F1A1-4431-A7C0-7E463D22D83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3D3248-1CFF-4A64-BDFC-7181255D9D2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ourse-Grained Multithreading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7912080" cy="528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itches threads only on costly stalls, such as L2 cache mi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antag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ieves need to have very fast thread-switch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esn’t slow down thread, since instructions from other threads issued only when the thread encounters a costly sta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advantage is hard to overcome throughput losses from shorter stalls, due to pipeline start-up cos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ce CPU issues instructions from 1 thread, when a stall occurs, the pipeline must be emptied or froze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thread must fill pipeline before instructions can complet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of this start-up overhead, coarse-grained multithreading is better for reducing penalty of high cost stalls, where pipeline refill &lt;&lt; stall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d in IBM AS/4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ED0F-7291-4DB0-BE5E-5F383A0ED56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00DD11-03D5-4C09-A864-AF4BFCD557B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92520" y="-360"/>
            <a:ext cx="948708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5560" indent="0">
              <a:lnSpc>
                <a:spcPct val="90000"/>
              </a:lnSpc>
              <a:buNone/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For most apps, most execution units lie idl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447920" y="880920"/>
            <a:ext cx="5918040" cy="59770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486400" y="5097600"/>
            <a:ext cx="1817640" cy="17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53de8"/>
                </a:solidFill>
                <a:latin typeface="Arial"/>
              </a:rPr>
              <a:t>From: Tullsen, Eggers, and Lev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53de8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53de8"/>
                </a:solidFill>
                <a:latin typeface="Arial"/>
              </a:rPr>
              <a:t>Simultaneous Multithreading: Maximizing On-chip Parallelism, ISCA 1995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86400" y="990720"/>
            <a:ext cx="18860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900" spc="-1" strike="noStrike">
                <a:solidFill>
                  <a:srgbClr val="053de8"/>
                </a:solidFill>
                <a:latin typeface="Arial"/>
              </a:rPr>
              <a:t>For an 8-way superscalar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s to ILP (another perspectiv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ministriv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ead Level Parallelis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threa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ultaneous Multithrea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wer 4 vs. Power 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ad to Head: VLIW vs. Superscalar vs. SM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enta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A21E-3899-4791-A9F1-575CCF36790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909091-A5CD-4767-AF2B-BCBABB735B1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o both ILP and TLP?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LP and ILP exploit two different kinds of parallel structure in a progra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ld a processor oriented at ILP to exploit TLP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ctional units are often idle in data path designed for ILP because of either stalls or dependences in the cod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ld the TLP be used as a source of independent instructions that might keep the processor busy during stalls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ld TLP be used to employ the functional units that would otherwise lie idle when insufficient ILP exists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2CC4-5C80-4748-9C43-A6F7911A75A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3C59C1-E864-474E-835E-34227EC5412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5560" indent="0">
              <a:lnSpc>
                <a:spcPct val="90000"/>
              </a:lnSpc>
              <a:buNone/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Simultaneous Multi-threading ...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663480" y="1679400"/>
          <a:ext cx="3462480" cy="4481640"/>
        </p:xfrm>
        <a:graphic>
          <a:graphicData uri="http://schemas.openxmlformats.org/drawingml/2006/table">
            <a:tbl>
              <a:tblPr/>
              <a:tblGrid>
                <a:gridCol w="376920"/>
                <a:gridCol w="388800"/>
                <a:gridCol w="388440"/>
                <a:gridCol w="376920"/>
                <a:gridCol w="388800"/>
                <a:gridCol w="388440"/>
                <a:gridCol w="376920"/>
                <a:gridCol w="388800"/>
                <a:gridCol w="388440"/>
              </a:tblGrid>
              <a:tr h="49140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52596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</a:tr>
              <a:tr h="48060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1085760" y="1371600"/>
            <a:ext cx="308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74920" y="1371600"/>
            <a:ext cx="30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793880" y="1371600"/>
            <a:ext cx="412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193840" y="1371600"/>
            <a:ext cx="43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83000" y="1371600"/>
            <a:ext cx="434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982960" y="1371600"/>
            <a:ext cx="434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336840" y="1371600"/>
            <a:ext cx="492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714840" y="137160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0760" y="1360440"/>
            <a:ext cx="84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53de8"/>
                </a:solidFill>
                <a:latin typeface="Arial"/>
              </a:rPr>
              <a:t>Cy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990720"/>
            <a:ext cx="40226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3061"/>
              </a:lnSpc>
              <a:tabLst>
                <a:tab algn="l" pos="0"/>
                <a:tab algn="l" pos="536400"/>
                <a:tab algn="l" pos="1360440"/>
                <a:tab algn="l" pos="2182680"/>
                <a:tab algn="l" pos="3006720"/>
                <a:tab algn="l" pos="3828960"/>
                <a:tab algn="l" pos="4651200"/>
                <a:tab algn="l" pos="5475240"/>
                <a:tab algn="l" pos="629748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e thread, 8 un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6960" y="6389640"/>
            <a:ext cx="853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53de8"/>
                </a:solidFill>
                <a:latin typeface="Arial"/>
              </a:rPr>
              <a:t>M = Load/Store, FX = Fixed Point, FP = Floating Point, BR = Branch, CC = Condition C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5292720" y="1741320"/>
          <a:ext cx="3462480" cy="4481640"/>
        </p:xfrm>
        <a:graphic>
          <a:graphicData uri="http://schemas.openxmlformats.org/drawingml/2006/table">
            <a:tbl>
              <a:tblPr/>
              <a:tblGrid>
                <a:gridCol w="376920"/>
                <a:gridCol w="388800"/>
                <a:gridCol w="388440"/>
                <a:gridCol w="376920"/>
                <a:gridCol w="388800"/>
                <a:gridCol w="388440"/>
                <a:gridCol w="376920"/>
                <a:gridCol w="388800"/>
                <a:gridCol w="388440"/>
              </a:tblGrid>
              <a:tr h="49140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52596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</a:tr>
              <a:tr h="50292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</a:tr>
              <a:tr h="48060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"/>
          <p:cNvSpPr/>
          <p:nvPr/>
        </p:nvSpPr>
        <p:spPr>
          <a:xfrm>
            <a:off x="5703840" y="1433520"/>
            <a:ext cx="308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3000" y="1433520"/>
            <a:ext cx="30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411960" y="1433520"/>
            <a:ext cx="411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11920" y="1433520"/>
            <a:ext cx="434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201080" y="1433520"/>
            <a:ext cx="433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01040" y="1433520"/>
            <a:ext cx="43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954920" y="1433520"/>
            <a:ext cx="490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331120" y="14335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938840" y="1422360"/>
            <a:ext cx="84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53de8"/>
                </a:solidFill>
                <a:latin typeface="Arial"/>
              </a:rPr>
              <a:t>Cy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00600" y="1066680"/>
            <a:ext cx="41940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3061"/>
              </a:lnSpc>
              <a:tabLst>
                <a:tab algn="l" pos="0"/>
                <a:tab algn="l" pos="536400"/>
                <a:tab algn="l" pos="1360440"/>
                <a:tab algn="l" pos="2182680"/>
                <a:tab algn="l" pos="3006720"/>
                <a:tab algn="l" pos="3828960"/>
                <a:tab algn="l" pos="4651200"/>
                <a:tab algn="l" pos="5475240"/>
                <a:tab algn="l" pos="629748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wo threads, 8 un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4618080" y="701640"/>
            <a:ext cx="0" cy="560088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Simultaneous Multithreading (SMT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ultaneous multithreading (SMT): insight that dynamically scheduled processor already has many HW mechanisms to support multithrea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set of virtual registers that can be used to hold the register sets of independent thread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 renaming provides unique register identifiers, so instructions from multiple threads can be mixed in datapath without confusing sources and destinations across threa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-of-order completion allows the threads to execute out of order, and get better utilization of the HW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st adding a per thread renaming table and keeping separate P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 commitment can be supported by logically keeping a separate reorder buffer for each threa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425280" y="6019200"/>
            <a:ext cx="2716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urce: Micrprocessor Report, December 6, 1999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“Compaq Chooses SMT for Alpha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F11C-82B8-4235-BB4D-57761FF02F3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503999-FD7B-4969-B67A-9207212E1AE1}" type="datetime1">
              <a:rPr lang="en-US"/>
              <a:t>07/29/26</a:t>
            </a:fld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15920" y="330120"/>
            <a:ext cx="65167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Multithreaded Categorie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990720" y="1447920"/>
            <a:ext cx="1143000" cy="3581280"/>
            <a:chOff x="990720" y="1447920"/>
            <a:chExt cx="1143000" cy="3581280"/>
          </a:xfrm>
        </p:grpSpPr>
        <p:sp>
          <p:nvSpPr>
            <p:cNvPr id="185" name=""/>
            <p:cNvSpPr/>
            <p:nvPr/>
          </p:nvSpPr>
          <p:spPr>
            <a:xfrm>
              <a:off x="990720" y="14479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295640" y="14479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600560" y="14479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905120" y="14479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990720" y="175248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95640" y="1752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600560" y="1752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905120" y="1752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990720" y="20574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295640" y="20574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600560" y="20574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905120" y="20574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990720" y="23623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295640" y="23623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600560" y="23623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05120" y="23623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990720" y="2666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295640" y="2666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600560" y="2666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905120" y="2666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990720" y="29718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295640" y="29718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600560" y="29718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905120" y="29718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990720" y="32767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295640" y="32767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600560" y="32767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05120" y="32767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990720" y="358128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295640" y="35812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600560" y="35812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905120" y="35812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990720" y="38862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295640" y="38862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600560" y="38862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905120" y="38862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990720" y="41911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640" y="41911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600560" y="41911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905120" y="41911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990720" y="44956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295640" y="44956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600560" y="44956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905120" y="44956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90720" y="48006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295640" y="48006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600560" y="48006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905120" y="48006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2514600" y="1447920"/>
            <a:ext cx="1143000" cy="3581280"/>
            <a:chOff x="2514600" y="1447920"/>
            <a:chExt cx="1143000" cy="3581280"/>
          </a:xfrm>
        </p:grpSpPr>
        <p:sp>
          <p:nvSpPr>
            <p:cNvPr id="234" name=""/>
            <p:cNvSpPr/>
            <p:nvPr/>
          </p:nvSpPr>
          <p:spPr>
            <a:xfrm>
              <a:off x="2514600" y="14479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19520" y="14479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24080" y="14479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429000" y="14479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514600" y="1752480"/>
              <a:ext cx="228600" cy="2286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819520" y="1752480"/>
              <a:ext cx="228600" cy="228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24080" y="1752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429000" y="1752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514600" y="205740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819520" y="205740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124080" y="20574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429000" y="20574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514600" y="2362320"/>
              <a:ext cx="228600" cy="228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819520" y="2362320"/>
              <a:ext cx="228600" cy="2286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124080" y="23623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9000" y="23623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514600" y="2666880"/>
              <a:ext cx="228600" cy="228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819520" y="2666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124080" y="2666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429000" y="2666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514600" y="29718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819520" y="29718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124080" y="29718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429000" y="29718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14600" y="3276720"/>
              <a:ext cx="228600" cy="2286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819520" y="3276720"/>
              <a:ext cx="228600" cy="22860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124080" y="3276720"/>
              <a:ext cx="228600" cy="2286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429000" y="32767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514600" y="35812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819520" y="35812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124080" y="35812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29000" y="35812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514600" y="3886200"/>
              <a:ext cx="228600" cy="2286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819520" y="38862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124080" y="38862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429000" y="38862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14600" y="4191120"/>
              <a:ext cx="228600" cy="2286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819520" y="4191120"/>
              <a:ext cx="228600" cy="228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124080" y="4191120"/>
              <a:ext cx="228600" cy="228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429000" y="4191120"/>
              <a:ext cx="228600" cy="2286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14600" y="449568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19520" y="449568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124080" y="449568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29000" y="44956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14600" y="4800600"/>
              <a:ext cx="228600" cy="22860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819520" y="48006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124080" y="48006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429000" y="48006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038480" y="1447920"/>
            <a:ext cx="1143000" cy="3581280"/>
            <a:chOff x="4038480" y="1447920"/>
            <a:chExt cx="1143000" cy="3581280"/>
          </a:xfrm>
        </p:grpSpPr>
        <p:sp>
          <p:nvSpPr>
            <p:cNvPr id="283" name=""/>
            <p:cNvSpPr/>
            <p:nvPr/>
          </p:nvSpPr>
          <p:spPr>
            <a:xfrm>
              <a:off x="4038480" y="2666880"/>
              <a:ext cx="228600" cy="22860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343040" y="2666880"/>
              <a:ext cx="228600" cy="22860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647960" y="2666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952880" y="2666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038480" y="2971800"/>
              <a:ext cx="228600" cy="22860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343040" y="2971800"/>
              <a:ext cx="228600" cy="228600"/>
            </a:xfrm>
            <a:prstGeom prst="rect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647960" y="2971800"/>
              <a:ext cx="228600" cy="228600"/>
            </a:xfrm>
            <a:prstGeom prst="rect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952880" y="29718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038480" y="3276720"/>
              <a:ext cx="228600" cy="228600"/>
            </a:xfrm>
            <a:prstGeom prst="rect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343040" y="3276720"/>
              <a:ext cx="228600" cy="228600"/>
            </a:xfrm>
            <a:prstGeom prst="rect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647960" y="3276720"/>
              <a:ext cx="228600" cy="228600"/>
            </a:xfrm>
            <a:prstGeom prst="rect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952880" y="32767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038480" y="35812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343040" y="35812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647960" y="35812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952880" y="35812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038480" y="388620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343040" y="388620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47960" y="38862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952880" y="38862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038480" y="419112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343040" y="419112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647960" y="419112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952880" y="419112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038480" y="4495680"/>
              <a:ext cx="228600" cy="228600"/>
            </a:xfrm>
            <a:prstGeom prst="rect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343040" y="4495680"/>
              <a:ext cx="228600" cy="228600"/>
            </a:xfrm>
            <a:prstGeom prst="rect">
              <a:avLst/>
            </a:prstGeom>
            <a:blipFill rotWithShape="0">
              <a:blip r:embed="rId2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647960" y="44956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952880" y="44956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038480" y="4800600"/>
              <a:ext cx="228600" cy="228600"/>
            </a:xfrm>
            <a:prstGeom prst="rect">
              <a:avLst/>
            </a:prstGeom>
            <a:blipFill rotWithShape="0">
              <a:blip r:embed="rId2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343040" y="48006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647960" y="48006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952880" y="48006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038480" y="14479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343040" y="14479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647960" y="14479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952880" y="14479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038480" y="175248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343040" y="1752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647960" y="1752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952880" y="1752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038480" y="20574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343040" y="20574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647960" y="20574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952880" y="20574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8480" y="23623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343040" y="23623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647960" y="23623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952880" y="23623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5638680" y="1295280"/>
            <a:ext cx="1143000" cy="3962520"/>
            <a:chOff x="5638680" y="1295280"/>
            <a:chExt cx="1143000" cy="3962520"/>
          </a:xfrm>
        </p:grpSpPr>
        <p:sp>
          <p:nvSpPr>
            <p:cNvPr id="332" name=""/>
            <p:cNvSpPr/>
            <p:nvPr/>
          </p:nvSpPr>
          <p:spPr>
            <a:xfrm>
              <a:off x="5638680" y="266688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943600" y="2666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248520" y="2666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553080" y="2666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638680" y="29718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943600" y="29718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48520" y="2971800"/>
              <a:ext cx="228600" cy="228600"/>
            </a:xfrm>
            <a:prstGeom prst="rect">
              <a:avLst/>
            </a:prstGeom>
            <a:blipFill rotWithShape="0">
              <a:blip r:embed="rId2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553080" y="2971800"/>
              <a:ext cx="228600" cy="228600"/>
            </a:xfrm>
            <a:prstGeom prst="rect">
              <a:avLst/>
            </a:prstGeom>
            <a:blipFill rotWithShape="0">
              <a:blip r:embed="rId2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638680" y="32767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943600" y="32767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248520" y="3276720"/>
              <a:ext cx="228600" cy="228600"/>
            </a:xfrm>
            <a:prstGeom prst="rect">
              <a:avLst/>
            </a:prstGeom>
            <a:blipFill rotWithShape="0">
              <a:blip r:embed="rId2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553080" y="32767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638680" y="358128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943600" y="358128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248520" y="3581280"/>
              <a:ext cx="228600" cy="228600"/>
            </a:xfrm>
            <a:prstGeom prst="rect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553080" y="3581280"/>
              <a:ext cx="228600" cy="228600"/>
            </a:xfrm>
            <a:prstGeom prst="rect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638680" y="38862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943600" y="38862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248520" y="3886200"/>
              <a:ext cx="228600" cy="228600"/>
            </a:xfrm>
            <a:prstGeom prst="rect">
              <a:avLst/>
            </a:prstGeom>
            <a:blipFill rotWithShape="0">
              <a:blip r:embed="rId3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553080" y="38862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638680" y="41911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943600" y="41911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48520" y="41911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553080" y="41911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638680" y="449568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943600" y="44956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248520" y="4495680"/>
              <a:ext cx="228600" cy="228600"/>
            </a:xfrm>
            <a:prstGeom prst="rect">
              <a:avLst/>
            </a:prstGeom>
            <a:blipFill rotWithShape="0">
              <a:blip r:embed="rId3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553080" y="44956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638680" y="48006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943600" y="48006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4800600"/>
              <a:ext cx="228600" cy="228600"/>
            </a:xfrm>
            <a:prstGeom prst="rect">
              <a:avLst/>
            </a:prstGeom>
            <a:blipFill rotWithShape="0">
              <a:blip r:embed="rId3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553080" y="4800600"/>
              <a:ext cx="228600" cy="228600"/>
            </a:xfrm>
            <a:prstGeom prst="rect">
              <a:avLst/>
            </a:prstGeom>
            <a:blipFill rotWithShape="0">
              <a:blip r:embed="rId3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638680" y="14479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943600" y="14479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248520" y="1447920"/>
              <a:ext cx="228600" cy="228600"/>
            </a:xfrm>
            <a:prstGeom prst="rect">
              <a:avLst/>
            </a:prstGeom>
            <a:blipFill rotWithShape="0">
              <a:blip r:embed="rId3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553080" y="1447920"/>
              <a:ext cx="228600" cy="228600"/>
            </a:xfrm>
            <a:prstGeom prst="rect">
              <a:avLst/>
            </a:prstGeom>
            <a:blipFill rotWithShape="0">
              <a:blip r:embed="rId3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638680" y="175248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943600" y="1752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248520" y="1752480"/>
              <a:ext cx="228600" cy="228600"/>
            </a:xfrm>
            <a:prstGeom prst="rect">
              <a:avLst/>
            </a:prstGeom>
            <a:blipFill rotWithShape="0">
              <a:blip r:embed="rId3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553080" y="1752480"/>
              <a:ext cx="228600" cy="228600"/>
            </a:xfrm>
            <a:prstGeom prst="rect">
              <a:avLst/>
            </a:prstGeom>
            <a:blipFill rotWithShape="0">
              <a:blip r:embed="rId3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638680" y="20574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943600" y="20574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248520" y="2057400"/>
              <a:ext cx="228600" cy="228600"/>
            </a:xfrm>
            <a:prstGeom prst="rect">
              <a:avLst/>
            </a:prstGeom>
            <a:blipFill rotWithShape="0">
              <a:blip r:embed="rId3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553080" y="20574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638680" y="23623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943600" y="23623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248520" y="2362320"/>
              <a:ext cx="228600" cy="228600"/>
            </a:xfrm>
            <a:prstGeom prst="rect">
              <a:avLst/>
            </a:prstGeom>
            <a:blipFill rotWithShape="0">
              <a:blip r:embed="rId4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553080" y="23623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210360" y="1295280"/>
              <a:ext cx="0" cy="396252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7238880" y="2666880"/>
            <a:ext cx="228600" cy="2286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543800" y="2666880"/>
            <a:ext cx="228600" cy="22860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848720" y="2666880"/>
            <a:ext cx="228600" cy="2286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153280" y="2666880"/>
            <a:ext cx="228600" cy="22860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238880" y="2971800"/>
            <a:ext cx="228600" cy="228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543800" y="2971800"/>
            <a:ext cx="228600" cy="228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848720" y="2971800"/>
            <a:ext cx="228600" cy="228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153280" y="2971800"/>
            <a:ext cx="228600" cy="228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238880" y="327672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543800" y="327672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848720" y="3276720"/>
            <a:ext cx="228600" cy="22860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8153280" y="32767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238880" y="3581280"/>
            <a:ext cx="228600" cy="228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543800" y="3581280"/>
            <a:ext cx="228600" cy="2286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848720" y="358128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153280" y="3581280"/>
            <a:ext cx="228600" cy="2286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238880" y="3886200"/>
            <a:ext cx="228600" cy="228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543800" y="3886200"/>
            <a:ext cx="228600" cy="228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848720" y="3886200"/>
            <a:ext cx="228600" cy="22860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8153280" y="3886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238880" y="4191120"/>
            <a:ext cx="228600" cy="228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543800" y="4191120"/>
            <a:ext cx="228600" cy="228600"/>
          </a:xfrm>
          <a:prstGeom prst="rect">
            <a:avLst/>
          </a:prstGeom>
          <a:blipFill rotWithShape="0">
            <a:blip r:embed="rId4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848720" y="4191120"/>
            <a:ext cx="228600" cy="228600"/>
          </a:xfrm>
          <a:prstGeom prst="rect">
            <a:avLst/>
          </a:prstGeom>
          <a:blipFill rotWithShape="0">
            <a:blip r:embed="rId5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8153280" y="419112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238880" y="4495680"/>
            <a:ext cx="228600" cy="228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543800" y="4495680"/>
            <a:ext cx="228600" cy="228600"/>
          </a:xfrm>
          <a:prstGeom prst="rect">
            <a:avLst/>
          </a:prstGeom>
          <a:blipFill rotWithShape="0">
            <a:blip r:embed="rId5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848720" y="4495680"/>
            <a:ext cx="228600" cy="228600"/>
          </a:xfrm>
          <a:prstGeom prst="rect">
            <a:avLst/>
          </a:prstGeom>
          <a:blipFill rotWithShape="0">
            <a:blip r:embed="rId5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153280" y="44956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238880" y="4800600"/>
            <a:ext cx="228600" cy="228600"/>
          </a:xfrm>
          <a:prstGeom prst="rect">
            <a:avLst/>
          </a:prstGeom>
          <a:blipFill rotWithShape="0">
            <a:blip r:embed="rId5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543800" y="4800600"/>
            <a:ext cx="228600" cy="228600"/>
          </a:xfrm>
          <a:prstGeom prst="rect">
            <a:avLst/>
          </a:prstGeom>
          <a:blipFill rotWithShape="0">
            <a:blip r:embed="rId5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848720" y="4800600"/>
            <a:ext cx="228600" cy="228600"/>
          </a:xfrm>
          <a:prstGeom prst="rect">
            <a:avLst/>
          </a:prstGeom>
          <a:blipFill rotWithShape="0">
            <a:blip r:embed="rId5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8153280" y="48006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238880" y="1447920"/>
            <a:ext cx="228600" cy="228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543800" y="1447920"/>
            <a:ext cx="228600" cy="228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848720" y="1447920"/>
            <a:ext cx="228600" cy="228600"/>
          </a:xfrm>
          <a:prstGeom prst="rect">
            <a:avLst/>
          </a:prstGeom>
          <a:blipFill rotWithShape="0">
            <a:blip r:embed="rId5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153280" y="14479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238880" y="1752480"/>
            <a:ext cx="228600" cy="228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543800" y="175248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848720" y="1752480"/>
            <a:ext cx="228600" cy="228600"/>
          </a:xfrm>
          <a:prstGeom prst="rect">
            <a:avLst/>
          </a:prstGeom>
          <a:blipFill rotWithShape="0">
            <a:blip r:embed="rId5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53280" y="1752480"/>
            <a:ext cx="228600" cy="228600"/>
          </a:xfrm>
          <a:prstGeom prst="rect">
            <a:avLst/>
          </a:prstGeom>
          <a:blipFill rotWithShape="0">
            <a:blip r:embed="rId5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238880" y="2057400"/>
            <a:ext cx="228600" cy="228600"/>
          </a:xfrm>
          <a:prstGeom prst="rect">
            <a:avLst/>
          </a:prstGeom>
          <a:blipFill rotWithShape="0">
            <a:blip r:embed="rId5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543800" y="205740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848720" y="205740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153280" y="2057400"/>
            <a:ext cx="228600" cy="228600"/>
          </a:xfrm>
          <a:prstGeom prst="rect">
            <a:avLst/>
          </a:prstGeom>
          <a:blipFill rotWithShape="0">
            <a:blip r:embed="rId6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238880" y="2362320"/>
            <a:ext cx="228600" cy="228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3800" y="2362320"/>
            <a:ext cx="228600" cy="228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848720" y="2362320"/>
            <a:ext cx="228600" cy="228600"/>
          </a:xfrm>
          <a:prstGeom prst="rect">
            <a:avLst/>
          </a:prstGeom>
          <a:blipFill rotWithShape="0">
            <a:blip r:embed="rId6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153280" y="23623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rot="10800000">
            <a:off x="226800" y="1135440"/>
            <a:ext cx="667800" cy="34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ime (processor cyc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33520" y="4648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837720" y="107640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upersca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454480" y="107640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Fine-Grai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743280" y="10764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oarse-Grai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376960" y="105552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ulti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117560" y="847800"/>
            <a:ext cx="146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imulta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ultithrea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209680" y="5486400"/>
            <a:ext cx="228600" cy="228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209680" y="5867280"/>
            <a:ext cx="228600" cy="228600"/>
          </a:xfrm>
          <a:prstGeom prst="rect">
            <a:avLst/>
          </a:prstGeom>
          <a:blipFill rotWithShape="0">
            <a:blip r:embed="rId6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419720" y="548640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419720" y="5867280"/>
            <a:ext cx="228600" cy="228600"/>
          </a:xfrm>
          <a:prstGeom prst="rect">
            <a:avLst/>
          </a:prstGeom>
          <a:blipFill rotWithShape="0">
            <a:blip r:embed="rId6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477120" y="5486400"/>
            <a:ext cx="228600" cy="228600"/>
          </a:xfrm>
          <a:prstGeom prst="rect">
            <a:avLst/>
          </a:prstGeom>
          <a:blipFill rotWithShape="0">
            <a:blip r:embed="rId6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477120" y="58672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414880" y="539424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read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421000" y="579132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read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716720" y="541008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read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716720" y="579132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read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697800" y="541008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read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711120" y="5791320"/>
            <a:ext cx="89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dle sl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ACAF-21B3-467D-95EF-B5CE2DB1ACD6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5AB7E8-531E-43CD-B553-E3E80FA453F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esign Challenges in SMT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7988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ce SMT makes sense only with fine-grained implementation, impact of fine-grained scheduling on single thread performanc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referred thread approach sacrifices neither throughput nor single-thread performance?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fortunately, with a preferred thread, the processor is likely to sacrifice some throughput, when preferred thread stal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register file needed to hold multiple contex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affecting clock cycle time, especially i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issue - more candidate instructions need to be consider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completion - choosing which instructions to commit may be challeng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suring that cache and TLB conflicts generated by SMT do not degrade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D207-81B4-4C53-8EA7-233F73718E3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F60BB7-2402-4802-A91D-DA9009B257B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-79200" y="10800"/>
            <a:ext cx="955512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5560" indent="0">
              <a:lnSpc>
                <a:spcPct val="90000"/>
              </a:lnSpc>
              <a:buNone/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ower 4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6792840" y="744480"/>
            <a:ext cx="1973160" cy="207324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2"/>
          <a:stretch/>
        </p:blipFill>
        <p:spPr>
          <a:xfrm>
            <a:off x="149400" y="2916360"/>
            <a:ext cx="8638920" cy="3263760"/>
          </a:xfrm>
          <a:prstGeom prst="rect">
            <a:avLst/>
          </a:prstGeom>
          <a:ln w="0">
            <a:noFill/>
          </a:ln>
        </p:spPr>
      </p:pic>
      <p:grpSp>
        <p:nvGrpSpPr>
          <p:cNvPr id="453" name=""/>
          <p:cNvGrpSpPr/>
          <p:nvPr/>
        </p:nvGrpSpPr>
        <p:grpSpPr>
          <a:xfrm>
            <a:off x="239760" y="835200"/>
            <a:ext cx="6367320" cy="2799720"/>
            <a:chOff x="239760" y="835200"/>
            <a:chExt cx="6367320" cy="2799720"/>
          </a:xfrm>
        </p:grpSpPr>
        <p:sp>
          <p:nvSpPr>
            <p:cNvPr id="454" name=""/>
            <p:cNvSpPr/>
            <p:nvPr/>
          </p:nvSpPr>
          <p:spPr>
            <a:xfrm>
              <a:off x="239760" y="835200"/>
              <a:ext cx="6367320" cy="195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0760"/>
                  <a:tab algn="l" pos="639720"/>
                  <a:tab algn="l" pos="960480"/>
                  <a:tab algn="l" pos="1279440"/>
                  <a:tab algn="l" pos="1600200"/>
                  <a:tab algn="l" pos="1920960"/>
                  <a:tab algn="l" pos="2239920"/>
                  <a:tab algn="l" pos="2560680"/>
                  <a:tab algn="l" pos="2879640"/>
                  <a:tab algn="l" pos="3200400"/>
                  <a:tab algn="l" pos="3521160"/>
                  <a:tab algn="l" pos="38401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Single-threaded predecessor to Power 5.  8 execution units i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20760"/>
                  <a:tab algn="l" pos="639720"/>
                  <a:tab algn="l" pos="960480"/>
                  <a:tab algn="l" pos="1279440"/>
                  <a:tab algn="l" pos="1600200"/>
                  <a:tab algn="l" pos="1920960"/>
                  <a:tab algn="l" pos="2239920"/>
                  <a:tab algn="l" pos="2560680"/>
                  <a:tab algn="l" pos="2879640"/>
                  <a:tab algn="l" pos="3200400"/>
                  <a:tab algn="l" pos="3521160"/>
                  <a:tab algn="l" pos="38401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ut-of-order engine, each ma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20760"/>
                  <a:tab algn="l" pos="639720"/>
                  <a:tab algn="l" pos="960480"/>
                  <a:tab algn="l" pos="1279440"/>
                  <a:tab algn="l" pos="1600200"/>
                  <a:tab algn="l" pos="1920960"/>
                  <a:tab algn="l" pos="2239920"/>
                  <a:tab algn="l" pos="2560680"/>
                  <a:tab algn="l" pos="2879640"/>
                  <a:tab algn="l" pos="3200400"/>
                  <a:tab algn="l" pos="3521160"/>
                  <a:tab algn="l" pos="38401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issue an instruction each cycle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26280" y="2766600"/>
              <a:ext cx="1200240" cy="8683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250920" y="12600"/>
            <a:ext cx="8640720" cy="326556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2"/>
          <a:stretch/>
        </p:blipFill>
        <p:spPr>
          <a:xfrm>
            <a:off x="325440" y="3279600"/>
            <a:ext cx="8475840" cy="345924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/>
          <p:nvPr/>
        </p:nvSpPr>
        <p:spPr>
          <a:xfrm>
            <a:off x="1442880" y="23760"/>
            <a:ext cx="1460520" cy="9140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919191">
                <a:alpha val="1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Marker Felt"/>
              </a:rPr>
              <a:t>Power 4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889280" y="3281400"/>
            <a:ext cx="1460520" cy="9140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919191">
                <a:alpha val="1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Marker Felt"/>
              </a:rPr>
              <a:t>Power 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47560" y="4349880"/>
            <a:ext cx="727200" cy="725400"/>
          </a:xfrm>
          <a:custGeom>
            <a:avLst/>
            <a:gdLst/>
            <a:ahLst/>
            <a:rect l="l" t="t" r="r" b="b"/>
            <a:pathLst>
              <a:path w="9111" h="9111">
                <a:moveTo>
                  <a:pt x="18221" y="11778"/>
                </a:moveTo>
                <a:cubicBezTo>
                  <a:pt x="20000" y="13557"/>
                  <a:pt x="20000" y="16442"/>
                  <a:pt x="18221" y="18221"/>
                </a:cubicBezTo>
                <a:cubicBezTo>
                  <a:pt x="16442" y="20000"/>
                  <a:pt x="13557" y="20000"/>
                  <a:pt x="11778" y="18221"/>
                </a:cubicBezTo>
                <a:cubicBezTo>
                  <a:pt x="9999" y="16442"/>
                  <a:pt x="9999" y="13557"/>
                  <a:pt x="11778" y="11778"/>
                </a:cubicBezTo>
                <a:cubicBezTo>
                  <a:pt x="13557" y="9999"/>
                  <a:pt x="16442" y="9999"/>
                  <a:pt x="18221" y="11778"/>
                </a:cubicBezTo>
                <a:close/>
                <a:moveTo>
                  <a:pt x="18221" y="11778"/>
                </a:moveTo>
              </a:path>
            </a:pathLst>
          </a:custGeom>
          <a:noFill/>
          <a:ln w="38160">
            <a:solidFill>
              <a:srgbClr val="053de8">
                <a:alpha val="5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450800" y="4897440"/>
            <a:ext cx="727200" cy="725400"/>
          </a:xfrm>
          <a:custGeom>
            <a:avLst/>
            <a:gdLst/>
            <a:ahLst/>
            <a:rect l="l" t="t" r="r" b="b"/>
            <a:pathLst>
              <a:path w="9111" h="9111">
                <a:moveTo>
                  <a:pt x="18221" y="11778"/>
                </a:moveTo>
                <a:cubicBezTo>
                  <a:pt x="20000" y="13557"/>
                  <a:pt x="20000" y="16442"/>
                  <a:pt x="18221" y="18221"/>
                </a:cubicBezTo>
                <a:cubicBezTo>
                  <a:pt x="16442" y="20000"/>
                  <a:pt x="13557" y="20000"/>
                  <a:pt x="11778" y="18221"/>
                </a:cubicBezTo>
                <a:cubicBezTo>
                  <a:pt x="9999" y="16442"/>
                  <a:pt x="9999" y="13557"/>
                  <a:pt x="11778" y="11778"/>
                </a:cubicBezTo>
                <a:cubicBezTo>
                  <a:pt x="13557" y="9999"/>
                  <a:pt x="16442" y="9999"/>
                  <a:pt x="18221" y="11778"/>
                </a:cubicBezTo>
                <a:close/>
                <a:moveTo>
                  <a:pt x="18221" y="11778"/>
                </a:moveTo>
              </a:path>
            </a:pathLst>
          </a:custGeom>
          <a:noFill/>
          <a:ln w="38160">
            <a:solidFill>
              <a:srgbClr val="053de8">
                <a:alpha val="5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501480" y="5086080"/>
            <a:ext cx="285840" cy="468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478800" y="5371920"/>
            <a:ext cx="903240" cy="206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058240" y="4510080"/>
            <a:ext cx="725400" cy="725400"/>
          </a:xfrm>
          <a:custGeom>
            <a:avLst/>
            <a:gdLst/>
            <a:ahLst/>
            <a:rect l="l" t="t" r="r" b="b"/>
            <a:pathLst>
              <a:path w="9111" h="9111">
                <a:moveTo>
                  <a:pt x="18221" y="11778"/>
                </a:moveTo>
                <a:cubicBezTo>
                  <a:pt x="20000" y="13557"/>
                  <a:pt x="20000" y="16442"/>
                  <a:pt x="18221" y="18221"/>
                </a:cubicBezTo>
                <a:cubicBezTo>
                  <a:pt x="16442" y="20000"/>
                  <a:pt x="13557" y="20000"/>
                  <a:pt x="11778" y="18221"/>
                </a:cubicBezTo>
                <a:cubicBezTo>
                  <a:pt x="9999" y="16442"/>
                  <a:pt x="9999" y="13557"/>
                  <a:pt x="11778" y="11778"/>
                </a:cubicBezTo>
                <a:cubicBezTo>
                  <a:pt x="13557" y="9999"/>
                  <a:pt x="16442" y="9999"/>
                  <a:pt x="18221" y="11778"/>
                </a:cubicBezTo>
                <a:close/>
                <a:moveTo>
                  <a:pt x="18221" y="11778"/>
                </a:moveTo>
              </a:path>
            </a:pathLst>
          </a:custGeom>
          <a:noFill/>
          <a:ln w="38160">
            <a:solidFill>
              <a:srgbClr val="053de8">
                <a:alpha val="5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8400960" y="4000680"/>
            <a:ext cx="0" cy="468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83760" y="5638680"/>
            <a:ext cx="2948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 fetch (PC),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 initial dec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62920" y="2971800"/>
            <a:ext cx="222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 commits (architected register s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10760" y="10800"/>
            <a:ext cx="751068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5560" indent="0">
              <a:lnSpc>
                <a:spcPct val="90000"/>
              </a:lnSpc>
              <a:buNone/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ower 5 data flow ...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39600" y="1185840"/>
            <a:ext cx="9036000" cy="347832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/>
          <p:nvPr/>
        </p:nvSpPr>
        <p:spPr>
          <a:xfrm>
            <a:off x="669960" y="4861080"/>
            <a:ext cx="7711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only 2 threads? With 4, one of the shared resources (physical registers, cache, memory bandwidth) would be prone to bottlenec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17440" y="11160"/>
            <a:ext cx="8390160" cy="75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5560" indent="0">
              <a:lnSpc>
                <a:spcPct val="90000"/>
              </a:lnSpc>
              <a:buNone/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ower 5 thread performance ...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>
            <a:off x="3571920" y="1081080"/>
            <a:ext cx="4508280" cy="577692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4114800" y="2160720"/>
            <a:ext cx="1463760" cy="663480"/>
          </a:xfrm>
          <a:prstGeom prst="line">
            <a:avLst/>
          </a:prstGeom>
          <a:ln w="38160">
            <a:solidFill>
              <a:srgbClr val="0000ff">
                <a:alpha val="58000"/>
              </a:srgbClr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2617920" y="2595240"/>
            <a:ext cx="2171520" cy="1050840"/>
          </a:xfrm>
          <a:prstGeom prst="line">
            <a:avLst/>
          </a:prstGeom>
          <a:ln w="38160">
            <a:solidFill>
              <a:srgbClr val="0000ff">
                <a:alpha val="58000"/>
              </a:srgbClr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80880" y="1143000"/>
            <a:ext cx="289584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ative priority of each thread controllable in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28600" y="3683160"/>
            <a:ext cx="2911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balanced operation, both threads run slower than if they “owned” the mach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hanges in  Power 5 to support SMT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ed associativity of L1 instruction cache and the instruction address translation buffer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ed per thread load and store queu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ed size of the L2 (1.92 vs. 1.44 MB) and L3 cach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ed separate instruction prefetch and buffering per threa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ed the number of virtual registers from 152 to 24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ed the size of several issue que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ower5 core is about 24% larger than the Power4 core because of the addition of SMT sup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9053-130D-41C6-9616-D20DD1D0771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E29419-8A16-453E-B5E8-8B2D5719FDC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Limits to ILP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3976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licting studies of amou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6000" indent="-191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nchmarks (vectorized Fortran FP vs. integer C program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6000" indent="-191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rdware sophist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6000" indent="-191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iler sophist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much ILP is available using existing mechanisms with increasing HW budget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 we need to invent new HW/SW mechanisms to keep on processor performance curve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6000" indent="-191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l MMX, SSE (Streaming SIMD Extensions): 64 bit int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6000" indent="-191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l SSE2: 128 bit, including 2 64-bit Fl. Pt. per clo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6000" indent="-191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orola AltaVec: 128 bit ints and F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6000" indent="-191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ersparc Multimedia ops, et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60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F4BF-53B4-4BD4-A52B-98B123A878B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AD2DED-59C5-408B-B837-F75B44EC25EF}" type="datetime1">
              <a:rPr lang="en-US"/>
              <a:t>07/29/26</a:t>
            </a:fld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Initial Performance of SMT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8064720" cy="566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ntium 4 Extreme SMT yields 1.01 speedup for SPECint_rate benchmark and 1.07 for SPECfp_r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ntium 4 is dual threaded SM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Rate requires that each SPEC benchmark be run against a vendor-selected number of copies of the same benchma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ning on Pentium 4 each of 26 SPEC benchmarks paired with every other (26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uns) speed-ups from 0.90 to 1.58; average was 1.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wer 5, 8 processor server 1.23 faster for SPECint_rate with SMT, 1.16 faster for SPECfp_r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wer 5 running 2 copies of each app speedup between 0.89 and 1.4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gained so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.Pt. apps had most cache conflicts and least gai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758C-EE92-4910-BD8F-4E0B07E5E9B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35C025-BA29-4008-BBAD-48C42CE1520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1" name=""/>
          <p:cNvGraphicFramePr/>
          <p:nvPr/>
        </p:nvGraphicFramePr>
        <p:xfrm>
          <a:off x="228600" y="1066680"/>
          <a:ext cx="8686800" cy="4959360"/>
        </p:xfrm>
        <a:graphic>
          <a:graphicData uri="http://schemas.openxmlformats.org/drawingml/2006/table">
            <a:tbl>
              <a:tblPr/>
              <a:tblGrid>
                <a:gridCol w="1380960"/>
                <a:gridCol w="2621160"/>
                <a:gridCol w="1193760"/>
                <a:gridCol w="893880"/>
                <a:gridCol w="811080"/>
                <a:gridCol w="947880"/>
                <a:gridCol w="838080"/>
              </a:tblGrid>
              <a:tr h="75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 architec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tch / Issue / Execu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ck Rate (GHz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is-tors 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l Pentium 4 Extre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ulative dynamically scheduled; deeply pipelined; SM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3/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int. 1 F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 M    122 mm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 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D Athlon 64 FX-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ulative dynamically schedul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3/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int. 3 F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 M 115 mm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 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M Power5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 CPU onl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ulative dynamically scheduled; SMT;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CPU cores/chi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4/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int. 2 F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M 300 mm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est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W (est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l Itanium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tically scheduled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LIW-sty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/5/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 int. 2 F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92 M 423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0 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2" name=""/>
          <p:cNvSpPr/>
          <p:nvPr/>
        </p:nvSpPr>
        <p:spPr>
          <a:xfrm>
            <a:off x="457200" y="304920"/>
            <a:ext cx="72928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Head to Head ILP compet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0897-C9DE-4144-BB5C-3E59E0F2F97D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1FE52B-1F3C-4F48-8566-C0766C88E86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erformance on SPECint2000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0" y="990720"/>
          <a:ext cx="10515600" cy="52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0720"/>
                    <a:ext cx="105156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55BD-480F-427A-B14C-CB8D830D488E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932858-27AE-4E12-BEA9-F97D16139EF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erformance on SPECfp2000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457200" y="609480"/>
          <a:ext cx="8381880" cy="601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838188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77C2-91AB-46E6-976A-D6553AF2D897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2CB1A5-C509-4EA6-A46B-68825563BDB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Normalized Performance: Efficiency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graphicFrame>
        <p:nvGraphicFramePr>
          <p:cNvPr id="490" name=""/>
          <p:cNvGraphicFramePr/>
          <p:nvPr/>
        </p:nvGraphicFramePr>
        <p:xfrm>
          <a:off x="380880" y="685800"/>
          <a:ext cx="7467840" cy="579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685800"/>
                    <a:ext cx="7467840" cy="57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2" name=""/>
          <p:cNvGraphicFramePr/>
          <p:nvPr/>
        </p:nvGraphicFramePr>
        <p:xfrm>
          <a:off x="6477120" y="1219320"/>
          <a:ext cx="2438280" cy="4525920"/>
        </p:xfrm>
        <a:graphic>
          <a:graphicData uri="http://schemas.openxmlformats.org/drawingml/2006/table">
            <a:tbl>
              <a:tblPr/>
              <a:tblGrid>
                <a:gridCol w="1066680"/>
                <a:gridCol w="293760"/>
                <a:gridCol w="358560"/>
                <a:gridCol w="360360"/>
                <a:gridCol w="358920"/>
              </a:tblGrid>
              <a:tr h="1798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nium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m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w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/T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c0128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ae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P/T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c0128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ae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/ar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c0128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ae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P/ar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c0128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ae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/Wat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c0128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ae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P/Wat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c0128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c0128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1025-7A7E-4C4B-A43A-B0E700D90C05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C5FC98-5917-4E32-8FA1-F664E6F94DA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No Silver Bullet for ILP 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obvious over all leader in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MD Athlon leads on SPECInt performance followed by the Pentium 4, Itanium 2, and Power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anium 2 and Power5, which perform similarly on SPECFP, clearly dominate the Athlon and Pentium 4 on SPECF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anium 2 is the most </a:t>
            </a: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in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ocessor both for Fl. Pt. and integer code for all but one efficiency measure (SPECFP/Wat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hlon and Pentium 4 both make good use of transistors and area in terms of efficiency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M Power5 is the most effective user of energy on SPECFP and essentially tied on SPECI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9E0C-5AB4-46A1-A1C6-60459BD8B3B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B229E9-8CAC-4B3B-87BE-01302D7F644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Limits to ILP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ubling issue rates above today’s 3-6 instructions per clock, say to 6 to 12 instructions, probably requires a processor t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sue 3 or 4 data memory accesses per cycle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lve 2 or 3 branches per cycle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name and access more than 20 registers per cycle, an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tch 12 to 24 instructions per cycle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omplexities of implementing these capabilities is likely to mean sacrifices in the maximum clock rat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,  widest issue processor is the Itanium 2, but it also has the slowest clock rate, despite the fact that it consumes the most power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E44E-0E2F-4CDC-A6B4-0C9CB685392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7A9E09-4F6D-48EC-B4BD-EB75C269C5A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Limits to ILP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7988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techniques for increasing performance increase power consumpt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key question is whether a technique is </a:t>
            </a:r>
            <a:r>
              <a:rPr b="1" i="1" lang="en-US" sz="2000" spc="-1" strike="noStrike">
                <a:solidFill>
                  <a:srgbClr val="114ffb"/>
                </a:solidFill>
                <a:latin typeface="Arial"/>
              </a:rPr>
              <a:t>energy efficie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does it increase power consumption faster than it increases performance?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ple issue processors techniques all are energy inefficien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suing multiple instructions incurs some overhead in logic that grows faster than the issue rate grow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wing gap between peak issue rates and sustained perform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ber of transistors switching = f(peak issue rate), and performance = f( sustained rate)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wing gap between peak and sustained performanc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creasing energy per unit of perform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D7C0-8091-4FAC-A96F-225D2D31A2D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A4E4FC-BDFB-491B-9E62-D572D3EC45F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ommentary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98040" y="1193400"/>
            <a:ext cx="7683480" cy="535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anium architecture does </a:t>
            </a:r>
            <a:r>
              <a:rPr b="1" lang="en-US" sz="2000" spc="-1" strike="noStrike">
                <a:solidFill>
                  <a:srgbClr val="114ffb"/>
                </a:solidFill>
                <a:latin typeface="Arial"/>
              </a:rPr>
              <a:t>no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present a significant breakthrough in scaling ILP or in avoiding the problems of complexity and power consump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ead of pursuing more ILP, architects are increasingly focusing on TLP implemented with single-chip multiprocessor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2000, IBM announced the 1st commercial single-chip, general-purpose multiprocessor, the Power4, which contains 2 Power3 processors and an integrated L2 cach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nce then, Sun Microsystems, AMD, and Intel have switch to a focus on single-chip multiprocessors rather than more aggressive uniprocessor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ght balance of ILP and TLP is unclear tod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haps right choice for server market, which can exploit more TLP, may differ from desktop, where single-thread performance may continue to be a primary requir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2018-E55C-4A6E-BA92-715E8B236F2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520F5B-F627-4BEB-AC6E-0061B824A66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And in conclusion …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s to ILP (power efficiency, compilers, dependencies …) seem to limit to 3 to 6 issue for practical op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licitly parallel (Data level parallelism or Thread level parallelism) is next step to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rse grain vs. Fine grained multihrea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ly on big stall vs. every clock cyc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ultaneous Multithreading if fine grained multithreading based on OOO superscalar microarchite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ead of replicating registers, reuse rename regis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anium/EPIC/VLIW is not a breakthrough in IL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lance of ILP and TLP decided in marketpl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302E-6901-48BF-91E3-F98D6EA7C9E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848B97-BBE5-4A34-A5A9-4AE9E48C558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vercoming Limit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ances in compiler technology + significantly new and different hardware techniques </a:t>
            </a:r>
            <a:r>
              <a:rPr b="1" i="1" lang="en-US" sz="2800" spc="-1" strike="noStrike">
                <a:solidFill>
                  <a:srgbClr val="0332b7"/>
                </a:solidFill>
                <a:latin typeface="Arial"/>
              </a:rPr>
              <a:t>ma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be able to overcome limitations assumed in stud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ever, unlikely such advances when coupled </a:t>
            </a:r>
            <a:r>
              <a:rPr b="1" i="1" lang="en-US" sz="2800" spc="-1" strike="noStrike">
                <a:solidFill>
                  <a:srgbClr val="0332b7"/>
                </a:solidFill>
                <a:latin typeface="Arial"/>
              </a:rPr>
              <a:t>with realistic hardwa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ill overcome these limits in near futur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17A7-6862-4B7A-B32E-B8834568A4F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555130-4128-44B0-88E0-1453FD62784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Limits to ILP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2677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W Model here; MIPS compiler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umptions for ideal/perfect machine to star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Register renam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 infinite virtual register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&gt; all register WAW &amp; WAR hazards are avoi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Branch predic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 perfect; no misprediction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Jump predic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 all jumps perfectly predicted (returns, case statements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&amp; 3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o control dependencies; perfect speculation &amp; an unbounded buffer of instructions avail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Memory-address alias analys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 addresses known &amp; a load can be moved before a store provided addresses not equal; 1&amp;4 eliminates all but RA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so: perfect caches; 1 cycle latency for all instructions (FP *,/); unlimited instructions issued/clock cycle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4F82-3C86-4732-B3B9-EA678EA22F6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BA10E5-35C6-407F-8546-41C9680CD3C8}" type="datetime1">
              <a:rPr lang="en-US"/>
              <a:t>07/29/26</a:t>
            </a:fld>
          </a:p>
        </p:txBody>
      </p:sp>
    </p:spTree>
  </p:cSld>
  <p:transition>
    <p:wipe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762120" y="1219320"/>
          <a:ext cx="7696080" cy="5054400"/>
        </p:xfrm>
        <a:graphic>
          <a:graphicData uri="http://schemas.openxmlformats.org/drawingml/2006/table">
            <a:tbl>
              <a:tblPr/>
              <a:tblGrid>
                <a:gridCol w="2565360"/>
                <a:gridCol w="2565360"/>
                <a:gridCol w="2565360"/>
              </a:tblGrid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ions Issued per clo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ion Window 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aming Regis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 integer +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Fl. P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nch Predi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 to 6% mispredi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ournament Branch Predicto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KI, 32KD, 1.92MB L2, 36 MB L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ory Alias Analy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914400" y="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Limits to ILP HW 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44B1-01C6-46FE-9A5A-EFE2576CED3E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F51CFB-C7BD-49D3-9AB8-0929619BACC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Upper Limit to ILP: Ideal Machine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igure 3.1)</a:t>
            </a:r>
            <a:endParaRPr b="1" lang="en-US" sz="1600" spc="-1" strike="noStrike">
              <a:solidFill>
                <a:srgbClr val="0332b7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359000"/>
            <a:ext cx="8331120" cy="5499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213280" y="2424240"/>
            <a:ext cx="2334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er: 18 - 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33480" y="1871640"/>
            <a:ext cx="1875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P: 75 - 1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6200000">
            <a:off x="-1693800" y="3641400"/>
            <a:ext cx="4494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tructions Per C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D059-6133-4A39-AE5D-D8C8EDA4A5C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D6EF19-C657-47BF-8511-02C767428F21}" type="datetime1">
              <a:rPr lang="en-US"/>
              <a:t>07/29/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304920" y="1143000"/>
          <a:ext cx="8229600" cy="5715000"/>
        </p:xfrm>
        <a:graphic>
          <a:graphicData uri="http://schemas.openxmlformats.org/drawingml/2006/table">
            <a:tbl>
              <a:tblPr/>
              <a:tblGrid>
                <a:gridCol w="1779480"/>
                <a:gridCol w="2224080"/>
                <a:gridCol w="1482840"/>
                <a:gridCol w="2743200"/>
              </a:tblGrid>
              <a:tr h="83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Mod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ions Issued per clo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ion Window 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Infinite, 2K, 512, 128, 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aming Regis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 integer +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Fl. P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nch Predi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 to 6% mispredi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ournament Branch Predicto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KI, 32KD, 1.92MB L2, 36 MB L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ory Ali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914400" y="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Limits to ILP HW 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AEBE-45A7-4599-AFEA-5CFDACFB6CCB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498DAD-565A-431B-A7DD-31449152F6B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8T03:17:21Z</dcterms:created>
  <dc:creator> </dc:creator>
  <dc:description/>
  <cp:keywords/>
  <dc:language>en-US</dc:language>
  <cp:lastModifiedBy>EECS</cp:lastModifiedBy>
  <cp:lastPrinted>1998-07-14T21:04:32Z</cp:lastPrinted>
  <dcterms:modified xsi:type="dcterms:W3CDTF">2006-02-14T14:25:54Z</dcterms:modified>
  <cp:revision>84</cp:revision>
  <dc:subject/>
  <dc:title>EECS 252 Graduate Computer Architecture   Lec XX - TOPIC  </dc:title>
</cp:coreProperties>
</file>