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8B9380C-5340-452D-8DD5-CEE10B42B4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47AF48-7DF0-4986-B669-48A02E8A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5493E7B-CB07-454E-9500-B259E3ED79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FE3C613-9D79-48EC-BED0-C19F98DED5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CE2C3D6-8622-40B4-A4D9-5F7E6A71F1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38412A3-9B36-4710-AEB1-36E1A76A2E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F55D087-2D56-46B6-997A-247DCBB4C5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2D305D9-DD08-4C90-AEE6-D30DBFB582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B9ACB97-E145-4A98-B3EB-4007948D28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C10C4BA-B4F7-47FD-B51A-87F6FFF62C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302-997E-4A4A-81FB-AA8DE87D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68A-A7E5-4B39-90F7-4F10092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678-2CF1-471C-92DE-4293DECF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BAE-BE93-41B6-AD32-FCAAD5CB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A82-DB7F-4711-9B20-9DA4E310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5D3-3CF5-4C6F-BBE0-23871C44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289-DF2F-4D1F-926B-0167A18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861-1145-43F7-AA03-010E880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B51-4DF2-4F02-A3C7-D1EFB0E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041-F353-424D-A3CB-B650E46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E92-1264-40E2-9B7E-BC9E4DDC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0C7-0472-49B8-8FB1-E28B49C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741-AADF-4E70-92D8-E7E43B0846CB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9A8-9E77-45E5-9EE8-42971B0570D4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F07-D26F-4FE9-8F75-8C1ED92249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34839-6EA8-4B9F-B9A1-2FA7EE03956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64D-0784-410A-925A-57762E3574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73DA8-2452-4CBF-8774-D7893AED00A4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A39-6EA8-419A-BE2B-50E7E01BFC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5D35B-49AB-4842-B6A4-5CC91F6387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905-8B3D-4689-B8FA-7D7876544A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15FC-E417-4877-A03F-C477EAB64AB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50-7189-461A-9C5D-F4D9F594A5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366B5-CBC3-4A88-BE09-4AC9DC2B4222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9BE-4AD4-4554-9594-7AC14CA404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63764-ACAC-4124-809A-645A5FF33C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91D-6194-4082-A42D-86221AE4D6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EC4F9-866B-49C4-8E47-DB6A259A770F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09C-9BD5-4A6B-9A47-43BD501ECF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ED14-717C-442C-BF94-983E601415F6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C3F-3AD2-4406-A5E3-99D0A2F551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213FB-55AC-4D73-B2FD-7B228DF6CA00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D5E-FB76-433A-8615-2B739D15A2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34D7-9B51-4754-993A-3FBE166EBFA1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02A-CEE3-44D4-AB32-F1A4E8AD1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92146-9712-42F3-A953-B71E7C82FF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364-942D-4162-8303-DE8ED7C7B5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FBB5A-6F78-419D-A495-6D24BA5E27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F43-F37F-41C0-A9DC-A0B15D5A1D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6D1E-15E8-48E8-B6CC-41EC7BAC01E9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DD0-2153-4E5A-8315-7EB2AD982F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52AA7-423B-48EA-9BDA-DD7A83FB961B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BD3-B468-4922-85DB-FB07FF3C56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117C1-8847-4E47-A115-D879E5E8DD0F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ACD-BF5B-47B2-9F9A-5260BD2B09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A6BF0-A144-4CDD-BC3C-D90EEDC65B5B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EC2-4E75-4FA0-AE0F-723732885C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2EA1B-EC78-4E07-B633-7CA6AF8034A9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F9A-8813-4BEC-9B77-E94D5BFFA5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4437-4CB6-4C27-A493-CF4B79DFD6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882-1DA7-4CC7-9136-81FBAFD728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8F54F-B9F3-4180-8BD9-1E04A1B41314}" type="datetime1">
              <a:rPr lang="en-US"/>
              <a:t>07/29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4DF-0405-440F-833A-96A2EFA53A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D323A-B758-4175-82D2-6C515FFD714E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66C-7C41-46A7-9593-011FE3F73D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7063-E092-4E31-B36E-D043E7AB05B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B5E-D0F4-43A5-8505-AC9BB41885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FC329-7925-4F39-BFF8-794EE086B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A61-C782-42DD-BE1D-48D20300A5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0ABA-A040-4D51-8353-C06BDCEF6EDD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FD7-5643-4D38-8F28-57933D1E583B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B3375-AADD-418F-93AD-75D9B5931AC5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2D4-5F39-41E4-A721-69258E219F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F25F7-6A43-4963-8E9F-E6DF3F409DD8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7C7-E46B-4437-9708-815BA71A91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8484B-20C6-4308-8883-0D9C5AC79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D51-CB92-412A-B7EC-FA1D5E5A48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C9F0E-AEC9-4005-8BE7-F6732026F0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EE2-6EA7-43A4-9CFD-FD724ABB4D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01B7-08EC-439A-9D67-905983CF3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69D-D98F-49C6-8170-C6A2707843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3F742-A1A5-4903-AD0C-528CB8AE8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AF3-B8A0-4190-BC5C-BF86976A39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82A08-7140-4E25-9FAA-313C6A8C38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D40-0545-47F6-914D-0A485C925BC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9B487-2E5D-437D-85E1-08D530F88535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155-7664-4F6A-AB1C-896BAFD071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09EBB-6D14-48C1-8BA2-E9183CE3310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29C-4208-45FF-8688-9EDB963D0C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5775-F68A-4632-9D71-0C0885F1AFFA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A10-3CA1-43A0-9E6F-E6053E3E53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326D3-CA6C-465B-A9C8-B54104F16905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419-2BB5-4467-B2F5-7FCCF4295AA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D5C36-DD40-4B44-943F-0536FB4832DF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7C3-039C-41E2-83D6-C5345B972E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6D090-D3E7-43EA-B022-3B02F2EE0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108-7994-49FD-9FDF-FD23488A799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135C8-D0A6-4F41-8429-064743365BE1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BDF-E007-4BF6-87BA-AA307700D39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98C4-737C-4A81-A007-FA6BF8521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407-FE24-4D78-AB28-76B8214DBD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7010A-B8E8-42EA-9693-B3694285D71E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577-71AB-45CD-8689-528097D772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B1ACA-063F-499C-ADF3-3E44BD5B5596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5BC-AF18-47F1-B39A-A0DDBBF5AF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B0CE7-63C2-4EE5-8F96-D83FF9835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A29-23C3-4150-8634-AE0DB02153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83398-1E17-4D16-84DD-861087E10633}" type="datetime1">
              <a:rPr lang="en-US"/>
              <a:t>07/29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DC7-AB21-4536-92A9-3434DB6775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732E2-B134-4380-9F57-4CED75E6DBA2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B63-B68E-40A4-998D-C04D67B327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6D072-DB79-45AE-A6CF-7E1FD02C8795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557-847A-40FB-BB51-EE82E890A8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4A87D-ED97-48F0-A77B-0319FD4E54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8D8-FA4D-4622-8A44-B545430A77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C2669-4455-47BB-B43F-58A6EE5AF78A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