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2680" y="2196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t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01680" y="2196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2680" y="871488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b">
            <a:noAutofit/>
          </a:bodyPr>
          <a:lstStyle>
            <a:lvl1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3901680" y="871488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3988711C-780E-4B8A-8B42-773990A14525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93960" y="8713800"/>
            <a:ext cx="1271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2C16AA-B3C3-46BB-A96D-AF05236BB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400040" y="879120"/>
            <a:ext cx="4057920" cy="304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588-D6C5-4F9E-9E1B-84F80145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F52-F5FA-4918-B439-69BDAD58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44C-E93B-427B-908F-71E49E13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2A4-2C39-4903-83CF-F9ED07FF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E36-B266-481C-8164-5A116740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F3CA-8A3A-49A0-940C-03663D72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23B-D0D4-45C8-ACFF-D130DA8A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FD8-EB80-4836-93D9-99F3D4C7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0BB0-89AE-4E21-B2A1-6AEBEFCA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1A0-840B-4F92-B003-39C3C387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906-5685-4DED-B6BF-35C4BBCE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CDD8-DCF7-4651-8BC5-3DE47C70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C884-D332-4200-AF29-3713A202B5B8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7119-1061-4AB7-8799-0F6FE45B2E1F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8 – Instruction Level Parallelism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2944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oper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2000" y="1066320"/>
            <a:ext cx="8982000" cy="43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ds instructions in FIFO order, exactly as issu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structions complete, results placed into R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s operands to other instruction between executi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&amp; commi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re registers like 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 results with ROB buffer number instead of reservation s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mi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s at head of ROB placed in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 result, easy to und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ed instruct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mispredicted branches </a:t>
            </a:r>
            <a:br>
              <a:rPr sz="2400"/>
            </a:b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or on 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029200" y="3352680"/>
            <a:ext cx="3733200" cy="3047760"/>
            <a:chOff x="5029200" y="3352680"/>
            <a:chExt cx="3733200" cy="3047760"/>
          </a:xfrm>
        </p:grpSpPr>
        <p:sp>
          <p:nvSpPr>
            <p:cNvPr id="72" name=""/>
            <p:cNvSpPr/>
            <p:nvPr/>
          </p:nvSpPr>
          <p:spPr>
            <a:xfrm>
              <a:off x="6867000" y="3540600"/>
              <a:ext cx="1497960" cy="857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95400" y="3958920"/>
              <a:ext cx="685440" cy="967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7160" y="5872320"/>
              <a:ext cx="945000" cy="19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20440" y="5872320"/>
              <a:ext cx="945000" cy="19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97960" y="5511600"/>
              <a:ext cx="13078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 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13080" y="5511600"/>
              <a:ext cx="13078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 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29200" y="6364080"/>
              <a:ext cx="3693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33960" y="3363120"/>
              <a:ext cx="0" cy="297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7627320" y="3352680"/>
              <a:ext cx="113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27680" y="3352680"/>
              <a:ext cx="0" cy="18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29840" y="6076440"/>
              <a:ext cx="0" cy="29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75840" y="6107760"/>
              <a:ext cx="0" cy="29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95280" y="4947120"/>
              <a:ext cx="0" cy="5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06800" y="5156280"/>
              <a:ext cx="1757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27680" y="517212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7680" y="4419360"/>
              <a:ext cx="0" cy="71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7529400" y="5156280"/>
              <a:ext cx="1215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97400" y="4552200"/>
              <a:ext cx="1013760" cy="402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Re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714400" y="49752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mi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373640" y="4451400"/>
            <a:ext cx="3200400" cy="6760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E8B-1B89-4AEE-9B6F-A47A9DA5EB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B47FD-07E9-4BB4-9062-9081E1FF29AF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call: 4 Steps of Speculative Tomasulo Algorithm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6080" y="1517760"/>
            <a:ext cx="7823160" cy="434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ss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get instruction from FP Op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reservation station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and reorder buffer sl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ee, issue instr &amp; send operands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&amp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reorder buffer no. for destin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his stage sometimes called “dispatch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operate on operands (E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both operands ready then execute; if not ready, watch CDB for result; when both in reservation station, execute; checks RAW (sometimes called “issue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finish execution (W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on Common Data Bus to all awaiting FUs </a:t>
            </a:r>
            <a:br>
              <a:rPr sz="1800"/>
            </a:b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&amp; reorder buff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mark reservation station avail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mit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—update register with reorder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When instr. at head of reorder buffer &amp; result present, update register with result (or store to memory) and remove instr from reorder buffer. Mispredicted branch flushes reorder buffer (sometimes called “graduation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237-96E7-4BCB-9BED-1B30F16945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90C03-2E6E-4399-BDE1-B6777359A97D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867800" cy="54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age project writeups Due LAST Sun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 Reading Assignment: Chapter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iday Reading Assignment: Dean Tullsen, Susan Eggers, and Hank Levy. “Simultaneous Multithreading: Maximizing OnChip Parallelism.” ISCA 22, June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30 minute discussion after one hour lecture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an Eggers took CS252 here; just elected to National Academy of Engineer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ssumption made about computer organization before add SMT? How compare to Wall’s claims of ILP limits? What changes made to add SMT? What performance advantages claimed? For what workload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248-8487-444F-8C8E-BD7904B78E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6386E-05F1-45D4-BB40-217B1BC8DD25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97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11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05320" y="990720"/>
            <a:ext cx="3886200" cy="1218600"/>
            <a:chOff x="3505320" y="990720"/>
            <a:chExt cx="3886200" cy="1218600"/>
          </a:xfrm>
        </p:grpSpPr>
        <p:sp>
          <p:nvSpPr>
            <p:cNvPr id="125" name=""/>
            <p:cNvSpPr/>
            <p:nvPr/>
          </p:nvSpPr>
          <p:spPr>
            <a:xfrm>
              <a:off x="3505320" y="9907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05320" y="1295280"/>
              <a:ext cx="38088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6200" y="9907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86200" y="1295280"/>
              <a:ext cx="99072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76920" y="9907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6920" y="1295280"/>
              <a:ext cx="213336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0280" y="9907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10280" y="1295280"/>
              <a:ext cx="3812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159984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86200" y="159984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76920" y="159984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10280" y="159984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5320" y="190476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86200" y="190476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190476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10280" y="190476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505320" y="220968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2819520"/>
            <a:ext cx="38088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20968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51460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2819520"/>
            <a:ext cx="9907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220968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251460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2819520"/>
            <a:ext cx="21333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 F0,10(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220968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251460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2819520"/>
            <a:ext cx="38124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164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173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6F2-9C54-47BE-8445-DA9ADA5177A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6011C-4E68-4497-A214-169D8867E716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183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204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211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212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251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260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0F5-D99B-443B-A219-9A011C7DC5A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71FC5-6779-4917-9008-A7F48D748514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270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291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298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299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338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347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B11B-1F80-4998-BC0C-F26C8CBCDAF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D63DC-AA23-4D89-B8F2-7AF565DE0343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357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98440" y="4648320"/>
            <a:ext cx="259092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440" y="4851360"/>
            <a:ext cx="259092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5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8440" y="5054760"/>
            <a:ext cx="259092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37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385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386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425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00800" y="53341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+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00800" y="5587920"/>
            <a:ext cx="1066680" cy="25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55627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+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00800" y="57913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56480" y="5334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A89-FB75-4636-B9BE-682EBB6457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CCA0C-2FB8-473B-A0F8-9B0ECB79E9F1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444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5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465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472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473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c0128"/>
                    </a:solidFill>
                    <a:latin typeface="Courier New"/>
                  </a:rPr>
                  <a:t>ROB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512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00800" y="53341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+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00800" y="5587920"/>
            <a:ext cx="1066680" cy="25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00800" y="55627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+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00800" y="57913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756480" y="5334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D36-4488-4510-83D4-CEC7B013586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56148-0048-4183-9956-57CF8237506B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531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54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555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556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595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604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M[10],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C6C1-DF05-47A2-A986-C16AC6A23C5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C7A80-8F53-4662-A672-6059D69BD987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618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639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646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647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&lt;val2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686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695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E1A-4517-49B4-A221-9634BA8BE5A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10E4E-3C44-4416-AF76-661E43C91E64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 #1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rage Implicit Parallelism for Performance: Instruction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p unrolling by compiler to increase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prediction to increase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HW exploiting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 when can’t know dependence at compil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ide L1 cache mi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for one machine runs well on an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99B1-AC27-43EA-8340-C2C2805279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99E1D-0023-48F6-86FB-40E8BE0179BB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"/>
          <p:cNvGrpSpPr/>
          <p:nvPr/>
        </p:nvGrpSpPr>
        <p:grpSpPr>
          <a:xfrm>
            <a:off x="3505320" y="990720"/>
            <a:ext cx="3886200" cy="1218600"/>
            <a:chOff x="3505320" y="990720"/>
            <a:chExt cx="3886200" cy="1218600"/>
          </a:xfrm>
        </p:grpSpPr>
        <p:sp>
          <p:nvSpPr>
            <p:cNvPr id="705" name=""/>
            <p:cNvSpPr/>
            <p:nvPr/>
          </p:nvSpPr>
          <p:spPr>
            <a:xfrm>
              <a:off x="3505320" y="9907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05320" y="1295280"/>
              <a:ext cx="38088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86200" y="9907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[1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86200" y="1295280"/>
              <a:ext cx="99072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val2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76920" y="9907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T 0(R3),F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6920" y="1295280"/>
              <a:ext cx="213336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0,F4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10280" y="9907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010280" y="1295280"/>
              <a:ext cx="3812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505320" y="159984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86200" y="159984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[1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6920" y="159984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4,0(R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10280" y="159984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05320" y="190476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86200" y="190476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76920" y="190476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NE F2,&lt;…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10280" y="190476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722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743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05320" y="220968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05320" y="251460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505320" y="2819520"/>
            <a:ext cx="38088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86200" y="220968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51460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86200" y="2819520"/>
            <a:ext cx="9907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220968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D F2,F10,F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76920" y="251460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D F10,F4,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76920" y="2819520"/>
            <a:ext cx="21333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 F0,10(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010280" y="220968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251460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010280" y="2819520"/>
            <a:ext cx="38124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772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781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4680" y="1536840"/>
            <a:ext cx="7767720" cy="4025880"/>
            <a:chOff x="4680" y="1536840"/>
            <a:chExt cx="7767720" cy="4025880"/>
          </a:xfrm>
        </p:grpSpPr>
        <p:sp>
          <p:nvSpPr>
            <p:cNvPr id="791" name=""/>
            <p:cNvSpPr/>
            <p:nvPr/>
          </p:nvSpPr>
          <p:spPr>
            <a:xfrm>
              <a:off x="6324480" y="3200400"/>
              <a:ext cx="1447920" cy="2362320"/>
            </a:xfrm>
            <a:prstGeom prst="ellipse">
              <a:avLst/>
            </a:prstGeom>
            <a:noFill/>
            <a:ln w="7632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80" y="2741760"/>
              <a:ext cx="332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18ffd"/>
                  </a:solidFill>
                  <a:latin typeface="Comic Sans MS"/>
                </a:rPr>
                <a:t>What abou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18ffd"/>
                  </a:solidFill>
                  <a:latin typeface="Comic Sans MS"/>
                </a:rPr>
                <a:t>hazards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62320" y="1536840"/>
              <a:ext cx="4038480" cy="2120760"/>
            </a:xfrm>
            <a:custGeom>
              <a:avLst/>
              <a:gdLst/>
              <a:ahLst/>
              <a:rect l="l" t="t" r="r" b="b"/>
              <a:pathLst>
                <a:path w="2544" h="1336">
                  <a:moveTo>
                    <a:pt x="0" y="808"/>
                  </a:moveTo>
                  <a:cubicBezTo>
                    <a:pt x="316" y="444"/>
                    <a:pt x="632" y="80"/>
                    <a:pt x="960" y="40"/>
                  </a:cubicBezTo>
                  <a:cubicBezTo>
                    <a:pt x="1288" y="0"/>
                    <a:pt x="1704" y="352"/>
                    <a:pt x="1968" y="568"/>
                  </a:cubicBezTo>
                  <a:cubicBezTo>
                    <a:pt x="2232" y="784"/>
                    <a:pt x="2388" y="1060"/>
                    <a:pt x="2544" y="1336"/>
                  </a:cubicBezTo>
                </a:path>
              </a:pathLst>
            </a:custGeom>
            <a:noFill/>
            <a:ln w="76320">
              <a:solidFill>
                <a:srgbClr val="618ff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17E5-932C-4609-ABA6-066C6ABC5C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635C9-3831-446C-8F30-7A2E2589101C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voiding Memory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W and WAR hazards through memory are eliminated with speculation because actual updating of memory occurs in order, when a store is at head of the ROB, and hence, no earlier loads or stores can still be pend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W hazards through memory are maintained by two restriction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owing a load to initiate the second step of its execution if any active ROB entry occupied by a store has a Destination field that matches the value of the A field of the load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ing the program order for the computation of an effective address of a load with respect to all earlier sto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restrictions ensure that any load that accesses a memory location written to by an earlier store cannot perform the memory access until the store has written th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22C-376D-4C4B-A371-BCDE2520132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D6912-A15A-4A54-9006-7A876632D6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ceptions and Interrup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360/91 invented “imprecise interrupt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stopped at this PC; its likely close to this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o popular with programm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, what about Virtual Memory? (Not in IBM 36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 for both precise interrupts/exceptions and speculation: in-order completion and in-order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speculate and are wrong, need to back up and restart execution to point at which we predicted incorrec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exactly same as need to do with precise 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re handled by not recognizing the exception until instruction that caused it is ready to commit in R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peculated instruction raises an exception, the exception is recorded in the RO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why reorder buffers in all new 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D0C-2C04-4ED4-A9ED-35FB147C723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12D73-C71B-4F4F-97C4-8392B4E508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Getting CPI below 1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647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 if issue only 1 instruction every clock cyc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-issue processors come in 3 flavo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cally-scheduled superscalar processor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ally-scheduled superscalar processors, a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LIW (very long instruction word)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types of superscalar processors issue varying numbers of instructions per cloc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in-order execution if they are statically scheduled, 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-of-order execution if they are dynamically schedul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IW processors, in contrast, issue a fixed number of instructions formatted either as one large instruction or as a fixed instruction packet with the parallelism among instructions explicitly indicated by the instruction (Intel/HP Itaniu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C49-9CBE-452B-8C37-63F9DB7EC6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49C38-127C-4735-BCE4-11DC7FFD9A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LIW: Very Large Instruction Word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“instruction” has explicit coding for multiple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IA-64, grouping called a “packe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ransmeta, grouping called a “molecule” (with “atoms” as op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 instruction space for simple de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ong instruction word has room for many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definition, all the operations the compiler puts in the long instruction word are independent =&gt; execute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2 integer operations, 2 FP ops, 2 Memory refs, 1 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to 24 bits per field =&gt; 7*16 or 112 bits to 7*24 or 168 bits w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compiling technique that schedules across several bra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6CCD-7152-4841-B393-04067265D54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7F33D-56C1-4ABE-A0C8-28639ACFE2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call: Unrolled Loop that Minimizes Stalls for Scala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73200" y="1143000"/>
            <a:ext cx="845820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09840" y="1825560"/>
            <a:ext cx="66657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,0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6,-8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0,-16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4,-24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8,F6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2,F1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6,F14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(R1),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8(R1),F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6(R1),F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SUBU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1,R1,#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NEZ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1,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ae00"/>
                </a:solidFill>
                <a:latin typeface="Courier New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1),F1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ae00"/>
                </a:solidFill>
                <a:latin typeface="Courier New"/>
              </a:rPr>
              <a:t>; 8-32 = -2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 clock cycles, or 3.5 per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24600" y="1882800"/>
            <a:ext cx="2593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.D to ADD.D: 1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.D to S.D: 2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998-AEF8-4307-9899-7187F60DE82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C53B6-6740-4BC1-BC7A-534F2BFBB4A8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oop Unrolling in VLI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41000" y="1572840"/>
            <a:ext cx="855036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. op/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ference 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ferenc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eration 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op. 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0,0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6,-8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0,-16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4,-24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8,-32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22,-40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4,F0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8,F6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26,-48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12,F10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16,F14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0,F18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4,F22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0(R1),F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8(R1),F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8,F26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16(R1),F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24(R1),F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32(R1),F2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40(R1),F2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SUBUI  R1,R1,#4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0(R1),F2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NEZ R1,LOO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nrolled 7 times to avoid del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7 results in 9 clocks, or 1.3 clocks per iteration (1.8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verage: 2.5 ops per clock, 50%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eed more registers in VLIW (15 vs. 6 in S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90720" y="2438280"/>
            <a:ext cx="3809880" cy="381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682640" y="3048120"/>
            <a:ext cx="2965680" cy="6793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8600" y="21337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8655-E825-4759-9F73-9A08FAE25CB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07F3F-0297-4AC8-9D2B-A49AE9E67D2A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1st Generation VLI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 in code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ng enough operations in a straight-line code fragment requires ambitiously unrolling loo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ever VLIW instructions are not full, unused functional units translate to wasted bits in instruction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d in lock-step; no hazard detection H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tall in any functional unit pipeline caused entire processor to stall, since all functional units must be kept synchroniz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might prediction function units, but caches hard to predi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ry code compati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e VLIW =&gt; different numbers of functional units and unit latencies require different versions of th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9D5-60BE-406B-B9B7-17AC5FAB6EE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AA208-D42A-44A2-AFA5-85443C8DC88C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el/HP IA-64 “Explicitly Parallel Instruction Computer (EPIC)”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040" y="1143000"/>
            <a:ext cx="8705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A-6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nstruction set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 64-bit integer regs + 128 82-bit floating point re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eparate register files per functional unit as in old VLI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hecks dependenci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terlocks =&gt; binary compatibility over ti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ated execution (select 1 out of 64 1-bit flags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40% fewer mispredic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tanium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s first implementation (200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parallel and deeply pipelined hardware at 800Mh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wide, 10-stage pipeline at 800Mhz on 0.18 µ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tanium 2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ame of 2nd implementation (200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wide,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stage pipeline at 1666Mhz on 0.13 µ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s: 32 KB I, 32 KB D, 128 KB L2I, 128 KB L2D, 9216 KB L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C94-4651-46B9-AE11-93E96B4A91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E4C62-BD3E-4BE1-A49C-B2122A898EB4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Increasing Instruction Fetch Bandwidth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04920" y="1193760"/>
            <a:ext cx="304776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s next instruct address, sends it out </a:t>
            </a:r>
            <a:r>
              <a:rPr b="1" i="1" lang="en-US" sz="2400" spc="-1" strike="noStrike">
                <a:solidFill>
                  <a:srgbClr val="0332b7"/>
                </a:solidFill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coding instruct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 of branch sent to B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match is found, Predicted PC is retur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branch predicted taken, instruction fetch continues at Predicted 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5835600" cy="49420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3962520" y="129528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Target Buffer (BT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9C9-A1C4-4803-9779-16EF994922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F1481-F17B-44F1-9E4C-1AF4AE6541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 #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rvations stations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nam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larger set of registers + buffering source 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s registers as bottlene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s WAR, WAW haz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loop unrolling in H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imited to basic block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teger units gets ahead, beyond branch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s cache misses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ing Contrib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ena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/store disambig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0/91 descendants are Pentium 4, Power 5, AMD Athlon/Opteron, 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8AA-24A4-4BC1-8065-4A4561A75A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D9124-E1C6-4E8C-A553-927D04B43063}" type="datetime1">
              <a:rPr lang="en-US"/>
              <a:t>07/29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F BW: Return Address Predicto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37656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 buffer of return addresses acts as a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s most recent return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ush a return addres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p an address off stack &amp; predict as new 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3962520" y="2028960"/>
          <a:ext cx="5709960" cy="391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028960"/>
                    <a:ext cx="5709960" cy="39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3F98-C01B-4135-9E39-2EDDA605ACD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BFF58-4032-4BB9-8033-47B118F71B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Instruction Fetch Bandwidt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8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tegrated branch predi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ranch predictor is part of instruction fetch unit and is constantly predicting bran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prefe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uction fetch units prefetch to deliver multiple instruct. per clock, integrating it with branch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memory access and buffe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tching multiple instructions per cyc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require accessing multiple cache blocks (prefetch to hide cost of crossing cache block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buffering, acting as on-demand unit to provide instructions to issue stage as needed and in quantity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1C6-D14B-4290-A8B3-F2C2AF2040B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9C1F8-7215-44CA-AD72-3616E3A718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33012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: Register Renaming vs. ROB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6840" y="1193760"/>
            <a:ext cx="83818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 to ROB is a larger physical set of registers combined with register rena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ed registers replace function of both ROB and reservation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 issue maps names of architectural registers to physical register numbers in extended register 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issue, allocates a new unused register for the destin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which avoids WAW and WAR hazar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ulation recovery easy because a physical register holding an instruction destination does not become the architectural register until the instruction comm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Out-of-Order processors today use extended registers with rena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E62-1DBC-413D-A6A4-98B6F1CBE41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9C9DE-95ED-4B5C-AD3A-32D49A65C9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alue Predic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120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mpts to predict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duced by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Loads a value that changes infrequ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prediction is useful only if it significantly increases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f research has been on loads; so-so results, no processor uses valu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ed topic is </a:t>
            </a:r>
            <a:r>
              <a:rPr b="1" i="1" lang="en-US" sz="2400" spc="-1" strike="noStrike">
                <a:solidFill>
                  <a:srgbClr val="0332b7"/>
                </a:solidFill>
                <a:latin typeface="Arial"/>
              </a:rPr>
              <a:t>address aliasing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W for load and store or WAW for 2 st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alias prediction is both more stable and simpler since need not actually predict the address values, only whether such values confli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been used by a few 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890-7A64-488B-90D7-14AA60C6F1D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8C4FC-6E0E-42D2-9442-7684B77631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(Mis) Speculation on Pentium 4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689040" y="1152360"/>
          <a:ext cx="764676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152360"/>
                    <a:ext cx="764676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>
            <a:off x="2819520" y="6095880"/>
            <a:ext cx="1752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866200" y="60958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10080" y="60199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05120" y="60199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8080" y="990720"/>
            <a:ext cx="7912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of micro-ops not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15E-2226-4B02-94CF-6195AA478FF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A2421-3B34-4E07-B59B-62604AE45E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spectiv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1406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in multiple-issue because wanted to improve performance without affecting uniprocessor programm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ing advantage of ILP is conceptually simple, but design problems are amazingly complex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ve in ideas, just faster clock and big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s of last 5 years (Pentium 4, IBM Power 5, AMD Opteron) have the same basic structure and similar sustained issue rates (3 to 4 instructions per clock) as the 1st dynamically scheduled, multiple-issue processors announced in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 10 to 20X faster, caches 4 to 8X bigger, 2 to 4X as many renaming registers, and 2X as many load-store un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formance 8 to 16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k v. delivered performance gap incre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E5A4-D935-45D0-9C65-D2171E06184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534C5-7A9C-4DF1-ACD2-2063A77C74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s and Exceptions either interrupt the current instruction or happen between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y large quantities of state must be saved before interrup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s with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precise excep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vide one single point in the program to restart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structions before that point have comple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nstructions after or including that point have complet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echniques exist for precise exceptions even in the face of out-of-order executi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enabling factor for out-of-order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1C6F-A2C9-4003-A377-001F0EF83DB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6B9EC-3119-45B6-9DB6-1A753A044F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743040" y="1390320"/>
            <a:ext cx="7867440" cy="50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Page project writeups Due this Sun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s working on the RAMP project should go to 253 Cory or 387 Soda to update their cardkey access for 125 C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MP Blue meeting today at 3:30 in 6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loor Soda Alc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ing Assignment: Chapter 2 today, Chapter 3 following next Wednes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30 minute discussion after one hour lecture (similar to ISA discuss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per: “Limits of instruction-level parallelism,” by David Wall, Nov 199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 pages 1-35 (&gt; ½ of paper is figu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your comments, rank in order of importance alias analysis, branch prediction, jump prediction, register renaming, and speculative exe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your comments, mention what are limits to this study of limits of ILP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139-B71A-4CC8-9728-338B0E6854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91819-909F-4FBF-BFF8-02191165AF2E}" type="datetime1">
              <a:rPr lang="en-US"/>
              <a:t>07/29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of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: “Limits of instruction-level parallelism,” by David Wall, Nov 199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aper is a revision; did he think first version painted a pessimistic or optimistic picture of I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defaults in number of instructions issued per clock cycle, instruction window size, execution latency, number of execution uni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id loop unrolling change result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id realistic functional unit execution latencies change result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43E-EA30-41E4-BEB4-B6A8CCA0963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9C04D-7005-4293-9D28-59E1249C7F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of ILP [2/2]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in order of importance alias analysis, branch prediction, jump prediction, register renaming, and speculative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limits to this study of limits of I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his cautionary note at the end of the memo about resul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 was written in 1993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deas still too optimistic in 2006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deas seem tame in 2006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you learn much from this pap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3D4-BDD9-4B88-9D38-72F15BEAC7C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80ADE-160C-4A81-991A-7C03842B79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ve Tomasulo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Ali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I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instruction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 Renaming vs. Reorder B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 about paper “Limits of ILP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100-71C0-45BC-8174-F8CA56C4C2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7CA0D-206F-4139-BD43-63DE45DD59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 to greater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er ILP: Overcome control dependence by hardware speculating on outcome of branches and executing program as if guesses were corr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Speculatio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etch, issue, and execute instruc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if branch predictions were always correc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Dynamic schedu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etches and issu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str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ly a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data flow execution mod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Operations execute as soon as their operands are avail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041E-8A4B-43C7-8CC8-AC8D034D6F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F0E07-351F-48BB-95A0-F1A3603E44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 to greater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components of HW-based specul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branch prediction to choose which instructions to execu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on to allow execution of instructions before control dependences are resolv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ability to undo effects of incorrectly speculated seque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scheduling to deal with scheduling of different combinations of basic block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B00-1662-413E-B87B-4433063605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F4E71-4F7A-4F38-9E64-F5F5B3C3B3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dding Speculation to Tomasulo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5312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separate execution from allowing instruction to finish or “commit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dditional step called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n instruction is no longer speculative, allow it to update the register file or mem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additional set of buffers to hold results of instructions that have finished execution but have not com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reorder buff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RO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also used to pass results among instructions that may be specul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58E-ABED-4C98-92C6-B4669D1CF5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8E433-3F79-4C94-9D8A-840A0E928B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(ROB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omasulo’s algorithm, once an instruction writes its result, any subsequently issued instructions will find result in the register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speculation, the register file is not updated until the instruction commi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e know definitively that the instruction should execu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ROB supplies operands in interval between completion of instruction execution and instruction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 is a source of operands for instructions, just as reservation stations (RS) provide operands in Tomasulo’s algorith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 extends architectured registers like 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278-A847-4600-A6EA-4ABCCFDE17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AB808-45C4-476D-8615-9666751046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Ent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entry in the ROB contains four field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 typ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ranch (has no destination result), a store (has a memory address destination), or a register operation (ALU operation or load, which has register destin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number (for loads and ALU operations) o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ddress (for store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he instruction result should be 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instruction result until the instruction comm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s that instruction has completed execution, and the value is rea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881-22E2-42B0-8C15-010DA488A0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8E9D8-CEB2-4902-A80D-077933CCF9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3:17:21Z</dcterms:created>
  <dc:creator> </dc:creator>
  <dc:description/>
  <cp:keywords/>
  <dc:language>en-US</dc:language>
  <cp:lastModifiedBy>EECS</cp:lastModifiedBy>
  <cp:lastPrinted>1998-07-14T21:04:32Z</cp:lastPrinted>
  <dcterms:modified xsi:type="dcterms:W3CDTF">2006-02-12T22:43:40Z</dcterms:modified>
  <cp:revision>60</cp:revision>
  <dc:subject/>
  <dc:title>EECS 252 Graduate Computer Architecture   Lec XX - TOPIC  </dc:title>
</cp:coreProperties>
</file>