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4.wmf" ContentType="image/x-wmf"/>
  <Override PartName="/ppt/media/image1.png" ContentType="image/png"/>
  <Override PartName="/ppt/media/image3.jpeg" ContentType="image/jpeg"/>
  <Override PartName="/ppt/media/image2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9.jpeg" ContentType="image/jpeg"/>
  <Override PartName="/ppt/media/image10.jpeg" ContentType="image/jpeg"/>
  <Override PartName="/ppt/media/image13.wmf" ContentType="image/x-wm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2376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16232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lstStyle>
            <a:lvl1pPr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lstStyle>
            <a:lvl1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B2EC795F-355B-4A8A-8004-ED88850E1AC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975400" y="9148680"/>
            <a:ext cx="1366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age </a:t>
            </a:r>
            <a:fld id="{6CD13304-3B42-48CD-A723-2E8939C22D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Img"/>
          </p:nvPr>
        </p:nvSpPr>
        <p:spPr>
          <a:xfrm>
            <a:off x="1527120" y="923400"/>
            <a:ext cx="4260960" cy="3195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F17B1613-3FE5-434E-961D-26315639DBF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-2376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16232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73080" y="4560480"/>
            <a:ext cx="5369040" cy="43196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M: 120X BW, 4X lat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g between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4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int is because a lot of time between 32b Fast page mode and 64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6F485182-846A-4D37-9D20-1D190E9A078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-2376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16232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73080" y="4560480"/>
            <a:ext cx="5369040" cy="43196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: 1000X BW, 13X Lat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88F48FF5-AC30-4BA0-B413-6862D8E12EC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-2376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16232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73080" y="4560480"/>
            <a:ext cx="5369040" cy="43196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or: 2250X, 22X Lat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1339560" y="4560480"/>
            <a:ext cx="4560840" cy="43210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is for the 3-min class administrative mat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we update Handout #1 so it is consistent with this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3D112FCC-8F77-4CF6-9605-888411C5A91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-2376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16232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73080" y="4560480"/>
            <a:ext cx="5369040" cy="43196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k: 33X BW, 6X lat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6E07-F9C5-4765-B793-143350B96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98040" y="3767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ED59-29CD-45AE-A162-97A6429DF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536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F5CC-BC6C-467D-A7FD-EA04BD8AA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616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9392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9804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616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9392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5C1A-73D1-4EF6-82AE-45A19C6D2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1BB3-9C54-440E-8B53-9AE418FBB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380A-C4CE-432A-9865-169134BC7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05B3-20AA-414F-8332-93783634E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5C3D-B38F-45E5-9AEB-BA7BEED8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30120"/>
            <a:ext cx="729288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70C1-DA4C-4EF4-96C8-6B978C580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0EDC-E25E-4D53-9625-444C6E17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536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B3C8-97E1-41D2-B2A2-DB8A4DCD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97FB-9629-4101-8606-86322D98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426360"/>
            <a:ext cx="1905120" cy="2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ae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7D0FD-7967-4181-8E4E-C319748A5F28}" type="datetime">
              <a:rPr b="1" lang="en-US" sz="1400" spc="-1" strike="noStrike">
                <a:solidFill>
                  <a:srgbClr val="00ae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426360"/>
            <a:ext cx="2895840" cy="2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114ffb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4ff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413400"/>
            <a:ext cx="1905120" cy="29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ae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98B19-D6C9-4DCA-AC04-D74DAB9BDC1C}" type="slidenum">
              <a:rPr b="1" lang="en-US" sz="1400" spc="-1" strike="noStrike">
                <a:solidFill>
                  <a:srgbClr val="00ae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93720" y="1041480"/>
            <a:ext cx="7778880" cy="0"/>
          </a:xfrm>
          <a:prstGeom prst="line">
            <a:avLst/>
          </a:prstGeom>
          <a:ln w="47520">
            <a:solidFill>
              <a:srgbClr val="fbb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rcRect l="0" t="0" r="0" b="22222"/>
          <a:stretch/>
        </p:blipFill>
        <p:spPr>
          <a:xfrm>
            <a:off x="8404200" y="0"/>
            <a:ext cx="739800" cy="62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898640"/>
            <a:ext cx="7753320" cy="166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ECS 252 Graduate Computer Architectur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 Lec 2 - Introduction </a:t>
            </a:r>
            <a:br>
              <a:rPr sz="3200"/>
            </a:b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171080" y="4289400"/>
            <a:ext cx="69008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vid Patters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ical Engineering and Computer Sci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versity of California, Berkele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eecs.berkeley.edu/~pattrs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-inst.eecs.berkeley.edu/~cs25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93760" y="312480"/>
            <a:ext cx="7959600" cy="53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Latency Lags Bandwidth (last ~20 years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191120" y="1044720"/>
            <a:ext cx="4952880" cy="551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erformance Milesto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  <a:ea typeface="Times New Roman"/>
              </a:rPr>
              <a:t>Memory Modu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16bit plain DRAM, Page Mode DRAM, 32b, 64b, SDRAM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DR SDRAM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4x,120x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  <a:ea typeface="Times New Roman"/>
              </a:rPr>
              <a:t>Disk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  <a:ea typeface="Times New Roman"/>
              </a:rPr>
              <a:t>3600, 5400, 7200, 10000, 15000 RPM </a:t>
            </a:r>
            <a:r>
              <a:rPr b="1" lang="en-US" sz="1200" spc="-1" strike="noStrike">
                <a:solidFill>
                  <a:srgbClr val="808080"/>
                </a:solidFill>
                <a:latin typeface="Arial"/>
                <a:ea typeface="Times New Roman"/>
              </a:rPr>
              <a:t>(8x, 143x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5120" y="5638680"/>
            <a:ext cx="3522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Times New Roman"/>
              </a:rPr>
              <a:t>(latency = simple operation w/o conten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Times New Roman"/>
              </a:rPr>
              <a:t>BW = best-ca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-423720" y="816120"/>
          <a:ext cx="4832280" cy="5846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23720" y="816120"/>
                    <a:ext cx="4832280" cy="584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1C8E-7970-4EED-8C08-C7488795B44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71F98E-A2E2-490F-846B-B8BA305ADF6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200" y="75960"/>
            <a:ext cx="8856720" cy="53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LANs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aic (Nostalgic)v. Modern (Newfangled)</a:t>
            </a:r>
            <a:endParaRPr b="1" lang="en-US" sz="24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733920" cy="3381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thernet 802.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ear of Standard: 197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 Mbits/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k spee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ncy: 3000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ed med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xial c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143000"/>
            <a:ext cx="441972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thernet 802.3a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ear of Standard: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,000 Mbits/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000X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k spe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ncy: 190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5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itched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tegory 5 copper w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-1440" y="4299120"/>
            <a:ext cx="1838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axial Cab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1400" y="5359320"/>
            <a:ext cx="2227320" cy="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43040" y="5135400"/>
            <a:ext cx="163800" cy="387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186920" y="5135400"/>
            <a:ext cx="1443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1186920" y="5560920"/>
            <a:ext cx="1443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5045040"/>
            <a:ext cx="1508040" cy="52560"/>
          </a:xfrm>
          <a:prstGeom prst="rect">
            <a:avLst/>
          </a:prstGeom>
          <a:solidFill>
            <a:srgbClr val="fc012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4360" y="5560920"/>
            <a:ext cx="1508040" cy="50760"/>
          </a:xfrm>
          <a:prstGeom prst="rect">
            <a:avLst/>
          </a:prstGeom>
          <a:solidFill>
            <a:srgbClr val="fc012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4360" y="4865760"/>
            <a:ext cx="1082520" cy="163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5627520"/>
            <a:ext cx="1082520" cy="163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889360" y="5290920"/>
            <a:ext cx="345960" cy="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5149800"/>
            <a:ext cx="1585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per 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63880" y="4903920"/>
            <a:ext cx="960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ul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41240" y="4635360"/>
            <a:ext cx="2347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aided outer condu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620800" y="5032440"/>
            <a:ext cx="357480" cy="20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104920" y="4865760"/>
            <a:ext cx="435240" cy="17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1701720" y="4518000"/>
            <a:ext cx="425520" cy="357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199600" y="4389480"/>
            <a:ext cx="1650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stic Cov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876920" y="4137120"/>
            <a:ext cx="4267080" cy="1752840"/>
            <a:chOff x="4876920" y="4137120"/>
            <a:chExt cx="4267080" cy="1752840"/>
          </a:xfrm>
        </p:grpSpPr>
        <p:sp>
          <p:nvSpPr>
            <p:cNvPr id="105" name=""/>
            <p:cNvSpPr/>
            <p:nvPr/>
          </p:nvSpPr>
          <p:spPr>
            <a:xfrm>
              <a:off x="5252400" y="5191200"/>
              <a:ext cx="36180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pper, 1mm thick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wisted to avoid antenna eff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5184360" y="4429080"/>
              <a:ext cx="2864160" cy="679680"/>
              <a:chOff x="5184360" y="4429080"/>
              <a:chExt cx="2864160" cy="679680"/>
            </a:xfrm>
          </p:grpSpPr>
          <p:sp>
            <p:nvSpPr>
              <p:cNvPr id="107" name=""/>
              <p:cNvSpPr/>
              <p:nvPr/>
            </p:nvSpPr>
            <p:spPr>
              <a:xfrm>
                <a:off x="5184360" y="4429080"/>
                <a:ext cx="144180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Twisted Pair: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049800" y="4840560"/>
                <a:ext cx="309600" cy="24264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V="1">
                <a:off x="6049800" y="4815000"/>
                <a:ext cx="309600" cy="29376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384960" y="4818240"/>
                <a:ext cx="141120" cy="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384960" y="5086440"/>
                <a:ext cx="141120" cy="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541920" y="4840560"/>
                <a:ext cx="333720" cy="24264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6541920" y="4815000"/>
                <a:ext cx="333720" cy="29376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878520" y="4818240"/>
                <a:ext cx="162000" cy="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878520" y="5086440"/>
                <a:ext cx="162000" cy="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056360" y="4840560"/>
                <a:ext cx="311400" cy="24264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7056360" y="4815000"/>
                <a:ext cx="311400" cy="29376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92960" y="4818240"/>
                <a:ext cx="163440" cy="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392960" y="5086440"/>
                <a:ext cx="163440" cy="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572240" y="4840560"/>
                <a:ext cx="311400" cy="24264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7572240" y="4815000"/>
                <a:ext cx="311400" cy="29376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08840" y="4818240"/>
                <a:ext cx="139680" cy="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908840" y="5086440"/>
                <a:ext cx="139680" cy="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876920" y="4137120"/>
              <a:ext cx="426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"Cat 5" is 4 twisted pairs in bund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184F-E6E8-4B96-8726-A43EF3F6DB4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58D824-9C9B-4416-A466-23D1CA7ED7B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94840" y="286920"/>
            <a:ext cx="7959960" cy="53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Latency Lags Bandwidth (last ~20 years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191120" y="1131480"/>
            <a:ext cx="4952880" cy="603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erformance Milesto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  <a:ea typeface="Times New Roman"/>
              </a:rPr>
              <a:t>Etherne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10Mb, 100Mb, 1000Mb, 10000 Mb/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16x,1000x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  <a:ea typeface="Times New Roman"/>
              </a:rPr>
              <a:t>Memory Modul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  <a:ea typeface="Times New Roman"/>
              </a:rPr>
              <a:t>16bit plain DRAM, Page Mode DRAM, 32b, 64b, SDRAM, </a:t>
            </a:r>
            <a:br>
              <a:rPr sz="2400"/>
            </a:br>
            <a:r>
              <a:rPr b="1" lang="en-US" sz="2400" spc="-1" strike="noStrike">
                <a:solidFill>
                  <a:srgbClr val="808080"/>
                </a:solidFill>
                <a:latin typeface="Arial"/>
                <a:ea typeface="Times New Roman"/>
              </a:rPr>
              <a:t>DDR SDRAM </a:t>
            </a:r>
            <a:r>
              <a:rPr b="1" lang="en-US" sz="1200" spc="-1" strike="noStrike">
                <a:solidFill>
                  <a:srgbClr val="808080"/>
                </a:solidFill>
                <a:latin typeface="Arial"/>
                <a:ea typeface="Times New Roman"/>
              </a:rPr>
              <a:t>(4x,120x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  <a:ea typeface="Times New Roman"/>
              </a:rPr>
              <a:t>Disk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  <a:ea typeface="Times New Roman"/>
              </a:rPr>
              <a:t>3600, 5400, 7200, 10000, 15000 RPM </a:t>
            </a:r>
            <a:r>
              <a:rPr b="1" lang="en-US" sz="1200" spc="-1" strike="noStrike">
                <a:solidFill>
                  <a:srgbClr val="808080"/>
                </a:solidFill>
                <a:latin typeface="Arial"/>
                <a:ea typeface="Times New Roman"/>
              </a:rPr>
              <a:t>(8x, 143x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44280" y="5824440"/>
            <a:ext cx="3522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Times New Roman"/>
              </a:rPr>
              <a:t>(latency = simple operation w/o conten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Times New Roman"/>
              </a:rPr>
              <a:t>BW = best-cas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-369720" y="814320"/>
          <a:ext cx="4690800" cy="567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69720" y="814320"/>
                    <a:ext cx="4690800" cy="56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C9FE-E33E-46F9-9883-26CBF3138B1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24C4A1-C56D-4100-8649-893A7F55CB5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45600" y="391680"/>
            <a:ext cx="9037800" cy="53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CPUs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aic (Nostalgic) v. Modern (Newfangled)</a:t>
            </a:r>
            <a:endParaRPr b="1" lang="en-US" sz="24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4495680" cy="449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8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tel 80286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2.5 MHz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MIPS (peak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ncy 320 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4,000 xtors, 47 m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-bit data bus, 68 pi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icrocode interpreter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parate FPU chi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no caches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343040" y="1045800"/>
            <a:ext cx="4800600" cy="620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001 Intel Pentium 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5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Hz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20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500 MIPS (peak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2250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ncy 15 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20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2,000,000 xtors, 217 m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-bit data bus, 423 pi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-way superscalar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ynamic translate to RISC, Superpipelined (22 stage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-of-Order exec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n-chip 8KB Data caches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96KB Instr. Trace  cache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56KB L2 ca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219320" y="4854600"/>
            <a:ext cx="877680" cy="9144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2525760" y="4435560"/>
            <a:ext cx="1816200" cy="20667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78F1-903E-4AF7-A592-47529E13A39A}" type="slidenum">
              <a:t>1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F0A566-0F7F-4201-BB22-47CD1DFFB59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39760"/>
            <a:ext cx="9574200" cy="58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Latency Lags Bandwidth (last ~20 years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91120" y="1100160"/>
            <a:ext cx="4952880" cy="603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erformance Milesto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Process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‘286, ‘386, ‘486, Pentium, Pentium Pro, Pentium 4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21x,2250x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  <a:ea typeface="Times New Roman"/>
              </a:rPr>
              <a:t>Ethernet: 10Mb, 100Mb, 1000Mb, 10000 Mb/s </a:t>
            </a:r>
            <a:r>
              <a:rPr b="1" lang="en-US" sz="1200" spc="-1" strike="noStrike">
                <a:solidFill>
                  <a:srgbClr val="919191"/>
                </a:solidFill>
                <a:latin typeface="Arial"/>
                <a:ea typeface="Times New Roman"/>
              </a:rPr>
              <a:t>(16x,1000x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  <a:ea typeface="Times New Roman"/>
              </a:rPr>
              <a:t>Memory Module: 16bit plain DRAM, Page Mode DRAM, 32b, 64b, SDRAM, </a:t>
            </a:r>
            <a:br>
              <a:rPr sz="2400"/>
            </a:br>
            <a:r>
              <a:rPr b="1" lang="en-US" sz="2400" spc="-1" strike="noStrike">
                <a:solidFill>
                  <a:srgbClr val="919191"/>
                </a:solidFill>
                <a:latin typeface="Arial"/>
                <a:ea typeface="Times New Roman"/>
              </a:rPr>
              <a:t>DDR SDRAM </a:t>
            </a:r>
            <a:r>
              <a:rPr b="1" lang="en-US" sz="1200" spc="-1" strike="noStrike">
                <a:solidFill>
                  <a:srgbClr val="919191"/>
                </a:solidFill>
                <a:latin typeface="Arial"/>
                <a:ea typeface="Times New Roman"/>
              </a:rPr>
              <a:t>(4x,120x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  <a:ea typeface="Times New Roman"/>
              </a:rPr>
              <a:t>Disk : 3600, 5400, 7200, 10000, 15000 RPM </a:t>
            </a:r>
            <a:r>
              <a:rPr b="1" lang="en-US" sz="1200" spc="-1" strike="noStrike">
                <a:solidFill>
                  <a:srgbClr val="919191"/>
                </a:solidFill>
                <a:latin typeface="Arial"/>
                <a:ea typeface="Times New Roman"/>
              </a:rPr>
              <a:t>(8x, 143x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-154080" y="1052640"/>
          <a:ext cx="4605480" cy="5575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4080" y="1052640"/>
                    <a:ext cx="4605480" cy="557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9" name=""/>
          <p:cNvGrpSpPr/>
          <p:nvPr/>
        </p:nvGrpSpPr>
        <p:grpSpPr>
          <a:xfrm>
            <a:off x="0" y="1469880"/>
            <a:ext cx="3198960" cy="1924200"/>
            <a:chOff x="0" y="1469880"/>
            <a:chExt cx="3198960" cy="1924200"/>
          </a:xfrm>
        </p:grpSpPr>
        <p:sp>
          <p:nvSpPr>
            <p:cNvPr id="140" name=""/>
            <p:cNvSpPr/>
            <p:nvPr/>
          </p:nvSpPr>
          <p:spPr>
            <a:xfrm>
              <a:off x="0" y="1469880"/>
              <a:ext cx="1743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CPU high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Memory low</a:t>
              </a:r>
              <a:br>
                <a:rPr sz="1800"/>
              </a:b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(“Memory Wall”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68280" y="1744560"/>
              <a:ext cx="1930680" cy="314280"/>
            </a:xfrm>
            <a:prstGeom prst="line">
              <a:avLst/>
            </a:prstGeom>
            <a:ln w="5724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390680" y="2071800"/>
              <a:ext cx="841320" cy="1322280"/>
            </a:xfrm>
            <a:prstGeom prst="line">
              <a:avLst/>
            </a:prstGeom>
            <a:ln w="5724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82F0-01BF-493B-8953-255211DA9AC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4BC6F2-E79D-4FA4-A52E-EB3DFC18ABC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19044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Rule of Thumb for Latency Lagging BW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13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In the time that bandwidth doubles, latency improves by no more than a factor of 1.2 to 1.4</a:t>
            </a:r>
            <a:r>
              <a:rPr b="0" lang="en-US" sz="2800" spc="-1" strike="noStrike">
                <a:solidFill>
                  <a:srgbClr val="002b8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nd capacity improves faster than bandwidth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d alternatively: </a:t>
            </a:r>
            <a:br>
              <a:rPr sz="24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Bandwidth improves by more than the square of the improvement in Latenc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98DF-E543-4729-98FE-F8F560879D4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B4B7BF-F3D4-41F1-B250-78B2ED6D4D0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34680" y="533520"/>
            <a:ext cx="7372440" cy="46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S252: Administrivia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488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indent="0">
              <a:lnSpc>
                <a:spcPct val="85000"/>
              </a:lnSpc>
              <a:spcBef>
                <a:spcPts val="2500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ructor:   Prof David Patter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fice: 635 Soda Hall, pattrsn@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fice Hours:  Tue 11 - noon or by app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ontact Cecilia Pracher; cpracher@eec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. A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ana Ganapathi, archanag@ee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/W, 11:00 - 12:30pm    203 McLaughlin (and onlin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uter Architecture: A Quantitative Approach, 4th Edi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ct, 2006), Beta, distributed for free provided report err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 page: http://www.cs/~pattrsn/courses/cs252-S06/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ctures available online &lt;9:00 AM day of le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ki page: ?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32b7"/>
                </a:solidFill>
                <a:latin typeface="Arial"/>
              </a:rPr>
              <a:t>Reading assignment: Pipeline baiscs Appendix A (handout) A for Wed 1/2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0FDF-E2D3-498A-9183-5105768B286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7CDEC4-5564-42BB-8D7C-0818E5935CD6}" type="datetime1">
              <a:rPr lang="en-US"/>
              <a:t>07/29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omputers in the New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l loses market share in own backyard,”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y Tom Krazit, CNET News.com, 1/18/200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l's share of the U.S. retail PC market fell by 11 percentage points, from 64.4 percent in the fourth quarter of 2004 to 53.3 percent. … Current Analysis' market share numbers measure U.S. retail sales only, and therefore exclude figures from Dell, which uses its Web site to sell directly to consumers. …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D chips were found in 52.5 percent of desktop PCs sold in U.S. retail stores during that period.”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ical advantages of AMD Opteron/Athlon vs. Intel Pentium 4 as we’ll see in this cours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9EF1-FE90-4284-B1B6-C8C3C3A1440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0E3A40-4984-4E96-9561-85347AB59B3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66760" y="147240"/>
            <a:ext cx="7045200" cy="53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32b7"/>
                </a:solidFill>
                <a:latin typeface="Arial"/>
                <a:ea typeface="Times New Roman"/>
              </a:rPr>
              <a:t>6 Reasons Latency</a:t>
            </a: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332b7"/>
                </a:solidFill>
                <a:latin typeface="Arial"/>
                <a:ea typeface="Times New Roman"/>
              </a:rPr>
              <a:t>Lags Bandwidth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560" y="1187280"/>
            <a:ext cx="8839080" cy="548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5299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4056120"/>
                <a:tab algn="r" pos="85154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1.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Moore’s Law helps BW more than latency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6404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4056120"/>
                <a:tab algn="r" pos="851544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Faster transistors, more transistors,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more pins help Bandwid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3040" indent="-397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056120"/>
                <a:tab algn="r" pos="851544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PU Transistor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0.130 vs.   42 M xtor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300X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3040" indent="-397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056120"/>
                <a:tab algn="r" pos="851544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RAM Transistor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0.064 vs. 256 M xtor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4000X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3040" indent="-397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056120"/>
                <a:tab algn="r" pos="851544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PU Pin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8  vs. 423 pins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6X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3040" indent="-397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056120"/>
                <a:tab algn="r" pos="851544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RAM Pins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  vs.   66 pins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4X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6404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4056120"/>
                <a:tab algn="r" pos="851544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Smaller, faster transistors but communicate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over (relatively) longer lines: limits latenc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3040" indent="-397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056120"/>
                <a:tab algn="r" pos="851544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ature size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5 to 3 vs. 0.18 micr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8X,17X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3040" indent="-397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056120"/>
                <a:tab algn="r" pos="851544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PU Die Size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5  vs. 204 m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ratio sqr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2X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3040" indent="-397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056120"/>
                <a:tab algn="r" pos="851544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RAM Die Size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7  vs. 217 m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ratio sqr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2X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8DD7-5943-43F3-A799-C8B7B43905B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A509D5-40B9-4AE8-859D-AC884B5927C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11040" y="147240"/>
            <a:ext cx="8756640" cy="53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32b7"/>
                </a:solidFill>
                <a:latin typeface="Arial"/>
                <a:ea typeface="Times New Roman"/>
              </a:rPr>
              <a:t>6 Reasons Latency</a:t>
            </a: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332b7"/>
                </a:solidFill>
                <a:latin typeface="Arial"/>
                <a:ea typeface="Times New Roman"/>
              </a:rPr>
              <a:t>Lags Bandwidth (cont’d)</a:t>
            </a: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046160"/>
            <a:ext cx="8991720" cy="488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2. Distance limits latenc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Size of DRAM bloc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long bit and word line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most of DRAM access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Speed of light and computers on net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&amp; 2. explains linear latency vs. square BW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3.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Bandwidth easier to sell (“bigger=better”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.g., 10 Gbits/s Ethernet (“10 Gig”) vs.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0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c latency Eth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4400 MB/s DIMM (“PC4400”) vs. 50 ns latenc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Even if just marketing, customers now train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Since bandwidth sells, more resources thrown at bandwidth, which further tips the bal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6225-C94D-4C51-A95C-2FD3BF07C57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5A4293-094F-422C-8BE8-10BAB61F72E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view from last lectur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193760"/>
            <a:ext cx="7694640" cy="525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Architecture &gt;&gt; instruction se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Architecture skill sets are differen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 Quantitative principles of desig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ntitative approach to desig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id interfaces that really wo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ology tracking and anticip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S 252 to learn new skills, transition to re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Science at the crossroads from sequential to parallel compu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lvation requires innovation in many fields, including computer archite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MP is interesting and timely CS 252 project opportunity given CS is at the crossroa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4485-E726-4E21-B12E-A50CDDFCA1E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3C3522-0234-4B74-9DFA-935D4E7CE5C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800" y="1174320"/>
            <a:ext cx="8153280" cy="511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4.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Latency helps BW, but not vice vers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Spinning disk faster improves both bandwidth and rotational latenc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600 RPM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15000 RPM = 4.2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verage rotational latency: 8.3 m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.0 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ings being equal, also helps BW by 4.2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Lower DRAM latency 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More access/second (higher bandwidth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Higher linear density helps disk BW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and capacity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, but not disk Latenc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9,550 BPI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533,000 BPI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X in B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-36360" y="151920"/>
            <a:ext cx="8756640" cy="53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32b7"/>
                </a:solidFill>
                <a:latin typeface="Arial"/>
                <a:ea typeface="Times New Roman"/>
              </a:rPr>
              <a:t>6 Reasons Latency</a:t>
            </a: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332b7"/>
                </a:solidFill>
                <a:latin typeface="Arial"/>
                <a:ea typeface="Times New Roman"/>
              </a:rPr>
              <a:t>Lags Bandwidth (cont’d)</a:t>
            </a: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A116-1E63-4ED9-A523-81CBAEF498D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B8FF04-5E78-4446-84B2-9540EB9B1FC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63120" y="1163520"/>
            <a:ext cx="8153640" cy="536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5. Bandwidth hurts latenc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Queues help Bandwidth, hurt Latency (Queuing Theor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Adding chips to widen a memory module increases Bandwidth but higher fan-out on address lines may increase Latency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6. Operating System overhead hurts </a:t>
            </a:r>
            <a:br>
              <a:rPr sz="2800"/>
            </a:b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Latency more than Bandwidt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Long messages amortize overhead;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overhead bigger part of short mess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311040" y="151920"/>
            <a:ext cx="8756640" cy="53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32b7"/>
                </a:solidFill>
                <a:latin typeface="Arial"/>
                <a:ea typeface="Times New Roman"/>
              </a:rPr>
              <a:t>6 Reasons Latency</a:t>
            </a: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332b7"/>
                </a:solidFill>
                <a:latin typeface="Arial"/>
                <a:ea typeface="Times New Roman"/>
              </a:rPr>
              <a:t>Lags Bandwidth (cont’d)</a:t>
            </a: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30AF-95B9-4C3E-BB51-5A3DB14B367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917D5D-1580-48C2-A53A-F7C06C98A47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15800" y="325080"/>
            <a:ext cx="7359840" cy="53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Summary of Technology Trend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240920"/>
            <a:ext cx="8458200" cy="57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For disk, LAN, memory, and microprocessor, bandwidth improves by square of latency improv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In the time that bandwidth doubles, latency improves by no more than 1.2X to 1.4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g probably even larger in real systems, as bandwidth gains multiplied by replicated compon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ultiple processors in a cluster or even  in a chi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ultiple disks in a disk arr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ultiple memory modules in a large memory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imultaneous communication in switched LA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W and SW developers should innovate assuming Latency Lags Bandwid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f everything improves at the same rate, then nothing really change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hen rates vary, require real innov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8CC4-11A2-4800-A605-E6B4318245F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6BAC9B-2C87-488F-BA98-75454B6AC52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Re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Technology Trends: Culture of tracking, anticipating and exploiting advances in techn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eful, quantitative comparis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and quantity pow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and quantity depend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, quantity, and summarize relative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and quantity relative co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DAFD-8F01-4715-A400-8D30F3F4283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46B2E7-0F4F-4FB0-8BA8-9E435350EF3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efine and quantity power ( 1 / 2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8002800" cy="11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CMOS chips, traditional dominant energy consumption has been in switching transistors, called </a:t>
            </a: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dynamic pow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441360" y="2203560"/>
                <a:ext cx="805644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wer</m:t>
                    </m:r>
                    <m:r>
                      <m:rPr>
                        <m:lit/>
                        <m:nor/>
                      </m:rPr>
                      <m:t xml:space="preserve">dynamic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apacitiveLoad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Voltage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FrequencySwitche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703440" y="2654280"/>
            <a:ext cx="800244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mobile devices, energy better met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992240" y="3036960"/>
                <a:ext cx="493416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nergy</m:t>
                    </m:r>
                    <m:r>
                      <m:rPr>
                        <m:lit/>
                        <m:nor/>
                      </m:rPr>
                      <m:t xml:space="preserve">dynami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apacitiveLoad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Voltage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708120" y="3444840"/>
            <a:ext cx="800244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36000"/>
          </a:bodyPr>
          <a:p>
            <a:pPr marL="102600" indent="-102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 fixed task, slowing clock rate (frequency switched) reduces power, but not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-102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acitive load a function of number of transistors connected to output and technology, which determines capacitance of wires and transi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-102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opping voltage helps both, so went from 5V to 1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-102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save energy &amp; dynamic power, most CPUs now turn off clock of inactive modules (e.g. Fl. Pt. Un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0A23-45A9-47E8-8D93-DD7BD2CC870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B1E618-7DC8-4B7C-AE46-9512913C411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xample of  quantifying power 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98400" y="1193400"/>
            <a:ext cx="7932960" cy="140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15% reduction in voltage results in a 15% reduction in frequency. What is impact on dynamic power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495360" y="2565360"/>
                <a:ext cx="8299440" cy="16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ower</m:t>
                        </m:r>
                        <m:r>
                          <m:rPr>
                            <m:lit/>
                            <m:nor/>
                          </m:rPr>
                          <m:t xml:space="preserve">dynamic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apacitiveLoad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oltag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FrequencySwitched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  <m:r>
                          <m:rPr>
                            <m:lit/>
                            <m:nor/>
                          </m:rPr>
                          <m:t xml:space="preserve">CapacitiveLoad</m:t>
                        </m:r>
                        <m:sSup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oltage</m:t>
                            </m:r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FrequencySwitched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OldPower</m:t>
                        </m:r>
                        <m:r>
                          <m:rPr>
                            <m:lit/>
                            <m:nor/>
                          </m:rPr>
                          <m:t xml:space="preserve">dynamic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OldPower</m:t>
                        </m:r>
                        <m:r>
                          <m:rPr>
                            <m:lit/>
                            <m:nor/>
                          </m:rPr>
                          <m:t xml:space="preserve">dynami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7D05-EF72-499E-9125-541564D14E0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FAC5B8-E3EF-4451-80EB-819EA69925D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efine and quantity power (2 / 2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8002800" cy="11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leakage current flows even when a transistor is off, now </a:t>
            </a: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static pow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mportant to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3440" y="2755800"/>
            <a:ext cx="800244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36000"/>
          </a:bodyPr>
          <a:p>
            <a:pPr marL="102600" indent="-102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kage current increases in processors with smaller transistor s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-102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ing the number of transistors increases power even if they are turned 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-102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2006, goal for leakage is 25% of total power consumption; high performance designs at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-102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y low power systems even gate voltage to inactive modules to control loss due to lea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298600" y="2063880"/>
                <a:ext cx="402768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wer</m:t>
                    </m:r>
                    <m:r>
                      <m:rPr>
                        <m:lit/>
                        <m:nor/>
                      </m:rPr>
                      <m:t xml:space="preserve">stati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urrent</m:t>
                    </m:r>
                    <m:r>
                      <m:rPr>
                        <m:lit/>
                        <m:nor/>
                      </m:rPr>
                      <m:t xml:space="preserve">static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Voltage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E2D8-AA18-4B5C-8AB3-2ACD8301523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ABAC85-64CE-454F-9E0D-C40669CFCBE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Re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Technology Trends: Culture of tracking, anticipating and exploiting advances in techn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eful, quantitative comparis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Define and quantity pow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and quantity depend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, quantity, and summarize relative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and quantity relative co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FC55-F369-41B8-B685-868C22E430E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FE66F5-8953-4B44-A072-71E1F7CEF1A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77240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efine and quantity dependability (1/3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9740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ecide when a system is operating properly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rastructure providers now offer Service Level Agreements (SLA) to guarantee that their networking or power service would be depend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s alternate between 2 states of service with respect to an SLA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Service accomplishm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where the service is delivered as specified in SL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Service interrup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where the delivered service is different from the SL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Fail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transition from state 1 to state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Restor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transition from state 2 to state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CE56-3AE9-4CD8-89D8-C9C06B2147D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3AC9DF-4D52-4309-A2ED-7F5C6F8A02B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0120"/>
            <a:ext cx="76993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efine and quantity dependability (2/3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81360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Module reliabil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measure of continuous service accomplishment (or time to failure)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2 metr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Mean Time To Fail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MTT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measures Reli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Failures In Ti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FI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= 1/MTTF, the rate of failur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ditionally reported as failures per billion hours of op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Mean Time To Repai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MTT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measures Service Interrup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lnSpc>
                <a:spcPct val="90000"/>
              </a:lnSpc>
              <a:spcBef>
                <a:spcPts val="675"/>
              </a:spcBef>
              <a:buClr>
                <a:srgbClr val="114f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14ffb"/>
                </a:solidFill>
                <a:latin typeface="Arial"/>
              </a:rPr>
              <a:t>Mean Time Between Failur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1800" spc="-1" strike="noStrike">
                <a:solidFill>
                  <a:srgbClr val="114ffb"/>
                </a:solidFill>
                <a:latin typeface="Arial"/>
              </a:rPr>
              <a:t>MTB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= MTTF+MTT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Module availabil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asures service as alternate between the 2 states of accomplishment and interruption (number between 0 and 1, e.g. 0.9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Module availability = MTTF / ( MTTF + MTT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36B0-827E-498C-8AF2-DDFA24D9ACD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D9DD1D-7CC4-476C-9152-0CEF3D967F4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85664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view: Computer Architecture bring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98040" y="1092240"/>
            <a:ext cx="7985160" cy="566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fields often borrow ideas from archite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ative Principles of Desig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ke Advantage of Parallelis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ciple of Loca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cus on the Common Ca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dahl’s La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rocessor Performance Equ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eful, quantitative comparis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, quantity, and summarize relative perform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and quantity relative co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and quantity dependabi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and quantity po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lture of anticipating and exploiting advances in techn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lture of well-defined interfaces that are carefully implemented and thoroughly check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4B39-75A2-43E6-A123-6EF0738EA4F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DDB3BB-D5C2-4F95-A04E-95C6F6BDFF9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xample calculating reliability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56756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modules have </a:t>
            </a: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exponentially distributed lifetim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age of  module does not affect probability of failure), overall failure rate is the sum of failure rates of the modu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culate FIT and MTTF for 10 disks (1M hour MTTF per disk), 1 disk controller (0.5M hour MTTF), and 1 power supply (0.2M hour MTTF)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01600" y="3898800"/>
                <a:ext cx="2221200" cy="21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ailureRate</m:t>
                        </m:r>
                        <m:r>
                          <m:t xml:space="preserve">=</m:t>
                        </m:r>
                      </m:e>
                      <m:e/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MTTF</m:t>
                        </m:r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8DC0-9124-4F4D-AA31-F22528AE2EF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FD0209-0EF9-4851-952F-BF5C8054B40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xample calculating reliability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56756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modules have </a:t>
            </a: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exponentially distributed lifetim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age of  module does not affect probability of failure), overall failure rate is the sum of failure rates of the modu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culate FIT and MTTF for 10 disks (1M hour MTTF per disk), 1 disk controller (0.5M hour MTTF), and 1 power supply (0.2M hour MTTF)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090440" y="3726000"/>
                <a:ext cx="7048800" cy="26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ailureRat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00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e>
                      <m:e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rPr>
                            <m:lit/>
                            <m:nor/>
                          </m:rPr>
                          <m:t xml:space="preserve">FI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TTF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,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59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rPr>
                            <m:lit/>
                            <m:nor/>
                          </m:rPr>
                          <m:t xml:space="preserve">hour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317D-7F2F-449B-9D0E-ED1AE416EAB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EB21FC-9E1C-4F99-9493-BB5EB0D11636}" type="datetime1">
              <a:rPr lang="en-US"/>
              <a:t>07/29/26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Re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Technology Trends: Culture of tracking, anticipating and exploiting advances in techn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eful, quantitative comparis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Define and quantity pow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Define and quantity depend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, quantity, and summarize relative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and quantity relative co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D42C-D017-42CD-87BB-445F8A44ADA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74450D-A5C8-401A-BEF2-8B3242BE2BF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380880" y="4444920"/>
            <a:ext cx="8381880" cy="1267560"/>
            <a:chOff x="380880" y="4444920"/>
            <a:chExt cx="8381880" cy="1267560"/>
          </a:xfrm>
        </p:grpSpPr>
        <p:sp>
          <p:nvSpPr>
            <p:cNvPr id="189" name=""/>
            <p:cNvSpPr/>
            <p:nvPr/>
          </p:nvSpPr>
          <p:spPr>
            <a:xfrm>
              <a:off x="2361960" y="5130720"/>
              <a:ext cx="259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0880" y="4444920"/>
              <a:ext cx="8381880" cy="12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25560" bIns="25560" anchor="t">
              <a:spAutoFit/>
            </a:bodyPr>
            <a:p>
              <a:pPr marL="203040" indent="-20304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2120760"/>
                  <a:tab algn="l" pos="4863960"/>
                  <a:tab algn="l" pos="53103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erformance(X)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ecution_time(Y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03040" indent="-20304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2120760"/>
                  <a:tab algn="l" pos="4863960"/>
                  <a:tab algn="l" pos="53103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         =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03040" indent="-20304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2120760"/>
                  <a:tab algn="l" pos="4863960"/>
                  <a:tab algn="l" pos="53103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erformance(Y)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ecution_time(X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70040" y="479520"/>
            <a:ext cx="4727520" cy="9284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efinition: Performanc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3520" y="1150920"/>
            <a:ext cx="8381880" cy="11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20304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 is in units of things per s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190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gger is bet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we are primarily concerned with respons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04920" y="2587680"/>
            <a:ext cx="8381880" cy="709560"/>
            <a:chOff x="304920" y="2587680"/>
            <a:chExt cx="8381880" cy="709560"/>
          </a:xfrm>
        </p:grpSpPr>
        <p:sp>
          <p:nvSpPr>
            <p:cNvPr id="194" name=""/>
            <p:cNvSpPr/>
            <p:nvPr/>
          </p:nvSpPr>
          <p:spPr>
            <a:xfrm>
              <a:off x="4038480" y="2984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04920" y="2587680"/>
              <a:ext cx="838188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25560" bIns="25560" anchor="t">
              <a:spAutoFit/>
            </a:bodyPr>
            <a:p>
              <a:pPr lvl="1" marL="685800" indent="-19044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26290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erformance(x) =           1 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ecution_time(x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457200" y="3606840"/>
            <a:ext cx="838188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lvl="1" marL="685800" indent="-1904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 </a:t>
            </a:r>
            <a:r>
              <a:rPr b="1" lang="en-US" sz="2400" spc="-1" strike="noStrike" u="sng">
                <a:solidFill>
                  <a:srgbClr val="618ffd"/>
                </a:solidFill>
                <a:uFillTx/>
                <a:latin typeface="Arial"/>
              </a:rPr>
              <a:t>X is n times faster than 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  me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51307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328E-E378-4969-A49D-E06793E0A637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B9BB3C-2810-4967-8AF3-EB37C8668E5F}" type="datetime1">
              <a:rPr lang="en-US"/>
              <a:t>07/29/26</a:t>
            </a:fld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erformance: What to measur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8061480" cy="566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ually rely on benchmarks vs. real workloa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increase predictability, collections of benchmark applications, called </a:t>
            </a: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benchmark suit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re popul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SPECCP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popular desktop benchmark sui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U only, split between integer and floating point progra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nt2000 has 12 integer, SPECfp2000 has 14 integer pg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CPU2006 to be announced Spring 200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114f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4ffb"/>
                </a:solidFill>
                <a:latin typeface="Arial"/>
              </a:rPr>
              <a:t>SPECSF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NFS file server) and </a:t>
            </a:r>
            <a:r>
              <a:rPr b="1" lang="en-US" sz="1800" spc="-1" strike="noStrike">
                <a:solidFill>
                  <a:srgbClr val="114ffb"/>
                </a:solidFill>
                <a:latin typeface="Arial"/>
              </a:rPr>
              <a:t>SPECWe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WebServer) added as server benchmar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Transaction Processing Counci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asures server performance and cost-performance for databa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114f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4ffb"/>
                </a:solidFill>
                <a:latin typeface="Arial"/>
              </a:rPr>
              <a:t>TPC-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mplex query for Online Transaction Process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PC-H models ad hoc decision sup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PC-W  a transactional web benchma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PC-App application server and web services benchma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838C-EAE0-4CB1-84D2-8F73D09CE2C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620EEA-D306-4552-AC41-BCD5D6B0B97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How Summarize Suite Performance (1/5)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80028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ithmetic average of execution time of all pgm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they vary by 4X in speed, so some would be more important  than others in arithmetic aver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ld add a weights per program, but how pick weight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t companies want different weights for their produc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SPECRati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Normalize execution times to reference computer, yielding a ratio proportional to performance 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on reference computer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on computer being ra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14720" y="4815000"/>
            <a:ext cx="5321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AF51-B65A-4DB9-ACFB-8548460893B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6C29AC-7C3C-45B4-9A38-21085C0375C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How Summarize Suite Performance (2/5)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293240" cy="95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program SPECRatio on Computer A is 1.25 times bigger than Computer B, th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1017720" y="1913040"/>
                <a:ext cx="7080120" cy="34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PECRatio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PECRatio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ecutionTim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erence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ecutionTime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den>
                            </m:f>
                          </m:num>
                          <m:den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ecutionTim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erence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ecutionTime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ecutionTime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ecutionTime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erformance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erformance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>
            <a:off x="981000" y="5367240"/>
            <a:ext cx="781524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48400" indent="-2484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 that when comparing 2 computers as a ratio, execution times on the reference computer drop out, so choice of reference computer is irrelev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8400" indent="-2484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EE91-BE52-41A3-8D1F-0ABFD965919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AB8628-5D76-4DF6-BC78-60320788326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How Summarize Suite Performance (3/5)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2160" y="1193760"/>
            <a:ext cx="8497800" cy="95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ce ratios, proper mean is geometric mea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PECRatio unitless, so arithmetic mean meaningles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1003320" y="2278080"/>
                <a:ext cx="7080120" cy="15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eometricMean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PECRati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907920" y="3800520"/>
            <a:ext cx="78152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45000"/>
          </a:bodyPr>
          <a:p>
            <a:pPr marL="1713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ometric mean of the ratios is the same as the ratio of the geometric me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tio of geometric mean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Geometric mean of </a:t>
            </a: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performa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atio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oice of reference computer is irreleva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se two points make geometric mean of ratios attractive to summarize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E982-7527-4AF0-82D6-1B04AAE6899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2800DA-A820-4B0F-9C4B-BC8347A1AF4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How Summarize Suite Performance (4/5)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45960" y="1293480"/>
            <a:ext cx="8498160" cy="467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es a single mean well summarize performance of programs in benchmark suit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decide if mean a good predictor by characterizing variability of distribution using standard devi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ke geometric mean, geometric standard deviation is multiplicative rather than arithmeti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simply take the logarithm of SPECRatios, compute the standard mean and standard deviation, and then take the exponent to convert back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766800" y="4608360"/>
                <a:ext cx="6477120" cy="15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eometricMea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t xml:space="preserve">×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PECRatio</m:t>
                                    </m:r>
                                    <m:r>
                                      <m:t xml:space="preserve">i</m:t>
                                    </m:r>
                                  </m:e>
                                </m:d>
                              </m:e>
                            </m:nary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GeometricStDe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tDev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PECRatio</m:t>
                                    </m:r>
                                    <m:r>
                                      <m:t xml:space="preserve">i</m:t>
                                    </m:r>
                                  </m:e>
                                </m:d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4BB4-63A7-4B8B-A441-C66201CC97E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5C765F-AEE9-470F-A9D1-058F61761A3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How Summarize Suite Performance (5/5)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37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 deviation is more informative if know distribution has a standard 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114f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14ffb"/>
                </a:solidFill>
                <a:latin typeface="Arial"/>
              </a:rPr>
              <a:t>bell-shaped normal distribu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whose data are symmetric around mea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114f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14ffb"/>
                </a:solidFill>
                <a:latin typeface="Arial"/>
              </a:rPr>
              <a:t>lognormal distribu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where logarithms of data--not data itself--are normally distributed (symmetric) on a logarithmic sca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 lognormal distribution, we expect tha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8% of samples fall in rang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5% of samples fall in rang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 Excel provides functions EXP(), LN(), and STDEV() that make calculating geometric mean and multiplicative standard deviation eas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5079960" y="3841920"/>
          <a:ext cx="3295800" cy="38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960" y="3841920"/>
                    <a:ext cx="329580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4898880" y="4227480"/>
                <a:ext cx="35816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an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stde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stde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6751-0340-4806-BBFB-66E19216A18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3FD6EF-F19C-41EC-ABDC-0B05BD0DA8D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ology Trends: Culture of tracking, anticipating and exploiting advances in techn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eful, quantitative comparis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, quantity, and summarize relative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and quantity relative co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and quantity depend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and quantity pow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ECED-71B6-4BAC-B467-A3FB349342D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8BA1EF-A923-4D37-AE36-5BFD04677E0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1131840" y="1459080"/>
          <a:ext cx="8040600" cy="494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1840" y="1459080"/>
                    <a:ext cx="8040600" cy="49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xample Standard Deviation (1/2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4520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M and multiplicative StDev of SPECfp2000 for Itanium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B383-50AC-40E7-B2A0-C3429E25E3A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8A2EF2-0D45-494D-8B32-EA1D541652F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xample Standard Deviation (2/2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94232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M and multiplicative StDev of SPECfp2000 for AMD Athl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171440" y="1484280"/>
          <a:ext cx="7972560" cy="4903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1440" y="1484280"/>
                    <a:ext cx="7972560" cy="490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36CC-4F0D-4BEC-B7C1-885329E53AC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C15F15-B3E8-4632-832C-EC083E4F6E4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6024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omments on Itanium 2 and Athlon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 deviation of 1.98 for Itanium 2 is much higher-- vs. 1.40--so results will differ more widely from the mean, and therefore are likely less predict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lling within one standard deviation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 of 14 benchmarks (71%) for Itanium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 of 14 benchmarks (78%) for Athl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us, the results are quite compatible with a lognormal distribution (expect 68%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144E-4513-4BDA-9E3B-372BEFBC626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527C63-8C8D-4534-B12B-9C024AD2065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And in conclusion …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7240" y="1193760"/>
            <a:ext cx="7694640" cy="525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cking and extrapolating technology part of architect’s responsi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ct Bandwidth in disks, DRAM, network, and processors to improve by at least as much as the square of the improvement in Latenc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fy dynamic and static pow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acitance x Voltag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x frequency, Energy vs. po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fy depend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iability (MTTF, FIT), Availability (99.9…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fy and summarize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tios, Geometric Mean, Multiplicative Standard Devi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 Appendix A, record bugs online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50F5-E1E8-4374-8A6D-BBB3AAABB1C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4BFC02-C9FF-44FF-86A2-EF090040283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01640" y="1231920"/>
            <a:ext cx="2266920" cy="21016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7644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Moore’s Law: 2X transistors / “year”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11120" y="5603400"/>
            <a:ext cx="8732880" cy="7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amming More Components onto Integrated Circuits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rdon Moore, Electronics, 196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# on transistors / cost-effective integrated circuit double every N months (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≤ N ≤ 24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544840" y="2760840"/>
            <a:ext cx="2739960" cy="2719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317520" y="3586320"/>
            <a:ext cx="2193840" cy="175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4854600" y="1144440"/>
          <a:ext cx="4289400" cy="292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54600" y="1144440"/>
                    <a:ext cx="4289400" cy="29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2B4D-9440-4711-BE15-9B6369ED645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9006DA-5316-4EFA-B3BE-ED4A2C1110E9}" type="datetime1">
              <a:rPr lang="en-US"/>
              <a:t>07/29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23760" y="330120"/>
            <a:ext cx="691200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32b7"/>
                </a:solidFill>
                <a:latin typeface="Arial"/>
              </a:rPr>
              <a:t>Tracking Technology Performance Trends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5760" y="1150920"/>
            <a:ext cx="8076960" cy="52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ill down into 4 technologi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ks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e ~1980 Archaic (Nostalgic) vs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~2000 Modern (Newfangle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 Milestones in each technolog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e for Bandwidth vs. Latency improvements in performance over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ndwidth: number of events per unit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M bits / second over network, M bytes / second from dis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ncy: elapsed time for a single ev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one-way network delay in microseconds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disk access time in milliseco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1B77-11C0-408B-8D73-0F0DF06365C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0533F7-EBC8-4E0F-9607-6FF647B3FB6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240" y="326520"/>
            <a:ext cx="8969400" cy="53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Disks: Archaic(Nostalgic) v. Modern(Newfangled)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343040" y="1143000"/>
            <a:ext cx="4800600" cy="54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40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agate 373453, 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40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000 RP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4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40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3.4 GByt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2500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40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acks/Inch: 640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80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40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its/Inch: 533,0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60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40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 2.5” platter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n 3.5” form facto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40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ndwidth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6 MBytes/se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40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40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ncy:  5.7 m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8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40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che: 8 MBy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160" y="1143000"/>
            <a:ext cx="3848040" cy="54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DC Wren I, 198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600 RP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03 GBytes capac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acks/Inch: 8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its/Inch: 955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ee 5.25” platter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ndwidth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6 MBytes/se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ncy: 48.3 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che: no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1E33-1C13-4BFF-A68F-8C42BE0C063B}" type="slidenum">
              <a:t>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723D46-B84E-4F47-AF5E-7FF180D4AE2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33000" y="293400"/>
            <a:ext cx="8613720" cy="53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Latency Lags Bandwidth (for last ~20 years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191120" y="1099800"/>
            <a:ext cx="4952880" cy="60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erformance Milesto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18ffd"/>
                </a:solidFill>
                <a:latin typeface="Arial"/>
                <a:ea typeface="Times New Roman"/>
              </a:rPr>
              <a:t>Dis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3600, 5400, 7200, 10000, 15000 RPM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8x, 143x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44280" y="5726160"/>
            <a:ext cx="3522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(latency = simple operation w/o conten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BW = best-ca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-399960" y="752400"/>
          <a:ext cx="4714920" cy="5702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99960" y="752400"/>
                    <a:ext cx="471492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06A7-10C6-4AE3-991F-98937BC570D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B99F63-C304-41D3-BA19-CFC40C20380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7080" y="445680"/>
            <a:ext cx="9215640" cy="53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Memory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aic (Nostalgic) v. Modern (Newfangled)</a:t>
            </a:r>
            <a:endParaRPr b="1" lang="en-US" sz="24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-360" y="1100160"/>
            <a:ext cx="4233960" cy="440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80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RA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synchronou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06 Mbits/chi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,000 xtors, 35 m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-bit data bus per module, 16 pins/chi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 Mbytes/se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ncy: 225 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no block transfe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843360" y="1055520"/>
            <a:ext cx="5486400" cy="440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863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0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uble Data Rate Synchr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clocked) DR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863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6.00 Mbits/chi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4000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863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6,000,000 xtors, 204 m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863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-bit data bus pe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MM, 66 pins/chi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4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863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00 Mbytes/se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120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863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ncy: 52 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4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863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ock transfers (page mod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51CD-64BF-4CDB-8B7E-FBF594F65B07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55A41E-D3D6-4BF7-9DF5-17D8BF33ACF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5:15:41Z</dcterms:created>
  <dc:creator> </dc:creator>
  <dc:description/>
  <cp:keywords/>
  <dc:language>en-US</dc:language>
  <cp:lastModifiedBy>EECS</cp:lastModifiedBy>
  <cp:lastPrinted>1998-07-14T21:04:32Z</cp:lastPrinted>
  <dcterms:modified xsi:type="dcterms:W3CDTF">2006-01-21T16:30:27Z</dcterms:modified>
  <cp:revision>91</cp:revision>
  <dc:subject/>
  <dc:title>EECS 252 Graduate Computer Architecture   Lec 01 - Introduction  </dc:title>
</cp:coreProperties>
</file>